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46B-38E4-43F7-B4D0-46C73C5F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994-DD52-4519-9D7B-1335D7E69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418C-A741-466C-B36F-3ED930DC3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703F-53D0-4CE7-A32A-F6A59285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7C0-17F2-40AE-9C69-3CE46ADE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53F9-B441-4C93-A647-99EE0E5C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B41F-5745-4F94-AFA5-19303B80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F06-47DC-43F7-BC97-0685D156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6C62-530B-411F-84AD-A43F6F7B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BF6A-E890-4A42-AD21-A95AB138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EBB-3A39-414D-BDE0-E87AB44E7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34F6-71C4-4362-A666-4EC18252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E03DC-728B-4676-984A-3B2C92029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836640"/>
            <a:ext cx="9144000" cy="60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reinforce writing the </a:t>
            </a:r>
            <a:r>
              <a:rPr b="1" i="1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 tens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when the verb ending differs according to whether someone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did no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do the action which is being questione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 Did he walk to school yesterday?   Yes, he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walk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o school yeste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d he walk to school on Saturday? No, he 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id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not walk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to school on Satur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are 2 example slides which illustrate this difference when writing in the </a:t>
            </a: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past tense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These are followed by the 15 task ques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’s task is to decide which form is correct for the sent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.e. ‘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verb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ed’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‘ ‘yes’ answers’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or   ‘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id </a:t>
            </a:r>
            <a:r>
              <a:rPr b="0" lang="en-GB" sz="1800" spc="-1" strike="noStrike">
                <a:solidFill>
                  <a:srgbClr val="ff3300"/>
                </a:solidFill>
                <a:latin typeface="Comic Sans MS"/>
              </a:rPr>
              <a:t>not + verb</a:t>
            </a: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’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‘ ‘no’ answers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2 slides are the answer sheet for each child to go along with the IT presentation, and should be printed, and given out to the children before the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write in their answer on the answer sheet and then be ready to explain why they chose that answer befo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ceiving feedback on screen to see if their choice was corre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99400" y="18900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0  IT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Questions and ne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132000" y="162864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week, did Tim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l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in the hill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371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he  __________  in the hi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9640" y="1916280"/>
            <a:ext cx="2511360" cy="23047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35800" y="141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815360" y="3670200"/>
            <a:ext cx="11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lk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23720" y="4653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262960" y="580536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40360" y="5373720"/>
            <a:ext cx="914400" cy="43164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331360" y="4437000"/>
            <a:ext cx="40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 Dad  _____________ w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12960" y="4292640"/>
            <a:ext cx="188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l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7440" y="698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336800" y="53737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45920" y="587700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4360" y="1197000"/>
            <a:ext cx="2617560" cy="2336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725280" y="1700280"/>
            <a:ext cx="48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morning, did Da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we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03640" y="530064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9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11280" y="836640"/>
            <a:ext cx="273672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2232000" cy="2295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4680" y="3068640"/>
            <a:ext cx="415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Theo ___________ a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1280" y="299736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cor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09240" y="1411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1050840" cy="1050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471360" y="4221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45880" y="566100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784320" y="620640"/>
            <a:ext cx="381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score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or   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scor</a:t>
            </a: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635280" y="170028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Saturday, did Theo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sco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0360" y="530064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8" dur="2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059280" y="3284640"/>
            <a:ext cx="1152360" cy="12380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833560" y="4508640"/>
            <a:ext cx="34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ave you got the ide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 flipH="1">
            <a:off x="4859280" y="3243240"/>
            <a:ext cx="1231920" cy="12384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5720" y="1868400"/>
            <a:ext cx="19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cc99ff"/>
                </a:solidFill>
                <a:latin typeface="Comic Sans MS"/>
              </a:rPr>
              <a:t>Great</a:t>
            </a:r>
            <a:r>
              <a:rPr b="0" lang="en-GB" sz="4800" spc="-1" strike="noStrike">
                <a:solidFill>
                  <a:srgbClr val="cc99ff"/>
                </a:solidFill>
                <a:latin typeface="Eras Bold ITC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48680" y="5470560"/>
            <a:ext cx="34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ry the next ques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338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34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1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500"/>
                            </p:stCondLst>
                            <p:childTnLst>
                              <p:par>
                                <p:cTn id="34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6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500"/>
                            </p:stCondLst>
                            <p:childTnLst>
                              <p:par>
                                <p:cTn id="34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9" dur="1000" fill="hold"/>
                                        <p:tgtEl>
                                          <p:spTgt spid="1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3500"/>
                            </p:stCondLst>
                            <p:childTnLst>
                              <p:par>
                                <p:cTn id="35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24000" y="3860640"/>
            <a:ext cx="59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Ted ________________ his ha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07440" y="212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96000" y="1700280"/>
            <a:ext cx="2808360" cy="20890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2252520" y="3716280"/>
            <a:ext cx="211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bru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984000" y="54259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13560" y="580536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720" y="1557360"/>
            <a:ext cx="54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is morning, did Te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ru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ha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530064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3" dur="2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346920" y="350028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Lisa ____________ the di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2200320" cy="2408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7440" y="141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825440" y="3429000"/>
            <a:ext cx="128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sh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271280" y="56419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619720" y="5589720"/>
            <a:ext cx="21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91680" y="1557360"/>
            <a:ext cx="53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terday, did Lis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dish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76720" y="494172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2" dur="2000" fill="hold"/>
                                        <p:tgtEl>
                                          <p:spTgt spid="1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611280" y="1341360"/>
            <a:ext cx="273672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1359000" cy="2278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041360" y="3284640"/>
            <a:ext cx="43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Theo _____________ a go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434920" y="321300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440" y="141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862800" y="620640"/>
            <a:ext cx="38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score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 or    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scor</a:t>
            </a: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184080" y="47973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56800" y="5589720"/>
            <a:ext cx="220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7240" y="1700280"/>
            <a:ext cx="52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Sunday, did Theo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scor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 go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427640" y="515772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195640" y="191628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terday, did Tim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l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o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647440" y="3645000"/>
            <a:ext cx="49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Tim  ________________ to work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24000" y="1628640"/>
            <a:ext cx="1814400" cy="2484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995640" y="357336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2120" y="14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87360" y="523404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74280" y="558972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19640" y="515772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755640" y="4508640"/>
            <a:ext cx="786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Grace ______________ the rabbit hu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867280" y="1484280"/>
            <a:ext cx="2776680" cy="2232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03760" y="14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966040" y="443700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ean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823720" y="5445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78960" y="5950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8680" y="1484280"/>
            <a:ext cx="48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Monday, did Grace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ea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bbit hutc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00720" y="544500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3" dur="2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24000" y="2060640"/>
            <a:ext cx="789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break time, did the childre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ball ga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92880" y="4508640"/>
            <a:ext cx="543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they  ________________ ball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93400" y="14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709720" y="2933640"/>
            <a:ext cx="3724560" cy="9907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691440" y="443700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31720" y="5091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33200" y="580536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651640" y="544500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2" dur="20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06640" y="228600"/>
            <a:ext cx="180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43800" y="228600"/>
            <a:ext cx="29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0 IT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Questions and Ne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664320" y="228600"/>
            <a:ext cx="232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1413000"/>
            <a:ext cx="91440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g1.   Yes, they ___________________ television.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                                     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1600" spc="-1" strike="noStrike">
                <a:solidFill>
                  <a:srgbClr val="0000ff"/>
                </a:solidFill>
                <a:latin typeface="Comic Sans MS"/>
              </a:rPr>
              <a:t>did </a:t>
            </a:r>
            <a:r>
              <a:rPr b="0" i="1" lang="en-GB" sz="1600" spc="-1" strike="noStrike">
                <a:solidFill>
                  <a:srgbClr val="ff3300"/>
                </a:solidFill>
                <a:latin typeface="Comic Sans MS"/>
              </a:rPr>
              <a:t>not </a:t>
            </a:r>
            <a:r>
              <a:rPr b="0" i="1" lang="en-GB" sz="1600" spc="-1" strike="noStrike">
                <a:solidFill>
                  <a:srgbClr val="ff0000"/>
                </a:solidFill>
                <a:latin typeface="Comic Sans MS"/>
              </a:rPr>
              <a:t>watch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’ or ‘</a:t>
            </a:r>
            <a:r>
              <a:rPr b="0" i="1" lang="en-GB" sz="1600" spc="-1" strike="noStrike">
                <a:solidFill>
                  <a:srgbClr val="ff0000"/>
                </a:solidFill>
                <a:latin typeface="Comic Sans MS"/>
              </a:rPr>
              <a:t>watch</a:t>
            </a:r>
            <a:r>
              <a:rPr b="0" i="1" lang="en-GB" sz="16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i="1" lang="en-GB" sz="16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eg2.  No, they ____________________ televis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   Yes, Dad _____________________ happy.  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loo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  Yes, Tom _____________________ his teeth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brush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  No, Jack _____________________ his room   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clean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  Yes, he  ______________________ in the hills.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walk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48560" y="911160"/>
            <a:ext cx="635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rite in the correct form of the verb for the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past tense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for each sente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08000" y="2349360"/>
            <a:ext cx="284040" cy="306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60" y="5473800"/>
            <a:ext cx="840816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, Dad ______________________ well.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look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Yes, Theo ___________________ a goal.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scor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987640" y="3357720"/>
            <a:ext cx="59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Sunday, did Ryan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njo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par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92200" y="4437000"/>
            <a:ext cx="476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he _______________ the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907920"/>
            <a:ext cx="3851280" cy="23036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2663640" cy="21603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22120" y="2127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05560" y="4365720"/>
            <a:ext cx="132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njoy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524720" y="134136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6471360" y="5307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053880" y="602136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48360" y="5516640"/>
            <a:ext cx="914400" cy="43164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1" dur="2000" fill="hold"/>
                                        <p:tgtEl>
                                          <p:spTgt spid="2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79280" y="198900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Sunday, did Harry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030400" y="3141720"/>
            <a:ext cx="113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play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3320" y="3141720"/>
            <a:ext cx="389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he __________ footba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156360" y="1628640"/>
            <a:ext cx="2448000" cy="152424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293400" y="1411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5607720" y="444168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53880" y="552276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877080" y="508464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70" dur="2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2556000" y="1773360"/>
            <a:ext cx="64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night, did Da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njo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he comedy show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059720" y="2997360"/>
            <a:ext cx="20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enj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211920" y="3068640"/>
            <a:ext cx="523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he __________ the comedy sh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4360" y="1557360"/>
            <a:ext cx="2512800" cy="30258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222120" y="698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7524720" y="26028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417560" y="5734080"/>
            <a:ext cx="217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92080" y="48751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515772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22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498120" y="260280"/>
            <a:ext cx="239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ast 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00000" y="1773360"/>
            <a:ext cx="4319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i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……… ’    write…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68160" y="3645000"/>
            <a:ext cx="44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en-GB" sz="3200" spc="-1" strike="noStrike">
                <a:solidFill>
                  <a:srgbClr val="000000"/>
                </a:solidFill>
                <a:latin typeface="Comic Sans MS"/>
              </a:rPr>
              <a:t>Did no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do……….’ 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76920" y="907920"/>
            <a:ext cx="31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at did you noti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932360" y="1773360"/>
            <a:ext cx="45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378520" y="2709720"/>
            <a:ext cx="498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            Yes, he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ok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83200" y="3645000"/>
            <a:ext cx="304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08400" y="4508640"/>
            <a:ext cx="58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.g.           No, he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 did not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771640" y="2060640"/>
            <a:ext cx="3416400" cy="34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6" dur="indefinite" restart="never" nodeType="tmRoot">
          <p:childTnLst>
            <p:seq>
              <p:cTn id="757" dur="indefinite" nodeType="mainSeq">
                <p:childTnLst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1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76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67" dur="3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6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6640" y="228600"/>
            <a:ext cx="180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3800" y="228600"/>
            <a:ext cx="29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0 IT 3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Questions and Neg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1052640"/>
            <a:ext cx="8820000" cy="60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No, Ted      _______________________     his hair.         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brus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Yes, Lisa     ______________________     the dishes.          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wash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No, Theo    ______________________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a goal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score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0. No, Tim    _______________________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to work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walk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1.  Yes, Grace ______________________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the rabbit hutch. 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clean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2. No, they   _______________________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ball games.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play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3. Yes, he   ________________________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the party.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enjoy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        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4. Yes, he   ________________________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football.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play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5. No, he   _________________________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the comedy show.     ( </a:t>
            </a:r>
            <a:r>
              <a:rPr b="0" lang="en-GB" sz="1600" spc="-1" strike="noStrike">
                <a:solidFill>
                  <a:srgbClr val="ff3300"/>
                </a:solidFill>
                <a:latin typeface="Comic Sans MS"/>
              </a:rPr>
              <a:t>enjoy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      ‘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Did do’   write …………………………             ‘Did not do’           write ………………………………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39640" y="2781360"/>
            <a:ext cx="27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303640" cy="2289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818880" y="2997360"/>
            <a:ext cx="45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they ___________ tele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01760" y="333360"/>
            <a:ext cx="41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watch 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   watch</a:t>
            </a: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94560" y="5516640"/>
            <a:ext cx="16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6800" y="2924280"/>
            <a:ext cx="14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watch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04120" y="69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79440" y="4005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246480" y="20606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n Saturday, did they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watc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elevision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867280" y="5013360"/>
            <a:ext cx="914400" cy="43164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2000" fill="hold"/>
                                        <p:tgtEl>
                                          <p:spTgt spid="5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9280" y="1484280"/>
            <a:ext cx="27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2243160" cy="22640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034080" y="1844640"/>
            <a:ext cx="5409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terday the television was brok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d they </a:t>
            </a:r>
            <a:r>
              <a:rPr b="0" lang="en-GB" sz="2400" spc="-1" strike="noStrike">
                <a:solidFill>
                  <a:srgbClr val="ff3300"/>
                </a:solidFill>
                <a:latin typeface="Comic Sans MS"/>
              </a:rPr>
              <a:t>watc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televis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 they  ____________ tele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2360" y="404640"/>
            <a:ext cx="402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watch   </a:t>
            </a:r>
            <a:r>
              <a:rPr b="0" i="1" lang="en-GB" sz="2400" spc="-1" strike="noStrike">
                <a:solidFill>
                  <a:srgbClr val="000000"/>
                </a:solidFill>
                <a:latin typeface="Comic Sans MS"/>
              </a:rPr>
              <a:t>or</a:t>
            </a:r>
            <a:r>
              <a:rPr b="0" i="1" lang="en-GB" sz="2400" spc="-1" strike="noStrike">
                <a:solidFill>
                  <a:srgbClr val="ff0000"/>
                </a:solidFill>
                <a:latin typeface="Comic Sans MS"/>
              </a:rPr>
              <a:t>    watch</a:t>
            </a:r>
            <a:r>
              <a:rPr b="0" i="1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14960" y="530064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62640" y="3213000"/>
            <a:ext cx="213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wa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2120" y="69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63360" y="414972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740720" y="333360"/>
            <a:ext cx="1008000" cy="100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5003640" y="479736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to try some 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132000" y="2637000"/>
            <a:ext cx="2562480" cy="27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25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70588.2352941177" l="0"/>
                                      </p:by>
                                    </p:animClr>
                                    <p:set>
                                      <p:cBhvr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" dur="2500" autoRev="1" fill="hold"/>
                                        <p:tgtEl>
                                          <p:spTgt spid="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00000" y="1773360"/>
            <a:ext cx="2737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1893960" cy="2226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4202280" y="2924280"/>
            <a:ext cx="403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Dad ___________ happ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841720" y="2852640"/>
            <a:ext cx="11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080" y="698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67640" y="333360"/>
            <a:ext cx="1224000" cy="1224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687360" y="501336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62960" y="573408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11400" y="1700280"/>
            <a:ext cx="46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terday, did Dad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look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app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6000" y="5157720"/>
            <a:ext cx="914400" cy="43200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3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371600" y="4533840"/>
            <a:ext cx="512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Yes, Tom ________________ his tee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2946240" cy="2305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7440" y="212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184560" y="44370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rush</a:t>
            </a: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04040" y="5157720"/>
            <a:ext cx="10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4080" y="5950080"/>
            <a:ext cx="210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‘</a:t>
            </a: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ed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81120" y="1484280"/>
            <a:ext cx="531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st night, did Tom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rush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his tee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19640" y="5516640"/>
            <a:ext cx="914400" cy="431640"/>
          </a:xfrm>
          <a:prstGeom prst="wedgeRectCallout">
            <a:avLst>
              <a:gd name="adj1" fmla="val -43518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2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981000"/>
            <a:ext cx="3456000" cy="25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933720"/>
            <a:ext cx="786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,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k  ______________ his ro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240000" cy="22035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284720" y="4508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7440" y="212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812000" y="404640"/>
            <a:ext cx="1079640" cy="1079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130000" y="3933720"/>
            <a:ext cx="20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12360" y="5373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48480" y="5734080"/>
            <a:ext cx="28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ff"/>
                </a:solidFill>
                <a:latin typeface="Comic Sans MS"/>
              </a:rPr>
              <a:t>did not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ver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44080" y="1484280"/>
            <a:ext cx="4505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t the weekend, did Jack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s ro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373720"/>
            <a:ext cx="914400" cy="431640"/>
          </a:xfrm>
          <a:prstGeom prst="wedgeRectCallout">
            <a:avLst>
              <a:gd name="adj1" fmla="val -35935"/>
              <a:gd name="adj2" fmla="val 893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11" dur="20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2:50:20Z</dcterms:created>
  <dc:creator>Psychology</dc:creator>
  <dc:description/>
  <dc:language>en-US</dc:language>
  <cp:lastModifiedBy>Psychology</cp:lastModifiedBy>
  <dcterms:modified xsi:type="dcterms:W3CDTF">2009-03-18T10:47:02Z</dcterms:modified>
  <cp:revision>64</cp:revision>
  <dc:subject/>
  <dc:title>Slide 1</dc:title>
</cp:coreProperties>
</file>