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5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D45E-CEF4-464B-81F7-988B98D2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41C8-111A-4644-AF24-82BCF4A8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C91-0B82-4F6D-9BD0-17390AF16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15AF-DAF5-4ED0-AA9F-C905DBC9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69A43-D7A8-447E-8988-88529F5E6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9260-305E-4FA2-86EC-F74F4585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86BB2-9A6C-4BC1-8D91-F2E18B9F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93E57-F4DF-4A4C-B3C5-DC0C1DE02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4637E-B965-491D-B141-91D4F3415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F245-BCB1-4AEA-BD0F-0E04F140F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AA8C2-57C7-4010-B68D-1963E65A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E816-C251-44AA-8B57-D438230D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AF1E-9934-44AD-A529-DAAA41FD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D40DC-7469-43DB-B280-0043250D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3B5AB-C385-489F-B7B0-C3E0F1850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0D0C5-608D-4332-84B1-8DAE5FC6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2C64-C188-45E1-B5F7-3552325A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1960-677F-4CCB-AF63-FD7DB5E6D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CFC5-A0A0-4281-9C0B-2D5E477C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F46C-028E-4DAB-B389-121355236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E0E-0D34-43AE-9E48-CC55F25E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63D1-7753-4B9D-8DBA-D4F28776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2DFE-15D9-43F0-9164-F5B8C6CCC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588-2AED-4162-B81B-B5524122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A393D-6C8E-4A51-90EE-CE7780EE82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8F81A-6211-437B-A81A-AE6C3C801F81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1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7.png"/><Relationship Id="rId3" Type="http://schemas.openxmlformats.org/officeDocument/2006/relationships/image" Target="../media/image12.png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17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17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8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image" Target="../media/image8.wmf"/><Relationship Id="rId10" Type="http://schemas.openxmlformats.org/officeDocument/2006/relationships/image" Target="../media/image9.wmf"/><Relationship Id="rId11" Type="http://schemas.openxmlformats.org/officeDocument/2006/relationships/image" Target="../media/image10.wmf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wmf"/><Relationship Id="rId15" Type="http://schemas.openxmlformats.org/officeDocument/2006/relationships/image" Target="../media/image14.wmf"/><Relationship Id="rId1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6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.wm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7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4000" y="765000"/>
            <a:ext cx="8458200" cy="62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is teacher led activity aims to teach present tense questions and answers in the affirmative or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child’s task is to fill in a response in the affirmative or negative in the singular or plura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Children should complete each sentence on the answer sheet after each slide is sh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re may be more than one correct answer for the negative. The teacher should write the children’s correct responses on the board and discu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t is likely that some children will make mistakes, but these should be discussed as well as the correct answ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The next  slide is an answer sheet for each child to complete during the  IT presentation, and should be printed, and distributed to the children before you st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iscussion of their reasons for their choice should take place with the teacher when they  receive correct feedback on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97720" y="189000"/>
            <a:ext cx="18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ek 10  IT 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2680" y="3357720"/>
            <a:ext cx="2803680" cy="3127320"/>
          </a:xfrm>
          <a:prstGeom prst="rect">
            <a:avLst/>
          </a:prstGeom>
          <a:ln w="0">
            <a:noFill/>
          </a:ln>
        </p:spPr>
      </p:pic>
      <p:grpSp>
        <p:nvGrpSpPr>
          <p:cNvPr id="148" name=""/>
          <p:cNvGrpSpPr/>
          <p:nvPr/>
        </p:nvGrpSpPr>
        <p:grpSpPr>
          <a:xfrm>
            <a:off x="6447960" y="3352680"/>
            <a:ext cx="2445120" cy="3245040"/>
            <a:chOff x="6447960" y="3352680"/>
            <a:chExt cx="2445120" cy="3245040"/>
          </a:xfrm>
        </p:grpSpPr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6448320" y="3352680"/>
              <a:ext cx="2444760" cy="324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0" name=""/>
            <p:cNvGrpSpPr/>
            <p:nvPr/>
          </p:nvGrpSpPr>
          <p:grpSpPr>
            <a:xfrm>
              <a:off x="6447960" y="3568680"/>
              <a:ext cx="2430720" cy="2160720"/>
              <a:chOff x="6447960" y="3568680"/>
              <a:chExt cx="2430720" cy="2160720"/>
            </a:xfrm>
          </p:grpSpPr>
          <p:pic>
            <p:nvPicPr>
              <p:cNvPr id="1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51200" y="3685680"/>
                <a:ext cx="1527480" cy="204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2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6447960" y="3568680"/>
                <a:ext cx="1699560" cy="216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3" name=""/>
          <p:cNvSpPr/>
          <p:nvPr/>
        </p:nvSpPr>
        <p:spPr>
          <a:xfrm>
            <a:off x="2484360" y="1700280"/>
            <a:ext cx="3888000" cy="3673440"/>
          </a:xfrm>
          <a:prstGeom prst="wedgeEllipseCallout">
            <a:avLst>
              <a:gd name="adj1" fmla="val -60819"/>
              <a:gd name="adj2" fmla="val 2126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re there dogs playing ball in the gard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7632720" y="33336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6012000" y="3933720"/>
            <a:ext cx="2808000" cy="2880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85760" y="60278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44160" y="4005360"/>
            <a:ext cx="325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,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re a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716360" y="4149720"/>
            <a:ext cx="854280" cy="8953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2200" y="518796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6447960" y="404640"/>
            <a:ext cx="2445120" cy="3245040"/>
            <a:chOff x="6447960" y="404640"/>
            <a:chExt cx="2445120" cy="32450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6448320" y="404640"/>
              <a:ext cx="2444760" cy="324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" name=""/>
            <p:cNvGrpSpPr/>
            <p:nvPr/>
          </p:nvGrpSpPr>
          <p:grpSpPr>
            <a:xfrm>
              <a:off x="6447960" y="620640"/>
              <a:ext cx="2430720" cy="2160720"/>
              <a:chOff x="6447960" y="620640"/>
              <a:chExt cx="2430720" cy="2160720"/>
            </a:xfrm>
          </p:grpSpPr>
          <p:pic>
            <p:nvPicPr>
              <p:cNvPr id="16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351200" y="737640"/>
                <a:ext cx="1527480" cy="204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" name="" descr=""/>
              <p:cNvPicPr/>
              <p:nvPr/>
            </p:nvPicPr>
            <p:blipFill>
              <a:blip r:embed="rId4"/>
              <a:stretch/>
            </p:blipFill>
            <p:spPr>
              <a:xfrm flipH="1">
                <a:off x="6447960" y="620640"/>
                <a:ext cx="1699560" cy="21607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6012000" y="1125360"/>
            <a:ext cx="2808000" cy="2880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72520" y="1014480"/>
            <a:ext cx="60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Are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dog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playing ball in the garden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348000" y="1197000"/>
            <a:ext cx="4176720" cy="2376360"/>
          </a:xfrm>
          <a:prstGeom prst="wedgeEllipseCallout">
            <a:avLst>
              <a:gd name="adj1" fmla="val -63416"/>
              <a:gd name="adj2" fmla="val 104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re there cats on the islan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85800" y="3645000"/>
            <a:ext cx="3598920" cy="307008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7704000" y="620640"/>
            <a:ext cx="755640" cy="755640"/>
          </a:xfrm>
          <a:prstGeom prst="rect">
            <a:avLst/>
          </a:prstGeom>
          <a:ln w="0">
            <a:noFill/>
          </a:ln>
        </p:spPr>
      </p:pic>
      <p:grpSp>
        <p:nvGrpSpPr>
          <p:cNvPr id="170" name=""/>
          <p:cNvGrpSpPr/>
          <p:nvPr/>
        </p:nvGrpSpPr>
        <p:grpSpPr>
          <a:xfrm>
            <a:off x="6084720" y="4437000"/>
            <a:ext cx="2448000" cy="1728720"/>
            <a:chOff x="6084720" y="4437000"/>
            <a:chExt cx="2448000" cy="172872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 rot="5400000">
              <a:off x="6444360" y="4077360"/>
              <a:ext cx="1728720" cy="244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7405560" y="5295600"/>
              <a:ext cx="332280" cy="41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5"/>
            <a:stretch/>
          </p:blipFill>
          <p:spPr>
            <a:xfrm flipH="1" rot="21365400">
              <a:off x="7031520" y="5258160"/>
              <a:ext cx="448560" cy="531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"/>
          <p:cNvSpPr/>
          <p:nvPr/>
        </p:nvSpPr>
        <p:spPr>
          <a:xfrm>
            <a:off x="309600" y="6043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17560" y="3789360"/>
            <a:ext cx="31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,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__________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4498560" y="3701880"/>
            <a:ext cx="4537080" cy="3040200"/>
            <a:chOff x="4498560" y="3701880"/>
            <a:chExt cx="4537080" cy="3040200"/>
          </a:xfrm>
        </p:grpSpPr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 rot="5400000">
              <a:off x="5247000" y="2953080"/>
              <a:ext cx="3040200" cy="453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6946920" y="5211720"/>
              <a:ext cx="615960" cy="72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 flipH="1" rot="21366600">
              <a:off x="6254640" y="5146560"/>
              <a:ext cx="831960" cy="93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598680" y="404640"/>
            <a:ext cx="78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Are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ome cats on the island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39640" y="2708280"/>
            <a:ext cx="2282760" cy="2521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627280" y="2924280"/>
            <a:ext cx="3529080" cy="2665440"/>
          </a:xfrm>
          <a:prstGeom prst="wedgeEllipseCallout">
            <a:avLst>
              <a:gd name="adj1" fmla="val -62009"/>
              <a:gd name="adj2" fmla="val -139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 there a flag on the castl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  <p:grpSp>
        <p:nvGrpSpPr>
          <p:cNvPr id="184" name=""/>
          <p:cNvGrpSpPr/>
          <p:nvPr/>
        </p:nvGrpSpPr>
        <p:grpSpPr>
          <a:xfrm>
            <a:off x="6372360" y="2708280"/>
            <a:ext cx="2592360" cy="3527280"/>
            <a:chOff x="6372360" y="2708280"/>
            <a:chExt cx="2592360" cy="3527280"/>
          </a:xfrm>
        </p:grpSpPr>
        <p:pic>
          <p:nvPicPr>
            <p:cNvPr id="185" name="" descr=""/>
            <p:cNvPicPr/>
            <p:nvPr/>
          </p:nvPicPr>
          <p:blipFill>
            <a:blip r:embed="rId3"/>
            <a:stretch/>
          </p:blipFill>
          <p:spPr>
            <a:xfrm>
              <a:off x="6372360" y="2708280"/>
              <a:ext cx="2592360" cy="352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4"/>
            <a:stretch/>
          </p:blipFill>
          <p:spPr>
            <a:xfrm flipH="1" rot="19527600">
              <a:off x="8292960" y="4268160"/>
              <a:ext cx="455760" cy="455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" name=""/>
          <p:cNvSpPr/>
          <p:nvPr/>
        </p:nvSpPr>
        <p:spPr>
          <a:xfrm>
            <a:off x="185760" y="609300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890280" y="4254480"/>
            <a:ext cx="28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,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re is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851280" y="462132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479280" y="475452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  <a:ea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435640" y="189000"/>
            <a:ext cx="3528720" cy="3816000"/>
            <a:chOff x="5435640" y="189000"/>
            <a:chExt cx="3528720" cy="3816000"/>
          </a:xfrm>
        </p:grpSpPr>
        <p:pic>
          <p:nvPicPr>
            <p:cNvPr id="192" name="" descr=""/>
            <p:cNvPicPr/>
            <p:nvPr/>
          </p:nvPicPr>
          <p:blipFill>
            <a:blip r:embed="rId2"/>
            <a:stretch/>
          </p:blipFill>
          <p:spPr>
            <a:xfrm>
              <a:off x="5435640" y="189000"/>
              <a:ext cx="3528720" cy="38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3"/>
            <a:stretch/>
          </p:blipFill>
          <p:spPr>
            <a:xfrm flipH="1" rot="19527000">
              <a:off x="8049600" y="1877040"/>
              <a:ext cx="620280" cy="492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4" name=""/>
          <p:cNvSpPr/>
          <p:nvPr/>
        </p:nvSpPr>
        <p:spPr>
          <a:xfrm>
            <a:off x="824040" y="582480"/>
            <a:ext cx="341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Is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a fla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 the castle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900000" y="2708280"/>
            <a:ext cx="2181240" cy="230328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627280" y="2924280"/>
            <a:ext cx="3529080" cy="3097080"/>
          </a:xfrm>
          <a:prstGeom prst="wedgeEllipseCallout">
            <a:avLst>
              <a:gd name="adj1" fmla="val -62009"/>
              <a:gd name="adj2" fmla="val -817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 there a purple candle on the cak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8172360" y="26028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1925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156360" y="1268280"/>
            <a:ext cx="2736720" cy="27194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30480" y="595620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7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449640" y="333360"/>
            <a:ext cx="838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s there a purple candle on the cake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925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140360" y="1268280"/>
            <a:ext cx="4752720" cy="47228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014480" y="3740040"/>
            <a:ext cx="319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No, 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411280" y="1700280"/>
            <a:ext cx="3456000" cy="2808360"/>
          </a:xfrm>
          <a:prstGeom prst="wedgeEllipseCallout">
            <a:avLst>
              <a:gd name="adj1" fmla="val 102916"/>
              <a:gd name="adj2" fmla="val -5090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 there bread in the ba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524720" y="4329000"/>
            <a:ext cx="755640" cy="7556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612720" y="4581360"/>
            <a:ext cx="1727280" cy="16002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309600" y="6116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 flipH="1">
            <a:off x="6287760" y="836640"/>
            <a:ext cx="274788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81080" y="2335320"/>
            <a:ext cx="4678200" cy="43336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555160" y="2924280"/>
            <a:ext cx="29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Yes, there is.</a:t>
            </a: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9520" y="500040"/>
            <a:ext cx="601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s there bread in the bag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7678800" y="3645000"/>
            <a:ext cx="853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3400" y="228600"/>
            <a:ext cx="1310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Answer she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  <a:ea typeface="Arial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5440" y="484200"/>
            <a:ext cx="16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eek 10 IT3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92460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165276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1.    Are there chairs in the dining room? ______________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216864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2.    Is there a clock on the bedroom wall? ____________________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2781360"/>
            <a:ext cx="777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3.    Are there spoons with his lunch today? ______________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3308400"/>
            <a:ext cx="84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4.    Are there dogs playing ball in the garden?_____________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-181080" y="3789360"/>
            <a:ext cx="828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5.   Are there cats on the island? 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438768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6.    Is there a flag on the castle? 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4941720"/>
            <a:ext cx="83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7.    Is there a purple candle on the cake? 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885080" y="1557360"/>
            <a:ext cx="590760" cy="431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8526600" y="2044800"/>
            <a:ext cx="438120" cy="44748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7885080" y="2637000"/>
            <a:ext cx="696960" cy="502920"/>
            <a:chOff x="7885080" y="2637000"/>
            <a:chExt cx="696960" cy="502920"/>
          </a:xfrm>
        </p:grpSpPr>
        <p:pic>
          <p:nvPicPr>
            <p:cNvPr id="97" name="" descr=""/>
            <p:cNvPicPr/>
            <p:nvPr/>
          </p:nvPicPr>
          <p:blipFill>
            <a:blip r:embed="rId3"/>
            <a:stretch/>
          </p:blipFill>
          <p:spPr>
            <a:xfrm>
              <a:off x="7885080" y="2637000"/>
              <a:ext cx="696960" cy="50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4"/>
            <a:stretch/>
          </p:blipFill>
          <p:spPr>
            <a:xfrm rot="18709200">
              <a:off x="8280720" y="2870280"/>
              <a:ext cx="44280" cy="7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9" name=""/>
          <p:cNvGrpSpPr/>
          <p:nvPr/>
        </p:nvGrpSpPr>
        <p:grpSpPr>
          <a:xfrm>
            <a:off x="8464320" y="3063960"/>
            <a:ext cx="428760" cy="581040"/>
            <a:chOff x="8464320" y="3063960"/>
            <a:chExt cx="428760" cy="581040"/>
          </a:xfrm>
        </p:grpSpPr>
        <p:grpSp>
          <p:nvGrpSpPr>
            <p:cNvPr id="100" name=""/>
            <p:cNvGrpSpPr/>
            <p:nvPr/>
          </p:nvGrpSpPr>
          <p:grpSpPr>
            <a:xfrm>
              <a:off x="8464320" y="3063960"/>
              <a:ext cx="428760" cy="581040"/>
              <a:chOff x="8464320" y="3063960"/>
              <a:chExt cx="428760" cy="581040"/>
            </a:xfrm>
          </p:grpSpPr>
          <p:pic>
            <p:nvPicPr>
              <p:cNvPr id="10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464680" y="3063960"/>
                <a:ext cx="428400" cy="5810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2" name=""/>
              <p:cNvGrpSpPr/>
              <p:nvPr/>
            </p:nvGrpSpPr>
            <p:grpSpPr>
              <a:xfrm>
                <a:off x="8464320" y="3102480"/>
                <a:ext cx="426240" cy="387000"/>
                <a:chOff x="8464320" y="3102480"/>
                <a:chExt cx="426240" cy="387000"/>
              </a:xfrm>
            </p:grpSpPr>
            <p:pic>
              <p:nvPicPr>
                <p:cNvPr id="103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622720" y="3123360"/>
                  <a:ext cx="267840" cy="3661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4" name="" descr="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8464320" y="3102480"/>
                  <a:ext cx="297720" cy="387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pic>
          <p:nvPicPr>
            <p:cNvPr id="105" name="" descr=""/>
            <p:cNvPicPr/>
            <p:nvPr/>
          </p:nvPicPr>
          <p:blipFill>
            <a:blip r:embed="rId8"/>
            <a:stretch/>
          </p:blipFill>
          <p:spPr>
            <a:xfrm>
              <a:off x="8537400" y="3208680"/>
              <a:ext cx="280800" cy="28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"/>
          <p:cNvSpPr/>
          <p:nvPr/>
        </p:nvSpPr>
        <p:spPr>
          <a:xfrm>
            <a:off x="618480" y="5516640"/>
            <a:ext cx="567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8.    Is there bread in the bag, please? 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8388360" y="5445000"/>
            <a:ext cx="504720" cy="468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7812000" y="4869000"/>
            <a:ext cx="576360" cy="5731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8388360" y="4292640"/>
            <a:ext cx="431640" cy="576360"/>
            <a:chOff x="8388360" y="4292640"/>
            <a:chExt cx="431640" cy="576360"/>
          </a:xfrm>
        </p:grpSpPr>
        <p:pic>
          <p:nvPicPr>
            <p:cNvPr id="110" name="" descr=""/>
            <p:cNvPicPr/>
            <p:nvPr/>
          </p:nvPicPr>
          <p:blipFill>
            <a:blip r:embed="rId11"/>
            <a:stretch/>
          </p:blipFill>
          <p:spPr>
            <a:xfrm>
              <a:off x="8388360" y="4292640"/>
              <a:ext cx="43164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12"/>
            <a:stretch/>
          </p:blipFill>
          <p:spPr>
            <a:xfrm flipH="1" rot="19528800">
              <a:off x="8707680" y="4546800"/>
              <a:ext cx="75600" cy="74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7738560" y="3716280"/>
            <a:ext cx="505080" cy="504720"/>
            <a:chOff x="7738560" y="3716280"/>
            <a:chExt cx="505080" cy="504720"/>
          </a:xfrm>
        </p:grpSpPr>
        <p:pic>
          <p:nvPicPr>
            <p:cNvPr id="113" name="" descr=""/>
            <p:cNvPicPr/>
            <p:nvPr/>
          </p:nvPicPr>
          <p:blipFill>
            <a:blip r:embed="rId13"/>
            <a:stretch/>
          </p:blipFill>
          <p:spPr>
            <a:xfrm rot="5400000">
              <a:off x="7738560" y="3715920"/>
              <a:ext cx="504720" cy="50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" descr=""/>
            <p:cNvPicPr/>
            <p:nvPr/>
          </p:nvPicPr>
          <p:blipFill>
            <a:blip r:embed="rId14"/>
            <a:stretch/>
          </p:blipFill>
          <p:spPr>
            <a:xfrm>
              <a:off x="8011440" y="3966840"/>
              <a:ext cx="68400" cy="12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" descr=""/>
            <p:cNvPicPr/>
            <p:nvPr/>
          </p:nvPicPr>
          <p:blipFill>
            <a:blip r:embed="rId15"/>
            <a:stretch/>
          </p:blipFill>
          <p:spPr>
            <a:xfrm flipH="1" rot="21372000">
              <a:off x="7933680" y="3956040"/>
              <a:ext cx="92520" cy="1551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116000" y="1700280"/>
            <a:ext cx="6985080" cy="15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You have finished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203640" y="2565360"/>
            <a:ext cx="2719440" cy="3024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 txBox="1"/>
          <p:nvPr/>
        </p:nvSpPr>
        <p:spPr>
          <a:xfrm>
            <a:off x="3586320" y="5626080"/>
            <a:ext cx="197136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Well do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284640" y="620640"/>
            <a:ext cx="2511360" cy="22575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1042920" y="3429000"/>
            <a:ext cx="6997680" cy="136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re you a good detect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1307160" y="50133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Look carefully at the pictur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429240" y="1143000"/>
            <a:ext cx="2535480" cy="2286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 flipH="1">
            <a:off x="574560" y="1125360"/>
            <a:ext cx="4068720" cy="45356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572000" y="2347920"/>
            <a:ext cx="3960720" cy="3673440"/>
          </a:xfrm>
          <a:prstGeom prst="wedgeEllipseCallout">
            <a:avLst>
              <a:gd name="adj1" fmla="val -101300"/>
              <a:gd name="adj2" fmla="val -3007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re there chairs in th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dining room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572000" y="404640"/>
            <a:ext cx="755640" cy="756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3240" y="604368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24000" y="4975200"/>
            <a:ext cx="52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Yes, 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here a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 chai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932360" y="1422360"/>
            <a:ext cx="4103640" cy="3700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157720" y="4981680"/>
            <a:ext cx="854280" cy="8953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48400" y="404640"/>
            <a:ext cx="52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Comic Sans MS"/>
              </a:rPr>
              <a:t>Are there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chai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n the dining room today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084720" y="2637000"/>
            <a:ext cx="2843280" cy="25002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211640" y="44280"/>
            <a:ext cx="3889440" cy="2881440"/>
          </a:xfrm>
          <a:prstGeom prst="wedgeEllipseCallout">
            <a:avLst>
              <a:gd name="adj1" fmla="val 29467"/>
              <a:gd name="adj2" fmla="val 60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Is there a clock on the bedroom wal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63680" y="2421000"/>
            <a:ext cx="3603600" cy="368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7848720" y="5194440"/>
            <a:ext cx="755640" cy="7556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09600" y="611676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5901120" y="3174840"/>
            <a:ext cx="267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,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95280" y="2060640"/>
            <a:ext cx="5040360" cy="42638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86200" y="843120"/>
            <a:ext cx="850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Is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a clock on the bedroom wall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2357280" cy="3240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79640" y="1484280"/>
            <a:ext cx="5905440" cy="1297080"/>
          </a:xfrm>
          <a:prstGeom prst="wedgeRoundRectCallout">
            <a:avLst>
              <a:gd name="adj1" fmla="val -41856"/>
              <a:gd name="adj2" fmla="val 15134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Are there spo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with his lunch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  <p:grpSp>
        <p:nvGrpSpPr>
          <p:cNvPr id="139" name=""/>
          <p:cNvGrpSpPr/>
          <p:nvPr/>
        </p:nvGrpSpPr>
        <p:grpSpPr>
          <a:xfrm>
            <a:off x="5732640" y="3357720"/>
            <a:ext cx="3065400" cy="3095640"/>
            <a:chOff x="5732640" y="3357720"/>
            <a:chExt cx="3065400" cy="3095640"/>
          </a:xfrm>
        </p:grpSpPr>
        <p:pic>
          <p:nvPicPr>
            <p:cNvPr id="140" name="" descr=""/>
            <p:cNvPicPr/>
            <p:nvPr/>
          </p:nvPicPr>
          <p:blipFill>
            <a:blip r:embed="rId3"/>
            <a:stretch/>
          </p:blipFill>
          <p:spPr>
            <a:xfrm>
              <a:off x="5732640" y="3357720"/>
              <a:ext cx="3065400" cy="30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4"/>
            <a:stretch/>
          </p:blipFill>
          <p:spPr>
            <a:xfrm rot="18709200">
              <a:off x="7434360" y="4861080"/>
              <a:ext cx="272880" cy="320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2" name=""/>
          <p:cNvSpPr/>
          <p:nvPr/>
        </p:nvSpPr>
        <p:spPr>
          <a:xfrm>
            <a:off x="382680" y="6027840"/>
            <a:ext cx="56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5724360" y="3357720"/>
            <a:ext cx="3065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9520" y="2454120"/>
            <a:ext cx="3481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  <a:ea typeface="Arial"/>
              </a:rPr>
              <a:t>No,____________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732640" y="3213000"/>
            <a:ext cx="3065400" cy="30956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563760" y="355680"/>
            <a:ext cx="483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3600" spc="-1" strike="noStrike" u="sng">
                <a:solidFill>
                  <a:srgbClr val="000000"/>
                </a:solidFill>
                <a:uFillTx/>
                <a:latin typeface="Comic Sans MS"/>
              </a:rPr>
              <a:t>Are the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po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with his lunch today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12:11:14Z</dcterms:created>
  <dc:creator>DianaBurman</dc:creator>
  <dc:description/>
  <dc:language>en-US</dc:language>
  <cp:lastModifiedBy>Psychology</cp:lastModifiedBy>
  <dcterms:modified xsi:type="dcterms:W3CDTF">2009-03-18T10:50:57Z</dcterms:modified>
  <cp:revision>10</cp:revision>
  <dc:subject/>
  <dc:title>Slide 1</dc:title>
</cp:coreProperties>
</file>