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wmf" ContentType="image/x-wmf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93D7-77CD-43B4-BD29-29C0D3FC0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D484-0893-44AE-965A-9C87812FC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5A05-4468-42FB-8868-2281C12DE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41B4-8D11-424A-92FA-FE3A5A97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426E-1387-4E2F-AF39-B45784FFF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49D6-5C30-4441-8F55-128EFA77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9706D-124F-4658-B6B3-8A303CC2B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D0A2-3979-4ADA-AE64-F7BED97F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5E23-BBB1-4282-A183-FDF6F8EE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DA4F-2DFF-4557-9CCA-CC0C43D3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0F68-B6C0-4AAB-9A42-D08E87C4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D54-F58A-47C2-B8A7-65A4FB7E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E858-071A-4260-811C-A322D418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7401-E298-4513-B451-546ECD30A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985CB-3369-41FD-A4C1-ECC50789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AFD57-C8C2-4C55-A823-27D6F209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499CF-FFB3-4F01-AA98-1C22855DA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BEDE-39EE-480E-A3C5-2676FCC6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B694-2918-49D3-AE9D-8D70C463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7CD-5E2D-482A-92C2-94A98F67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A9DE-AE2F-4DAA-A1AB-221DBF7C6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4F30-9F0B-4E72-B3C3-9538CAF63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1A5C-0EBF-4659-B33D-F8E369EB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509BB-A124-415A-9FED-A5F832A1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1CED-D17F-450C-88A5-59227BC3D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FE24-F93E-4FB5-BF35-9F130CA2CC59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6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6.wmf"/><Relationship Id="rId10" Type="http://schemas.openxmlformats.org/officeDocument/2006/relationships/image" Target="../media/image7.wmf"/><Relationship Id="rId11" Type="http://schemas.openxmlformats.org/officeDocument/2006/relationships/image" Target="../media/image8.wmf"/><Relationship Id="rId12" Type="http://schemas.openxmlformats.org/officeDocument/2006/relationships/image" Target="../media/image9.wmf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wmf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04920" y="1432080"/>
            <a:ext cx="8458200" cy="45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is teacher led activity aims to teach children the correct past tense of ‘there was…/there were…..’ for singular and pl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ome slides revise the present tense (there is.... / there are…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next  slide is an answer sheet for each child to complete during the  IT presentation, and should be printed, and distributed to the children before you st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hildren should write in their choice of sentence on the answer sheet after each slide is sh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iscussion of their reasons for their choice should take place with the teacher when they  receive correct feedback on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97880" y="189000"/>
            <a:ext cx="68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ek 10  IT3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Yesterday there was one …..  / Yesterday there were so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23440" y="5118120"/>
            <a:ext cx="685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ast week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there w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s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car-cleaners in the playg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427640" y="1494000"/>
            <a:ext cx="3313080" cy="32256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 rot="21477600">
            <a:off x="7524720" y="5628960"/>
            <a:ext cx="854280" cy="895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80240" y="309888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94840" y="595620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02920" y="1878120"/>
            <a:ext cx="644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oday  </a:t>
            </a:r>
            <a:r>
              <a:rPr b="0" lang="en-GB" sz="3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333399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one pa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orking on the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851280" y="3511440"/>
            <a:ext cx="2735280" cy="2509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8374320" y="5900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77360" y="1341360"/>
            <a:ext cx="581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Today </a:t>
            </a:r>
            <a:r>
              <a:rPr b="0" lang="en-GB" sz="3600" spc="-1" strike="noStrike" u="sng">
                <a:solidFill>
                  <a:srgbClr val="333399"/>
                </a:solidFill>
                <a:uFillTx/>
                <a:latin typeface="Comic Sans MS"/>
                <a:ea typeface="Arial"/>
              </a:rPr>
              <a:t>there i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one pain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orking on the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76720" y="4005360"/>
            <a:ext cx="2735280" cy="2509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 rot="21477600">
            <a:off x="7667640" y="119664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302680" y="575640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7320" y="2660760"/>
            <a:ext cx="642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day </a:t>
            </a:r>
            <a:r>
              <a:rPr b="0" lang="en-GB" sz="3600" spc="-1" strike="noStrike" u="sng">
                <a:solidFill>
                  <a:srgbClr val="333399"/>
                </a:solidFill>
                <a:uFillTx/>
                <a:latin typeface="Comic Sans MS"/>
              </a:rPr>
              <a:t>there w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one pain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orking on the hou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 rot="21477600">
            <a:off x="7596360" y="289368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550560" y="432288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566280" y="2093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ast week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some dan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t the pantom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835280" y="4205160"/>
            <a:ext cx="5544720" cy="1887840"/>
            <a:chOff x="1835280" y="4205160"/>
            <a:chExt cx="5544720" cy="1887840"/>
          </a:xfrm>
        </p:grpSpPr>
        <p:pic>
          <p:nvPicPr>
            <p:cNvPr id="167" name="" descr=""/>
            <p:cNvPicPr/>
            <p:nvPr/>
          </p:nvPicPr>
          <p:blipFill>
            <a:blip r:embed="rId1"/>
            <a:stretch/>
          </p:blipFill>
          <p:spPr>
            <a:xfrm>
              <a:off x="6058440" y="4205160"/>
              <a:ext cx="1321560" cy="18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2"/>
            <a:stretch/>
          </p:blipFill>
          <p:spPr>
            <a:xfrm>
              <a:off x="4749840" y="4245120"/>
              <a:ext cx="1321560" cy="18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3"/>
            <a:stretch/>
          </p:blipFill>
          <p:spPr>
            <a:xfrm flipH="1">
              <a:off x="3204000" y="4205160"/>
              <a:ext cx="1426320" cy="183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4"/>
            <a:stretch/>
          </p:blipFill>
          <p:spPr>
            <a:xfrm flipH="1">
              <a:off x="1835280" y="4255200"/>
              <a:ext cx="1426320" cy="1837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8373960" y="5900760"/>
            <a:ext cx="6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25000" y="1878120"/>
            <a:ext cx="787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ast week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there w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some danc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t the pantomim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619280" y="4278240"/>
            <a:ext cx="5544720" cy="1887480"/>
            <a:chOff x="1619280" y="4278240"/>
            <a:chExt cx="5544720" cy="1887480"/>
          </a:xfrm>
        </p:grpSpPr>
        <p:pic>
          <p:nvPicPr>
            <p:cNvPr id="175" name="" descr=""/>
            <p:cNvPicPr/>
            <p:nvPr/>
          </p:nvPicPr>
          <p:blipFill>
            <a:blip r:embed="rId1"/>
            <a:stretch/>
          </p:blipFill>
          <p:spPr>
            <a:xfrm>
              <a:off x="5842440" y="4278240"/>
              <a:ext cx="1321560" cy="183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2"/>
            <a:stretch/>
          </p:blipFill>
          <p:spPr>
            <a:xfrm>
              <a:off x="4533840" y="4318200"/>
              <a:ext cx="1321560" cy="183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3"/>
            <a:stretch/>
          </p:blipFill>
          <p:spPr>
            <a:xfrm flipH="1">
              <a:off x="2988000" y="4278240"/>
              <a:ext cx="1426320" cy="183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 flipH="1">
              <a:off x="1619280" y="4328280"/>
              <a:ext cx="1426320" cy="1837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9" name="" descr=""/>
          <p:cNvPicPr/>
          <p:nvPr/>
        </p:nvPicPr>
        <p:blipFill>
          <a:blip r:embed="rId5"/>
          <a:stretch/>
        </p:blipFill>
        <p:spPr>
          <a:xfrm rot="21477600">
            <a:off x="7667640" y="260460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8447040" y="5900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278000" y="173340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day </a:t>
            </a: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_______ _______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ree cats in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518680" y="6043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1692360" y="3429000"/>
            <a:ext cx="4967280" cy="2997360"/>
            <a:chOff x="1692360" y="3429000"/>
            <a:chExt cx="4967280" cy="299736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1692360" y="3429000"/>
              <a:ext cx="4967280" cy="299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tretch/>
          </p:blipFill>
          <p:spPr>
            <a:xfrm>
              <a:off x="3851280" y="5300640"/>
              <a:ext cx="84312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"/>
            <a:stretch/>
          </p:blipFill>
          <p:spPr>
            <a:xfrm>
              <a:off x="5486400" y="5013360"/>
              <a:ext cx="69840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5"/>
            <a:stretch/>
          </p:blipFill>
          <p:spPr>
            <a:xfrm>
              <a:off x="3238560" y="5445000"/>
              <a:ext cx="641160" cy="878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821520" y="134136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day </a:t>
            </a:r>
            <a:r>
              <a:rPr b="0" lang="en-GB" sz="3600" spc="-1" strike="noStrike" u="sng">
                <a:solidFill>
                  <a:srgbClr val="ff3300"/>
                </a:solidFill>
                <a:uFillTx/>
                <a:latin typeface="Comic Sans MS"/>
              </a:rPr>
              <a:t>there a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ree cats in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 rot="21477600">
            <a:off x="7380360" y="141264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8521920" y="5900760"/>
            <a:ext cx="57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140360" y="4221000"/>
            <a:ext cx="4176720" cy="2521080"/>
            <a:chOff x="4140360" y="4221000"/>
            <a:chExt cx="4176720" cy="252108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tretch/>
          </p:blipFill>
          <p:spPr>
            <a:xfrm>
              <a:off x="4140360" y="4221000"/>
              <a:ext cx="4176720" cy="252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5955480" y="5794920"/>
              <a:ext cx="708840" cy="708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4"/>
            <a:stretch/>
          </p:blipFill>
          <p:spPr>
            <a:xfrm>
              <a:off x="7330320" y="5553360"/>
              <a:ext cx="587160" cy="83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5"/>
            <a:stretch/>
          </p:blipFill>
          <p:spPr>
            <a:xfrm>
              <a:off x="5440320" y="5916600"/>
              <a:ext cx="538920" cy="738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"/>
          <p:cNvSpPr/>
          <p:nvPr/>
        </p:nvSpPr>
        <p:spPr>
          <a:xfrm>
            <a:off x="867600" y="2886120"/>
            <a:ext cx="48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oday </a:t>
            </a:r>
            <a:r>
              <a:rPr b="0" lang="en-GB" sz="3600" spc="-1" strike="noStrike" u="sng">
                <a:solidFill>
                  <a:srgbClr val="ff3300"/>
                </a:solidFill>
                <a:uFillTx/>
                <a:latin typeface="Comic Sans MS"/>
              </a:rPr>
              <a:t>there w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hree cats in the pa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 rot="21477600">
            <a:off x="7236000" y="310968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91160" y="497196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394840" y="5900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024000" cy="2820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401840" y="4653000"/>
            <a:ext cx="639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wo days ago _______ 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ome bubbles in the b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94840" y="5900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916360" y="1557360"/>
            <a:ext cx="3024000" cy="282096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206000" y="4975200"/>
            <a:ext cx="588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wo days ago </a:t>
            </a:r>
            <a:r>
              <a:rPr b="0" lang="en-GB" sz="3600" spc="-1" strike="noStrike" u="sng">
                <a:solidFill>
                  <a:srgbClr val="ff3300"/>
                </a:solidFill>
                <a:uFillTx/>
                <a:latin typeface="Comic Sans MS"/>
              </a:rPr>
              <a:t>there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ome bubbles in the ba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 rot="21477600">
            <a:off x="7380000" y="5196960"/>
            <a:ext cx="853920" cy="8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8447040" y="5900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979640" y="2878200"/>
            <a:ext cx="4595760" cy="2782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96400" y="1590840"/>
            <a:ext cx="69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st Sunday _______ _______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ome apples in the fruit bas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0920" y="22860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nswer she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60920" y="115920"/>
            <a:ext cx="3274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ek 10 IT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there was….. / there were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  <a:ea typeface="Arial"/>
              </a:rPr>
              <a:t>there is / there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349360"/>
            <a:ext cx="842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2.   Yesterday _______ ______ ________ __________ of the chess competitio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-108000" y="1628640"/>
            <a:ext cx="83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1.   Yesterday _______ _______ ________ ________ in the lunch-bo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997360"/>
            <a:ext cx="864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3.   Last week ________ ________ _________  ____________ in the playgroun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8000" y="3645000"/>
            <a:ext cx="82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4.   Today ________ ________ _______  ________ working on the hou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4365720"/>
            <a:ext cx="734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5.    Last week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_______ ______ _______ _________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at the pantomime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5013360"/>
            <a:ext cx="81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6.    Today _______ ________ _______ ________ in the par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55530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7.    Two days ago ______ ______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_______ ________ in the bat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6188040"/>
            <a:ext cx="784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8.     Last Sunday ______ _______ _______ ________ in the fruit baske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28000" y="1413000"/>
            <a:ext cx="527040" cy="5522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8244000" y="2276640"/>
            <a:ext cx="576000" cy="422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8534520" y="2852640"/>
            <a:ext cx="574560" cy="558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8172360" y="3573360"/>
            <a:ext cx="576360" cy="528840"/>
          </a:xfrm>
          <a:prstGeom prst="rect">
            <a:avLst/>
          </a:prstGeom>
          <a:ln w="0">
            <a:noFill/>
          </a:ln>
        </p:spPr>
      </p:pic>
      <p:grpSp>
        <p:nvGrpSpPr>
          <p:cNvPr id="99" name=""/>
          <p:cNvGrpSpPr/>
          <p:nvPr/>
        </p:nvGrpSpPr>
        <p:grpSpPr>
          <a:xfrm>
            <a:off x="7165800" y="4292640"/>
            <a:ext cx="1726920" cy="374760"/>
            <a:chOff x="7165800" y="4292640"/>
            <a:chExt cx="1726920" cy="374760"/>
          </a:xfrm>
        </p:grpSpPr>
        <p:pic>
          <p:nvPicPr>
            <p:cNvPr id="100" name="" descr=""/>
            <p:cNvPicPr/>
            <p:nvPr/>
          </p:nvPicPr>
          <p:blipFill>
            <a:blip r:embed="rId5"/>
            <a:stretch/>
          </p:blipFill>
          <p:spPr>
            <a:xfrm>
              <a:off x="8481240" y="4292640"/>
              <a:ext cx="4114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6"/>
            <a:stretch/>
          </p:blipFill>
          <p:spPr>
            <a:xfrm>
              <a:off x="8073720" y="4300560"/>
              <a:ext cx="41148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7"/>
            <a:stretch/>
          </p:blipFill>
          <p:spPr>
            <a:xfrm flipH="1">
              <a:off x="7592040" y="4292640"/>
              <a:ext cx="4442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8"/>
            <a:stretch/>
          </p:blipFill>
          <p:spPr>
            <a:xfrm flipH="1">
              <a:off x="7165800" y="4302360"/>
              <a:ext cx="444240" cy="3650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4" name="" descr=""/>
          <p:cNvPicPr/>
          <p:nvPr/>
        </p:nvPicPr>
        <p:blipFill>
          <a:blip r:embed="rId9"/>
          <a:stretch/>
        </p:blipFill>
        <p:spPr>
          <a:xfrm>
            <a:off x="8675640" y="2523960"/>
            <a:ext cx="318960" cy="1843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8172360" y="5483160"/>
            <a:ext cx="576360" cy="538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8040600" y="6039000"/>
            <a:ext cx="924120" cy="55872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7524720" y="4724280"/>
            <a:ext cx="934920" cy="621000"/>
            <a:chOff x="7524720" y="4724280"/>
            <a:chExt cx="934920" cy="621000"/>
          </a:xfrm>
        </p:grpSpPr>
        <p:pic>
          <p:nvPicPr>
            <p:cNvPr id="108" name="" descr=""/>
            <p:cNvPicPr/>
            <p:nvPr/>
          </p:nvPicPr>
          <p:blipFill>
            <a:blip r:embed="rId12"/>
            <a:stretch/>
          </p:blipFill>
          <p:spPr>
            <a:xfrm>
              <a:off x="7524720" y="4724280"/>
              <a:ext cx="934920" cy="621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13"/>
            <a:stretch/>
          </p:blipFill>
          <p:spPr>
            <a:xfrm>
              <a:off x="7931160" y="5112000"/>
              <a:ext cx="158400" cy="17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14"/>
            <a:stretch/>
          </p:blipFill>
          <p:spPr>
            <a:xfrm>
              <a:off x="8238960" y="5052600"/>
              <a:ext cx="131400" cy="20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5"/>
            <a:stretch/>
          </p:blipFill>
          <p:spPr>
            <a:xfrm>
              <a:off x="7815600" y="5141880"/>
              <a:ext cx="120600" cy="181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447040" y="5900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979640" y="2878200"/>
            <a:ext cx="4595760" cy="2782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62120" y="1590840"/>
            <a:ext cx="693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ast Sunday </a:t>
            </a:r>
            <a:r>
              <a:rPr b="0" lang="en-GB" sz="3600" spc="-1" strike="noStrike" u="sng">
                <a:solidFill>
                  <a:srgbClr val="333399"/>
                </a:solidFill>
                <a:uFillTx/>
                <a:latin typeface="Comic Sans MS"/>
              </a:rPr>
              <a:t>there w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ome apples in the fruit bask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 rot="21477600">
            <a:off x="7750080" y="1988640"/>
            <a:ext cx="85428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2411280" y="1989000"/>
            <a:ext cx="4259520" cy="17272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1906560" y="1125360"/>
            <a:ext cx="5329440" cy="1081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ell do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1979640" y="3122640"/>
            <a:ext cx="5184720" cy="275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Goodby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936440" y="4676760"/>
            <a:ext cx="549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  <a:ea typeface="Arial"/>
              </a:rPr>
              <a:t>Are you rea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24160" y="1952640"/>
            <a:ext cx="271620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6280" y="1787400"/>
            <a:ext cx="531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Yesterday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one drink in the lunch-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5148360"/>
            <a:ext cx="6049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Yesterday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200" spc="-1" strike="noStrike">
                <a:solidFill>
                  <a:srgbClr val="ff0066"/>
                </a:solidFill>
                <a:latin typeface="Comic Sans MS"/>
                <a:ea typeface="Arial"/>
              </a:rPr>
              <a:t> </a:t>
            </a:r>
            <a:r>
              <a:rPr b="0" lang="en-GB" sz="32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drinks in the lunch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9440" y="355680"/>
            <a:ext cx="508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What is the differ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227640" y="1125360"/>
            <a:ext cx="2176560" cy="2281320"/>
          </a:xfrm>
          <a:prstGeom prst="rect">
            <a:avLst/>
          </a:prstGeom>
          <a:ln w="0">
            <a:noFill/>
          </a:ln>
        </p:spPr>
      </p:pic>
      <p:grpSp>
        <p:nvGrpSpPr>
          <p:cNvPr id="118" name=""/>
          <p:cNvGrpSpPr/>
          <p:nvPr/>
        </p:nvGrpSpPr>
        <p:grpSpPr>
          <a:xfrm>
            <a:off x="6372360" y="4172040"/>
            <a:ext cx="2176200" cy="2281320"/>
            <a:chOff x="6372360" y="4172040"/>
            <a:chExt cx="2176200" cy="2281320"/>
          </a:xfrm>
        </p:grpSpPr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6372360" y="4172040"/>
              <a:ext cx="2176200" cy="2281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" descr=""/>
            <p:cNvPicPr/>
            <p:nvPr/>
          </p:nvPicPr>
          <p:blipFill>
            <a:blip r:embed="rId3"/>
            <a:stretch/>
          </p:blipFill>
          <p:spPr>
            <a:xfrm>
              <a:off x="7020000" y="5058000"/>
              <a:ext cx="77004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"/>
          <p:cNvSpPr/>
          <p:nvPr/>
        </p:nvSpPr>
        <p:spPr>
          <a:xfrm>
            <a:off x="1275840" y="3651120"/>
            <a:ext cx="502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3300"/>
                </a:solidFill>
                <a:latin typeface="Comic Sans MS"/>
              </a:rPr>
              <a:t>there was / there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32880" y="4902120"/>
            <a:ext cx="692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terday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one dr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n the lunch-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38040" y="355680"/>
            <a:ext cx="52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there was  /  there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492360" y="1868400"/>
            <a:ext cx="2176560" cy="22813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482320" y="5827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66040" y="5046840"/>
            <a:ext cx="6691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terday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there w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one drin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n the lunch-box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79120" y="355680"/>
            <a:ext cx="52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there was  /  there w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5286240" y="981000"/>
            <a:ext cx="3549960" cy="3721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 rot="21477600">
            <a:off x="7318440" y="548604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32600" y="278136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82320" y="5900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fe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83280" y="1268280"/>
            <a:ext cx="729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terday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one w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of the chess compet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  <p:grpSp>
        <p:nvGrpSpPr>
          <p:cNvPr id="135" name=""/>
          <p:cNvGrpSpPr/>
          <p:nvPr/>
        </p:nvGrpSpPr>
        <p:grpSpPr>
          <a:xfrm>
            <a:off x="2627280" y="3284640"/>
            <a:ext cx="4608360" cy="2592000"/>
            <a:chOff x="2627280" y="3284640"/>
            <a:chExt cx="4608360" cy="2592000"/>
          </a:xfrm>
        </p:grpSpPr>
        <p:pic>
          <p:nvPicPr>
            <p:cNvPr id="136" name="" descr=""/>
            <p:cNvPicPr/>
            <p:nvPr/>
          </p:nvPicPr>
          <p:blipFill>
            <a:blip r:embed="rId2"/>
            <a:stretch/>
          </p:blipFill>
          <p:spPr>
            <a:xfrm>
              <a:off x="2627280" y="3284640"/>
              <a:ext cx="3367440" cy="252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4980600" y="4540680"/>
              <a:ext cx="2255040" cy="1335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8302680" y="5827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0fef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35840" y="5229360"/>
            <a:ext cx="706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terday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there wa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one win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of the chess competi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24000" y="1628640"/>
            <a:ext cx="3816360" cy="280044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 rot="21477600">
            <a:off x="7380360" y="562896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550560" y="309888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4788000" y="3716280"/>
            <a:ext cx="1832040" cy="1062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8323560" y="60278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793440" y="1590840"/>
            <a:ext cx="685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Last week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  <a:ea typeface="Arial"/>
              </a:rPr>
              <a:t>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  <a:ea typeface="Arial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s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car-cleaners in the playgrou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132000" y="3146400"/>
            <a:ext cx="2880000" cy="2803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446680" y="5827680"/>
            <a:ext cx="6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2:23:13Z</dcterms:created>
  <dc:creator>DianaBurman</dc:creator>
  <dc:description/>
  <dc:language>en-US</dc:language>
  <cp:lastModifiedBy>Psychology</cp:lastModifiedBy>
  <dcterms:modified xsi:type="dcterms:W3CDTF">2009-03-18T10:51:22Z</dcterms:modified>
  <cp:revision>11</cp:revision>
  <dc:subject/>
  <dc:title>Slide 1</dc:title>
</cp:coreProperties>
</file>