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3.wmf" ContentType="image/x-wmf"/>
  <Override PartName="/ppt/media/image26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4.wmf" ContentType="image/x-wmf"/>
  <Override PartName="/ppt/media/image5.png" ContentType="image/png"/>
  <Override PartName="/ppt/media/image13.wmf" ContentType="image/x-wmf"/>
  <Override PartName="/ppt/media/image25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2.wmf" ContentType="image/x-wmf"/>
  <Override PartName="/ppt/media/image29.png" ContentType="image/png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png" ContentType="image/png"/>
  <Override PartName="/ppt/media/image22.wmf" ContentType="image/x-wmf"/>
  <Override PartName="/ppt/media/image23.wmf" ContentType="image/x-wmf"/>
  <Override PartName="/ppt/media/image30.wmf" ContentType="image/x-wmf"/>
  <Override PartName="/ppt/media/image2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3BD0-6823-41C9-8D2E-3B1CE965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A7CA-4182-49B2-9437-346B6C3EE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D9EE-1DB3-4400-B418-DC10C5F4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D2BF-BADD-46A0-A79E-1E1DAC43C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DA837-D186-47CA-89D0-BDB81AD6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59F2B-3272-4B61-9AAC-16CBB4AF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65A07-FE51-471D-83B5-38FEE5DD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A8FF0-8556-4528-A6CE-B34CE7E6D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E7D3-36F2-4E8B-9749-3B6729CF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DB821-5DCD-4E85-A9A5-CC4BDBE7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34A6-A898-455B-9560-414435D1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4AA5-3D13-4609-9EA2-346490AE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25163-5B9D-4057-A446-B0C435B03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1FEF-51E4-4EC2-BB30-7E06C67A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03723-9D5C-44ED-A8FB-07E787A7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ECE99-50D5-4C5B-B740-7EF5E11D1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BB52-4137-43CA-A74E-671790AE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5575-1A44-4354-B166-D880FF4F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E463-219D-4368-BC27-340665DE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817A-D6EA-448F-AC33-F63D8577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685B-44CA-4081-8EE0-B2CADBF0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E771-E9E6-4C36-84D6-85225B588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0A41-F763-4F43-8D55-4B235AE2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5089-08E0-4E9F-9BAE-8D3438C5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2479-6A1B-4C7E-B1AC-F0B7FCABB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26C8-4BEA-452F-9396-D085D8655604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1.wmf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9.pn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304920" y="855720"/>
            <a:ext cx="8458200" cy="53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his teacher led activity aims to teach past tense singular and plural questions and answers in the affirmative or neg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he child’s task is to choose the tense, and the affirmative or negative response in the singular or pl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hildren should write in their choice of sentence on the answer sheet after each slide is show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here may be more than one correct answer for the negative. The teacher should write the children’s correct responses on the board and discu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he next  slide is an answer sheet for each child to complete during the  IT presentation, and should be printed, and distributed to the children before you sta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iscussion of their reasons for their choice should take place with the teacher when they  receive correct feedback on the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3929760" y="189000"/>
            <a:ext cx="174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eek 10  IT3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7"/>
          <p:cNvSpPr/>
          <p:nvPr/>
        </p:nvSpPr>
        <p:spPr>
          <a:xfrm>
            <a:off x="8374320" y="582768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26"/>
          <p:cNvGrpSpPr/>
          <p:nvPr/>
        </p:nvGrpSpPr>
        <p:grpSpPr>
          <a:xfrm>
            <a:off x="2050920" y="1413000"/>
            <a:ext cx="5185080" cy="3311280"/>
            <a:chOff x="2050920" y="1413000"/>
            <a:chExt cx="5185080" cy="3311280"/>
          </a:xfrm>
        </p:grpSpPr>
        <p:pic>
          <p:nvPicPr>
            <p:cNvPr id="208" name="Picture 8" descr="MCj04120220000[1]"/>
            <p:cNvPicPr/>
            <p:nvPr/>
          </p:nvPicPr>
          <p:blipFill>
            <a:blip r:embed="rId1"/>
            <a:stretch/>
          </p:blipFill>
          <p:spPr>
            <a:xfrm>
              <a:off x="2940840" y="1413000"/>
              <a:ext cx="4241520" cy="3245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9" descr="MCj04174580000[1]"/>
            <p:cNvPicPr/>
            <p:nvPr/>
          </p:nvPicPr>
          <p:blipFill>
            <a:blip r:embed="rId2"/>
            <a:stretch/>
          </p:blipFill>
          <p:spPr>
            <a:xfrm>
              <a:off x="2959200" y="2847240"/>
              <a:ext cx="500040" cy="73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10" descr="MCj04174580000[1]"/>
            <p:cNvPicPr/>
            <p:nvPr/>
          </p:nvPicPr>
          <p:blipFill>
            <a:blip r:embed="rId3"/>
            <a:stretch/>
          </p:blipFill>
          <p:spPr>
            <a:xfrm flipH="1">
              <a:off x="6710040" y="2903040"/>
              <a:ext cx="387720" cy="8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24" descr="MCj04376380000[1]"/>
            <p:cNvPicPr/>
            <p:nvPr/>
          </p:nvPicPr>
          <p:blipFill>
            <a:blip r:embed="rId4"/>
            <a:stretch/>
          </p:blipFill>
          <p:spPr>
            <a:xfrm>
              <a:off x="5612760" y="3013920"/>
              <a:ext cx="1623240" cy="171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Picture 25" descr="MCj04376380000[1]"/>
            <p:cNvPicPr/>
            <p:nvPr/>
          </p:nvPicPr>
          <p:blipFill>
            <a:blip r:embed="rId5"/>
            <a:stretch/>
          </p:blipFill>
          <p:spPr>
            <a:xfrm>
              <a:off x="2050920" y="2572200"/>
              <a:ext cx="1726920" cy="1819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4" descr="MCj04360450000[1]"/>
          <p:cNvPicPr/>
          <p:nvPr/>
        </p:nvPicPr>
        <p:blipFill>
          <a:blip r:embed="rId1"/>
          <a:stretch/>
        </p:blipFill>
        <p:spPr>
          <a:xfrm>
            <a:off x="1403280" y="2276640"/>
            <a:ext cx="2664000" cy="2987640"/>
          </a:xfrm>
          <a:prstGeom prst="rect">
            <a:avLst/>
          </a:prstGeom>
          <a:ln w="0">
            <a:noFill/>
          </a:ln>
        </p:spPr>
      </p:pic>
      <p:sp>
        <p:nvSpPr>
          <p:cNvPr id="214" name="AutoShape 5"/>
          <p:cNvSpPr/>
          <p:nvPr/>
        </p:nvSpPr>
        <p:spPr>
          <a:xfrm>
            <a:off x="4356000" y="1484280"/>
            <a:ext cx="3888000" cy="2305080"/>
          </a:xfrm>
          <a:prstGeom prst="wedgeRectCallout">
            <a:avLst>
              <a:gd name="adj1" fmla="val -81606"/>
              <a:gd name="adj2" fmla="val 7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ere there  dogs in the park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6" descr="MCj04325790000[1]"/>
          <p:cNvPicPr/>
          <p:nvPr/>
        </p:nvPicPr>
        <p:blipFill>
          <a:blip r:embed="rId2"/>
          <a:stretch/>
        </p:blipFill>
        <p:spPr>
          <a:xfrm>
            <a:off x="7451640" y="26028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7"/>
          <p:cNvSpPr/>
          <p:nvPr/>
        </p:nvSpPr>
        <p:spPr>
          <a:xfrm>
            <a:off x="8374320" y="582768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92320" y="5551560"/>
            <a:ext cx="361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Yes,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here we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6" descr="MCj04347130000[1]"/>
          <p:cNvPicPr/>
          <p:nvPr/>
        </p:nvPicPr>
        <p:blipFill>
          <a:blip r:embed="rId1"/>
          <a:stretch/>
        </p:blipFill>
        <p:spPr>
          <a:xfrm rot="21477600">
            <a:off x="4067280" y="5628960"/>
            <a:ext cx="853920" cy="8953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7"/>
          <p:cNvSpPr/>
          <p:nvPr/>
        </p:nvSpPr>
        <p:spPr>
          <a:xfrm>
            <a:off x="6479280" y="5589720"/>
            <a:ext cx="157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568800" y="260280"/>
            <a:ext cx="404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ere the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do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n the park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9"/>
          <p:cNvSpPr/>
          <p:nvPr/>
        </p:nvSpPr>
        <p:spPr>
          <a:xfrm>
            <a:off x="8447040" y="582768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10"/>
          <p:cNvGrpSpPr/>
          <p:nvPr/>
        </p:nvGrpSpPr>
        <p:grpSpPr>
          <a:xfrm>
            <a:off x="2195640" y="1413000"/>
            <a:ext cx="6192360" cy="3816000"/>
            <a:chOff x="2195640" y="1413000"/>
            <a:chExt cx="6192360" cy="3816000"/>
          </a:xfrm>
        </p:grpSpPr>
        <p:pic>
          <p:nvPicPr>
            <p:cNvPr id="223" name="Picture 11" descr="MCj04120220000[1]"/>
            <p:cNvPicPr/>
            <p:nvPr/>
          </p:nvPicPr>
          <p:blipFill>
            <a:blip r:embed="rId2"/>
            <a:stretch/>
          </p:blipFill>
          <p:spPr>
            <a:xfrm>
              <a:off x="3258720" y="1413000"/>
              <a:ext cx="5065920" cy="374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" name="Picture 12" descr="MCj04174580000[1]"/>
            <p:cNvPicPr/>
            <p:nvPr/>
          </p:nvPicPr>
          <p:blipFill>
            <a:blip r:embed="rId3"/>
            <a:stretch/>
          </p:blipFill>
          <p:spPr>
            <a:xfrm>
              <a:off x="3280680" y="3065760"/>
              <a:ext cx="597240" cy="84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13" descr="MCj04174580000[1]"/>
            <p:cNvPicPr/>
            <p:nvPr/>
          </p:nvPicPr>
          <p:blipFill>
            <a:blip r:embed="rId4"/>
            <a:stretch/>
          </p:blipFill>
          <p:spPr>
            <a:xfrm flipH="1">
              <a:off x="7760160" y="3130560"/>
              <a:ext cx="463320" cy="95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6" name="Picture 14" descr="MCj04376380000[1]"/>
            <p:cNvPicPr/>
            <p:nvPr/>
          </p:nvPicPr>
          <p:blipFill>
            <a:blip r:embed="rId5"/>
            <a:stretch/>
          </p:blipFill>
          <p:spPr>
            <a:xfrm>
              <a:off x="6449400" y="3258000"/>
              <a:ext cx="1938600" cy="197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Picture 15" descr="MCj04376380000[1]"/>
            <p:cNvPicPr/>
            <p:nvPr/>
          </p:nvPicPr>
          <p:blipFill>
            <a:blip r:embed="rId6"/>
            <a:stretch/>
          </p:blipFill>
          <p:spPr>
            <a:xfrm>
              <a:off x="2195640" y="2749320"/>
              <a:ext cx="2062800" cy="2097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8"/>
          <p:cNvSpPr/>
          <p:nvPr/>
        </p:nvSpPr>
        <p:spPr>
          <a:xfrm>
            <a:off x="8393400" y="597204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9" descr="MCBD09190_0000[1]"/>
          <p:cNvPicPr/>
          <p:nvPr/>
        </p:nvPicPr>
        <p:blipFill>
          <a:blip r:embed="rId1"/>
          <a:stretch/>
        </p:blipFill>
        <p:spPr>
          <a:xfrm>
            <a:off x="2311560" y="2201760"/>
            <a:ext cx="4520880" cy="24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MCj04324170000[1]"/>
          <p:cNvPicPr/>
          <p:nvPr/>
        </p:nvPicPr>
        <p:blipFill>
          <a:blip r:embed="rId1"/>
          <a:stretch/>
        </p:blipFill>
        <p:spPr>
          <a:xfrm>
            <a:off x="395280" y="2276640"/>
            <a:ext cx="4032360" cy="2736720"/>
          </a:xfrm>
          <a:prstGeom prst="rect">
            <a:avLst/>
          </a:prstGeom>
          <a:ln w="0">
            <a:noFill/>
          </a:ln>
        </p:spPr>
      </p:pic>
      <p:sp>
        <p:nvSpPr>
          <p:cNvPr id="231" name="AutoShape 5"/>
          <p:cNvSpPr/>
          <p:nvPr/>
        </p:nvSpPr>
        <p:spPr>
          <a:xfrm>
            <a:off x="2987640" y="2781360"/>
            <a:ext cx="5184720" cy="3024000"/>
          </a:xfrm>
          <a:prstGeom prst="wedgeEllipseCallout">
            <a:avLst>
              <a:gd name="adj1" fmla="val -77648"/>
              <a:gd name="adj2" fmla="val -4417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as there 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duck in the water?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6" descr="MCj04325790000[1]"/>
          <p:cNvPicPr/>
          <p:nvPr/>
        </p:nvPicPr>
        <p:blipFill>
          <a:blip r:embed="rId2"/>
          <a:stretch/>
        </p:blipFill>
        <p:spPr>
          <a:xfrm>
            <a:off x="4356000" y="26028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8"/>
          <p:cNvSpPr/>
          <p:nvPr/>
        </p:nvSpPr>
        <p:spPr>
          <a:xfrm>
            <a:off x="8393400" y="597204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2"/>
          <p:cNvSpPr/>
          <p:nvPr/>
        </p:nvSpPr>
        <p:spPr>
          <a:xfrm>
            <a:off x="449640" y="5407200"/>
            <a:ext cx="443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,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here wasn’t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r>
              <a:rPr b="0" lang="en-GB" sz="3600" spc="-1" strike="noStrike">
                <a:solidFill>
                  <a:srgbClr val="ff0066"/>
                </a:solidFill>
                <a:latin typeface="Comic Sans MS"/>
                <a:ea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459000" y="681120"/>
            <a:ext cx="300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as the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duck in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ater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8464320" y="6018120"/>
            <a:ext cx="5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10" descr="MCBD09190_0000[1]"/>
          <p:cNvPicPr/>
          <p:nvPr/>
        </p:nvPicPr>
        <p:blipFill>
          <a:blip r:embed="rId1"/>
          <a:stretch/>
        </p:blipFill>
        <p:spPr>
          <a:xfrm>
            <a:off x="2598840" y="1916280"/>
            <a:ext cx="6221160" cy="3375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1" descr="MCj04347130000[1]"/>
          <p:cNvPicPr/>
          <p:nvPr/>
        </p:nvPicPr>
        <p:blipFill>
          <a:blip r:embed="rId2"/>
          <a:stretch/>
        </p:blipFill>
        <p:spPr>
          <a:xfrm rot="21477600">
            <a:off x="4514760" y="5316120"/>
            <a:ext cx="8542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9"/>
          <p:cNvSpPr/>
          <p:nvPr/>
        </p:nvSpPr>
        <p:spPr>
          <a:xfrm>
            <a:off x="8539200" y="610092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2"/>
          <p:cNvGrpSpPr/>
          <p:nvPr/>
        </p:nvGrpSpPr>
        <p:grpSpPr>
          <a:xfrm>
            <a:off x="2058840" y="1376280"/>
            <a:ext cx="4817880" cy="3781440"/>
            <a:chOff x="2058840" y="1376280"/>
            <a:chExt cx="4817880" cy="3781440"/>
          </a:xfrm>
        </p:grpSpPr>
        <p:pic>
          <p:nvPicPr>
            <p:cNvPr id="241" name="Picture 4" descr="MCj01976900000[1]"/>
            <p:cNvPicPr/>
            <p:nvPr/>
          </p:nvPicPr>
          <p:blipFill>
            <a:blip r:embed="rId1"/>
            <a:stretch/>
          </p:blipFill>
          <p:spPr>
            <a:xfrm>
              <a:off x="2058840" y="1376280"/>
              <a:ext cx="4817880" cy="37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5" descr="j0274792"/>
            <p:cNvPicPr/>
            <p:nvPr/>
          </p:nvPicPr>
          <p:blipFill>
            <a:blip r:embed="rId2"/>
            <a:stretch/>
          </p:blipFill>
          <p:spPr>
            <a:xfrm>
              <a:off x="4074840" y="3319200"/>
              <a:ext cx="83340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11" descr="MCj03379980000[1]"/>
            <p:cNvPicPr/>
            <p:nvPr/>
          </p:nvPicPr>
          <p:blipFill>
            <a:blip r:embed="rId3"/>
            <a:stretch/>
          </p:blipFill>
          <p:spPr>
            <a:xfrm>
              <a:off x="4147920" y="3895560"/>
              <a:ext cx="1878120" cy="1201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MCj04377910000[1]"/>
          <p:cNvPicPr/>
          <p:nvPr/>
        </p:nvPicPr>
        <p:blipFill>
          <a:blip r:embed="rId1"/>
          <a:stretch/>
        </p:blipFill>
        <p:spPr>
          <a:xfrm>
            <a:off x="468360" y="3600360"/>
            <a:ext cx="2590920" cy="2205000"/>
          </a:xfrm>
          <a:prstGeom prst="rect">
            <a:avLst/>
          </a:prstGeom>
          <a:ln w="0">
            <a:noFill/>
          </a:ln>
        </p:spPr>
      </p:pic>
      <p:sp>
        <p:nvSpPr>
          <p:cNvPr id="245" name="AutoShape 7"/>
          <p:cNvSpPr/>
          <p:nvPr/>
        </p:nvSpPr>
        <p:spPr>
          <a:xfrm>
            <a:off x="1908000" y="1270080"/>
            <a:ext cx="6480360" cy="2519280"/>
          </a:xfrm>
          <a:prstGeom prst="cloudCallout">
            <a:avLst>
              <a:gd name="adj1" fmla="val -58037"/>
              <a:gd name="adj2" fmla="val 516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as there a scientist on the island?”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8" descr="MCj04325790000[1]"/>
          <p:cNvPicPr/>
          <p:nvPr/>
        </p:nvPicPr>
        <p:blipFill>
          <a:blip r:embed="rId2"/>
          <a:stretch/>
        </p:blipFill>
        <p:spPr>
          <a:xfrm>
            <a:off x="8064360" y="26028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9"/>
          <p:cNvSpPr/>
          <p:nvPr/>
        </p:nvSpPr>
        <p:spPr>
          <a:xfrm>
            <a:off x="8539200" y="610092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347040" y="35733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Yes,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here wa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8" descr="MCj04347130000[1]"/>
          <p:cNvPicPr/>
          <p:nvPr/>
        </p:nvPicPr>
        <p:blipFill>
          <a:blip r:embed="rId1"/>
          <a:stretch/>
        </p:blipFill>
        <p:spPr>
          <a:xfrm rot="21477600">
            <a:off x="2843280" y="4262040"/>
            <a:ext cx="853920" cy="89532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9"/>
          <p:cNvSpPr/>
          <p:nvPr/>
        </p:nvSpPr>
        <p:spPr>
          <a:xfrm>
            <a:off x="1164240" y="500040"/>
            <a:ext cx="48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as the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a scientis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on the island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3251880" y="5373720"/>
            <a:ext cx="157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8539200" y="604368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2"/>
          <p:cNvGrpSpPr/>
          <p:nvPr/>
        </p:nvGrpSpPr>
        <p:grpSpPr>
          <a:xfrm>
            <a:off x="4218120" y="2168640"/>
            <a:ext cx="4817880" cy="3781440"/>
            <a:chOff x="4218120" y="2168640"/>
            <a:chExt cx="4817880" cy="3781440"/>
          </a:xfrm>
        </p:grpSpPr>
        <p:pic>
          <p:nvPicPr>
            <p:cNvPr id="254" name="Picture 13" descr="MCj01976900000[1]"/>
            <p:cNvPicPr/>
            <p:nvPr/>
          </p:nvPicPr>
          <p:blipFill>
            <a:blip r:embed="rId2"/>
            <a:stretch/>
          </p:blipFill>
          <p:spPr>
            <a:xfrm>
              <a:off x="4218120" y="2168640"/>
              <a:ext cx="4817880" cy="37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5" name="Picture 14" descr="j0274792"/>
            <p:cNvPicPr/>
            <p:nvPr/>
          </p:nvPicPr>
          <p:blipFill>
            <a:blip r:embed="rId3"/>
            <a:stretch/>
          </p:blipFill>
          <p:spPr>
            <a:xfrm>
              <a:off x="6234120" y="4111560"/>
              <a:ext cx="833400" cy="89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6" name="Picture 15" descr="MCj03379980000[1]"/>
            <p:cNvPicPr/>
            <p:nvPr/>
          </p:nvPicPr>
          <p:blipFill>
            <a:blip r:embed="rId4"/>
            <a:stretch/>
          </p:blipFill>
          <p:spPr>
            <a:xfrm>
              <a:off x="6307200" y="4687920"/>
              <a:ext cx="1878120" cy="1201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8"/>
          <p:cNvSpPr/>
          <p:nvPr/>
        </p:nvSpPr>
        <p:spPr>
          <a:xfrm>
            <a:off x="8518680" y="602784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11"/>
          <p:cNvGrpSpPr/>
          <p:nvPr/>
        </p:nvGrpSpPr>
        <p:grpSpPr>
          <a:xfrm>
            <a:off x="3203640" y="1197000"/>
            <a:ext cx="3983040" cy="4753080"/>
            <a:chOff x="3203640" y="1197000"/>
            <a:chExt cx="3983040" cy="4753080"/>
          </a:xfrm>
        </p:grpSpPr>
        <p:sp>
          <p:nvSpPr>
            <p:cNvPr id="259" name="Text Box 3"/>
            <p:cNvSpPr/>
            <p:nvPr/>
          </p:nvSpPr>
          <p:spPr>
            <a:xfrm>
              <a:off x="4043520" y="1197000"/>
              <a:ext cx="2247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Picture 4" descr="j0198791"/>
            <p:cNvPicPr/>
            <p:nvPr/>
          </p:nvPicPr>
          <p:blipFill>
            <a:blip r:embed="rId1"/>
            <a:stretch/>
          </p:blipFill>
          <p:spPr>
            <a:xfrm>
              <a:off x="3203640" y="1568520"/>
              <a:ext cx="3983040" cy="438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9" descr="MCj04362790000[1]"/>
            <p:cNvPicPr/>
            <p:nvPr/>
          </p:nvPicPr>
          <p:blipFill>
            <a:blip r:embed="rId2"/>
            <a:stretch/>
          </p:blipFill>
          <p:spPr>
            <a:xfrm>
              <a:off x="6300720" y="3809880"/>
              <a:ext cx="26676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0" descr="MCj04362790000[1]"/>
            <p:cNvPicPr/>
            <p:nvPr/>
          </p:nvPicPr>
          <p:blipFill>
            <a:blip r:embed="rId3"/>
            <a:stretch/>
          </p:blipFill>
          <p:spPr>
            <a:xfrm>
              <a:off x="5940360" y="3738600"/>
              <a:ext cx="266760" cy="266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60920" y="228600"/>
            <a:ext cx="135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Answer she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3695400" y="115920"/>
            <a:ext cx="16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eek 10 IT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6664320" y="22860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ame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ate 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0"/>
          <p:cNvSpPr/>
          <p:nvPr/>
        </p:nvSpPr>
        <p:spPr>
          <a:xfrm>
            <a:off x="179280" y="157968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1.    Was there a singer in the hall? _______________________________________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144360" y="2168640"/>
            <a:ext cx="903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2.    Were there some young boys watching television?_________________________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179280" y="2876400"/>
            <a:ext cx="878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3.    Were there dogs in the park? ___________________________________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4920" y="3524400"/>
            <a:ext cx="885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4.    Was there a duck in the water?_______________________________________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-181080" y="4184640"/>
            <a:ext cx="914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5.    Was there a scientist on the island ? 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34920" y="4892760"/>
            <a:ext cx="878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6.    Were there stars on the magician’s hat? 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6"/>
          <p:cNvSpPr/>
          <p:nvPr/>
        </p:nvSpPr>
        <p:spPr>
          <a:xfrm>
            <a:off x="-36360" y="5613480"/>
            <a:ext cx="900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7.    Was there a musician in the classroom? 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2"/>
          <p:cNvSpPr/>
          <p:nvPr/>
        </p:nvSpPr>
        <p:spPr>
          <a:xfrm>
            <a:off x="179280" y="616572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8.    Was there an orange on the table? 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4043520" y="1197000"/>
            <a:ext cx="224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5" descr="j0136445"/>
          <p:cNvPicPr/>
          <p:nvPr/>
        </p:nvPicPr>
        <p:blipFill>
          <a:blip r:embed="rId1"/>
          <a:stretch/>
        </p:blipFill>
        <p:spPr>
          <a:xfrm>
            <a:off x="0" y="2205000"/>
            <a:ext cx="3100320" cy="4392720"/>
          </a:xfrm>
          <a:prstGeom prst="rect">
            <a:avLst/>
          </a:prstGeom>
          <a:ln w="0">
            <a:noFill/>
          </a:ln>
        </p:spPr>
      </p:pic>
      <p:sp>
        <p:nvSpPr>
          <p:cNvPr id="265" name="AutoShape 6"/>
          <p:cNvSpPr/>
          <p:nvPr/>
        </p:nvSpPr>
        <p:spPr>
          <a:xfrm>
            <a:off x="2771640" y="4005360"/>
            <a:ext cx="5832720" cy="1871640"/>
          </a:xfrm>
          <a:prstGeom prst="wedgeRoundRectCallout">
            <a:avLst>
              <a:gd name="adj1" fmla="val -75939"/>
              <a:gd name="adj2" fmla="val -768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ere t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stars on the magician’s 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7" descr="MCj04325790000[1]"/>
          <p:cNvPicPr/>
          <p:nvPr/>
        </p:nvPicPr>
        <p:blipFill>
          <a:blip r:embed="rId2"/>
          <a:stretch/>
        </p:blipFill>
        <p:spPr>
          <a:xfrm>
            <a:off x="7920000" y="26028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8"/>
          <p:cNvSpPr/>
          <p:nvPr/>
        </p:nvSpPr>
        <p:spPr>
          <a:xfrm>
            <a:off x="8518680" y="602784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493560" y="4083120"/>
            <a:ext cx="366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Yes,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here we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4043520" y="1197000"/>
            <a:ext cx="224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280440" y="644400"/>
            <a:ext cx="512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ere the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sta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on the magician’s hat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8466120" y="597204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0"/>
          <p:cNvSpPr/>
          <p:nvPr/>
        </p:nvSpPr>
        <p:spPr>
          <a:xfrm>
            <a:off x="3251880" y="5373720"/>
            <a:ext cx="157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1"/>
          <p:cNvGrpSpPr/>
          <p:nvPr/>
        </p:nvGrpSpPr>
        <p:grpSpPr>
          <a:xfrm>
            <a:off x="5052960" y="1197000"/>
            <a:ext cx="3983040" cy="4753080"/>
            <a:chOff x="5052960" y="1197000"/>
            <a:chExt cx="3983040" cy="4753080"/>
          </a:xfrm>
        </p:grpSpPr>
        <p:sp>
          <p:nvSpPr>
            <p:cNvPr id="274" name="Text Box 12"/>
            <p:cNvSpPr/>
            <p:nvPr/>
          </p:nvSpPr>
          <p:spPr>
            <a:xfrm>
              <a:off x="5892840" y="1197000"/>
              <a:ext cx="224784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5" name="Picture 13" descr="j0198791"/>
            <p:cNvPicPr/>
            <p:nvPr/>
          </p:nvPicPr>
          <p:blipFill>
            <a:blip r:embed="rId1"/>
            <a:stretch/>
          </p:blipFill>
          <p:spPr>
            <a:xfrm>
              <a:off x="5052960" y="1568520"/>
              <a:ext cx="3983040" cy="438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14" descr="MCj04362790000[1]"/>
            <p:cNvPicPr/>
            <p:nvPr/>
          </p:nvPicPr>
          <p:blipFill>
            <a:blip r:embed="rId2"/>
            <a:stretch/>
          </p:blipFill>
          <p:spPr>
            <a:xfrm>
              <a:off x="8150040" y="3809880"/>
              <a:ext cx="26676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15" descr="MCj04362790000[1]"/>
            <p:cNvPicPr/>
            <p:nvPr/>
          </p:nvPicPr>
          <p:blipFill>
            <a:blip r:embed="rId3"/>
            <a:stretch/>
          </p:blipFill>
          <p:spPr>
            <a:xfrm>
              <a:off x="7789680" y="3738600"/>
              <a:ext cx="266760" cy="266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8" name="Picture 16" descr="MCj04347130000[1]"/>
          <p:cNvPicPr/>
          <p:nvPr/>
        </p:nvPicPr>
        <p:blipFill>
          <a:blip r:embed="rId4"/>
          <a:stretch/>
        </p:blipFill>
        <p:spPr>
          <a:xfrm rot="21477600">
            <a:off x="3933720" y="4262040"/>
            <a:ext cx="8542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10"/>
          <p:cNvSpPr/>
          <p:nvPr/>
        </p:nvSpPr>
        <p:spPr>
          <a:xfrm>
            <a:off x="8589960" y="597204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13"/>
          <p:cNvGrpSpPr/>
          <p:nvPr/>
        </p:nvGrpSpPr>
        <p:grpSpPr>
          <a:xfrm>
            <a:off x="1908000" y="907920"/>
            <a:ext cx="5111640" cy="4321440"/>
            <a:chOff x="1908000" y="907920"/>
            <a:chExt cx="5111640" cy="4321440"/>
          </a:xfrm>
        </p:grpSpPr>
        <p:pic>
          <p:nvPicPr>
            <p:cNvPr id="281" name="Picture 6" descr="MCj03981210000[1]"/>
            <p:cNvPicPr/>
            <p:nvPr/>
          </p:nvPicPr>
          <p:blipFill>
            <a:blip r:embed="rId1"/>
            <a:stretch/>
          </p:blipFill>
          <p:spPr>
            <a:xfrm>
              <a:off x="3924000" y="907920"/>
              <a:ext cx="3095640" cy="2976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2" name="Picture 7" descr="MCj03342140000[1]"/>
            <p:cNvPicPr/>
            <p:nvPr/>
          </p:nvPicPr>
          <p:blipFill>
            <a:blip r:embed="rId2"/>
            <a:stretch/>
          </p:blipFill>
          <p:spPr>
            <a:xfrm>
              <a:off x="3274560" y="2060640"/>
              <a:ext cx="1003320" cy="204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12" descr="MCj03981310000[1]"/>
            <p:cNvPicPr/>
            <p:nvPr/>
          </p:nvPicPr>
          <p:blipFill>
            <a:blip r:embed="rId3"/>
            <a:stretch/>
          </p:blipFill>
          <p:spPr>
            <a:xfrm>
              <a:off x="1908000" y="1916280"/>
              <a:ext cx="2336760" cy="331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3" descr="j0198791"/>
          <p:cNvPicPr/>
          <p:nvPr/>
        </p:nvPicPr>
        <p:blipFill>
          <a:blip r:embed="rId1"/>
          <a:stretch/>
        </p:blipFill>
        <p:spPr>
          <a:xfrm>
            <a:off x="1523880" y="2421000"/>
            <a:ext cx="2543400" cy="2952720"/>
          </a:xfrm>
          <a:prstGeom prst="rect">
            <a:avLst/>
          </a:prstGeom>
          <a:ln w="0">
            <a:noFill/>
          </a:ln>
        </p:spPr>
      </p:pic>
      <p:sp>
        <p:nvSpPr>
          <p:cNvPr id="285" name="AutoShape 4"/>
          <p:cNvSpPr/>
          <p:nvPr/>
        </p:nvSpPr>
        <p:spPr>
          <a:xfrm>
            <a:off x="3059280" y="2709720"/>
            <a:ext cx="4752720" cy="2880000"/>
          </a:xfrm>
          <a:prstGeom prst="wedgeEllipseCallout">
            <a:avLst>
              <a:gd name="adj1" fmla="val -61222"/>
              <a:gd name="adj2" fmla="val -434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as there a musician in the classro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8" descr="MCj04325790000[1]"/>
          <p:cNvPicPr/>
          <p:nvPr/>
        </p:nvPicPr>
        <p:blipFill>
          <a:blip r:embed="rId2"/>
          <a:stretch/>
        </p:blipFill>
        <p:spPr>
          <a:xfrm>
            <a:off x="4356000" y="26028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10"/>
          <p:cNvSpPr/>
          <p:nvPr/>
        </p:nvSpPr>
        <p:spPr>
          <a:xfrm>
            <a:off x="8589960" y="597204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418320" y="501984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Yes,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here wa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8" descr="MCj04347130000[1]"/>
          <p:cNvPicPr/>
          <p:nvPr/>
        </p:nvPicPr>
        <p:blipFill>
          <a:blip r:embed="rId1"/>
          <a:stretch/>
        </p:blipFill>
        <p:spPr>
          <a:xfrm rot="21477600">
            <a:off x="4140360" y="5125680"/>
            <a:ext cx="853920" cy="895320"/>
          </a:xfrm>
          <a:prstGeom prst="rect">
            <a:avLst/>
          </a:prstGeom>
          <a:ln w="0">
            <a:noFill/>
          </a:ln>
        </p:spPr>
      </p:pic>
      <p:sp>
        <p:nvSpPr>
          <p:cNvPr id="290" name="Text Box 9"/>
          <p:cNvSpPr/>
          <p:nvPr/>
        </p:nvSpPr>
        <p:spPr>
          <a:xfrm>
            <a:off x="326160" y="692280"/>
            <a:ext cx="504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as the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a musicia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n the classroom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10"/>
          <p:cNvSpPr/>
          <p:nvPr/>
        </p:nvSpPr>
        <p:spPr>
          <a:xfrm>
            <a:off x="8321760" y="602784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1"/>
          <p:cNvGrpSpPr/>
          <p:nvPr/>
        </p:nvGrpSpPr>
        <p:grpSpPr>
          <a:xfrm>
            <a:off x="4284720" y="1125360"/>
            <a:ext cx="4606920" cy="3816000"/>
            <a:chOff x="4284720" y="1125360"/>
            <a:chExt cx="4606920" cy="3816000"/>
          </a:xfrm>
        </p:grpSpPr>
        <p:pic>
          <p:nvPicPr>
            <p:cNvPr id="293" name="Picture 12" descr="MCj03981210000[1]"/>
            <p:cNvPicPr/>
            <p:nvPr/>
          </p:nvPicPr>
          <p:blipFill>
            <a:blip r:embed="rId2"/>
            <a:stretch/>
          </p:blipFill>
          <p:spPr>
            <a:xfrm>
              <a:off x="6101640" y="1125360"/>
              <a:ext cx="2790000" cy="262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13" descr="MCj03342140000[1]"/>
            <p:cNvPicPr/>
            <p:nvPr/>
          </p:nvPicPr>
          <p:blipFill>
            <a:blip r:embed="rId3"/>
            <a:stretch/>
          </p:blipFill>
          <p:spPr>
            <a:xfrm>
              <a:off x="5516280" y="2143080"/>
              <a:ext cx="903960" cy="180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14" descr="MCj03981310000[1]"/>
            <p:cNvPicPr/>
            <p:nvPr/>
          </p:nvPicPr>
          <p:blipFill>
            <a:blip r:embed="rId4"/>
            <a:stretch/>
          </p:blipFill>
          <p:spPr>
            <a:xfrm>
              <a:off x="4284720" y="2015640"/>
              <a:ext cx="2106000" cy="2925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8447040" y="590076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6"/>
          <p:cNvGrpSpPr/>
          <p:nvPr/>
        </p:nvGrpSpPr>
        <p:grpSpPr>
          <a:xfrm>
            <a:off x="2627280" y="1989000"/>
            <a:ext cx="3527280" cy="2340000"/>
            <a:chOff x="2627280" y="1989000"/>
            <a:chExt cx="3527280" cy="2340000"/>
          </a:xfrm>
        </p:grpSpPr>
        <p:pic>
          <p:nvPicPr>
            <p:cNvPr id="298" name="Picture 3" descr="MCj04361610000[1]"/>
            <p:cNvPicPr/>
            <p:nvPr/>
          </p:nvPicPr>
          <p:blipFill>
            <a:blip r:embed="rId1"/>
            <a:stretch/>
          </p:blipFill>
          <p:spPr>
            <a:xfrm>
              <a:off x="2627280" y="1989000"/>
              <a:ext cx="3527280" cy="234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5" descr="MCj04395920000[1]"/>
            <p:cNvPicPr/>
            <p:nvPr/>
          </p:nvPicPr>
          <p:blipFill>
            <a:blip r:embed="rId2"/>
            <a:stretch/>
          </p:blipFill>
          <p:spPr>
            <a:xfrm>
              <a:off x="3964680" y="3707280"/>
              <a:ext cx="273960" cy="367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8447040" y="590076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6" descr="MCj03012540000[1]"/>
          <p:cNvPicPr/>
          <p:nvPr/>
        </p:nvPicPr>
        <p:blipFill>
          <a:blip r:embed="rId1"/>
          <a:stretch/>
        </p:blipFill>
        <p:spPr>
          <a:xfrm>
            <a:off x="2297160" y="3357720"/>
            <a:ext cx="1843200" cy="1785960"/>
          </a:xfrm>
          <a:prstGeom prst="rect">
            <a:avLst/>
          </a:prstGeom>
          <a:ln w="0">
            <a:noFill/>
          </a:ln>
        </p:spPr>
      </p:pic>
      <p:sp>
        <p:nvSpPr>
          <p:cNvPr id="302" name="AutoShape 7"/>
          <p:cNvSpPr/>
          <p:nvPr/>
        </p:nvSpPr>
        <p:spPr>
          <a:xfrm>
            <a:off x="3635280" y="1700280"/>
            <a:ext cx="3529080" cy="2950920"/>
          </a:xfrm>
          <a:prstGeom prst="wedgeEllipseCallout">
            <a:avLst>
              <a:gd name="adj1" fmla="val -64037"/>
              <a:gd name="adj2" fmla="val 2574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as t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an orange on the tab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9" descr="MCj04325790000[1]"/>
          <p:cNvPicPr/>
          <p:nvPr/>
        </p:nvPicPr>
        <p:blipFill>
          <a:blip r:embed="rId2"/>
          <a:stretch/>
        </p:blipFill>
        <p:spPr>
          <a:xfrm>
            <a:off x="4356000" y="26028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8447040" y="590076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"/>
          <p:cNvGrpSpPr/>
          <p:nvPr/>
        </p:nvGrpSpPr>
        <p:grpSpPr>
          <a:xfrm>
            <a:off x="4716360" y="2025720"/>
            <a:ext cx="4175280" cy="2555640"/>
            <a:chOff x="4716360" y="2025720"/>
            <a:chExt cx="4175280" cy="2555640"/>
          </a:xfrm>
        </p:grpSpPr>
        <p:pic>
          <p:nvPicPr>
            <p:cNvPr id="306" name="Picture 4" descr="MCj04361610000[1]"/>
            <p:cNvPicPr/>
            <p:nvPr/>
          </p:nvPicPr>
          <p:blipFill>
            <a:blip r:embed="rId1"/>
            <a:stretch/>
          </p:blipFill>
          <p:spPr>
            <a:xfrm>
              <a:off x="4716360" y="2025720"/>
              <a:ext cx="4175280" cy="255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7" name="Picture 5" descr="MCj04395920000[1]"/>
            <p:cNvPicPr/>
            <p:nvPr/>
          </p:nvPicPr>
          <p:blipFill>
            <a:blip r:embed="rId2"/>
            <a:stretch/>
          </p:blipFill>
          <p:spPr>
            <a:xfrm>
              <a:off x="6299640" y="3902040"/>
              <a:ext cx="324000" cy="40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8" name="Text Box 9"/>
          <p:cNvSpPr/>
          <p:nvPr/>
        </p:nvSpPr>
        <p:spPr>
          <a:xfrm>
            <a:off x="800640" y="644400"/>
            <a:ext cx="495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as the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an oran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on the table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"/>
          <p:cNvSpPr/>
          <p:nvPr/>
        </p:nvSpPr>
        <p:spPr>
          <a:xfrm>
            <a:off x="920880" y="4819680"/>
            <a:ext cx="40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,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here wasn’t 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11" descr="MCj04347130000[1]"/>
          <p:cNvPicPr/>
          <p:nvPr/>
        </p:nvPicPr>
        <p:blipFill>
          <a:blip r:embed="rId3"/>
          <a:stretch/>
        </p:blipFill>
        <p:spPr>
          <a:xfrm rot="21477600">
            <a:off x="4948200" y="4595400"/>
            <a:ext cx="854280" cy="89532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12"/>
          <p:cNvSpPr/>
          <p:nvPr/>
        </p:nvSpPr>
        <p:spPr>
          <a:xfrm>
            <a:off x="6204600" y="5300640"/>
            <a:ext cx="157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3" descr="MCj04238600000[1]"/>
          <p:cNvPicPr/>
          <p:nvPr/>
        </p:nvPicPr>
        <p:blipFill>
          <a:blip r:embed="rId1"/>
          <a:stretch/>
        </p:blipFill>
        <p:spPr>
          <a:xfrm>
            <a:off x="3462480" y="1701720"/>
            <a:ext cx="2477880" cy="2735280"/>
          </a:xfrm>
          <a:prstGeom prst="rect">
            <a:avLst/>
          </a:prstGeom>
          <a:ln w="0">
            <a:noFill/>
          </a:ln>
        </p:spPr>
      </p:pic>
      <p:sp>
        <p:nvSpPr>
          <p:cNvPr id="313" name="WordArt 4"/>
          <p:cNvSpPr txBox="1"/>
          <p:nvPr/>
        </p:nvSpPr>
        <p:spPr>
          <a:xfrm>
            <a:off x="1835280" y="907920"/>
            <a:ext cx="5041800" cy="1297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ell don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14" name="WordArt 5"/>
          <p:cNvSpPr txBox="1"/>
          <p:nvPr/>
        </p:nvSpPr>
        <p:spPr>
          <a:xfrm>
            <a:off x="1979640" y="5049720"/>
            <a:ext cx="511344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You have finished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44360" y="3500280"/>
            <a:ext cx="882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Do you have a good memory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  <a:ea typeface="Arial"/>
              </a:rPr>
              <a:t>and are you a good detectiv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MCj04244780000[1]"/>
          <p:cNvPicPr/>
          <p:nvPr/>
        </p:nvPicPr>
        <p:blipFill>
          <a:blip r:embed="rId1"/>
          <a:stretch/>
        </p:blipFill>
        <p:spPr>
          <a:xfrm>
            <a:off x="3203640" y="260280"/>
            <a:ext cx="26636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3"/>
          <p:cNvGrpSpPr/>
          <p:nvPr/>
        </p:nvGrpSpPr>
        <p:grpSpPr>
          <a:xfrm>
            <a:off x="468360" y="453960"/>
            <a:ext cx="8314560" cy="6143040"/>
            <a:chOff x="468360" y="453960"/>
            <a:chExt cx="8314560" cy="6143040"/>
          </a:xfrm>
        </p:grpSpPr>
        <p:pic>
          <p:nvPicPr>
            <p:cNvPr id="98" name="Picture 4" descr="MCj00898770000[1]"/>
            <p:cNvPicPr/>
            <p:nvPr/>
          </p:nvPicPr>
          <p:blipFill>
            <a:blip r:embed="rId1"/>
            <a:stretch/>
          </p:blipFill>
          <p:spPr>
            <a:xfrm>
              <a:off x="468360" y="453960"/>
              <a:ext cx="8314560" cy="614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" name="Group 5"/>
            <p:cNvGrpSpPr/>
            <p:nvPr/>
          </p:nvGrpSpPr>
          <p:grpSpPr>
            <a:xfrm>
              <a:off x="3794760" y="1737000"/>
              <a:ext cx="3965040" cy="4301640"/>
              <a:chOff x="3794760" y="1737000"/>
              <a:chExt cx="3965040" cy="4301640"/>
            </a:xfrm>
          </p:grpSpPr>
          <p:sp>
            <p:nvSpPr>
              <p:cNvPr id="100" name="AutoShape 6"/>
              <p:cNvSpPr/>
              <p:nvPr/>
            </p:nvSpPr>
            <p:spPr>
              <a:xfrm>
                <a:off x="3808800" y="1737000"/>
                <a:ext cx="3951000" cy="428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7"/>
              <p:cNvSpPr/>
              <p:nvPr/>
            </p:nvSpPr>
            <p:spPr>
              <a:xfrm>
                <a:off x="3794760" y="1812960"/>
                <a:ext cx="3894480" cy="4225680"/>
              </a:xfrm>
              <a:custGeom>
                <a:avLst/>
                <a:gdLst>
                  <a:gd name="textAreaLeft" fmla="*/ 0 w 3894480"/>
                  <a:gd name="textAreaRight" fmla="*/ 3894840 w 3894480"/>
                  <a:gd name="textAreaTop" fmla="*/ 0 h 4225680"/>
                  <a:gd name="textAreaBottom" fmla="*/ 4225680 h 4225680"/>
                </a:gdLst>
                <a:ahLst/>
                <a:rect l="textAreaLeft" t="textAreaTop" r="textAreaRight" b="textAreaBottom"/>
                <a:pathLst>
                  <a:path w="4136" h="5475">
                    <a:moveTo>
                      <a:pt x="482" y="5475"/>
                    </a:moveTo>
                    <a:lnTo>
                      <a:pt x="448" y="5466"/>
                    </a:lnTo>
                    <a:lnTo>
                      <a:pt x="416" y="5461"/>
                    </a:lnTo>
                    <a:lnTo>
                      <a:pt x="384" y="5455"/>
                    </a:lnTo>
                    <a:lnTo>
                      <a:pt x="355" y="5452"/>
                    </a:lnTo>
                    <a:lnTo>
                      <a:pt x="325" y="5450"/>
                    </a:lnTo>
                    <a:lnTo>
                      <a:pt x="296" y="5448"/>
                    </a:lnTo>
                    <a:lnTo>
                      <a:pt x="264" y="5448"/>
                    </a:lnTo>
                    <a:lnTo>
                      <a:pt x="232" y="5448"/>
                    </a:lnTo>
                    <a:lnTo>
                      <a:pt x="218" y="5432"/>
                    </a:lnTo>
                    <a:lnTo>
                      <a:pt x="210" y="5410"/>
                    </a:lnTo>
                    <a:lnTo>
                      <a:pt x="200" y="5381"/>
                    </a:lnTo>
                    <a:lnTo>
                      <a:pt x="196" y="5350"/>
                    </a:lnTo>
                    <a:lnTo>
                      <a:pt x="191" y="5318"/>
                    </a:lnTo>
                    <a:lnTo>
                      <a:pt x="186" y="5289"/>
                    </a:lnTo>
                    <a:lnTo>
                      <a:pt x="185" y="5263"/>
                    </a:lnTo>
                    <a:lnTo>
                      <a:pt x="185" y="5245"/>
                    </a:lnTo>
                    <a:lnTo>
                      <a:pt x="193" y="5238"/>
                    </a:lnTo>
                    <a:lnTo>
                      <a:pt x="202" y="5235"/>
                    </a:lnTo>
                    <a:lnTo>
                      <a:pt x="210" y="5231"/>
                    </a:lnTo>
                    <a:lnTo>
                      <a:pt x="218" y="5231"/>
                    </a:lnTo>
                    <a:lnTo>
                      <a:pt x="227" y="5230"/>
                    </a:lnTo>
                    <a:lnTo>
                      <a:pt x="236" y="5230"/>
                    </a:lnTo>
                    <a:lnTo>
                      <a:pt x="247" y="5230"/>
                    </a:lnTo>
                    <a:lnTo>
                      <a:pt x="261" y="5231"/>
                    </a:lnTo>
                    <a:lnTo>
                      <a:pt x="287" y="5240"/>
                    </a:lnTo>
                    <a:lnTo>
                      <a:pt x="319" y="5241"/>
                    </a:lnTo>
                    <a:lnTo>
                      <a:pt x="354" y="5238"/>
                    </a:lnTo>
                    <a:lnTo>
                      <a:pt x="391" y="5231"/>
                    </a:lnTo>
                    <a:lnTo>
                      <a:pt x="426" y="5219"/>
                    </a:lnTo>
                    <a:lnTo>
                      <a:pt x="462" y="5206"/>
                    </a:lnTo>
                    <a:lnTo>
                      <a:pt x="492" y="5191"/>
                    </a:lnTo>
                    <a:lnTo>
                      <a:pt x="520" y="5179"/>
                    </a:lnTo>
                    <a:lnTo>
                      <a:pt x="529" y="5180"/>
                    </a:lnTo>
                    <a:lnTo>
                      <a:pt x="542" y="5187"/>
                    </a:lnTo>
                    <a:lnTo>
                      <a:pt x="549" y="5190"/>
                    </a:lnTo>
                    <a:lnTo>
                      <a:pt x="556" y="5193"/>
                    </a:lnTo>
                    <a:lnTo>
                      <a:pt x="564" y="5194"/>
                    </a:lnTo>
                    <a:lnTo>
                      <a:pt x="572" y="5195"/>
                    </a:lnTo>
                    <a:lnTo>
                      <a:pt x="574" y="5180"/>
                    </a:lnTo>
                    <a:lnTo>
                      <a:pt x="576" y="5166"/>
                    </a:lnTo>
                    <a:lnTo>
                      <a:pt x="578" y="5154"/>
                    </a:lnTo>
                    <a:lnTo>
                      <a:pt x="581" y="5141"/>
                    </a:lnTo>
                    <a:lnTo>
                      <a:pt x="589" y="5136"/>
                    </a:lnTo>
                    <a:lnTo>
                      <a:pt x="600" y="5136"/>
                    </a:lnTo>
                    <a:lnTo>
                      <a:pt x="610" y="5136"/>
                    </a:lnTo>
                    <a:lnTo>
                      <a:pt x="622" y="5137"/>
                    </a:lnTo>
                    <a:lnTo>
                      <a:pt x="651" y="5146"/>
                    </a:lnTo>
                    <a:lnTo>
                      <a:pt x="682" y="5154"/>
                    </a:lnTo>
                    <a:lnTo>
                      <a:pt x="711" y="5158"/>
                    </a:lnTo>
                    <a:lnTo>
                      <a:pt x="740" y="5162"/>
                    </a:lnTo>
                    <a:lnTo>
                      <a:pt x="769" y="5162"/>
                    </a:lnTo>
                    <a:lnTo>
                      <a:pt x="799" y="5161"/>
                    </a:lnTo>
                    <a:lnTo>
                      <a:pt x="831" y="5155"/>
                    </a:lnTo>
                    <a:lnTo>
                      <a:pt x="867" y="5150"/>
                    </a:lnTo>
                    <a:lnTo>
                      <a:pt x="917" y="5017"/>
                    </a:lnTo>
                    <a:lnTo>
                      <a:pt x="973" y="4891"/>
                    </a:lnTo>
                    <a:lnTo>
                      <a:pt x="1034" y="4765"/>
                    </a:lnTo>
                    <a:lnTo>
                      <a:pt x="1101" y="4645"/>
                    </a:lnTo>
                    <a:lnTo>
                      <a:pt x="1168" y="4523"/>
                    </a:lnTo>
                    <a:lnTo>
                      <a:pt x="1237" y="4405"/>
                    </a:lnTo>
                    <a:lnTo>
                      <a:pt x="1308" y="4284"/>
                    </a:lnTo>
                    <a:lnTo>
                      <a:pt x="1379" y="4164"/>
                    </a:lnTo>
                    <a:lnTo>
                      <a:pt x="1405" y="4124"/>
                    </a:lnTo>
                    <a:lnTo>
                      <a:pt x="1432" y="4084"/>
                    </a:lnTo>
                    <a:lnTo>
                      <a:pt x="1459" y="4044"/>
                    </a:lnTo>
                    <a:lnTo>
                      <a:pt x="1486" y="4005"/>
                    </a:lnTo>
                    <a:lnTo>
                      <a:pt x="1513" y="3965"/>
                    </a:lnTo>
                    <a:lnTo>
                      <a:pt x="1540" y="3926"/>
                    </a:lnTo>
                    <a:lnTo>
                      <a:pt x="1567" y="3886"/>
                    </a:lnTo>
                    <a:lnTo>
                      <a:pt x="1594" y="3847"/>
                    </a:lnTo>
                    <a:lnTo>
                      <a:pt x="1604" y="3834"/>
                    </a:lnTo>
                    <a:lnTo>
                      <a:pt x="1615" y="3820"/>
                    </a:lnTo>
                    <a:lnTo>
                      <a:pt x="1626" y="3803"/>
                    </a:lnTo>
                    <a:lnTo>
                      <a:pt x="1637" y="3787"/>
                    </a:lnTo>
                    <a:lnTo>
                      <a:pt x="1647" y="3769"/>
                    </a:lnTo>
                    <a:lnTo>
                      <a:pt x="1658" y="3752"/>
                    </a:lnTo>
                    <a:lnTo>
                      <a:pt x="1668" y="3735"/>
                    </a:lnTo>
                    <a:lnTo>
                      <a:pt x="1677" y="3722"/>
                    </a:lnTo>
                    <a:lnTo>
                      <a:pt x="1686" y="3708"/>
                    </a:lnTo>
                    <a:lnTo>
                      <a:pt x="1701" y="3690"/>
                    </a:lnTo>
                    <a:lnTo>
                      <a:pt x="1719" y="3668"/>
                    </a:lnTo>
                    <a:lnTo>
                      <a:pt x="1739" y="3644"/>
                    </a:lnTo>
                    <a:lnTo>
                      <a:pt x="1757" y="3619"/>
                    </a:lnTo>
                    <a:lnTo>
                      <a:pt x="1774" y="3596"/>
                    </a:lnTo>
                    <a:lnTo>
                      <a:pt x="1785" y="3577"/>
                    </a:lnTo>
                    <a:lnTo>
                      <a:pt x="1792" y="3564"/>
                    </a:lnTo>
                    <a:lnTo>
                      <a:pt x="1771" y="3554"/>
                    </a:lnTo>
                    <a:lnTo>
                      <a:pt x="1756" y="3546"/>
                    </a:lnTo>
                    <a:lnTo>
                      <a:pt x="1741" y="3535"/>
                    </a:lnTo>
                    <a:lnTo>
                      <a:pt x="1730" y="3524"/>
                    </a:lnTo>
                    <a:lnTo>
                      <a:pt x="1719" y="3510"/>
                    </a:lnTo>
                    <a:lnTo>
                      <a:pt x="1712" y="3496"/>
                    </a:lnTo>
                    <a:lnTo>
                      <a:pt x="1708" y="3480"/>
                    </a:lnTo>
                    <a:lnTo>
                      <a:pt x="1708" y="3463"/>
                    </a:lnTo>
                    <a:lnTo>
                      <a:pt x="1741" y="3398"/>
                    </a:lnTo>
                    <a:lnTo>
                      <a:pt x="1792" y="3340"/>
                    </a:lnTo>
                    <a:lnTo>
                      <a:pt x="1854" y="3285"/>
                    </a:lnTo>
                    <a:lnTo>
                      <a:pt x="1926" y="3235"/>
                    </a:lnTo>
                    <a:lnTo>
                      <a:pt x="1997" y="3184"/>
                    </a:lnTo>
                    <a:lnTo>
                      <a:pt x="2064" y="3133"/>
                    </a:lnTo>
                    <a:lnTo>
                      <a:pt x="2122" y="3077"/>
                    </a:lnTo>
                    <a:lnTo>
                      <a:pt x="2170" y="3018"/>
                    </a:lnTo>
                    <a:lnTo>
                      <a:pt x="2189" y="2993"/>
                    </a:lnTo>
                    <a:lnTo>
                      <a:pt x="2204" y="2972"/>
                    </a:lnTo>
                    <a:lnTo>
                      <a:pt x="2217" y="2952"/>
                    </a:lnTo>
                    <a:lnTo>
                      <a:pt x="2228" y="2934"/>
                    </a:lnTo>
                    <a:lnTo>
                      <a:pt x="2233" y="2912"/>
                    </a:lnTo>
                    <a:lnTo>
                      <a:pt x="2237" y="2891"/>
                    </a:lnTo>
                    <a:lnTo>
                      <a:pt x="2239" y="2865"/>
                    </a:lnTo>
                    <a:lnTo>
                      <a:pt x="2240" y="2834"/>
                    </a:lnTo>
                    <a:lnTo>
                      <a:pt x="2223" y="2783"/>
                    </a:lnTo>
                    <a:lnTo>
                      <a:pt x="2200" y="2737"/>
                    </a:lnTo>
                    <a:lnTo>
                      <a:pt x="2171" y="2695"/>
                    </a:lnTo>
                    <a:lnTo>
                      <a:pt x="2139" y="2656"/>
                    </a:lnTo>
                    <a:lnTo>
                      <a:pt x="2106" y="2616"/>
                    </a:lnTo>
                    <a:lnTo>
                      <a:pt x="2075" y="2577"/>
                    </a:lnTo>
                    <a:lnTo>
                      <a:pt x="2049" y="2534"/>
                    </a:lnTo>
                    <a:lnTo>
                      <a:pt x="2030" y="2491"/>
                    </a:lnTo>
                    <a:lnTo>
                      <a:pt x="1987" y="2473"/>
                    </a:lnTo>
                    <a:lnTo>
                      <a:pt x="1936" y="2454"/>
                    </a:lnTo>
                    <a:lnTo>
                      <a:pt x="1880" y="2433"/>
                    </a:lnTo>
                    <a:lnTo>
                      <a:pt x="1825" y="2410"/>
                    </a:lnTo>
                    <a:lnTo>
                      <a:pt x="1770" y="2383"/>
                    </a:lnTo>
                    <a:lnTo>
                      <a:pt x="1723" y="2357"/>
                    </a:lnTo>
                    <a:lnTo>
                      <a:pt x="1686" y="2330"/>
                    </a:lnTo>
                    <a:lnTo>
                      <a:pt x="1663" y="2303"/>
                    </a:lnTo>
                    <a:lnTo>
                      <a:pt x="1663" y="2295"/>
                    </a:lnTo>
                    <a:lnTo>
                      <a:pt x="1663" y="2288"/>
                    </a:lnTo>
                    <a:lnTo>
                      <a:pt x="1663" y="2280"/>
                    </a:lnTo>
                    <a:lnTo>
                      <a:pt x="1663" y="2274"/>
                    </a:lnTo>
                    <a:lnTo>
                      <a:pt x="1650" y="2278"/>
                    </a:lnTo>
                    <a:lnTo>
                      <a:pt x="1636" y="2289"/>
                    </a:lnTo>
                    <a:lnTo>
                      <a:pt x="1622" y="2302"/>
                    </a:lnTo>
                    <a:lnTo>
                      <a:pt x="1614" y="2312"/>
                    </a:lnTo>
                    <a:lnTo>
                      <a:pt x="1511" y="2379"/>
                    </a:lnTo>
                    <a:lnTo>
                      <a:pt x="1405" y="2447"/>
                    </a:lnTo>
                    <a:lnTo>
                      <a:pt x="1294" y="2513"/>
                    </a:lnTo>
                    <a:lnTo>
                      <a:pt x="1182" y="2576"/>
                    </a:lnTo>
                    <a:lnTo>
                      <a:pt x="1066" y="2630"/>
                    </a:lnTo>
                    <a:lnTo>
                      <a:pt x="948" y="2677"/>
                    </a:lnTo>
                    <a:lnTo>
                      <a:pt x="830" y="2711"/>
                    </a:lnTo>
                    <a:lnTo>
                      <a:pt x="712" y="2733"/>
                    </a:lnTo>
                    <a:lnTo>
                      <a:pt x="694" y="2729"/>
                    </a:lnTo>
                    <a:lnTo>
                      <a:pt x="677" y="2726"/>
                    </a:lnTo>
                    <a:lnTo>
                      <a:pt x="661" y="2722"/>
                    </a:lnTo>
                    <a:lnTo>
                      <a:pt x="644" y="2721"/>
                    </a:lnTo>
                    <a:lnTo>
                      <a:pt x="628" y="2718"/>
                    </a:lnTo>
                    <a:lnTo>
                      <a:pt x="611" y="2715"/>
                    </a:lnTo>
                    <a:lnTo>
                      <a:pt x="596" y="2711"/>
                    </a:lnTo>
                    <a:lnTo>
                      <a:pt x="582" y="2707"/>
                    </a:lnTo>
                    <a:lnTo>
                      <a:pt x="554" y="2706"/>
                    </a:lnTo>
                    <a:lnTo>
                      <a:pt x="513" y="2728"/>
                    </a:lnTo>
                    <a:lnTo>
                      <a:pt x="460" y="2764"/>
                    </a:lnTo>
                    <a:lnTo>
                      <a:pt x="402" y="2809"/>
                    </a:lnTo>
                    <a:lnTo>
                      <a:pt x="340" y="2856"/>
                    </a:lnTo>
                    <a:lnTo>
                      <a:pt x="281" y="2899"/>
                    </a:lnTo>
                    <a:lnTo>
                      <a:pt x="225" y="2931"/>
                    </a:lnTo>
                    <a:lnTo>
                      <a:pt x="182" y="2946"/>
                    </a:lnTo>
                    <a:lnTo>
                      <a:pt x="168" y="2918"/>
                    </a:lnTo>
                    <a:lnTo>
                      <a:pt x="178" y="2888"/>
                    </a:lnTo>
                    <a:lnTo>
                      <a:pt x="203" y="2853"/>
                    </a:lnTo>
                    <a:lnTo>
                      <a:pt x="242" y="2819"/>
                    </a:lnTo>
                    <a:lnTo>
                      <a:pt x="282" y="2784"/>
                    </a:lnTo>
                    <a:lnTo>
                      <a:pt x="323" y="2753"/>
                    </a:lnTo>
                    <a:lnTo>
                      <a:pt x="357" y="2724"/>
                    </a:lnTo>
                    <a:lnTo>
                      <a:pt x="377" y="2701"/>
                    </a:lnTo>
                    <a:lnTo>
                      <a:pt x="329" y="2700"/>
                    </a:lnTo>
                    <a:lnTo>
                      <a:pt x="279" y="2704"/>
                    </a:lnTo>
                    <a:lnTo>
                      <a:pt x="228" y="2707"/>
                    </a:lnTo>
                    <a:lnTo>
                      <a:pt x="178" y="2710"/>
                    </a:lnTo>
                    <a:lnTo>
                      <a:pt x="127" y="2708"/>
                    </a:lnTo>
                    <a:lnTo>
                      <a:pt x="80" y="2703"/>
                    </a:lnTo>
                    <a:lnTo>
                      <a:pt x="37" y="2690"/>
                    </a:lnTo>
                    <a:lnTo>
                      <a:pt x="0" y="2670"/>
                    </a:lnTo>
                    <a:lnTo>
                      <a:pt x="16" y="2649"/>
                    </a:lnTo>
                    <a:lnTo>
                      <a:pt x="39" y="2636"/>
                    </a:lnTo>
                    <a:lnTo>
                      <a:pt x="65" y="2627"/>
                    </a:lnTo>
                    <a:lnTo>
                      <a:pt x="95" y="2623"/>
                    </a:lnTo>
                    <a:lnTo>
                      <a:pt x="124" y="2618"/>
                    </a:lnTo>
                    <a:lnTo>
                      <a:pt x="156" y="2616"/>
                    </a:lnTo>
                    <a:lnTo>
                      <a:pt x="188" y="2610"/>
                    </a:lnTo>
                    <a:lnTo>
                      <a:pt x="218" y="2605"/>
                    </a:lnTo>
                    <a:lnTo>
                      <a:pt x="231" y="2602"/>
                    </a:lnTo>
                    <a:lnTo>
                      <a:pt x="243" y="2599"/>
                    </a:lnTo>
                    <a:lnTo>
                      <a:pt x="257" y="2596"/>
                    </a:lnTo>
                    <a:lnTo>
                      <a:pt x="271" y="2595"/>
                    </a:lnTo>
                    <a:lnTo>
                      <a:pt x="283" y="2592"/>
                    </a:lnTo>
                    <a:lnTo>
                      <a:pt x="297" y="2591"/>
                    </a:lnTo>
                    <a:lnTo>
                      <a:pt x="311" y="2591"/>
                    </a:lnTo>
                    <a:lnTo>
                      <a:pt x="328" y="2591"/>
                    </a:lnTo>
                    <a:lnTo>
                      <a:pt x="328" y="2589"/>
                    </a:lnTo>
                    <a:lnTo>
                      <a:pt x="329" y="2588"/>
                    </a:lnTo>
                    <a:lnTo>
                      <a:pt x="303" y="2569"/>
                    </a:lnTo>
                    <a:lnTo>
                      <a:pt x="272" y="2548"/>
                    </a:lnTo>
                    <a:lnTo>
                      <a:pt x="238" y="2524"/>
                    </a:lnTo>
                    <a:lnTo>
                      <a:pt x="204" y="2501"/>
                    </a:lnTo>
                    <a:lnTo>
                      <a:pt x="170" y="2476"/>
                    </a:lnTo>
                    <a:lnTo>
                      <a:pt x="141" y="2453"/>
                    </a:lnTo>
                    <a:lnTo>
                      <a:pt x="117" y="2430"/>
                    </a:lnTo>
                    <a:lnTo>
                      <a:pt x="102" y="2412"/>
                    </a:lnTo>
                    <a:lnTo>
                      <a:pt x="112" y="2382"/>
                    </a:lnTo>
                    <a:lnTo>
                      <a:pt x="134" y="2372"/>
                    </a:lnTo>
                    <a:lnTo>
                      <a:pt x="164" y="2375"/>
                    </a:lnTo>
                    <a:lnTo>
                      <a:pt x="200" y="2389"/>
                    </a:lnTo>
                    <a:lnTo>
                      <a:pt x="238" y="2407"/>
                    </a:lnTo>
                    <a:lnTo>
                      <a:pt x="274" y="2430"/>
                    </a:lnTo>
                    <a:lnTo>
                      <a:pt x="305" y="2450"/>
                    </a:lnTo>
                    <a:lnTo>
                      <a:pt x="329" y="2465"/>
                    </a:lnTo>
                    <a:lnTo>
                      <a:pt x="372" y="2466"/>
                    </a:lnTo>
                    <a:lnTo>
                      <a:pt x="410" y="2469"/>
                    </a:lnTo>
                    <a:lnTo>
                      <a:pt x="442" y="2469"/>
                    </a:lnTo>
                    <a:lnTo>
                      <a:pt x="470" y="2466"/>
                    </a:lnTo>
                    <a:lnTo>
                      <a:pt x="492" y="2457"/>
                    </a:lnTo>
                    <a:lnTo>
                      <a:pt x="513" y="2440"/>
                    </a:lnTo>
                    <a:lnTo>
                      <a:pt x="529" y="2414"/>
                    </a:lnTo>
                    <a:lnTo>
                      <a:pt x="546" y="2375"/>
                    </a:lnTo>
                    <a:lnTo>
                      <a:pt x="558" y="2356"/>
                    </a:lnTo>
                    <a:lnTo>
                      <a:pt x="581" y="2332"/>
                    </a:lnTo>
                    <a:lnTo>
                      <a:pt x="608" y="2307"/>
                    </a:lnTo>
                    <a:lnTo>
                      <a:pt x="640" y="2288"/>
                    </a:lnTo>
                    <a:lnTo>
                      <a:pt x="670" y="2274"/>
                    </a:lnTo>
                    <a:lnTo>
                      <a:pt x="698" y="2274"/>
                    </a:lnTo>
                    <a:lnTo>
                      <a:pt x="720" y="2288"/>
                    </a:lnTo>
                    <a:lnTo>
                      <a:pt x="735" y="2323"/>
                    </a:lnTo>
                    <a:lnTo>
                      <a:pt x="730" y="2334"/>
                    </a:lnTo>
                    <a:lnTo>
                      <a:pt x="722" y="2346"/>
                    </a:lnTo>
                    <a:lnTo>
                      <a:pt x="711" y="2359"/>
                    </a:lnTo>
                    <a:lnTo>
                      <a:pt x="700" y="2371"/>
                    </a:lnTo>
                    <a:lnTo>
                      <a:pt x="687" y="2382"/>
                    </a:lnTo>
                    <a:lnTo>
                      <a:pt x="676" y="2395"/>
                    </a:lnTo>
                    <a:lnTo>
                      <a:pt x="664" y="2407"/>
                    </a:lnTo>
                    <a:lnTo>
                      <a:pt x="657" y="2419"/>
                    </a:lnTo>
                    <a:lnTo>
                      <a:pt x="650" y="2430"/>
                    </a:lnTo>
                    <a:lnTo>
                      <a:pt x="643" y="2454"/>
                    </a:lnTo>
                    <a:lnTo>
                      <a:pt x="633" y="2482"/>
                    </a:lnTo>
                    <a:lnTo>
                      <a:pt x="626" y="2513"/>
                    </a:lnTo>
                    <a:lnTo>
                      <a:pt x="621" y="2542"/>
                    </a:lnTo>
                    <a:lnTo>
                      <a:pt x="622" y="2569"/>
                    </a:lnTo>
                    <a:lnTo>
                      <a:pt x="630" y="2585"/>
                    </a:lnTo>
                    <a:lnTo>
                      <a:pt x="648" y="2591"/>
                    </a:lnTo>
                    <a:lnTo>
                      <a:pt x="653" y="2583"/>
                    </a:lnTo>
                    <a:lnTo>
                      <a:pt x="657" y="2578"/>
                    </a:lnTo>
                    <a:lnTo>
                      <a:pt x="661" y="2583"/>
                    </a:lnTo>
                    <a:lnTo>
                      <a:pt x="665" y="2588"/>
                    </a:lnTo>
                    <a:lnTo>
                      <a:pt x="755" y="2565"/>
                    </a:lnTo>
                    <a:lnTo>
                      <a:pt x="842" y="2529"/>
                    </a:lnTo>
                    <a:lnTo>
                      <a:pt x="926" y="2480"/>
                    </a:lnTo>
                    <a:lnTo>
                      <a:pt x="1008" y="2425"/>
                    </a:lnTo>
                    <a:lnTo>
                      <a:pt x="1085" y="2361"/>
                    </a:lnTo>
                    <a:lnTo>
                      <a:pt x="1159" y="2296"/>
                    </a:lnTo>
                    <a:lnTo>
                      <a:pt x="1228" y="2231"/>
                    </a:lnTo>
                    <a:lnTo>
                      <a:pt x="1294" y="2172"/>
                    </a:lnTo>
                    <a:lnTo>
                      <a:pt x="1337" y="2125"/>
                    </a:lnTo>
                    <a:lnTo>
                      <a:pt x="1380" y="2077"/>
                    </a:lnTo>
                    <a:lnTo>
                      <a:pt x="1421" y="2028"/>
                    </a:lnTo>
                    <a:lnTo>
                      <a:pt x="1464" y="1980"/>
                    </a:lnTo>
                    <a:lnTo>
                      <a:pt x="1506" y="1930"/>
                    </a:lnTo>
                    <a:lnTo>
                      <a:pt x="1549" y="1882"/>
                    </a:lnTo>
                    <a:lnTo>
                      <a:pt x="1590" y="1833"/>
                    </a:lnTo>
                    <a:lnTo>
                      <a:pt x="1634" y="1788"/>
                    </a:lnTo>
                    <a:lnTo>
                      <a:pt x="1656" y="1774"/>
                    </a:lnTo>
                    <a:lnTo>
                      <a:pt x="1676" y="1770"/>
                    </a:lnTo>
                    <a:lnTo>
                      <a:pt x="1691" y="1768"/>
                    </a:lnTo>
                    <a:lnTo>
                      <a:pt x="1705" y="1772"/>
                    </a:lnTo>
                    <a:lnTo>
                      <a:pt x="1717" y="1777"/>
                    </a:lnTo>
                    <a:lnTo>
                      <a:pt x="1734" y="1783"/>
                    </a:lnTo>
                    <a:lnTo>
                      <a:pt x="1753" y="1788"/>
                    </a:lnTo>
                    <a:lnTo>
                      <a:pt x="1780" y="1790"/>
                    </a:lnTo>
                    <a:lnTo>
                      <a:pt x="1788" y="1782"/>
                    </a:lnTo>
                    <a:lnTo>
                      <a:pt x="1798" y="1775"/>
                    </a:lnTo>
                    <a:lnTo>
                      <a:pt x="1807" y="1768"/>
                    </a:lnTo>
                    <a:lnTo>
                      <a:pt x="1817" y="1764"/>
                    </a:lnTo>
                    <a:lnTo>
                      <a:pt x="1827" y="1759"/>
                    </a:lnTo>
                    <a:lnTo>
                      <a:pt x="1838" y="1757"/>
                    </a:lnTo>
                    <a:lnTo>
                      <a:pt x="1850" y="1756"/>
                    </a:lnTo>
                    <a:lnTo>
                      <a:pt x="1864" y="1759"/>
                    </a:lnTo>
                    <a:lnTo>
                      <a:pt x="1860" y="1749"/>
                    </a:lnTo>
                    <a:lnTo>
                      <a:pt x="1856" y="1739"/>
                    </a:lnTo>
                    <a:lnTo>
                      <a:pt x="1850" y="1731"/>
                    </a:lnTo>
                    <a:lnTo>
                      <a:pt x="1846" y="1723"/>
                    </a:lnTo>
                    <a:lnTo>
                      <a:pt x="1839" y="1713"/>
                    </a:lnTo>
                    <a:lnTo>
                      <a:pt x="1833" y="1705"/>
                    </a:lnTo>
                    <a:lnTo>
                      <a:pt x="1828" y="1698"/>
                    </a:lnTo>
                    <a:lnTo>
                      <a:pt x="1824" y="1692"/>
                    </a:lnTo>
                    <a:lnTo>
                      <a:pt x="1802" y="1642"/>
                    </a:lnTo>
                    <a:lnTo>
                      <a:pt x="1781" y="1590"/>
                    </a:lnTo>
                    <a:lnTo>
                      <a:pt x="1762" y="1533"/>
                    </a:lnTo>
                    <a:lnTo>
                      <a:pt x="1745" y="1478"/>
                    </a:lnTo>
                    <a:lnTo>
                      <a:pt x="1728" y="1420"/>
                    </a:lnTo>
                    <a:lnTo>
                      <a:pt x="1717" y="1363"/>
                    </a:lnTo>
                    <a:lnTo>
                      <a:pt x="1708" y="1308"/>
                    </a:lnTo>
                    <a:lnTo>
                      <a:pt x="1703" y="1258"/>
                    </a:lnTo>
                    <a:lnTo>
                      <a:pt x="1648" y="1246"/>
                    </a:lnTo>
                    <a:lnTo>
                      <a:pt x="1614" y="1214"/>
                    </a:lnTo>
                    <a:lnTo>
                      <a:pt x="1594" y="1168"/>
                    </a:lnTo>
                    <a:lnTo>
                      <a:pt x="1590" y="1114"/>
                    </a:lnTo>
                    <a:lnTo>
                      <a:pt x="1594" y="1055"/>
                    </a:lnTo>
                    <a:lnTo>
                      <a:pt x="1607" y="997"/>
                    </a:lnTo>
                    <a:lnTo>
                      <a:pt x="1621" y="947"/>
                    </a:lnTo>
                    <a:lnTo>
                      <a:pt x="1637" y="910"/>
                    </a:lnTo>
                    <a:lnTo>
                      <a:pt x="1644" y="859"/>
                    </a:lnTo>
                    <a:lnTo>
                      <a:pt x="1650" y="812"/>
                    </a:lnTo>
                    <a:lnTo>
                      <a:pt x="1652" y="766"/>
                    </a:lnTo>
                    <a:lnTo>
                      <a:pt x="1656" y="723"/>
                    </a:lnTo>
                    <a:lnTo>
                      <a:pt x="1661" y="679"/>
                    </a:lnTo>
                    <a:lnTo>
                      <a:pt x="1669" y="636"/>
                    </a:lnTo>
                    <a:lnTo>
                      <a:pt x="1680" y="592"/>
                    </a:lnTo>
                    <a:lnTo>
                      <a:pt x="1698" y="546"/>
                    </a:lnTo>
                    <a:lnTo>
                      <a:pt x="1727" y="501"/>
                    </a:lnTo>
                    <a:lnTo>
                      <a:pt x="1756" y="456"/>
                    </a:lnTo>
                    <a:lnTo>
                      <a:pt x="1784" y="412"/>
                    </a:lnTo>
                    <a:lnTo>
                      <a:pt x="1810" y="368"/>
                    </a:lnTo>
                    <a:lnTo>
                      <a:pt x="1833" y="322"/>
                    </a:lnTo>
                    <a:lnTo>
                      <a:pt x="1856" y="277"/>
                    </a:lnTo>
                    <a:lnTo>
                      <a:pt x="1875" y="230"/>
                    </a:lnTo>
                    <a:lnTo>
                      <a:pt x="1896" y="183"/>
                    </a:lnTo>
                    <a:lnTo>
                      <a:pt x="1910" y="152"/>
                    </a:lnTo>
                    <a:lnTo>
                      <a:pt x="1926" y="122"/>
                    </a:lnTo>
                    <a:lnTo>
                      <a:pt x="1943" y="91"/>
                    </a:lnTo>
                    <a:lnTo>
                      <a:pt x="1962" y="64"/>
                    </a:lnTo>
                    <a:lnTo>
                      <a:pt x="1983" y="39"/>
                    </a:lnTo>
                    <a:lnTo>
                      <a:pt x="2008" y="20"/>
                    </a:lnTo>
                    <a:lnTo>
                      <a:pt x="2035" y="6"/>
                    </a:lnTo>
                    <a:lnTo>
                      <a:pt x="2070" y="0"/>
                    </a:lnTo>
                    <a:lnTo>
                      <a:pt x="2078" y="21"/>
                    </a:lnTo>
                    <a:lnTo>
                      <a:pt x="2081" y="47"/>
                    </a:lnTo>
                    <a:lnTo>
                      <a:pt x="2078" y="76"/>
                    </a:lnTo>
                    <a:lnTo>
                      <a:pt x="2071" y="107"/>
                    </a:lnTo>
                    <a:lnTo>
                      <a:pt x="2060" y="136"/>
                    </a:lnTo>
                    <a:lnTo>
                      <a:pt x="2051" y="165"/>
                    </a:lnTo>
                    <a:lnTo>
                      <a:pt x="2040" y="190"/>
                    </a:lnTo>
                    <a:lnTo>
                      <a:pt x="2033" y="212"/>
                    </a:lnTo>
                    <a:lnTo>
                      <a:pt x="2049" y="214"/>
                    </a:lnTo>
                    <a:lnTo>
                      <a:pt x="2059" y="223"/>
                    </a:lnTo>
                    <a:lnTo>
                      <a:pt x="2063" y="237"/>
                    </a:lnTo>
                    <a:lnTo>
                      <a:pt x="2063" y="255"/>
                    </a:lnTo>
                    <a:lnTo>
                      <a:pt x="2059" y="274"/>
                    </a:lnTo>
                    <a:lnTo>
                      <a:pt x="2056" y="293"/>
                    </a:lnTo>
                    <a:lnTo>
                      <a:pt x="2051" y="313"/>
                    </a:lnTo>
                    <a:lnTo>
                      <a:pt x="2048" y="332"/>
                    </a:lnTo>
                    <a:lnTo>
                      <a:pt x="2052" y="332"/>
                    </a:lnTo>
                    <a:lnTo>
                      <a:pt x="2059" y="332"/>
                    </a:lnTo>
                    <a:lnTo>
                      <a:pt x="2060" y="339"/>
                    </a:lnTo>
                    <a:lnTo>
                      <a:pt x="2071" y="346"/>
                    </a:lnTo>
                    <a:lnTo>
                      <a:pt x="2070" y="354"/>
                    </a:lnTo>
                    <a:lnTo>
                      <a:pt x="2070" y="366"/>
                    </a:lnTo>
                    <a:lnTo>
                      <a:pt x="2069" y="379"/>
                    </a:lnTo>
                    <a:lnTo>
                      <a:pt x="2067" y="391"/>
                    </a:lnTo>
                    <a:lnTo>
                      <a:pt x="2064" y="404"/>
                    </a:lnTo>
                    <a:lnTo>
                      <a:pt x="2062" y="416"/>
                    </a:lnTo>
                    <a:lnTo>
                      <a:pt x="2059" y="429"/>
                    </a:lnTo>
                    <a:lnTo>
                      <a:pt x="2056" y="441"/>
                    </a:lnTo>
                    <a:lnTo>
                      <a:pt x="2057" y="477"/>
                    </a:lnTo>
                    <a:lnTo>
                      <a:pt x="2064" y="510"/>
                    </a:lnTo>
                    <a:lnTo>
                      <a:pt x="2075" y="539"/>
                    </a:lnTo>
                    <a:lnTo>
                      <a:pt x="2091" y="566"/>
                    </a:lnTo>
                    <a:lnTo>
                      <a:pt x="2109" y="590"/>
                    </a:lnTo>
                    <a:lnTo>
                      <a:pt x="2131" y="615"/>
                    </a:lnTo>
                    <a:lnTo>
                      <a:pt x="2156" y="639"/>
                    </a:lnTo>
                    <a:lnTo>
                      <a:pt x="2185" y="665"/>
                    </a:lnTo>
                    <a:lnTo>
                      <a:pt x="2192" y="665"/>
                    </a:lnTo>
                    <a:lnTo>
                      <a:pt x="2197" y="665"/>
                    </a:lnTo>
                    <a:lnTo>
                      <a:pt x="2200" y="665"/>
                    </a:lnTo>
                    <a:lnTo>
                      <a:pt x="2204" y="666"/>
                    </a:lnTo>
                    <a:lnTo>
                      <a:pt x="2207" y="668"/>
                    </a:lnTo>
                    <a:lnTo>
                      <a:pt x="2210" y="669"/>
                    </a:lnTo>
                    <a:lnTo>
                      <a:pt x="2207" y="680"/>
                    </a:lnTo>
                    <a:lnTo>
                      <a:pt x="2210" y="697"/>
                    </a:lnTo>
                    <a:lnTo>
                      <a:pt x="2214" y="716"/>
                    </a:lnTo>
                    <a:lnTo>
                      <a:pt x="2222" y="740"/>
                    </a:lnTo>
                    <a:lnTo>
                      <a:pt x="2230" y="762"/>
                    </a:lnTo>
                    <a:lnTo>
                      <a:pt x="2241" y="785"/>
                    </a:lnTo>
                    <a:lnTo>
                      <a:pt x="2250" y="805"/>
                    </a:lnTo>
                    <a:lnTo>
                      <a:pt x="2259" y="823"/>
                    </a:lnTo>
                    <a:lnTo>
                      <a:pt x="2294" y="813"/>
                    </a:lnTo>
                    <a:lnTo>
                      <a:pt x="2331" y="791"/>
                    </a:lnTo>
                    <a:lnTo>
                      <a:pt x="2371" y="760"/>
                    </a:lnTo>
                    <a:lnTo>
                      <a:pt x="2413" y="729"/>
                    </a:lnTo>
                    <a:lnTo>
                      <a:pt x="2453" y="698"/>
                    </a:lnTo>
                    <a:lnTo>
                      <a:pt x="2496" y="676"/>
                    </a:lnTo>
                    <a:lnTo>
                      <a:pt x="2537" y="666"/>
                    </a:lnTo>
                    <a:lnTo>
                      <a:pt x="2580" y="678"/>
                    </a:lnTo>
                    <a:lnTo>
                      <a:pt x="2572" y="713"/>
                    </a:lnTo>
                    <a:lnTo>
                      <a:pt x="2551" y="754"/>
                    </a:lnTo>
                    <a:lnTo>
                      <a:pt x="2521" y="796"/>
                    </a:lnTo>
                    <a:lnTo>
                      <a:pt x="2486" y="839"/>
                    </a:lnTo>
                    <a:lnTo>
                      <a:pt x="2446" y="879"/>
                    </a:lnTo>
                    <a:lnTo>
                      <a:pt x="2406" y="915"/>
                    </a:lnTo>
                    <a:lnTo>
                      <a:pt x="2369" y="944"/>
                    </a:lnTo>
                    <a:lnTo>
                      <a:pt x="2338" y="968"/>
                    </a:lnTo>
                    <a:lnTo>
                      <a:pt x="2338" y="982"/>
                    </a:lnTo>
                    <a:lnTo>
                      <a:pt x="2341" y="994"/>
                    </a:lnTo>
                    <a:lnTo>
                      <a:pt x="2345" y="1004"/>
                    </a:lnTo>
                    <a:lnTo>
                      <a:pt x="2353" y="1015"/>
                    </a:lnTo>
                    <a:lnTo>
                      <a:pt x="2360" y="1023"/>
                    </a:lnTo>
                    <a:lnTo>
                      <a:pt x="2370" y="1031"/>
                    </a:lnTo>
                    <a:lnTo>
                      <a:pt x="2381" y="1041"/>
                    </a:lnTo>
                    <a:lnTo>
                      <a:pt x="2394" y="1055"/>
                    </a:lnTo>
                    <a:lnTo>
                      <a:pt x="2402" y="1103"/>
                    </a:lnTo>
                    <a:lnTo>
                      <a:pt x="2402" y="1157"/>
                    </a:lnTo>
                    <a:lnTo>
                      <a:pt x="2395" y="1213"/>
                    </a:lnTo>
                    <a:lnTo>
                      <a:pt x="2385" y="1269"/>
                    </a:lnTo>
                    <a:lnTo>
                      <a:pt x="2369" y="1325"/>
                    </a:lnTo>
                    <a:lnTo>
                      <a:pt x="2352" y="1381"/>
                    </a:lnTo>
                    <a:lnTo>
                      <a:pt x="2335" y="1434"/>
                    </a:lnTo>
                    <a:lnTo>
                      <a:pt x="2320" y="1485"/>
                    </a:lnTo>
                    <a:lnTo>
                      <a:pt x="2312" y="1514"/>
                    </a:lnTo>
                    <a:lnTo>
                      <a:pt x="2308" y="1536"/>
                    </a:lnTo>
                    <a:lnTo>
                      <a:pt x="2304" y="1551"/>
                    </a:lnTo>
                    <a:lnTo>
                      <a:pt x="2304" y="1562"/>
                    </a:lnTo>
                    <a:lnTo>
                      <a:pt x="2301" y="1569"/>
                    </a:lnTo>
                    <a:lnTo>
                      <a:pt x="2301" y="1575"/>
                    </a:lnTo>
                    <a:lnTo>
                      <a:pt x="2302" y="1578"/>
                    </a:lnTo>
                    <a:lnTo>
                      <a:pt x="2304" y="1582"/>
                    </a:lnTo>
                    <a:lnTo>
                      <a:pt x="2326" y="1573"/>
                    </a:lnTo>
                    <a:lnTo>
                      <a:pt x="2348" y="1571"/>
                    </a:lnTo>
                    <a:lnTo>
                      <a:pt x="2367" y="1568"/>
                    </a:lnTo>
                    <a:lnTo>
                      <a:pt x="2388" y="1571"/>
                    </a:lnTo>
                    <a:lnTo>
                      <a:pt x="2406" y="1575"/>
                    </a:lnTo>
                    <a:lnTo>
                      <a:pt x="2427" y="1584"/>
                    </a:lnTo>
                    <a:lnTo>
                      <a:pt x="2446" y="1597"/>
                    </a:lnTo>
                    <a:lnTo>
                      <a:pt x="2467" y="1616"/>
                    </a:lnTo>
                    <a:lnTo>
                      <a:pt x="2494" y="1616"/>
                    </a:lnTo>
                    <a:lnTo>
                      <a:pt x="2533" y="1618"/>
                    </a:lnTo>
                    <a:lnTo>
                      <a:pt x="2577" y="1619"/>
                    </a:lnTo>
                    <a:lnTo>
                      <a:pt x="2624" y="1625"/>
                    </a:lnTo>
                    <a:lnTo>
                      <a:pt x="2666" y="1631"/>
                    </a:lnTo>
                    <a:lnTo>
                      <a:pt x="2702" y="1645"/>
                    </a:lnTo>
                    <a:lnTo>
                      <a:pt x="2727" y="1666"/>
                    </a:lnTo>
                    <a:lnTo>
                      <a:pt x="2736" y="1695"/>
                    </a:lnTo>
                    <a:lnTo>
                      <a:pt x="2728" y="1709"/>
                    </a:lnTo>
                    <a:lnTo>
                      <a:pt x="2719" y="1723"/>
                    </a:lnTo>
                    <a:lnTo>
                      <a:pt x="2713" y="1728"/>
                    </a:lnTo>
                    <a:lnTo>
                      <a:pt x="2709" y="1735"/>
                    </a:lnTo>
                    <a:lnTo>
                      <a:pt x="2705" y="1742"/>
                    </a:lnTo>
                    <a:lnTo>
                      <a:pt x="2702" y="1750"/>
                    </a:lnTo>
                    <a:lnTo>
                      <a:pt x="2730" y="1761"/>
                    </a:lnTo>
                    <a:lnTo>
                      <a:pt x="2759" y="1785"/>
                    </a:lnTo>
                    <a:lnTo>
                      <a:pt x="2786" y="1815"/>
                    </a:lnTo>
                    <a:lnTo>
                      <a:pt x="2814" y="1854"/>
                    </a:lnTo>
                    <a:lnTo>
                      <a:pt x="2837" y="1894"/>
                    </a:lnTo>
                    <a:lnTo>
                      <a:pt x="2860" y="1934"/>
                    </a:lnTo>
                    <a:lnTo>
                      <a:pt x="2879" y="1970"/>
                    </a:lnTo>
                    <a:lnTo>
                      <a:pt x="2894" y="2003"/>
                    </a:lnTo>
                    <a:lnTo>
                      <a:pt x="2930" y="2063"/>
                    </a:lnTo>
                    <a:lnTo>
                      <a:pt x="2969" y="2122"/>
                    </a:lnTo>
                    <a:lnTo>
                      <a:pt x="3008" y="2179"/>
                    </a:lnTo>
                    <a:lnTo>
                      <a:pt x="3050" y="2237"/>
                    </a:lnTo>
                    <a:lnTo>
                      <a:pt x="3092" y="2292"/>
                    </a:lnTo>
                    <a:lnTo>
                      <a:pt x="3138" y="2348"/>
                    </a:lnTo>
                    <a:lnTo>
                      <a:pt x="3183" y="2403"/>
                    </a:lnTo>
                    <a:lnTo>
                      <a:pt x="3234" y="2460"/>
                    </a:lnTo>
                    <a:lnTo>
                      <a:pt x="3240" y="2469"/>
                    </a:lnTo>
                    <a:lnTo>
                      <a:pt x="3251" y="2482"/>
                    </a:lnTo>
                    <a:lnTo>
                      <a:pt x="3261" y="2494"/>
                    </a:lnTo>
                    <a:lnTo>
                      <a:pt x="3272" y="2507"/>
                    </a:lnTo>
                    <a:lnTo>
                      <a:pt x="3285" y="2502"/>
                    </a:lnTo>
                    <a:lnTo>
                      <a:pt x="3302" y="2494"/>
                    </a:lnTo>
                    <a:lnTo>
                      <a:pt x="3320" y="2484"/>
                    </a:lnTo>
                    <a:lnTo>
                      <a:pt x="3339" y="2475"/>
                    </a:lnTo>
                    <a:lnTo>
                      <a:pt x="3357" y="2464"/>
                    </a:lnTo>
                    <a:lnTo>
                      <a:pt x="3377" y="2453"/>
                    </a:lnTo>
                    <a:lnTo>
                      <a:pt x="3393" y="2443"/>
                    </a:lnTo>
                    <a:lnTo>
                      <a:pt x="3411" y="2436"/>
                    </a:lnTo>
                    <a:lnTo>
                      <a:pt x="3410" y="2428"/>
                    </a:lnTo>
                    <a:lnTo>
                      <a:pt x="3407" y="2421"/>
                    </a:lnTo>
                    <a:lnTo>
                      <a:pt x="3404" y="2414"/>
                    </a:lnTo>
                    <a:lnTo>
                      <a:pt x="3403" y="2410"/>
                    </a:lnTo>
                    <a:lnTo>
                      <a:pt x="3395" y="2316"/>
                    </a:lnTo>
                    <a:lnTo>
                      <a:pt x="3406" y="2231"/>
                    </a:lnTo>
                    <a:lnTo>
                      <a:pt x="3431" y="2155"/>
                    </a:lnTo>
                    <a:lnTo>
                      <a:pt x="3471" y="2086"/>
                    </a:lnTo>
                    <a:lnTo>
                      <a:pt x="3521" y="2023"/>
                    </a:lnTo>
                    <a:lnTo>
                      <a:pt x="3583" y="1965"/>
                    </a:lnTo>
                    <a:lnTo>
                      <a:pt x="3652" y="1911"/>
                    </a:lnTo>
                    <a:lnTo>
                      <a:pt x="3728" y="1861"/>
                    </a:lnTo>
                    <a:lnTo>
                      <a:pt x="3796" y="1836"/>
                    </a:lnTo>
                    <a:lnTo>
                      <a:pt x="3866" y="1821"/>
                    </a:lnTo>
                    <a:lnTo>
                      <a:pt x="3935" y="1818"/>
                    </a:lnTo>
                    <a:lnTo>
                      <a:pt x="4002" y="1830"/>
                    </a:lnTo>
                    <a:lnTo>
                      <a:pt x="4057" y="1857"/>
                    </a:lnTo>
                    <a:lnTo>
                      <a:pt x="4100" y="1902"/>
                    </a:lnTo>
                    <a:lnTo>
                      <a:pt x="4126" y="1966"/>
                    </a:lnTo>
                    <a:lnTo>
                      <a:pt x="4136" y="2053"/>
                    </a:lnTo>
                    <a:lnTo>
                      <a:pt x="4132" y="2061"/>
                    </a:lnTo>
                    <a:lnTo>
                      <a:pt x="4130" y="2070"/>
                    </a:lnTo>
                    <a:lnTo>
                      <a:pt x="4126" y="2070"/>
                    </a:lnTo>
                    <a:lnTo>
                      <a:pt x="4123" y="2072"/>
                    </a:lnTo>
                    <a:lnTo>
                      <a:pt x="4086" y="2135"/>
                    </a:lnTo>
                    <a:lnTo>
                      <a:pt x="4021" y="2219"/>
                    </a:lnTo>
                    <a:lnTo>
                      <a:pt x="3934" y="2312"/>
                    </a:lnTo>
                    <a:lnTo>
                      <a:pt x="3836" y="2403"/>
                    </a:lnTo>
                    <a:lnTo>
                      <a:pt x="3731" y="2479"/>
                    </a:lnTo>
                    <a:lnTo>
                      <a:pt x="3630" y="2530"/>
                    </a:lnTo>
                    <a:lnTo>
                      <a:pt x="3540" y="2545"/>
                    </a:lnTo>
                    <a:lnTo>
                      <a:pt x="3469" y="2515"/>
                    </a:lnTo>
                    <a:lnTo>
                      <a:pt x="3457" y="2518"/>
                    </a:lnTo>
                    <a:lnTo>
                      <a:pt x="3442" y="2524"/>
                    </a:lnTo>
                    <a:lnTo>
                      <a:pt x="3424" y="2536"/>
                    </a:lnTo>
                    <a:lnTo>
                      <a:pt x="3407" y="2551"/>
                    </a:lnTo>
                    <a:lnTo>
                      <a:pt x="3391" y="2565"/>
                    </a:lnTo>
                    <a:lnTo>
                      <a:pt x="3377" y="2580"/>
                    </a:lnTo>
                    <a:lnTo>
                      <a:pt x="3367" y="2592"/>
                    </a:lnTo>
                    <a:lnTo>
                      <a:pt x="3366" y="2605"/>
                    </a:lnTo>
                    <a:lnTo>
                      <a:pt x="3391" y="2625"/>
                    </a:lnTo>
                    <a:lnTo>
                      <a:pt x="3415" y="2650"/>
                    </a:lnTo>
                    <a:lnTo>
                      <a:pt x="3438" y="2675"/>
                    </a:lnTo>
                    <a:lnTo>
                      <a:pt x="3460" y="2701"/>
                    </a:lnTo>
                    <a:lnTo>
                      <a:pt x="3480" y="2725"/>
                    </a:lnTo>
                    <a:lnTo>
                      <a:pt x="3505" y="2750"/>
                    </a:lnTo>
                    <a:lnTo>
                      <a:pt x="3530" y="2772"/>
                    </a:lnTo>
                    <a:lnTo>
                      <a:pt x="3559" y="2794"/>
                    </a:lnTo>
                    <a:lnTo>
                      <a:pt x="3576" y="2802"/>
                    </a:lnTo>
                    <a:lnTo>
                      <a:pt x="3598" y="2800"/>
                    </a:lnTo>
                    <a:lnTo>
                      <a:pt x="3620" y="2789"/>
                    </a:lnTo>
                    <a:lnTo>
                      <a:pt x="3645" y="2773"/>
                    </a:lnTo>
                    <a:lnTo>
                      <a:pt x="3669" y="2754"/>
                    </a:lnTo>
                    <a:lnTo>
                      <a:pt x="3689" y="2735"/>
                    </a:lnTo>
                    <a:lnTo>
                      <a:pt x="3706" y="2715"/>
                    </a:lnTo>
                    <a:lnTo>
                      <a:pt x="3720" y="2704"/>
                    </a:lnTo>
                    <a:lnTo>
                      <a:pt x="3735" y="2663"/>
                    </a:lnTo>
                    <a:lnTo>
                      <a:pt x="3753" y="2630"/>
                    </a:lnTo>
                    <a:lnTo>
                      <a:pt x="3772" y="2605"/>
                    </a:lnTo>
                    <a:lnTo>
                      <a:pt x="3793" y="2591"/>
                    </a:lnTo>
                    <a:lnTo>
                      <a:pt x="3811" y="2589"/>
                    </a:lnTo>
                    <a:lnTo>
                      <a:pt x="3830" y="2603"/>
                    </a:lnTo>
                    <a:lnTo>
                      <a:pt x="3846" y="2634"/>
                    </a:lnTo>
                    <a:lnTo>
                      <a:pt x="3859" y="2683"/>
                    </a:lnTo>
                    <a:lnTo>
                      <a:pt x="3851" y="2711"/>
                    </a:lnTo>
                    <a:lnTo>
                      <a:pt x="3836" y="2735"/>
                    </a:lnTo>
                    <a:lnTo>
                      <a:pt x="3815" y="2751"/>
                    </a:lnTo>
                    <a:lnTo>
                      <a:pt x="3793" y="2766"/>
                    </a:lnTo>
                    <a:lnTo>
                      <a:pt x="3768" y="2776"/>
                    </a:lnTo>
                    <a:lnTo>
                      <a:pt x="3749" y="2787"/>
                    </a:lnTo>
                    <a:lnTo>
                      <a:pt x="3734" y="2797"/>
                    </a:lnTo>
                    <a:lnTo>
                      <a:pt x="3728" y="2809"/>
                    </a:lnTo>
                    <a:lnTo>
                      <a:pt x="3757" y="2804"/>
                    </a:lnTo>
                    <a:lnTo>
                      <a:pt x="3804" y="2794"/>
                    </a:lnTo>
                    <a:lnTo>
                      <a:pt x="3859" y="2780"/>
                    </a:lnTo>
                    <a:lnTo>
                      <a:pt x="3919" y="2771"/>
                    </a:lnTo>
                    <a:lnTo>
                      <a:pt x="3976" y="2764"/>
                    </a:lnTo>
                    <a:lnTo>
                      <a:pt x="4025" y="2769"/>
                    </a:lnTo>
                    <a:lnTo>
                      <a:pt x="4063" y="2787"/>
                    </a:lnTo>
                    <a:lnTo>
                      <a:pt x="4081" y="2823"/>
                    </a:lnTo>
                    <a:lnTo>
                      <a:pt x="4064" y="2837"/>
                    </a:lnTo>
                    <a:lnTo>
                      <a:pt x="4036" y="2848"/>
                    </a:lnTo>
                    <a:lnTo>
                      <a:pt x="4000" y="2855"/>
                    </a:lnTo>
                    <a:lnTo>
                      <a:pt x="3962" y="2862"/>
                    </a:lnTo>
                    <a:lnTo>
                      <a:pt x="3920" y="2866"/>
                    </a:lnTo>
                    <a:lnTo>
                      <a:pt x="3881" y="2870"/>
                    </a:lnTo>
                    <a:lnTo>
                      <a:pt x="3848" y="2873"/>
                    </a:lnTo>
                    <a:lnTo>
                      <a:pt x="3825" y="2878"/>
                    </a:lnTo>
                    <a:lnTo>
                      <a:pt x="3825" y="2883"/>
                    </a:lnTo>
                    <a:lnTo>
                      <a:pt x="3825" y="2889"/>
                    </a:lnTo>
                    <a:lnTo>
                      <a:pt x="3850" y="2898"/>
                    </a:lnTo>
                    <a:lnTo>
                      <a:pt x="3877" y="2906"/>
                    </a:lnTo>
                    <a:lnTo>
                      <a:pt x="3906" y="2912"/>
                    </a:lnTo>
                    <a:lnTo>
                      <a:pt x="3935" y="2920"/>
                    </a:lnTo>
                    <a:lnTo>
                      <a:pt x="3964" y="2927"/>
                    </a:lnTo>
                    <a:lnTo>
                      <a:pt x="3994" y="2938"/>
                    </a:lnTo>
                    <a:lnTo>
                      <a:pt x="4024" y="2950"/>
                    </a:lnTo>
                    <a:lnTo>
                      <a:pt x="4054" y="2968"/>
                    </a:lnTo>
                    <a:lnTo>
                      <a:pt x="4028" y="2999"/>
                    </a:lnTo>
                    <a:lnTo>
                      <a:pt x="3980" y="3006"/>
                    </a:lnTo>
                    <a:lnTo>
                      <a:pt x="3916" y="2995"/>
                    </a:lnTo>
                    <a:lnTo>
                      <a:pt x="3852" y="2981"/>
                    </a:lnTo>
                    <a:lnTo>
                      <a:pt x="3793" y="2968"/>
                    </a:lnTo>
                    <a:lnTo>
                      <a:pt x="3752" y="2971"/>
                    </a:lnTo>
                    <a:lnTo>
                      <a:pt x="3739" y="2996"/>
                    </a:lnTo>
                    <a:lnTo>
                      <a:pt x="3767" y="3055"/>
                    </a:lnTo>
                    <a:lnTo>
                      <a:pt x="3786" y="3073"/>
                    </a:lnTo>
                    <a:lnTo>
                      <a:pt x="3801" y="3095"/>
                    </a:lnTo>
                    <a:lnTo>
                      <a:pt x="3812" y="3118"/>
                    </a:lnTo>
                    <a:lnTo>
                      <a:pt x="3818" y="3140"/>
                    </a:lnTo>
                    <a:lnTo>
                      <a:pt x="3814" y="3155"/>
                    </a:lnTo>
                    <a:lnTo>
                      <a:pt x="3803" y="3163"/>
                    </a:lnTo>
                    <a:lnTo>
                      <a:pt x="3781" y="3162"/>
                    </a:lnTo>
                    <a:lnTo>
                      <a:pt x="3746" y="3149"/>
                    </a:lnTo>
                    <a:lnTo>
                      <a:pt x="3718" y="3123"/>
                    </a:lnTo>
                    <a:lnTo>
                      <a:pt x="3693" y="3098"/>
                    </a:lnTo>
                    <a:lnTo>
                      <a:pt x="3669" y="3071"/>
                    </a:lnTo>
                    <a:lnTo>
                      <a:pt x="3645" y="3044"/>
                    </a:lnTo>
                    <a:lnTo>
                      <a:pt x="3620" y="3018"/>
                    </a:lnTo>
                    <a:lnTo>
                      <a:pt x="3595" y="2993"/>
                    </a:lnTo>
                    <a:lnTo>
                      <a:pt x="3569" y="2970"/>
                    </a:lnTo>
                    <a:lnTo>
                      <a:pt x="3543" y="2952"/>
                    </a:lnTo>
                    <a:lnTo>
                      <a:pt x="3530" y="2938"/>
                    </a:lnTo>
                    <a:lnTo>
                      <a:pt x="3521" y="2928"/>
                    </a:lnTo>
                    <a:lnTo>
                      <a:pt x="3512" y="2917"/>
                    </a:lnTo>
                    <a:lnTo>
                      <a:pt x="3505" y="2907"/>
                    </a:lnTo>
                    <a:lnTo>
                      <a:pt x="3483" y="2902"/>
                    </a:lnTo>
                    <a:lnTo>
                      <a:pt x="3467" y="2898"/>
                    </a:lnTo>
                    <a:lnTo>
                      <a:pt x="3454" y="2894"/>
                    </a:lnTo>
                    <a:lnTo>
                      <a:pt x="3446" y="2889"/>
                    </a:lnTo>
                    <a:lnTo>
                      <a:pt x="3440" y="2881"/>
                    </a:lnTo>
                    <a:lnTo>
                      <a:pt x="3438" y="2870"/>
                    </a:lnTo>
                    <a:lnTo>
                      <a:pt x="3438" y="2853"/>
                    </a:lnTo>
                    <a:lnTo>
                      <a:pt x="3438" y="2834"/>
                    </a:lnTo>
                    <a:lnTo>
                      <a:pt x="3414" y="2812"/>
                    </a:lnTo>
                    <a:lnTo>
                      <a:pt x="3393" y="2789"/>
                    </a:lnTo>
                    <a:lnTo>
                      <a:pt x="3373" y="2764"/>
                    </a:lnTo>
                    <a:lnTo>
                      <a:pt x="3353" y="2740"/>
                    </a:lnTo>
                    <a:lnTo>
                      <a:pt x="3331" y="2717"/>
                    </a:lnTo>
                    <a:lnTo>
                      <a:pt x="3310" y="2699"/>
                    </a:lnTo>
                    <a:lnTo>
                      <a:pt x="3287" y="2685"/>
                    </a:lnTo>
                    <a:lnTo>
                      <a:pt x="3263" y="2678"/>
                    </a:lnTo>
                    <a:lnTo>
                      <a:pt x="3175" y="2769"/>
                    </a:lnTo>
                    <a:lnTo>
                      <a:pt x="3100" y="2869"/>
                    </a:lnTo>
                    <a:lnTo>
                      <a:pt x="3031" y="2971"/>
                    </a:lnTo>
                    <a:lnTo>
                      <a:pt x="2972" y="3077"/>
                    </a:lnTo>
                    <a:lnTo>
                      <a:pt x="2915" y="3187"/>
                    </a:lnTo>
                    <a:lnTo>
                      <a:pt x="2862" y="3300"/>
                    </a:lnTo>
                    <a:lnTo>
                      <a:pt x="2813" y="3415"/>
                    </a:lnTo>
                    <a:lnTo>
                      <a:pt x="2763" y="3532"/>
                    </a:lnTo>
                    <a:lnTo>
                      <a:pt x="2734" y="3615"/>
                    </a:lnTo>
                    <a:lnTo>
                      <a:pt x="2709" y="3698"/>
                    </a:lnTo>
                    <a:lnTo>
                      <a:pt x="2685" y="3780"/>
                    </a:lnTo>
                    <a:lnTo>
                      <a:pt x="2665" y="3861"/>
                    </a:lnTo>
                    <a:lnTo>
                      <a:pt x="2644" y="3941"/>
                    </a:lnTo>
                    <a:lnTo>
                      <a:pt x="2627" y="4026"/>
                    </a:lnTo>
                    <a:lnTo>
                      <a:pt x="2611" y="4112"/>
                    </a:lnTo>
                    <a:lnTo>
                      <a:pt x="2597" y="4201"/>
                    </a:lnTo>
                    <a:lnTo>
                      <a:pt x="2587" y="4300"/>
                    </a:lnTo>
                    <a:lnTo>
                      <a:pt x="2579" y="4403"/>
                    </a:lnTo>
                    <a:lnTo>
                      <a:pt x="2572" y="4510"/>
                    </a:lnTo>
                    <a:lnTo>
                      <a:pt x="2569" y="4620"/>
                    </a:lnTo>
                    <a:lnTo>
                      <a:pt x="2569" y="4728"/>
                    </a:lnTo>
                    <a:lnTo>
                      <a:pt x="2579" y="4836"/>
                    </a:lnTo>
                    <a:lnTo>
                      <a:pt x="2595" y="4940"/>
                    </a:lnTo>
                    <a:lnTo>
                      <a:pt x="2623" y="5039"/>
                    </a:lnTo>
                    <a:lnTo>
                      <a:pt x="2629" y="5041"/>
                    </a:lnTo>
                    <a:lnTo>
                      <a:pt x="2638" y="5042"/>
                    </a:lnTo>
                    <a:lnTo>
                      <a:pt x="2680" y="5078"/>
                    </a:lnTo>
                    <a:lnTo>
                      <a:pt x="2731" y="5107"/>
                    </a:lnTo>
                    <a:lnTo>
                      <a:pt x="2785" y="5129"/>
                    </a:lnTo>
                    <a:lnTo>
                      <a:pt x="2842" y="5152"/>
                    </a:lnTo>
                    <a:lnTo>
                      <a:pt x="2894" y="5175"/>
                    </a:lnTo>
                    <a:lnTo>
                      <a:pt x="2944" y="5202"/>
                    </a:lnTo>
                    <a:lnTo>
                      <a:pt x="2984" y="5238"/>
                    </a:lnTo>
                    <a:lnTo>
                      <a:pt x="3016" y="5287"/>
                    </a:lnTo>
                    <a:lnTo>
                      <a:pt x="3013" y="5311"/>
                    </a:lnTo>
                    <a:lnTo>
                      <a:pt x="3009" y="5334"/>
                    </a:lnTo>
                    <a:lnTo>
                      <a:pt x="3003" y="5352"/>
                    </a:lnTo>
                    <a:lnTo>
                      <a:pt x="2995" y="5365"/>
                    </a:lnTo>
                    <a:lnTo>
                      <a:pt x="2981" y="5375"/>
                    </a:lnTo>
                    <a:lnTo>
                      <a:pt x="2966" y="5383"/>
                    </a:lnTo>
                    <a:lnTo>
                      <a:pt x="2945" y="5387"/>
                    </a:lnTo>
                    <a:lnTo>
                      <a:pt x="2920" y="5390"/>
                    </a:lnTo>
                    <a:lnTo>
                      <a:pt x="2850" y="5400"/>
                    </a:lnTo>
                    <a:lnTo>
                      <a:pt x="2763" y="5412"/>
                    </a:lnTo>
                    <a:lnTo>
                      <a:pt x="2663" y="5421"/>
                    </a:lnTo>
                    <a:lnTo>
                      <a:pt x="2559" y="5426"/>
                    </a:lnTo>
                    <a:lnTo>
                      <a:pt x="2457" y="5421"/>
                    </a:lnTo>
                    <a:lnTo>
                      <a:pt x="2366" y="5405"/>
                    </a:lnTo>
                    <a:lnTo>
                      <a:pt x="2288" y="5374"/>
                    </a:lnTo>
                    <a:lnTo>
                      <a:pt x="2236" y="5327"/>
                    </a:lnTo>
                    <a:lnTo>
                      <a:pt x="2228" y="5276"/>
                    </a:lnTo>
                    <a:lnTo>
                      <a:pt x="2241" y="5237"/>
                    </a:lnTo>
                    <a:lnTo>
                      <a:pt x="2272" y="5205"/>
                    </a:lnTo>
                    <a:lnTo>
                      <a:pt x="2315" y="5182"/>
                    </a:lnTo>
                    <a:lnTo>
                      <a:pt x="2362" y="5159"/>
                    </a:lnTo>
                    <a:lnTo>
                      <a:pt x="2412" y="5139"/>
                    </a:lnTo>
                    <a:lnTo>
                      <a:pt x="2457" y="5117"/>
                    </a:lnTo>
                    <a:lnTo>
                      <a:pt x="2493" y="5092"/>
                    </a:lnTo>
                    <a:lnTo>
                      <a:pt x="2492" y="5090"/>
                    </a:lnTo>
                    <a:lnTo>
                      <a:pt x="2492" y="5089"/>
                    </a:lnTo>
                    <a:lnTo>
                      <a:pt x="2500" y="5086"/>
                    </a:lnTo>
                    <a:lnTo>
                      <a:pt x="2510" y="5079"/>
                    </a:lnTo>
                    <a:lnTo>
                      <a:pt x="2518" y="5072"/>
                    </a:lnTo>
                    <a:lnTo>
                      <a:pt x="2528" y="5065"/>
                    </a:lnTo>
                    <a:lnTo>
                      <a:pt x="2507" y="5000"/>
                    </a:lnTo>
                    <a:lnTo>
                      <a:pt x="2490" y="4935"/>
                    </a:lnTo>
                    <a:lnTo>
                      <a:pt x="2477" y="4870"/>
                    </a:lnTo>
                    <a:lnTo>
                      <a:pt x="2467" y="4805"/>
                    </a:lnTo>
                    <a:lnTo>
                      <a:pt x="2457" y="4741"/>
                    </a:lnTo>
                    <a:lnTo>
                      <a:pt x="2453" y="4676"/>
                    </a:lnTo>
                    <a:lnTo>
                      <a:pt x="2449" y="4611"/>
                    </a:lnTo>
                    <a:lnTo>
                      <a:pt x="2449" y="4547"/>
                    </a:lnTo>
                    <a:lnTo>
                      <a:pt x="2445" y="4517"/>
                    </a:lnTo>
                    <a:lnTo>
                      <a:pt x="2445" y="4474"/>
                    </a:lnTo>
                    <a:lnTo>
                      <a:pt x="2445" y="4424"/>
                    </a:lnTo>
                    <a:lnTo>
                      <a:pt x="2449" y="4373"/>
                    </a:lnTo>
                    <a:lnTo>
                      <a:pt x="2453" y="4323"/>
                    </a:lnTo>
                    <a:lnTo>
                      <a:pt x="2457" y="4282"/>
                    </a:lnTo>
                    <a:lnTo>
                      <a:pt x="2461" y="4251"/>
                    </a:lnTo>
                    <a:lnTo>
                      <a:pt x="2467" y="4239"/>
                    </a:lnTo>
                    <a:lnTo>
                      <a:pt x="2474" y="4164"/>
                    </a:lnTo>
                    <a:lnTo>
                      <a:pt x="2485" y="4092"/>
                    </a:lnTo>
                    <a:lnTo>
                      <a:pt x="2497" y="4022"/>
                    </a:lnTo>
                    <a:lnTo>
                      <a:pt x="2512" y="3954"/>
                    </a:lnTo>
                    <a:lnTo>
                      <a:pt x="2526" y="3883"/>
                    </a:lnTo>
                    <a:lnTo>
                      <a:pt x="2541" y="3816"/>
                    </a:lnTo>
                    <a:lnTo>
                      <a:pt x="2555" y="3747"/>
                    </a:lnTo>
                    <a:lnTo>
                      <a:pt x="2571" y="3679"/>
                    </a:lnTo>
                    <a:lnTo>
                      <a:pt x="2573" y="3669"/>
                    </a:lnTo>
                    <a:lnTo>
                      <a:pt x="2577" y="3657"/>
                    </a:lnTo>
                    <a:lnTo>
                      <a:pt x="2582" y="3640"/>
                    </a:lnTo>
                    <a:lnTo>
                      <a:pt x="2589" y="3622"/>
                    </a:lnTo>
                    <a:lnTo>
                      <a:pt x="2593" y="3603"/>
                    </a:lnTo>
                    <a:lnTo>
                      <a:pt x="2597" y="3586"/>
                    </a:lnTo>
                    <a:lnTo>
                      <a:pt x="2600" y="3571"/>
                    </a:lnTo>
                    <a:lnTo>
                      <a:pt x="2602" y="3564"/>
                    </a:lnTo>
                    <a:lnTo>
                      <a:pt x="2605" y="3564"/>
                    </a:lnTo>
                    <a:lnTo>
                      <a:pt x="2609" y="3564"/>
                    </a:lnTo>
                    <a:lnTo>
                      <a:pt x="2611" y="3545"/>
                    </a:lnTo>
                    <a:lnTo>
                      <a:pt x="2618" y="3524"/>
                    </a:lnTo>
                    <a:lnTo>
                      <a:pt x="2624" y="3499"/>
                    </a:lnTo>
                    <a:lnTo>
                      <a:pt x="2636" y="3476"/>
                    </a:lnTo>
                    <a:lnTo>
                      <a:pt x="2642" y="3451"/>
                    </a:lnTo>
                    <a:lnTo>
                      <a:pt x="2651" y="3430"/>
                    </a:lnTo>
                    <a:lnTo>
                      <a:pt x="2655" y="3412"/>
                    </a:lnTo>
                    <a:lnTo>
                      <a:pt x="2655" y="3400"/>
                    </a:lnTo>
                    <a:lnTo>
                      <a:pt x="2663" y="3387"/>
                    </a:lnTo>
                    <a:lnTo>
                      <a:pt x="2676" y="3362"/>
                    </a:lnTo>
                    <a:lnTo>
                      <a:pt x="2689" y="3329"/>
                    </a:lnTo>
                    <a:lnTo>
                      <a:pt x="2705" y="3293"/>
                    </a:lnTo>
                    <a:lnTo>
                      <a:pt x="2719" y="3254"/>
                    </a:lnTo>
                    <a:lnTo>
                      <a:pt x="2731" y="3223"/>
                    </a:lnTo>
                    <a:lnTo>
                      <a:pt x="2739" y="3198"/>
                    </a:lnTo>
                    <a:lnTo>
                      <a:pt x="2745" y="3187"/>
                    </a:lnTo>
                    <a:lnTo>
                      <a:pt x="2748" y="3178"/>
                    </a:lnTo>
                    <a:lnTo>
                      <a:pt x="2757" y="3160"/>
                    </a:lnTo>
                    <a:lnTo>
                      <a:pt x="2771" y="3133"/>
                    </a:lnTo>
                    <a:lnTo>
                      <a:pt x="2788" y="3102"/>
                    </a:lnTo>
                    <a:lnTo>
                      <a:pt x="2801" y="3071"/>
                    </a:lnTo>
                    <a:lnTo>
                      <a:pt x="2817" y="3043"/>
                    </a:lnTo>
                    <a:lnTo>
                      <a:pt x="2826" y="3021"/>
                    </a:lnTo>
                    <a:lnTo>
                      <a:pt x="2831" y="3012"/>
                    </a:lnTo>
                    <a:lnTo>
                      <a:pt x="2847" y="2986"/>
                    </a:lnTo>
                    <a:lnTo>
                      <a:pt x="2864" y="2961"/>
                    </a:lnTo>
                    <a:lnTo>
                      <a:pt x="2880" y="2935"/>
                    </a:lnTo>
                    <a:lnTo>
                      <a:pt x="2898" y="2910"/>
                    </a:lnTo>
                    <a:lnTo>
                      <a:pt x="2915" y="2884"/>
                    </a:lnTo>
                    <a:lnTo>
                      <a:pt x="2931" y="2859"/>
                    </a:lnTo>
                    <a:lnTo>
                      <a:pt x="2948" y="2834"/>
                    </a:lnTo>
                    <a:lnTo>
                      <a:pt x="2966" y="2809"/>
                    </a:lnTo>
                    <a:lnTo>
                      <a:pt x="2967" y="2806"/>
                    </a:lnTo>
                    <a:lnTo>
                      <a:pt x="2974" y="2801"/>
                    </a:lnTo>
                    <a:lnTo>
                      <a:pt x="2983" y="2791"/>
                    </a:lnTo>
                    <a:lnTo>
                      <a:pt x="2992" y="2780"/>
                    </a:lnTo>
                    <a:lnTo>
                      <a:pt x="3001" y="2768"/>
                    </a:lnTo>
                    <a:lnTo>
                      <a:pt x="3009" y="2757"/>
                    </a:lnTo>
                    <a:lnTo>
                      <a:pt x="3014" y="2747"/>
                    </a:lnTo>
                    <a:lnTo>
                      <a:pt x="3019" y="2742"/>
                    </a:lnTo>
                    <a:lnTo>
                      <a:pt x="3026" y="2736"/>
                    </a:lnTo>
                    <a:lnTo>
                      <a:pt x="3037" y="2725"/>
                    </a:lnTo>
                    <a:lnTo>
                      <a:pt x="3043" y="2711"/>
                    </a:lnTo>
                    <a:lnTo>
                      <a:pt x="3048" y="2701"/>
                    </a:lnTo>
                    <a:lnTo>
                      <a:pt x="3057" y="2690"/>
                    </a:lnTo>
                    <a:lnTo>
                      <a:pt x="3073" y="2677"/>
                    </a:lnTo>
                    <a:lnTo>
                      <a:pt x="3092" y="2660"/>
                    </a:lnTo>
                    <a:lnTo>
                      <a:pt x="3114" y="2642"/>
                    </a:lnTo>
                    <a:lnTo>
                      <a:pt x="3133" y="2623"/>
                    </a:lnTo>
                    <a:lnTo>
                      <a:pt x="3150" y="2607"/>
                    </a:lnTo>
                    <a:lnTo>
                      <a:pt x="3161" y="2594"/>
                    </a:lnTo>
                    <a:lnTo>
                      <a:pt x="3167" y="2585"/>
                    </a:lnTo>
                    <a:lnTo>
                      <a:pt x="3124" y="2552"/>
                    </a:lnTo>
                    <a:lnTo>
                      <a:pt x="3082" y="2516"/>
                    </a:lnTo>
                    <a:lnTo>
                      <a:pt x="3038" y="2477"/>
                    </a:lnTo>
                    <a:lnTo>
                      <a:pt x="2994" y="2440"/>
                    </a:lnTo>
                    <a:lnTo>
                      <a:pt x="2948" y="2404"/>
                    </a:lnTo>
                    <a:lnTo>
                      <a:pt x="2902" y="2372"/>
                    </a:lnTo>
                    <a:lnTo>
                      <a:pt x="2857" y="2348"/>
                    </a:lnTo>
                    <a:lnTo>
                      <a:pt x="2813" y="2332"/>
                    </a:lnTo>
                    <a:lnTo>
                      <a:pt x="2808" y="2401"/>
                    </a:lnTo>
                    <a:lnTo>
                      <a:pt x="2801" y="2472"/>
                    </a:lnTo>
                    <a:lnTo>
                      <a:pt x="2792" y="2541"/>
                    </a:lnTo>
                    <a:lnTo>
                      <a:pt x="2779" y="2610"/>
                    </a:lnTo>
                    <a:lnTo>
                      <a:pt x="2763" y="2678"/>
                    </a:lnTo>
                    <a:lnTo>
                      <a:pt x="2743" y="2747"/>
                    </a:lnTo>
                    <a:lnTo>
                      <a:pt x="2723" y="2815"/>
                    </a:lnTo>
                    <a:lnTo>
                      <a:pt x="2699" y="2884"/>
                    </a:lnTo>
                    <a:lnTo>
                      <a:pt x="2695" y="2909"/>
                    </a:lnTo>
                    <a:lnTo>
                      <a:pt x="2692" y="2939"/>
                    </a:lnTo>
                    <a:lnTo>
                      <a:pt x="2688" y="2968"/>
                    </a:lnTo>
                    <a:lnTo>
                      <a:pt x="2685" y="3000"/>
                    </a:lnTo>
                    <a:lnTo>
                      <a:pt x="2677" y="3029"/>
                    </a:lnTo>
                    <a:lnTo>
                      <a:pt x="2667" y="3058"/>
                    </a:lnTo>
                    <a:lnTo>
                      <a:pt x="2655" y="3084"/>
                    </a:lnTo>
                    <a:lnTo>
                      <a:pt x="2638" y="3108"/>
                    </a:lnTo>
                    <a:lnTo>
                      <a:pt x="2594" y="3133"/>
                    </a:lnTo>
                    <a:lnTo>
                      <a:pt x="2561" y="3163"/>
                    </a:lnTo>
                    <a:lnTo>
                      <a:pt x="2533" y="3198"/>
                    </a:lnTo>
                    <a:lnTo>
                      <a:pt x="2514" y="3236"/>
                    </a:lnTo>
                    <a:lnTo>
                      <a:pt x="2497" y="3277"/>
                    </a:lnTo>
                    <a:lnTo>
                      <a:pt x="2488" y="3322"/>
                    </a:lnTo>
                    <a:lnTo>
                      <a:pt x="2481" y="3369"/>
                    </a:lnTo>
                    <a:lnTo>
                      <a:pt x="2478" y="3422"/>
                    </a:lnTo>
                    <a:lnTo>
                      <a:pt x="2478" y="3463"/>
                    </a:lnTo>
                    <a:lnTo>
                      <a:pt x="2475" y="3494"/>
                    </a:lnTo>
                    <a:lnTo>
                      <a:pt x="2467" y="3516"/>
                    </a:lnTo>
                    <a:lnTo>
                      <a:pt x="2459" y="3535"/>
                    </a:lnTo>
                    <a:lnTo>
                      <a:pt x="2446" y="3549"/>
                    </a:lnTo>
                    <a:lnTo>
                      <a:pt x="2432" y="3567"/>
                    </a:lnTo>
                    <a:lnTo>
                      <a:pt x="2417" y="3589"/>
                    </a:lnTo>
                    <a:lnTo>
                      <a:pt x="2402" y="3621"/>
                    </a:lnTo>
                    <a:lnTo>
                      <a:pt x="2398" y="3621"/>
                    </a:lnTo>
                    <a:lnTo>
                      <a:pt x="2394" y="3621"/>
                    </a:lnTo>
                    <a:lnTo>
                      <a:pt x="2389" y="3614"/>
                    </a:lnTo>
                    <a:lnTo>
                      <a:pt x="2388" y="3608"/>
                    </a:lnTo>
                    <a:lnTo>
                      <a:pt x="2378" y="3611"/>
                    </a:lnTo>
                    <a:lnTo>
                      <a:pt x="2370" y="3619"/>
                    </a:lnTo>
                    <a:lnTo>
                      <a:pt x="2362" y="3629"/>
                    </a:lnTo>
                    <a:lnTo>
                      <a:pt x="2353" y="3641"/>
                    </a:lnTo>
                    <a:lnTo>
                      <a:pt x="2344" y="3654"/>
                    </a:lnTo>
                    <a:lnTo>
                      <a:pt x="2335" y="3666"/>
                    </a:lnTo>
                    <a:lnTo>
                      <a:pt x="2327" y="3676"/>
                    </a:lnTo>
                    <a:lnTo>
                      <a:pt x="2323" y="3687"/>
                    </a:lnTo>
                    <a:lnTo>
                      <a:pt x="2244" y="3762"/>
                    </a:lnTo>
                    <a:lnTo>
                      <a:pt x="2165" y="3836"/>
                    </a:lnTo>
                    <a:lnTo>
                      <a:pt x="2084" y="3907"/>
                    </a:lnTo>
                    <a:lnTo>
                      <a:pt x="2004" y="3979"/>
                    </a:lnTo>
                    <a:lnTo>
                      <a:pt x="1921" y="4049"/>
                    </a:lnTo>
                    <a:lnTo>
                      <a:pt x="1840" y="4123"/>
                    </a:lnTo>
                    <a:lnTo>
                      <a:pt x="1762" y="4197"/>
                    </a:lnTo>
                    <a:lnTo>
                      <a:pt x="1687" y="4277"/>
                    </a:lnTo>
                    <a:lnTo>
                      <a:pt x="1684" y="4277"/>
                    </a:lnTo>
                    <a:lnTo>
                      <a:pt x="1681" y="4277"/>
                    </a:lnTo>
                    <a:lnTo>
                      <a:pt x="1672" y="4295"/>
                    </a:lnTo>
                    <a:lnTo>
                      <a:pt x="1654" y="4322"/>
                    </a:lnTo>
                    <a:lnTo>
                      <a:pt x="1629" y="4349"/>
                    </a:lnTo>
                    <a:lnTo>
                      <a:pt x="1601" y="4382"/>
                    </a:lnTo>
                    <a:lnTo>
                      <a:pt x="1569" y="4413"/>
                    </a:lnTo>
                    <a:lnTo>
                      <a:pt x="1542" y="4443"/>
                    </a:lnTo>
                    <a:lnTo>
                      <a:pt x="1518" y="4470"/>
                    </a:lnTo>
                    <a:lnTo>
                      <a:pt x="1503" y="4492"/>
                    </a:lnTo>
                    <a:lnTo>
                      <a:pt x="1466" y="4532"/>
                    </a:lnTo>
                    <a:lnTo>
                      <a:pt x="1430" y="4573"/>
                    </a:lnTo>
                    <a:lnTo>
                      <a:pt x="1394" y="4615"/>
                    </a:lnTo>
                    <a:lnTo>
                      <a:pt x="1359" y="4656"/>
                    </a:lnTo>
                    <a:lnTo>
                      <a:pt x="1325" y="4698"/>
                    </a:lnTo>
                    <a:lnTo>
                      <a:pt x="1291" y="4742"/>
                    </a:lnTo>
                    <a:lnTo>
                      <a:pt x="1258" y="4785"/>
                    </a:lnTo>
                    <a:lnTo>
                      <a:pt x="1226" y="4829"/>
                    </a:lnTo>
                    <a:lnTo>
                      <a:pt x="1203" y="4866"/>
                    </a:lnTo>
                    <a:lnTo>
                      <a:pt x="1179" y="4904"/>
                    </a:lnTo>
                    <a:lnTo>
                      <a:pt x="1154" y="4941"/>
                    </a:lnTo>
                    <a:lnTo>
                      <a:pt x="1132" y="4980"/>
                    </a:lnTo>
                    <a:lnTo>
                      <a:pt x="1110" y="5018"/>
                    </a:lnTo>
                    <a:lnTo>
                      <a:pt x="1094" y="5058"/>
                    </a:lnTo>
                    <a:lnTo>
                      <a:pt x="1080" y="5100"/>
                    </a:lnTo>
                    <a:lnTo>
                      <a:pt x="1073" y="5144"/>
                    </a:lnTo>
                    <a:lnTo>
                      <a:pt x="1109" y="5143"/>
                    </a:lnTo>
                    <a:lnTo>
                      <a:pt x="1145" y="5141"/>
                    </a:lnTo>
                    <a:lnTo>
                      <a:pt x="1178" y="5140"/>
                    </a:lnTo>
                    <a:lnTo>
                      <a:pt x="1213" y="5143"/>
                    </a:lnTo>
                    <a:lnTo>
                      <a:pt x="1244" y="5147"/>
                    </a:lnTo>
                    <a:lnTo>
                      <a:pt x="1275" y="5158"/>
                    </a:lnTo>
                    <a:lnTo>
                      <a:pt x="1304" y="5176"/>
                    </a:lnTo>
                    <a:lnTo>
                      <a:pt x="1331" y="5202"/>
                    </a:lnTo>
                    <a:lnTo>
                      <a:pt x="1367" y="5213"/>
                    </a:lnTo>
                    <a:lnTo>
                      <a:pt x="1421" y="5216"/>
                    </a:lnTo>
                    <a:lnTo>
                      <a:pt x="1484" y="5213"/>
                    </a:lnTo>
                    <a:lnTo>
                      <a:pt x="1549" y="5211"/>
                    </a:lnTo>
                    <a:lnTo>
                      <a:pt x="1604" y="5211"/>
                    </a:lnTo>
                    <a:lnTo>
                      <a:pt x="1645" y="5222"/>
                    </a:lnTo>
                    <a:lnTo>
                      <a:pt x="1665" y="5245"/>
                    </a:lnTo>
                    <a:lnTo>
                      <a:pt x="1652" y="5289"/>
                    </a:lnTo>
                    <a:lnTo>
                      <a:pt x="1648" y="5299"/>
                    </a:lnTo>
                    <a:lnTo>
                      <a:pt x="1645" y="5309"/>
                    </a:lnTo>
                    <a:lnTo>
                      <a:pt x="1643" y="5318"/>
                    </a:lnTo>
                    <a:lnTo>
                      <a:pt x="1640" y="5329"/>
                    </a:lnTo>
                    <a:lnTo>
                      <a:pt x="1650" y="5329"/>
                    </a:lnTo>
                    <a:lnTo>
                      <a:pt x="1658" y="5329"/>
                    </a:lnTo>
                    <a:lnTo>
                      <a:pt x="1662" y="5334"/>
                    </a:lnTo>
                    <a:lnTo>
                      <a:pt x="1663" y="5339"/>
                    </a:lnTo>
                    <a:lnTo>
                      <a:pt x="1618" y="5347"/>
                    </a:lnTo>
                    <a:lnTo>
                      <a:pt x="1568" y="5360"/>
                    </a:lnTo>
                    <a:lnTo>
                      <a:pt x="1514" y="5370"/>
                    </a:lnTo>
                    <a:lnTo>
                      <a:pt x="1460" y="5381"/>
                    </a:lnTo>
                    <a:lnTo>
                      <a:pt x="1403" y="5387"/>
                    </a:lnTo>
                    <a:lnTo>
                      <a:pt x="1351" y="5396"/>
                    </a:lnTo>
                    <a:lnTo>
                      <a:pt x="1301" y="5400"/>
                    </a:lnTo>
                    <a:lnTo>
                      <a:pt x="1257" y="5403"/>
                    </a:lnTo>
                    <a:lnTo>
                      <a:pt x="1213" y="5382"/>
                    </a:lnTo>
                    <a:lnTo>
                      <a:pt x="1172" y="5364"/>
                    </a:lnTo>
                    <a:lnTo>
                      <a:pt x="1137" y="5347"/>
                    </a:lnTo>
                    <a:lnTo>
                      <a:pt x="1102" y="5332"/>
                    </a:lnTo>
                    <a:lnTo>
                      <a:pt x="1065" y="5318"/>
                    </a:lnTo>
                    <a:lnTo>
                      <a:pt x="1026" y="5310"/>
                    </a:lnTo>
                    <a:lnTo>
                      <a:pt x="984" y="5305"/>
                    </a:lnTo>
                    <a:lnTo>
                      <a:pt x="939" y="5303"/>
                    </a:lnTo>
                    <a:lnTo>
                      <a:pt x="877" y="5317"/>
                    </a:lnTo>
                    <a:lnTo>
                      <a:pt x="818" y="5339"/>
                    </a:lnTo>
                    <a:lnTo>
                      <a:pt x="760" y="5365"/>
                    </a:lnTo>
                    <a:lnTo>
                      <a:pt x="704" y="5396"/>
                    </a:lnTo>
                    <a:lnTo>
                      <a:pt x="646" y="5423"/>
                    </a:lnTo>
                    <a:lnTo>
                      <a:pt x="590" y="5448"/>
                    </a:lnTo>
                    <a:lnTo>
                      <a:pt x="536" y="5465"/>
                    </a:lnTo>
                    <a:lnTo>
                      <a:pt x="482" y="54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8"/>
              <p:cNvSpPr/>
              <p:nvPr/>
            </p:nvSpPr>
            <p:spPr>
              <a:xfrm>
                <a:off x="3975120" y="5793480"/>
                <a:ext cx="1369080" cy="231480"/>
              </a:xfrm>
              <a:custGeom>
                <a:avLst/>
                <a:gdLst>
                  <a:gd name="textAreaLeft" fmla="*/ 0 w 1369080"/>
                  <a:gd name="textAreaRight" fmla="*/ 1369440 w 136908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1455" h="300">
                    <a:moveTo>
                      <a:pt x="298" y="300"/>
                    </a:moveTo>
                    <a:lnTo>
                      <a:pt x="260" y="290"/>
                    </a:lnTo>
                    <a:lnTo>
                      <a:pt x="226" y="285"/>
                    </a:lnTo>
                    <a:lnTo>
                      <a:pt x="193" y="281"/>
                    </a:lnTo>
                    <a:lnTo>
                      <a:pt x="159" y="279"/>
                    </a:lnTo>
                    <a:lnTo>
                      <a:pt x="126" y="276"/>
                    </a:lnTo>
                    <a:lnTo>
                      <a:pt x="94" y="274"/>
                    </a:lnTo>
                    <a:lnTo>
                      <a:pt x="63" y="270"/>
                    </a:lnTo>
                    <a:lnTo>
                      <a:pt x="34" y="265"/>
                    </a:lnTo>
                    <a:lnTo>
                      <a:pt x="27" y="229"/>
                    </a:lnTo>
                    <a:lnTo>
                      <a:pt x="17" y="194"/>
                    </a:lnTo>
                    <a:lnTo>
                      <a:pt x="6" y="159"/>
                    </a:lnTo>
                    <a:lnTo>
                      <a:pt x="0" y="131"/>
                    </a:lnTo>
                    <a:lnTo>
                      <a:pt x="0" y="109"/>
                    </a:lnTo>
                    <a:lnTo>
                      <a:pt x="14" y="97"/>
                    </a:lnTo>
                    <a:lnTo>
                      <a:pt x="42" y="94"/>
                    </a:lnTo>
                    <a:lnTo>
                      <a:pt x="92" y="105"/>
                    </a:lnTo>
                    <a:lnTo>
                      <a:pt x="123" y="104"/>
                    </a:lnTo>
                    <a:lnTo>
                      <a:pt x="154" y="104"/>
                    </a:lnTo>
                    <a:lnTo>
                      <a:pt x="183" y="98"/>
                    </a:lnTo>
                    <a:lnTo>
                      <a:pt x="212" y="94"/>
                    </a:lnTo>
                    <a:lnTo>
                      <a:pt x="238" y="84"/>
                    </a:lnTo>
                    <a:lnTo>
                      <a:pt x="266" y="75"/>
                    </a:lnTo>
                    <a:lnTo>
                      <a:pt x="294" y="61"/>
                    </a:lnTo>
                    <a:lnTo>
                      <a:pt x="324" y="44"/>
                    </a:lnTo>
                    <a:lnTo>
                      <a:pt x="334" y="47"/>
                    </a:lnTo>
                    <a:lnTo>
                      <a:pt x="345" y="53"/>
                    </a:lnTo>
                    <a:lnTo>
                      <a:pt x="350" y="54"/>
                    </a:lnTo>
                    <a:lnTo>
                      <a:pt x="357" y="57"/>
                    </a:lnTo>
                    <a:lnTo>
                      <a:pt x="364" y="58"/>
                    </a:lnTo>
                    <a:lnTo>
                      <a:pt x="374" y="61"/>
                    </a:lnTo>
                    <a:lnTo>
                      <a:pt x="383" y="46"/>
                    </a:lnTo>
                    <a:lnTo>
                      <a:pt x="389" y="33"/>
                    </a:lnTo>
                    <a:lnTo>
                      <a:pt x="390" y="25"/>
                    </a:lnTo>
                    <a:lnTo>
                      <a:pt x="392" y="18"/>
                    </a:lnTo>
                    <a:lnTo>
                      <a:pt x="393" y="10"/>
                    </a:lnTo>
                    <a:lnTo>
                      <a:pt x="395" y="3"/>
                    </a:lnTo>
                    <a:lnTo>
                      <a:pt x="425" y="3"/>
                    </a:lnTo>
                    <a:lnTo>
                      <a:pt x="455" y="7"/>
                    </a:lnTo>
                    <a:lnTo>
                      <a:pt x="484" y="11"/>
                    </a:lnTo>
                    <a:lnTo>
                      <a:pt x="516" y="18"/>
                    </a:lnTo>
                    <a:lnTo>
                      <a:pt x="547" y="21"/>
                    </a:lnTo>
                    <a:lnTo>
                      <a:pt x="580" y="25"/>
                    </a:lnTo>
                    <a:lnTo>
                      <a:pt x="613" y="25"/>
                    </a:lnTo>
                    <a:lnTo>
                      <a:pt x="650" y="24"/>
                    </a:lnTo>
                    <a:lnTo>
                      <a:pt x="652" y="26"/>
                    </a:lnTo>
                    <a:lnTo>
                      <a:pt x="656" y="32"/>
                    </a:lnTo>
                    <a:lnTo>
                      <a:pt x="681" y="29"/>
                    </a:lnTo>
                    <a:lnTo>
                      <a:pt x="707" y="26"/>
                    </a:lnTo>
                    <a:lnTo>
                      <a:pt x="733" y="21"/>
                    </a:lnTo>
                    <a:lnTo>
                      <a:pt x="761" y="15"/>
                    </a:lnTo>
                    <a:lnTo>
                      <a:pt x="787" y="8"/>
                    </a:lnTo>
                    <a:lnTo>
                      <a:pt x="815" y="4"/>
                    </a:lnTo>
                    <a:lnTo>
                      <a:pt x="844" y="0"/>
                    </a:lnTo>
                    <a:lnTo>
                      <a:pt x="874" y="0"/>
                    </a:lnTo>
                    <a:lnTo>
                      <a:pt x="890" y="8"/>
                    </a:lnTo>
                    <a:lnTo>
                      <a:pt x="913" y="14"/>
                    </a:lnTo>
                    <a:lnTo>
                      <a:pt x="942" y="17"/>
                    </a:lnTo>
                    <a:lnTo>
                      <a:pt x="977" y="19"/>
                    </a:lnTo>
                    <a:lnTo>
                      <a:pt x="1011" y="19"/>
                    </a:lnTo>
                    <a:lnTo>
                      <a:pt x="1046" y="21"/>
                    </a:lnTo>
                    <a:lnTo>
                      <a:pt x="1076" y="21"/>
                    </a:lnTo>
                    <a:lnTo>
                      <a:pt x="1101" y="24"/>
                    </a:lnTo>
                    <a:lnTo>
                      <a:pt x="1114" y="39"/>
                    </a:lnTo>
                    <a:lnTo>
                      <a:pt x="1125" y="51"/>
                    </a:lnTo>
                    <a:lnTo>
                      <a:pt x="1133" y="61"/>
                    </a:lnTo>
                    <a:lnTo>
                      <a:pt x="1138" y="68"/>
                    </a:lnTo>
                    <a:lnTo>
                      <a:pt x="1144" y="75"/>
                    </a:lnTo>
                    <a:lnTo>
                      <a:pt x="1148" y="79"/>
                    </a:lnTo>
                    <a:lnTo>
                      <a:pt x="1183" y="82"/>
                    </a:lnTo>
                    <a:lnTo>
                      <a:pt x="1220" y="84"/>
                    </a:lnTo>
                    <a:lnTo>
                      <a:pt x="1259" y="84"/>
                    </a:lnTo>
                    <a:lnTo>
                      <a:pt x="1298" y="84"/>
                    </a:lnTo>
                    <a:lnTo>
                      <a:pt x="1336" y="82"/>
                    </a:lnTo>
                    <a:lnTo>
                      <a:pt x="1376" y="79"/>
                    </a:lnTo>
                    <a:lnTo>
                      <a:pt x="1415" y="76"/>
                    </a:lnTo>
                    <a:lnTo>
                      <a:pt x="1455" y="73"/>
                    </a:lnTo>
                    <a:lnTo>
                      <a:pt x="1452" y="79"/>
                    </a:lnTo>
                    <a:lnTo>
                      <a:pt x="1451" y="86"/>
                    </a:lnTo>
                    <a:lnTo>
                      <a:pt x="1448" y="91"/>
                    </a:lnTo>
                    <a:lnTo>
                      <a:pt x="1447" y="100"/>
                    </a:lnTo>
                    <a:lnTo>
                      <a:pt x="1443" y="109"/>
                    </a:lnTo>
                    <a:lnTo>
                      <a:pt x="1440" y="124"/>
                    </a:lnTo>
                    <a:lnTo>
                      <a:pt x="1434" y="142"/>
                    </a:lnTo>
                    <a:lnTo>
                      <a:pt x="1428" y="169"/>
                    </a:lnTo>
                    <a:lnTo>
                      <a:pt x="1372" y="176"/>
                    </a:lnTo>
                    <a:lnTo>
                      <a:pt x="1315" y="188"/>
                    </a:lnTo>
                    <a:lnTo>
                      <a:pt x="1259" y="200"/>
                    </a:lnTo>
                    <a:lnTo>
                      <a:pt x="1202" y="213"/>
                    </a:lnTo>
                    <a:lnTo>
                      <a:pt x="1145" y="218"/>
                    </a:lnTo>
                    <a:lnTo>
                      <a:pt x="1091" y="220"/>
                    </a:lnTo>
                    <a:lnTo>
                      <a:pt x="1039" y="210"/>
                    </a:lnTo>
                    <a:lnTo>
                      <a:pt x="991" y="189"/>
                    </a:lnTo>
                    <a:lnTo>
                      <a:pt x="946" y="170"/>
                    </a:lnTo>
                    <a:lnTo>
                      <a:pt x="908" y="155"/>
                    </a:lnTo>
                    <a:lnTo>
                      <a:pt x="870" y="141"/>
                    </a:lnTo>
                    <a:lnTo>
                      <a:pt x="836" y="131"/>
                    </a:lnTo>
                    <a:lnTo>
                      <a:pt x="800" y="124"/>
                    </a:lnTo>
                    <a:lnTo>
                      <a:pt x="762" y="123"/>
                    </a:lnTo>
                    <a:lnTo>
                      <a:pt x="721" y="127"/>
                    </a:lnTo>
                    <a:lnTo>
                      <a:pt x="677" y="137"/>
                    </a:lnTo>
                    <a:lnTo>
                      <a:pt x="631" y="153"/>
                    </a:lnTo>
                    <a:lnTo>
                      <a:pt x="585" y="171"/>
                    </a:lnTo>
                    <a:lnTo>
                      <a:pt x="540" y="189"/>
                    </a:lnTo>
                    <a:lnTo>
                      <a:pt x="495" y="210"/>
                    </a:lnTo>
                    <a:lnTo>
                      <a:pt x="451" y="231"/>
                    </a:lnTo>
                    <a:lnTo>
                      <a:pt x="408" y="253"/>
                    </a:lnTo>
                    <a:lnTo>
                      <a:pt x="365" y="275"/>
                    </a:lnTo>
                    <a:lnTo>
                      <a:pt x="324" y="300"/>
                    </a:lnTo>
                    <a:lnTo>
                      <a:pt x="317" y="300"/>
                    </a:lnTo>
                    <a:lnTo>
                      <a:pt x="310" y="300"/>
                    </a:lnTo>
                    <a:lnTo>
                      <a:pt x="302" y="300"/>
                    </a:lnTo>
                    <a:lnTo>
                      <a:pt x="298" y="30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9"/>
              <p:cNvSpPr/>
              <p:nvPr/>
            </p:nvSpPr>
            <p:spPr>
              <a:xfrm>
                <a:off x="5915160" y="5735160"/>
                <a:ext cx="697320" cy="250200"/>
              </a:xfrm>
              <a:custGeom>
                <a:avLst/>
                <a:gdLst>
                  <a:gd name="textAreaLeft" fmla="*/ 0 w 697320"/>
                  <a:gd name="textAreaRight" fmla="*/ 697680 w 697320"/>
                  <a:gd name="textAreaTop" fmla="*/ 0 h 250200"/>
                  <a:gd name="textAreaBottom" fmla="*/ 250560 h 250200"/>
                </a:gdLst>
                <a:ahLst/>
                <a:rect l="textAreaLeft" t="textAreaTop" r="textAreaRight" b="textAreaBottom"/>
                <a:pathLst>
                  <a:path w="740" h="325">
                    <a:moveTo>
                      <a:pt x="290" y="325"/>
                    </a:moveTo>
                    <a:lnTo>
                      <a:pt x="250" y="322"/>
                    </a:lnTo>
                    <a:lnTo>
                      <a:pt x="214" y="320"/>
                    </a:lnTo>
                    <a:lnTo>
                      <a:pt x="180" y="314"/>
                    </a:lnTo>
                    <a:lnTo>
                      <a:pt x="146" y="310"/>
                    </a:lnTo>
                    <a:lnTo>
                      <a:pt x="113" y="300"/>
                    </a:lnTo>
                    <a:lnTo>
                      <a:pt x="83" y="289"/>
                    </a:lnTo>
                    <a:lnTo>
                      <a:pt x="51" y="274"/>
                    </a:lnTo>
                    <a:lnTo>
                      <a:pt x="21" y="256"/>
                    </a:lnTo>
                    <a:lnTo>
                      <a:pt x="0" y="208"/>
                    </a:lnTo>
                    <a:lnTo>
                      <a:pt x="8" y="169"/>
                    </a:lnTo>
                    <a:lnTo>
                      <a:pt x="40" y="136"/>
                    </a:lnTo>
                    <a:lnTo>
                      <a:pt x="87" y="107"/>
                    </a:lnTo>
                    <a:lnTo>
                      <a:pt x="140" y="81"/>
                    </a:lnTo>
                    <a:lnTo>
                      <a:pt x="193" y="56"/>
                    </a:lnTo>
                    <a:lnTo>
                      <a:pt x="240" y="28"/>
                    </a:lnTo>
                    <a:lnTo>
                      <a:pt x="274" y="0"/>
                    </a:lnTo>
                    <a:lnTo>
                      <a:pt x="278" y="0"/>
                    </a:lnTo>
                    <a:lnTo>
                      <a:pt x="282" y="0"/>
                    </a:lnTo>
                    <a:lnTo>
                      <a:pt x="287" y="28"/>
                    </a:lnTo>
                    <a:lnTo>
                      <a:pt x="303" y="53"/>
                    </a:lnTo>
                    <a:lnTo>
                      <a:pt x="323" y="71"/>
                    </a:lnTo>
                    <a:lnTo>
                      <a:pt x="348" y="82"/>
                    </a:lnTo>
                    <a:lnTo>
                      <a:pt x="372" y="82"/>
                    </a:lnTo>
                    <a:lnTo>
                      <a:pt x="393" y="74"/>
                    </a:lnTo>
                    <a:lnTo>
                      <a:pt x="406" y="52"/>
                    </a:lnTo>
                    <a:lnTo>
                      <a:pt x="411" y="17"/>
                    </a:lnTo>
                    <a:lnTo>
                      <a:pt x="447" y="32"/>
                    </a:lnTo>
                    <a:lnTo>
                      <a:pt x="488" y="49"/>
                    </a:lnTo>
                    <a:lnTo>
                      <a:pt x="531" y="64"/>
                    </a:lnTo>
                    <a:lnTo>
                      <a:pt x="575" y="82"/>
                    </a:lnTo>
                    <a:lnTo>
                      <a:pt x="617" y="99"/>
                    </a:lnTo>
                    <a:lnTo>
                      <a:pt x="658" y="121"/>
                    </a:lnTo>
                    <a:lnTo>
                      <a:pt x="694" y="144"/>
                    </a:lnTo>
                    <a:lnTo>
                      <a:pt x="727" y="172"/>
                    </a:lnTo>
                    <a:lnTo>
                      <a:pt x="740" y="212"/>
                    </a:lnTo>
                    <a:lnTo>
                      <a:pt x="740" y="242"/>
                    </a:lnTo>
                    <a:lnTo>
                      <a:pt x="727" y="263"/>
                    </a:lnTo>
                    <a:lnTo>
                      <a:pt x="707" y="280"/>
                    </a:lnTo>
                    <a:lnTo>
                      <a:pt x="677" y="289"/>
                    </a:lnTo>
                    <a:lnTo>
                      <a:pt x="646" y="298"/>
                    </a:lnTo>
                    <a:lnTo>
                      <a:pt x="611" y="303"/>
                    </a:lnTo>
                    <a:lnTo>
                      <a:pt x="577" y="311"/>
                    </a:lnTo>
                    <a:lnTo>
                      <a:pt x="539" y="313"/>
                    </a:lnTo>
                    <a:lnTo>
                      <a:pt x="503" y="316"/>
                    </a:lnTo>
                    <a:lnTo>
                      <a:pt x="466" y="317"/>
                    </a:lnTo>
                    <a:lnTo>
                      <a:pt x="431" y="320"/>
                    </a:lnTo>
                    <a:lnTo>
                      <a:pt x="394" y="321"/>
                    </a:lnTo>
                    <a:lnTo>
                      <a:pt x="359" y="322"/>
                    </a:lnTo>
                    <a:lnTo>
                      <a:pt x="323" y="324"/>
                    </a:lnTo>
                    <a:lnTo>
                      <a:pt x="290" y="325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10"/>
              <p:cNvSpPr/>
              <p:nvPr/>
            </p:nvSpPr>
            <p:spPr>
              <a:xfrm>
                <a:off x="5983200" y="5872320"/>
                <a:ext cx="457200" cy="62280"/>
              </a:xfrm>
              <a:custGeom>
                <a:avLst/>
                <a:gdLst>
                  <a:gd name="textAreaLeft" fmla="*/ 0 w 457200"/>
                  <a:gd name="textAreaRight" fmla="*/ 457560 w 457200"/>
                  <a:gd name="textAreaTop" fmla="*/ 0 h 62280"/>
                  <a:gd name="textAreaBottom" fmla="*/ 62640 h 62280"/>
                </a:gdLst>
                <a:ahLst/>
                <a:rect l="textAreaLeft" t="textAreaTop" r="textAreaRight" b="textAreaBottom"/>
                <a:pathLst>
                  <a:path w="486" h="82">
                    <a:moveTo>
                      <a:pt x="282" y="79"/>
                    </a:moveTo>
                    <a:lnTo>
                      <a:pt x="245" y="76"/>
                    </a:lnTo>
                    <a:lnTo>
                      <a:pt x="206" y="75"/>
                    </a:lnTo>
                    <a:lnTo>
                      <a:pt x="166" y="69"/>
                    </a:lnTo>
                    <a:lnTo>
                      <a:pt x="129" y="65"/>
                    </a:lnTo>
                    <a:lnTo>
                      <a:pt x="90" y="54"/>
                    </a:lnTo>
                    <a:lnTo>
                      <a:pt x="56" y="42"/>
                    </a:lnTo>
                    <a:lnTo>
                      <a:pt x="25" y="2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2"/>
                    </a:lnTo>
                    <a:lnTo>
                      <a:pt x="20" y="4"/>
                    </a:lnTo>
                    <a:lnTo>
                      <a:pt x="28" y="9"/>
                    </a:lnTo>
                    <a:lnTo>
                      <a:pt x="36" y="13"/>
                    </a:lnTo>
                    <a:lnTo>
                      <a:pt x="45" y="17"/>
                    </a:lnTo>
                    <a:lnTo>
                      <a:pt x="53" y="21"/>
                    </a:lnTo>
                    <a:lnTo>
                      <a:pt x="61" y="27"/>
                    </a:lnTo>
                    <a:lnTo>
                      <a:pt x="110" y="39"/>
                    </a:lnTo>
                    <a:lnTo>
                      <a:pt x="161" y="49"/>
                    </a:lnTo>
                    <a:lnTo>
                      <a:pt x="213" y="56"/>
                    </a:lnTo>
                    <a:lnTo>
                      <a:pt x="269" y="61"/>
                    </a:lnTo>
                    <a:lnTo>
                      <a:pt x="323" y="63"/>
                    </a:lnTo>
                    <a:lnTo>
                      <a:pt x="377" y="65"/>
                    </a:lnTo>
                    <a:lnTo>
                      <a:pt x="430" y="68"/>
                    </a:lnTo>
                    <a:lnTo>
                      <a:pt x="486" y="72"/>
                    </a:lnTo>
                    <a:lnTo>
                      <a:pt x="461" y="76"/>
                    </a:lnTo>
                    <a:lnTo>
                      <a:pt x="436" y="79"/>
                    </a:lnTo>
                    <a:lnTo>
                      <a:pt x="410" y="80"/>
                    </a:lnTo>
                    <a:lnTo>
                      <a:pt x="383" y="82"/>
                    </a:lnTo>
                    <a:lnTo>
                      <a:pt x="356" y="80"/>
                    </a:lnTo>
                    <a:lnTo>
                      <a:pt x="330" y="80"/>
                    </a:lnTo>
                    <a:lnTo>
                      <a:pt x="305" y="79"/>
                    </a:lnTo>
                    <a:lnTo>
                      <a:pt x="282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11"/>
              <p:cNvSpPr/>
              <p:nvPr/>
            </p:nvSpPr>
            <p:spPr>
              <a:xfrm>
                <a:off x="4624560" y="4445640"/>
                <a:ext cx="1400400" cy="1361160"/>
              </a:xfrm>
              <a:custGeom>
                <a:avLst/>
                <a:gdLst>
                  <a:gd name="textAreaLeft" fmla="*/ 0 w 1400400"/>
                  <a:gd name="textAreaRight" fmla="*/ 1400760 w 1400400"/>
                  <a:gd name="textAreaTop" fmla="*/ 0 h 1361160"/>
                  <a:gd name="textAreaBottom" fmla="*/ 1361520 h 1361160"/>
                </a:gdLst>
                <a:ahLst/>
                <a:rect l="textAreaLeft" t="textAreaTop" r="textAreaRight" b="textAreaBottom"/>
                <a:pathLst>
                  <a:path w="1490" h="1765">
                    <a:moveTo>
                      <a:pt x="0" y="1765"/>
                    </a:moveTo>
                    <a:lnTo>
                      <a:pt x="0" y="1755"/>
                    </a:lnTo>
                    <a:lnTo>
                      <a:pt x="1" y="1748"/>
                    </a:lnTo>
                    <a:lnTo>
                      <a:pt x="2" y="1741"/>
                    </a:lnTo>
                    <a:lnTo>
                      <a:pt x="7" y="1737"/>
                    </a:lnTo>
                    <a:lnTo>
                      <a:pt x="11" y="1726"/>
                    </a:lnTo>
                    <a:lnTo>
                      <a:pt x="18" y="1715"/>
                    </a:lnTo>
                    <a:lnTo>
                      <a:pt x="56" y="1605"/>
                    </a:lnTo>
                    <a:lnTo>
                      <a:pt x="103" y="1495"/>
                    </a:lnTo>
                    <a:lnTo>
                      <a:pt x="157" y="1386"/>
                    </a:lnTo>
                    <a:lnTo>
                      <a:pt x="217" y="1280"/>
                    </a:lnTo>
                    <a:lnTo>
                      <a:pt x="278" y="1172"/>
                    </a:lnTo>
                    <a:lnTo>
                      <a:pt x="341" y="1070"/>
                    </a:lnTo>
                    <a:lnTo>
                      <a:pt x="403" y="967"/>
                    </a:lnTo>
                    <a:lnTo>
                      <a:pt x="466" y="869"/>
                    </a:lnTo>
                    <a:lnTo>
                      <a:pt x="482" y="850"/>
                    </a:lnTo>
                    <a:lnTo>
                      <a:pt x="498" y="826"/>
                    </a:lnTo>
                    <a:lnTo>
                      <a:pt x="511" y="799"/>
                    </a:lnTo>
                    <a:lnTo>
                      <a:pt x="527" y="772"/>
                    </a:lnTo>
                    <a:lnTo>
                      <a:pt x="540" y="743"/>
                    </a:lnTo>
                    <a:lnTo>
                      <a:pt x="556" y="718"/>
                    </a:lnTo>
                    <a:lnTo>
                      <a:pt x="572" y="695"/>
                    </a:lnTo>
                    <a:lnTo>
                      <a:pt x="593" y="677"/>
                    </a:lnTo>
                    <a:lnTo>
                      <a:pt x="601" y="656"/>
                    </a:lnTo>
                    <a:lnTo>
                      <a:pt x="622" y="623"/>
                    </a:lnTo>
                    <a:lnTo>
                      <a:pt x="648" y="582"/>
                    </a:lnTo>
                    <a:lnTo>
                      <a:pt x="680" y="537"/>
                    </a:lnTo>
                    <a:lnTo>
                      <a:pt x="710" y="493"/>
                    </a:lnTo>
                    <a:lnTo>
                      <a:pt x="741" y="453"/>
                    </a:lnTo>
                    <a:lnTo>
                      <a:pt x="764" y="423"/>
                    </a:lnTo>
                    <a:lnTo>
                      <a:pt x="782" y="407"/>
                    </a:lnTo>
                    <a:lnTo>
                      <a:pt x="802" y="370"/>
                    </a:lnTo>
                    <a:lnTo>
                      <a:pt x="827" y="334"/>
                    </a:lnTo>
                    <a:lnTo>
                      <a:pt x="852" y="298"/>
                    </a:lnTo>
                    <a:lnTo>
                      <a:pt x="879" y="264"/>
                    </a:lnTo>
                    <a:lnTo>
                      <a:pt x="904" y="228"/>
                    </a:lnTo>
                    <a:lnTo>
                      <a:pt x="932" y="193"/>
                    </a:lnTo>
                    <a:lnTo>
                      <a:pt x="955" y="157"/>
                    </a:lnTo>
                    <a:lnTo>
                      <a:pt x="980" y="121"/>
                    </a:lnTo>
                    <a:lnTo>
                      <a:pt x="987" y="91"/>
                    </a:lnTo>
                    <a:lnTo>
                      <a:pt x="998" y="73"/>
                    </a:lnTo>
                    <a:lnTo>
                      <a:pt x="1011" y="62"/>
                    </a:lnTo>
                    <a:lnTo>
                      <a:pt x="1029" y="58"/>
                    </a:lnTo>
                    <a:lnTo>
                      <a:pt x="1047" y="56"/>
                    </a:lnTo>
                    <a:lnTo>
                      <a:pt x="1071" y="59"/>
                    </a:lnTo>
                    <a:lnTo>
                      <a:pt x="1098" y="62"/>
                    </a:lnTo>
                    <a:lnTo>
                      <a:pt x="1131" y="66"/>
                    </a:lnTo>
                    <a:lnTo>
                      <a:pt x="1164" y="67"/>
                    </a:lnTo>
                    <a:lnTo>
                      <a:pt x="1196" y="65"/>
                    </a:lnTo>
                    <a:lnTo>
                      <a:pt x="1226" y="55"/>
                    </a:lnTo>
                    <a:lnTo>
                      <a:pt x="1257" y="44"/>
                    </a:lnTo>
                    <a:lnTo>
                      <a:pt x="1284" y="30"/>
                    </a:lnTo>
                    <a:lnTo>
                      <a:pt x="1313" y="18"/>
                    </a:lnTo>
                    <a:lnTo>
                      <a:pt x="1344" y="7"/>
                    </a:lnTo>
                    <a:lnTo>
                      <a:pt x="1376" y="0"/>
                    </a:lnTo>
                    <a:lnTo>
                      <a:pt x="1384" y="5"/>
                    </a:lnTo>
                    <a:lnTo>
                      <a:pt x="1396" y="12"/>
                    </a:lnTo>
                    <a:lnTo>
                      <a:pt x="1410" y="19"/>
                    </a:lnTo>
                    <a:lnTo>
                      <a:pt x="1425" y="26"/>
                    </a:lnTo>
                    <a:lnTo>
                      <a:pt x="1467" y="59"/>
                    </a:lnTo>
                    <a:lnTo>
                      <a:pt x="1488" y="95"/>
                    </a:lnTo>
                    <a:lnTo>
                      <a:pt x="1490" y="132"/>
                    </a:lnTo>
                    <a:lnTo>
                      <a:pt x="1482" y="171"/>
                    </a:lnTo>
                    <a:lnTo>
                      <a:pt x="1460" y="208"/>
                    </a:lnTo>
                    <a:lnTo>
                      <a:pt x="1432" y="247"/>
                    </a:lnTo>
                    <a:lnTo>
                      <a:pt x="1402" y="284"/>
                    </a:lnTo>
                    <a:lnTo>
                      <a:pt x="1373" y="323"/>
                    </a:lnTo>
                    <a:lnTo>
                      <a:pt x="1294" y="388"/>
                    </a:lnTo>
                    <a:lnTo>
                      <a:pt x="1218" y="454"/>
                    </a:lnTo>
                    <a:lnTo>
                      <a:pt x="1142" y="518"/>
                    </a:lnTo>
                    <a:lnTo>
                      <a:pt x="1067" y="583"/>
                    </a:lnTo>
                    <a:lnTo>
                      <a:pt x="993" y="648"/>
                    </a:lnTo>
                    <a:lnTo>
                      <a:pt x="919" y="716"/>
                    </a:lnTo>
                    <a:lnTo>
                      <a:pt x="847" y="786"/>
                    </a:lnTo>
                    <a:lnTo>
                      <a:pt x="777" y="861"/>
                    </a:lnTo>
                    <a:lnTo>
                      <a:pt x="771" y="868"/>
                    </a:lnTo>
                    <a:lnTo>
                      <a:pt x="766" y="876"/>
                    </a:lnTo>
                    <a:lnTo>
                      <a:pt x="759" y="884"/>
                    </a:lnTo>
                    <a:lnTo>
                      <a:pt x="752" y="894"/>
                    </a:lnTo>
                    <a:lnTo>
                      <a:pt x="744" y="901"/>
                    </a:lnTo>
                    <a:lnTo>
                      <a:pt x="737" y="909"/>
                    </a:lnTo>
                    <a:lnTo>
                      <a:pt x="728" y="916"/>
                    </a:lnTo>
                    <a:lnTo>
                      <a:pt x="724" y="922"/>
                    </a:lnTo>
                    <a:lnTo>
                      <a:pt x="658" y="996"/>
                    </a:lnTo>
                    <a:lnTo>
                      <a:pt x="593" y="1072"/>
                    </a:lnTo>
                    <a:lnTo>
                      <a:pt x="528" y="1147"/>
                    </a:lnTo>
                    <a:lnTo>
                      <a:pt x="467" y="1226"/>
                    </a:lnTo>
                    <a:lnTo>
                      <a:pt x="405" y="1303"/>
                    </a:lnTo>
                    <a:lnTo>
                      <a:pt x="348" y="1385"/>
                    </a:lnTo>
                    <a:lnTo>
                      <a:pt x="296" y="1468"/>
                    </a:lnTo>
                    <a:lnTo>
                      <a:pt x="247" y="1555"/>
                    </a:lnTo>
                    <a:lnTo>
                      <a:pt x="239" y="1567"/>
                    </a:lnTo>
                    <a:lnTo>
                      <a:pt x="231" y="1584"/>
                    </a:lnTo>
                    <a:lnTo>
                      <a:pt x="221" y="1600"/>
                    </a:lnTo>
                    <a:lnTo>
                      <a:pt x="213" y="1620"/>
                    </a:lnTo>
                    <a:lnTo>
                      <a:pt x="202" y="1636"/>
                    </a:lnTo>
                    <a:lnTo>
                      <a:pt x="193" y="1653"/>
                    </a:lnTo>
                    <a:lnTo>
                      <a:pt x="182" y="1668"/>
                    </a:lnTo>
                    <a:lnTo>
                      <a:pt x="174" y="1681"/>
                    </a:lnTo>
                    <a:lnTo>
                      <a:pt x="177" y="1681"/>
                    </a:lnTo>
                    <a:lnTo>
                      <a:pt x="181" y="1683"/>
                    </a:lnTo>
                    <a:lnTo>
                      <a:pt x="182" y="1685"/>
                    </a:lnTo>
                    <a:lnTo>
                      <a:pt x="184" y="1689"/>
                    </a:lnTo>
                    <a:lnTo>
                      <a:pt x="175" y="1697"/>
                    </a:lnTo>
                    <a:lnTo>
                      <a:pt x="170" y="1710"/>
                    </a:lnTo>
                    <a:lnTo>
                      <a:pt x="163" y="1722"/>
                    </a:lnTo>
                    <a:lnTo>
                      <a:pt x="157" y="1736"/>
                    </a:lnTo>
                    <a:lnTo>
                      <a:pt x="143" y="1733"/>
                    </a:lnTo>
                    <a:lnTo>
                      <a:pt x="130" y="1733"/>
                    </a:lnTo>
                    <a:lnTo>
                      <a:pt x="117" y="1733"/>
                    </a:lnTo>
                    <a:lnTo>
                      <a:pt x="105" y="1733"/>
                    </a:lnTo>
                    <a:lnTo>
                      <a:pt x="112" y="1682"/>
                    </a:lnTo>
                    <a:lnTo>
                      <a:pt x="134" y="1624"/>
                    </a:lnTo>
                    <a:lnTo>
                      <a:pt x="164" y="1560"/>
                    </a:lnTo>
                    <a:lnTo>
                      <a:pt x="204" y="1495"/>
                    </a:lnTo>
                    <a:lnTo>
                      <a:pt x="244" y="1429"/>
                    </a:lnTo>
                    <a:lnTo>
                      <a:pt x="287" y="1370"/>
                    </a:lnTo>
                    <a:lnTo>
                      <a:pt x="326" y="1317"/>
                    </a:lnTo>
                    <a:lnTo>
                      <a:pt x="358" y="1278"/>
                    </a:lnTo>
                    <a:lnTo>
                      <a:pt x="434" y="1166"/>
                    </a:lnTo>
                    <a:lnTo>
                      <a:pt x="517" y="1059"/>
                    </a:lnTo>
                    <a:lnTo>
                      <a:pt x="601" y="951"/>
                    </a:lnTo>
                    <a:lnTo>
                      <a:pt x="691" y="847"/>
                    </a:lnTo>
                    <a:lnTo>
                      <a:pt x="781" y="743"/>
                    </a:lnTo>
                    <a:lnTo>
                      <a:pt x="874" y="644"/>
                    </a:lnTo>
                    <a:lnTo>
                      <a:pt x="968" y="546"/>
                    </a:lnTo>
                    <a:lnTo>
                      <a:pt x="1062" y="450"/>
                    </a:lnTo>
                    <a:lnTo>
                      <a:pt x="1070" y="442"/>
                    </a:lnTo>
                    <a:lnTo>
                      <a:pt x="1084" y="434"/>
                    </a:lnTo>
                    <a:lnTo>
                      <a:pt x="1099" y="421"/>
                    </a:lnTo>
                    <a:lnTo>
                      <a:pt x="1116" y="410"/>
                    </a:lnTo>
                    <a:lnTo>
                      <a:pt x="1129" y="396"/>
                    </a:lnTo>
                    <a:lnTo>
                      <a:pt x="1142" y="384"/>
                    </a:lnTo>
                    <a:lnTo>
                      <a:pt x="1150" y="371"/>
                    </a:lnTo>
                    <a:lnTo>
                      <a:pt x="1154" y="363"/>
                    </a:lnTo>
                    <a:lnTo>
                      <a:pt x="1153" y="362"/>
                    </a:lnTo>
                    <a:lnTo>
                      <a:pt x="1152" y="360"/>
                    </a:lnTo>
                    <a:lnTo>
                      <a:pt x="1081" y="412"/>
                    </a:lnTo>
                    <a:lnTo>
                      <a:pt x="1017" y="468"/>
                    </a:lnTo>
                    <a:lnTo>
                      <a:pt x="955" y="526"/>
                    </a:lnTo>
                    <a:lnTo>
                      <a:pt x="897" y="589"/>
                    </a:lnTo>
                    <a:lnTo>
                      <a:pt x="839" y="652"/>
                    </a:lnTo>
                    <a:lnTo>
                      <a:pt x="782" y="717"/>
                    </a:lnTo>
                    <a:lnTo>
                      <a:pt x="727" y="783"/>
                    </a:lnTo>
                    <a:lnTo>
                      <a:pt x="672" y="851"/>
                    </a:lnTo>
                    <a:lnTo>
                      <a:pt x="605" y="922"/>
                    </a:lnTo>
                    <a:lnTo>
                      <a:pt x="543" y="996"/>
                    </a:lnTo>
                    <a:lnTo>
                      <a:pt x="484" y="1070"/>
                    </a:lnTo>
                    <a:lnTo>
                      <a:pt x="428" y="1146"/>
                    </a:lnTo>
                    <a:lnTo>
                      <a:pt x="372" y="1220"/>
                    </a:lnTo>
                    <a:lnTo>
                      <a:pt x="318" y="1299"/>
                    </a:lnTo>
                    <a:lnTo>
                      <a:pt x="262" y="1378"/>
                    </a:lnTo>
                    <a:lnTo>
                      <a:pt x="207" y="1459"/>
                    </a:lnTo>
                    <a:lnTo>
                      <a:pt x="189" y="1491"/>
                    </a:lnTo>
                    <a:lnTo>
                      <a:pt x="173" y="1523"/>
                    </a:lnTo>
                    <a:lnTo>
                      <a:pt x="156" y="1556"/>
                    </a:lnTo>
                    <a:lnTo>
                      <a:pt x="139" y="1589"/>
                    </a:lnTo>
                    <a:lnTo>
                      <a:pt x="123" y="1623"/>
                    </a:lnTo>
                    <a:lnTo>
                      <a:pt x="108" y="1656"/>
                    </a:lnTo>
                    <a:lnTo>
                      <a:pt x="94" y="1689"/>
                    </a:lnTo>
                    <a:lnTo>
                      <a:pt x="81" y="1726"/>
                    </a:lnTo>
                    <a:lnTo>
                      <a:pt x="77" y="1729"/>
                    </a:lnTo>
                    <a:lnTo>
                      <a:pt x="73" y="1733"/>
                    </a:lnTo>
                    <a:lnTo>
                      <a:pt x="59" y="1733"/>
                    </a:lnTo>
                    <a:lnTo>
                      <a:pt x="48" y="1736"/>
                    </a:lnTo>
                    <a:lnTo>
                      <a:pt x="40" y="1740"/>
                    </a:lnTo>
                    <a:lnTo>
                      <a:pt x="33" y="1746"/>
                    </a:lnTo>
                    <a:lnTo>
                      <a:pt x="25" y="1750"/>
                    </a:lnTo>
                    <a:lnTo>
                      <a:pt x="18" y="1755"/>
                    </a:lnTo>
                    <a:lnTo>
                      <a:pt x="8" y="1759"/>
                    </a:lnTo>
                    <a:lnTo>
                      <a:pt x="0" y="1765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12"/>
              <p:cNvSpPr/>
              <p:nvPr/>
            </p:nvSpPr>
            <p:spPr>
              <a:xfrm>
                <a:off x="6121440" y="3702600"/>
                <a:ext cx="920880" cy="2090520"/>
              </a:xfrm>
              <a:custGeom>
                <a:avLst/>
                <a:gdLst>
                  <a:gd name="textAreaLeft" fmla="*/ 0 w 920880"/>
                  <a:gd name="textAreaRight" fmla="*/ 921240 w 920880"/>
                  <a:gd name="textAreaTop" fmla="*/ 0 h 2090520"/>
                  <a:gd name="textAreaBottom" fmla="*/ 2090880 h 2090520"/>
                </a:gdLst>
                <a:ahLst/>
                <a:rect l="textAreaLeft" t="textAreaTop" r="textAreaRight" b="textAreaBottom"/>
                <a:pathLst>
                  <a:path w="977" h="2710">
                    <a:moveTo>
                      <a:pt x="140" y="2710"/>
                    </a:moveTo>
                    <a:lnTo>
                      <a:pt x="99" y="2663"/>
                    </a:lnTo>
                    <a:lnTo>
                      <a:pt x="68" y="2598"/>
                    </a:lnTo>
                    <a:lnTo>
                      <a:pt x="45" y="2521"/>
                    </a:lnTo>
                    <a:lnTo>
                      <a:pt x="28" y="2438"/>
                    </a:lnTo>
                    <a:lnTo>
                      <a:pt x="16" y="2351"/>
                    </a:lnTo>
                    <a:lnTo>
                      <a:pt x="7" y="2269"/>
                    </a:lnTo>
                    <a:lnTo>
                      <a:pt x="3" y="2194"/>
                    </a:lnTo>
                    <a:lnTo>
                      <a:pt x="0" y="2138"/>
                    </a:lnTo>
                    <a:lnTo>
                      <a:pt x="3" y="2056"/>
                    </a:lnTo>
                    <a:lnTo>
                      <a:pt x="9" y="1977"/>
                    </a:lnTo>
                    <a:lnTo>
                      <a:pt x="17" y="1899"/>
                    </a:lnTo>
                    <a:lnTo>
                      <a:pt x="27" y="1821"/>
                    </a:lnTo>
                    <a:lnTo>
                      <a:pt x="36" y="1742"/>
                    </a:lnTo>
                    <a:lnTo>
                      <a:pt x="46" y="1665"/>
                    </a:lnTo>
                    <a:lnTo>
                      <a:pt x="54" y="1586"/>
                    </a:lnTo>
                    <a:lnTo>
                      <a:pt x="64" y="1509"/>
                    </a:lnTo>
                    <a:lnTo>
                      <a:pt x="108" y="1315"/>
                    </a:lnTo>
                    <a:lnTo>
                      <a:pt x="161" y="1126"/>
                    </a:lnTo>
                    <a:lnTo>
                      <a:pt x="220" y="940"/>
                    </a:lnTo>
                    <a:lnTo>
                      <a:pt x="292" y="764"/>
                    </a:lnTo>
                    <a:lnTo>
                      <a:pt x="376" y="591"/>
                    </a:lnTo>
                    <a:lnTo>
                      <a:pt x="479" y="429"/>
                    </a:lnTo>
                    <a:lnTo>
                      <a:pt x="601" y="276"/>
                    </a:lnTo>
                    <a:lnTo>
                      <a:pt x="744" y="135"/>
                    </a:lnTo>
                    <a:lnTo>
                      <a:pt x="757" y="117"/>
                    </a:lnTo>
                    <a:lnTo>
                      <a:pt x="779" y="97"/>
                    </a:lnTo>
                    <a:lnTo>
                      <a:pt x="804" y="75"/>
                    </a:lnTo>
                    <a:lnTo>
                      <a:pt x="834" y="56"/>
                    </a:lnTo>
                    <a:lnTo>
                      <a:pt x="865" y="35"/>
                    </a:lnTo>
                    <a:lnTo>
                      <a:pt x="895" y="20"/>
                    </a:lnTo>
                    <a:lnTo>
                      <a:pt x="921" y="7"/>
                    </a:lnTo>
                    <a:lnTo>
                      <a:pt x="945" y="0"/>
                    </a:lnTo>
                    <a:lnTo>
                      <a:pt x="950" y="10"/>
                    </a:lnTo>
                    <a:lnTo>
                      <a:pt x="960" y="25"/>
                    </a:lnTo>
                    <a:lnTo>
                      <a:pt x="964" y="32"/>
                    </a:lnTo>
                    <a:lnTo>
                      <a:pt x="970" y="41"/>
                    </a:lnTo>
                    <a:lnTo>
                      <a:pt x="973" y="47"/>
                    </a:lnTo>
                    <a:lnTo>
                      <a:pt x="977" y="56"/>
                    </a:lnTo>
                    <a:lnTo>
                      <a:pt x="955" y="70"/>
                    </a:lnTo>
                    <a:lnTo>
                      <a:pt x="931" y="89"/>
                    </a:lnTo>
                    <a:lnTo>
                      <a:pt x="903" y="110"/>
                    </a:lnTo>
                    <a:lnTo>
                      <a:pt x="876" y="133"/>
                    </a:lnTo>
                    <a:lnTo>
                      <a:pt x="847" y="153"/>
                    </a:lnTo>
                    <a:lnTo>
                      <a:pt x="819" y="173"/>
                    </a:lnTo>
                    <a:lnTo>
                      <a:pt x="793" y="188"/>
                    </a:lnTo>
                    <a:lnTo>
                      <a:pt x="771" y="201"/>
                    </a:lnTo>
                    <a:lnTo>
                      <a:pt x="771" y="205"/>
                    </a:lnTo>
                    <a:lnTo>
                      <a:pt x="771" y="212"/>
                    </a:lnTo>
                    <a:lnTo>
                      <a:pt x="746" y="233"/>
                    </a:lnTo>
                    <a:lnTo>
                      <a:pt x="722" y="258"/>
                    </a:lnTo>
                    <a:lnTo>
                      <a:pt x="696" y="282"/>
                    </a:lnTo>
                    <a:lnTo>
                      <a:pt x="671" y="310"/>
                    </a:lnTo>
                    <a:lnTo>
                      <a:pt x="646" y="336"/>
                    </a:lnTo>
                    <a:lnTo>
                      <a:pt x="625" y="364"/>
                    </a:lnTo>
                    <a:lnTo>
                      <a:pt x="606" y="393"/>
                    </a:lnTo>
                    <a:lnTo>
                      <a:pt x="594" y="422"/>
                    </a:lnTo>
                    <a:lnTo>
                      <a:pt x="584" y="429"/>
                    </a:lnTo>
                    <a:lnTo>
                      <a:pt x="576" y="440"/>
                    </a:lnTo>
                    <a:lnTo>
                      <a:pt x="567" y="452"/>
                    </a:lnTo>
                    <a:lnTo>
                      <a:pt x="559" y="468"/>
                    </a:lnTo>
                    <a:lnTo>
                      <a:pt x="551" y="480"/>
                    </a:lnTo>
                    <a:lnTo>
                      <a:pt x="545" y="495"/>
                    </a:lnTo>
                    <a:lnTo>
                      <a:pt x="540" y="509"/>
                    </a:lnTo>
                    <a:lnTo>
                      <a:pt x="536" y="523"/>
                    </a:lnTo>
                    <a:lnTo>
                      <a:pt x="500" y="563"/>
                    </a:lnTo>
                    <a:lnTo>
                      <a:pt x="468" y="614"/>
                    </a:lnTo>
                    <a:lnTo>
                      <a:pt x="437" y="670"/>
                    </a:lnTo>
                    <a:lnTo>
                      <a:pt x="410" y="730"/>
                    </a:lnTo>
                    <a:lnTo>
                      <a:pt x="382" y="791"/>
                    </a:lnTo>
                    <a:lnTo>
                      <a:pt x="357" y="853"/>
                    </a:lnTo>
                    <a:lnTo>
                      <a:pt x="332" y="911"/>
                    </a:lnTo>
                    <a:lnTo>
                      <a:pt x="309" y="965"/>
                    </a:lnTo>
                    <a:lnTo>
                      <a:pt x="309" y="972"/>
                    </a:lnTo>
                    <a:lnTo>
                      <a:pt x="309" y="981"/>
                    </a:lnTo>
                    <a:lnTo>
                      <a:pt x="298" y="996"/>
                    </a:lnTo>
                    <a:lnTo>
                      <a:pt x="284" y="1028"/>
                    </a:lnTo>
                    <a:lnTo>
                      <a:pt x="267" y="1069"/>
                    </a:lnTo>
                    <a:lnTo>
                      <a:pt x="251" y="1116"/>
                    </a:lnTo>
                    <a:lnTo>
                      <a:pt x="233" y="1163"/>
                    </a:lnTo>
                    <a:lnTo>
                      <a:pt x="219" y="1209"/>
                    </a:lnTo>
                    <a:lnTo>
                      <a:pt x="209" y="1245"/>
                    </a:lnTo>
                    <a:lnTo>
                      <a:pt x="206" y="1268"/>
                    </a:lnTo>
                    <a:lnTo>
                      <a:pt x="179" y="1334"/>
                    </a:lnTo>
                    <a:lnTo>
                      <a:pt x="157" y="1405"/>
                    </a:lnTo>
                    <a:lnTo>
                      <a:pt x="139" y="1477"/>
                    </a:lnTo>
                    <a:lnTo>
                      <a:pt x="125" y="1552"/>
                    </a:lnTo>
                    <a:lnTo>
                      <a:pt x="112" y="1626"/>
                    </a:lnTo>
                    <a:lnTo>
                      <a:pt x="104" y="1702"/>
                    </a:lnTo>
                    <a:lnTo>
                      <a:pt x="97" y="1777"/>
                    </a:lnTo>
                    <a:lnTo>
                      <a:pt x="93" y="1853"/>
                    </a:lnTo>
                    <a:lnTo>
                      <a:pt x="87" y="1865"/>
                    </a:lnTo>
                    <a:lnTo>
                      <a:pt x="85" y="1885"/>
                    </a:lnTo>
                    <a:lnTo>
                      <a:pt x="83" y="1907"/>
                    </a:lnTo>
                    <a:lnTo>
                      <a:pt x="83" y="1932"/>
                    </a:lnTo>
                    <a:lnTo>
                      <a:pt x="83" y="1955"/>
                    </a:lnTo>
                    <a:lnTo>
                      <a:pt x="83" y="1980"/>
                    </a:lnTo>
                    <a:lnTo>
                      <a:pt x="83" y="2002"/>
                    </a:lnTo>
                    <a:lnTo>
                      <a:pt x="85" y="2022"/>
                    </a:lnTo>
                    <a:lnTo>
                      <a:pt x="82" y="2103"/>
                    </a:lnTo>
                    <a:lnTo>
                      <a:pt x="79" y="2186"/>
                    </a:lnTo>
                    <a:lnTo>
                      <a:pt x="76" y="2268"/>
                    </a:lnTo>
                    <a:lnTo>
                      <a:pt x="79" y="2351"/>
                    </a:lnTo>
                    <a:lnTo>
                      <a:pt x="86" y="2429"/>
                    </a:lnTo>
                    <a:lnTo>
                      <a:pt x="104" y="2510"/>
                    </a:lnTo>
                    <a:lnTo>
                      <a:pt x="132" y="2587"/>
                    </a:lnTo>
                    <a:lnTo>
                      <a:pt x="175" y="2663"/>
                    </a:lnTo>
                    <a:lnTo>
                      <a:pt x="173" y="2671"/>
                    </a:lnTo>
                    <a:lnTo>
                      <a:pt x="173" y="2681"/>
                    </a:lnTo>
                    <a:lnTo>
                      <a:pt x="170" y="2688"/>
                    </a:lnTo>
                    <a:lnTo>
                      <a:pt x="169" y="2696"/>
                    </a:lnTo>
                    <a:lnTo>
                      <a:pt x="164" y="2700"/>
                    </a:lnTo>
                    <a:lnTo>
                      <a:pt x="158" y="2706"/>
                    </a:lnTo>
                    <a:lnTo>
                      <a:pt x="148" y="2709"/>
                    </a:lnTo>
                    <a:lnTo>
                      <a:pt x="140" y="271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13"/>
              <p:cNvSpPr/>
              <p:nvPr/>
            </p:nvSpPr>
            <p:spPr>
              <a:xfrm>
                <a:off x="5421240" y="3552120"/>
                <a:ext cx="999720" cy="1011600"/>
              </a:xfrm>
              <a:custGeom>
                <a:avLst/>
                <a:gdLst>
                  <a:gd name="textAreaLeft" fmla="*/ 0 w 999720"/>
                  <a:gd name="textAreaRight" fmla="*/ 1000080 w 999720"/>
                  <a:gd name="textAreaTop" fmla="*/ 0 h 1011600"/>
                  <a:gd name="textAreaBottom" fmla="*/ 1011960 h 1011600"/>
                </a:gdLst>
                <a:ahLst/>
                <a:rect l="textAreaLeft" t="textAreaTop" r="textAreaRight" b="textAreaBottom"/>
                <a:pathLst>
                  <a:path w="1063" h="1311">
                    <a:moveTo>
                      <a:pt x="680" y="1311"/>
                    </a:moveTo>
                    <a:lnTo>
                      <a:pt x="671" y="1278"/>
                    </a:lnTo>
                    <a:lnTo>
                      <a:pt x="662" y="1249"/>
                    </a:lnTo>
                    <a:lnTo>
                      <a:pt x="649" y="1222"/>
                    </a:lnTo>
                    <a:lnTo>
                      <a:pt x="636" y="1199"/>
                    </a:lnTo>
                    <a:lnTo>
                      <a:pt x="617" y="1179"/>
                    </a:lnTo>
                    <a:lnTo>
                      <a:pt x="596" y="1162"/>
                    </a:lnTo>
                    <a:lnTo>
                      <a:pt x="570" y="1150"/>
                    </a:lnTo>
                    <a:lnTo>
                      <a:pt x="541" y="1141"/>
                    </a:lnTo>
                    <a:lnTo>
                      <a:pt x="538" y="1132"/>
                    </a:lnTo>
                    <a:lnTo>
                      <a:pt x="538" y="1126"/>
                    </a:lnTo>
                    <a:lnTo>
                      <a:pt x="537" y="1122"/>
                    </a:lnTo>
                    <a:lnTo>
                      <a:pt x="535" y="1119"/>
                    </a:lnTo>
                    <a:lnTo>
                      <a:pt x="484" y="1154"/>
                    </a:lnTo>
                    <a:lnTo>
                      <a:pt x="431" y="1176"/>
                    </a:lnTo>
                    <a:lnTo>
                      <a:pt x="375" y="1188"/>
                    </a:lnTo>
                    <a:lnTo>
                      <a:pt x="318" y="1194"/>
                    </a:lnTo>
                    <a:lnTo>
                      <a:pt x="259" y="1194"/>
                    </a:lnTo>
                    <a:lnTo>
                      <a:pt x="202" y="1193"/>
                    </a:lnTo>
                    <a:lnTo>
                      <a:pt x="144" y="1193"/>
                    </a:lnTo>
                    <a:lnTo>
                      <a:pt x="91" y="1197"/>
                    </a:lnTo>
                    <a:lnTo>
                      <a:pt x="79" y="1198"/>
                    </a:lnTo>
                    <a:lnTo>
                      <a:pt x="68" y="1202"/>
                    </a:lnTo>
                    <a:lnTo>
                      <a:pt x="57" y="1206"/>
                    </a:lnTo>
                    <a:lnTo>
                      <a:pt x="46" y="1211"/>
                    </a:lnTo>
                    <a:lnTo>
                      <a:pt x="33" y="1215"/>
                    </a:lnTo>
                    <a:lnTo>
                      <a:pt x="22" y="1219"/>
                    </a:lnTo>
                    <a:lnTo>
                      <a:pt x="11" y="1223"/>
                    </a:lnTo>
                    <a:lnTo>
                      <a:pt x="0" y="1227"/>
                    </a:lnTo>
                    <a:lnTo>
                      <a:pt x="11" y="1193"/>
                    </a:lnTo>
                    <a:lnTo>
                      <a:pt x="43" y="1152"/>
                    </a:lnTo>
                    <a:lnTo>
                      <a:pt x="88" y="1105"/>
                    </a:lnTo>
                    <a:lnTo>
                      <a:pt x="142" y="1058"/>
                    </a:lnTo>
                    <a:lnTo>
                      <a:pt x="198" y="1010"/>
                    </a:lnTo>
                    <a:lnTo>
                      <a:pt x="252" y="967"/>
                    </a:lnTo>
                    <a:lnTo>
                      <a:pt x="297" y="930"/>
                    </a:lnTo>
                    <a:lnTo>
                      <a:pt x="329" y="904"/>
                    </a:lnTo>
                    <a:lnTo>
                      <a:pt x="358" y="877"/>
                    </a:lnTo>
                    <a:lnTo>
                      <a:pt x="382" y="859"/>
                    </a:lnTo>
                    <a:lnTo>
                      <a:pt x="398" y="846"/>
                    </a:lnTo>
                    <a:lnTo>
                      <a:pt x="411" y="837"/>
                    </a:lnTo>
                    <a:lnTo>
                      <a:pt x="418" y="829"/>
                    </a:lnTo>
                    <a:lnTo>
                      <a:pt x="422" y="825"/>
                    </a:lnTo>
                    <a:lnTo>
                      <a:pt x="425" y="821"/>
                    </a:lnTo>
                    <a:lnTo>
                      <a:pt x="429" y="817"/>
                    </a:lnTo>
                    <a:lnTo>
                      <a:pt x="455" y="815"/>
                    </a:lnTo>
                    <a:lnTo>
                      <a:pt x="494" y="815"/>
                    </a:lnTo>
                    <a:lnTo>
                      <a:pt x="537" y="811"/>
                    </a:lnTo>
                    <a:lnTo>
                      <a:pt x="579" y="805"/>
                    </a:lnTo>
                    <a:lnTo>
                      <a:pt x="617" y="793"/>
                    </a:lnTo>
                    <a:lnTo>
                      <a:pt x="643" y="775"/>
                    </a:lnTo>
                    <a:lnTo>
                      <a:pt x="653" y="749"/>
                    </a:lnTo>
                    <a:lnTo>
                      <a:pt x="643" y="711"/>
                    </a:lnTo>
                    <a:lnTo>
                      <a:pt x="628" y="699"/>
                    </a:lnTo>
                    <a:lnTo>
                      <a:pt x="614" y="692"/>
                    </a:lnTo>
                    <a:lnTo>
                      <a:pt x="599" y="688"/>
                    </a:lnTo>
                    <a:lnTo>
                      <a:pt x="584" y="688"/>
                    </a:lnTo>
                    <a:lnTo>
                      <a:pt x="567" y="688"/>
                    </a:lnTo>
                    <a:lnTo>
                      <a:pt x="552" y="691"/>
                    </a:lnTo>
                    <a:lnTo>
                      <a:pt x="535" y="694"/>
                    </a:lnTo>
                    <a:lnTo>
                      <a:pt x="521" y="698"/>
                    </a:lnTo>
                    <a:lnTo>
                      <a:pt x="519" y="689"/>
                    </a:lnTo>
                    <a:lnTo>
                      <a:pt x="520" y="681"/>
                    </a:lnTo>
                    <a:lnTo>
                      <a:pt x="520" y="673"/>
                    </a:lnTo>
                    <a:lnTo>
                      <a:pt x="523" y="662"/>
                    </a:lnTo>
                    <a:lnTo>
                      <a:pt x="525" y="646"/>
                    </a:lnTo>
                    <a:lnTo>
                      <a:pt x="530" y="627"/>
                    </a:lnTo>
                    <a:lnTo>
                      <a:pt x="525" y="588"/>
                    </a:lnTo>
                    <a:lnTo>
                      <a:pt x="519" y="555"/>
                    </a:lnTo>
                    <a:lnTo>
                      <a:pt x="510" y="523"/>
                    </a:lnTo>
                    <a:lnTo>
                      <a:pt x="499" y="496"/>
                    </a:lnTo>
                    <a:lnTo>
                      <a:pt x="483" y="468"/>
                    </a:lnTo>
                    <a:lnTo>
                      <a:pt x="466" y="443"/>
                    </a:lnTo>
                    <a:lnTo>
                      <a:pt x="445" y="418"/>
                    </a:lnTo>
                    <a:lnTo>
                      <a:pt x="425" y="395"/>
                    </a:lnTo>
                    <a:lnTo>
                      <a:pt x="409" y="377"/>
                    </a:lnTo>
                    <a:lnTo>
                      <a:pt x="395" y="358"/>
                    </a:lnTo>
                    <a:lnTo>
                      <a:pt x="379" y="337"/>
                    </a:lnTo>
                    <a:lnTo>
                      <a:pt x="364" y="317"/>
                    </a:lnTo>
                    <a:lnTo>
                      <a:pt x="347" y="297"/>
                    </a:lnTo>
                    <a:lnTo>
                      <a:pt x="336" y="277"/>
                    </a:lnTo>
                    <a:lnTo>
                      <a:pt x="325" y="258"/>
                    </a:lnTo>
                    <a:lnTo>
                      <a:pt x="321" y="243"/>
                    </a:lnTo>
                    <a:lnTo>
                      <a:pt x="340" y="247"/>
                    </a:lnTo>
                    <a:lnTo>
                      <a:pt x="361" y="255"/>
                    </a:lnTo>
                    <a:lnTo>
                      <a:pt x="383" y="264"/>
                    </a:lnTo>
                    <a:lnTo>
                      <a:pt x="407" y="273"/>
                    </a:lnTo>
                    <a:lnTo>
                      <a:pt x="429" y="282"/>
                    </a:lnTo>
                    <a:lnTo>
                      <a:pt x="452" y="290"/>
                    </a:lnTo>
                    <a:lnTo>
                      <a:pt x="474" y="295"/>
                    </a:lnTo>
                    <a:lnTo>
                      <a:pt x="498" y="300"/>
                    </a:lnTo>
                    <a:lnTo>
                      <a:pt x="538" y="311"/>
                    </a:lnTo>
                    <a:lnTo>
                      <a:pt x="579" y="323"/>
                    </a:lnTo>
                    <a:lnTo>
                      <a:pt x="621" y="334"/>
                    </a:lnTo>
                    <a:lnTo>
                      <a:pt x="662" y="345"/>
                    </a:lnTo>
                    <a:lnTo>
                      <a:pt x="704" y="355"/>
                    </a:lnTo>
                    <a:lnTo>
                      <a:pt x="748" y="367"/>
                    </a:lnTo>
                    <a:lnTo>
                      <a:pt x="791" y="380"/>
                    </a:lnTo>
                    <a:lnTo>
                      <a:pt x="835" y="395"/>
                    </a:lnTo>
                    <a:lnTo>
                      <a:pt x="837" y="399"/>
                    </a:lnTo>
                    <a:lnTo>
                      <a:pt x="838" y="406"/>
                    </a:lnTo>
                    <a:lnTo>
                      <a:pt x="867" y="388"/>
                    </a:lnTo>
                    <a:lnTo>
                      <a:pt x="896" y="358"/>
                    </a:lnTo>
                    <a:lnTo>
                      <a:pt x="921" y="316"/>
                    </a:lnTo>
                    <a:lnTo>
                      <a:pt x="946" y="272"/>
                    </a:lnTo>
                    <a:lnTo>
                      <a:pt x="965" y="223"/>
                    </a:lnTo>
                    <a:lnTo>
                      <a:pt x="983" y="176"/>
                    </a:lnTo>
                    <a:lnTo>
                      <a:pt x="998" y="134"/>
                    </a:lnTo>
                    <a:lnTo>
                      <a:pt x="1012" y="100"/>
                    </a:lnTo>
                    <a:lnTo>
                      <a:pt x="1016" y="91"/>
                    </a:lnTo>
                    <a:lnTo>
                      <a:pt x="1023" y="77"/>
                    </a:lnTo>
                    <a:lnTo>
                      <a:pt x="1030" y="60"/>
                    </a:lnTo>
                    <a:lnTo>
                      <a:pt x="1039" y="44"/>
                    </a:lnTo>
                    <a:lnTo>
                      <a:pt x="1045" y="26"/>
                    </a:lnTo>
                    <a:lnTo>
                      <a:pt x="1052" y="12"/>
                    </a:lnTo>
                    <a:lnTo>
                      <a:pt x="1058" y="2"/>
                    </a:lnTo>
                    <a:lnTo>
                      <a:pt x="1062" y="0"/>
                    </a:lnTo>
                    <a:lnTo>
                      <a:pt x="1063" y="78"/>
                    </a:lnTo>
                    <a:lnTo>
                      <a:pt x="1061" y="158"/>
                    </a:lnTo>
                    <a:lnTo>
                      <a:pt x="1052" y="236"/>
                    </a:lnTo>
                    <a:lnTo>
                      <a:pt x="1041" y="313"/>
                    </a:lnTo>
                    <a:lnTo>
                      <a:pt x="1023" y="389"/>
                    </a:lnTo>
                    <a:lnTo>
                      <a:pt x="1003" y="468"/>
                    </a:lnTo>
                    <a:lnTo>
                      <a:pt x="979" y="546"/>
                    </a:lnTo>
                    <a:lnTo>
                      <a:pt x="954" y="624"/>
                    </a:lnTo>
                    <a:lnTo>
                      <a:pt x="951" y="635"/>
                    </a:lnTo>
                    <a:lnTo>
                      <a:pt x="951" y="649"/>
                    </a:lnTo>
                    <a:lnTo>
                      <a:pt x="951" y="663"/>
                    </a:lnTo>
                    <a:lnTo>
                      <a:pt x="951" y="680"/>
                    </a:lnTo>
                    <a:lnTo>
                      <a:pt x="950" y="694"/>
                    </a:lnTo>
                    <a:lnTo>
                      <a:pt x="949" y="709"/>
                    </a:lnTo>
                    <a:lnTo>
                      <a:pt x="944" y="720"/>
                    </a:lnTo>
                    <a:lnTo>
                      <a:pt x="940" y="732"/>
                    </a:lnTo>
                    <a:lnTo>
                      <a:pt x="936" y="729"/>
                    </a:lnTo>
                    <a:lnTo>
                      <a:pt x="935" y="727"/>
                    </a:lnTo>
                    <a:lnTo>
                      <a:pt x="933" y="728"/>
                    </a:lnTo>
                    <a:lnTo>
                      <a:pt x="933" y="729"/>
                    </a:lnTo>
                    <a:lnTo>
                      <a:pt x="929" y="725"/>
                    </a:lnTo>
                    <a:lnTo>
                      <a:pt x="925" y="724"/>
                    </a:lnTo>
                    <a:lnTo>
                      <a:pt x="913" y="723"/>
                    </a:lnTo>
                    <a:lnTo>
                      <a:pt x="902" y="723"/>
                    </a:lnTo>
                    <a:lnTo>
                      <a:pt x="889" y="721"/>
                    </a:lnTo>
                    <a:lnTo>
                      <a:pt x="878" y="720"/>
                    </a:lnTo>
                    <a:lnTo>
                      <a:pt x="866" y="717"/>
                    </a:lnTo>
                    <a:lnTo>
                      <a:pt x="855" y="716"/>
                    </a:lnTo>
                    <a:lnTo>
                      <a:pt x="842" y="714"/>
                    </a:lnTo>
                    <a:lnTo>
                      <a:pt x="832" y="714"/>
                    </a:lnTo>
                    <a:lnTo>
                      <a:pt x="823" y="723"/>
                    </a:lnTo>
                    <a:lnTo>
                      <a:pt x="814" y="734"/>
                    </a:lnTo>
                    <a:lnTo>
                      <a:pt x="808" y="746"/>
                    </a:lnTo>
                    <a:lnTo>
                      <a:pt x="803" y="758"/>
                    </a:lnTo>
                    <a:lnTo>
                      <a:pt x="798" y="771"/>
                    </a:lnTo>
                    <a:lnTo>
                      <a:pt x="797" y="785"/>
                    </a:lnTo>
                    <a:lnTo>
                      <a:pt x="798" y="799"/>
                    </a:lnTo>
                    <a:lnTo>
                      <a:pt x="803" y="814"/>
                    </a:lnTo>
                    <a:lnTo>
                      <a:pt x="810" y="815"/>
                    </a:lnTo>
                    <a:lnTo>
                      <a:pt x="821" y="818"/>
                    </a:lnTo>
                    <a:lnTo>
                      <a:pt x="834" y="819"/>
                    </a:lnTo>
                    <a:lnTo>
                      <a:pt x="846" y="823"/>
                    </a:lnTo>
                    <a:lnTo>
                      <a:pt x="857" y="826"/>
                    </a:lnTo>
                    <a:lnTo>
                      <a:pt x="870" y="830"/>
                    </a:lnTo>
                    <a:lnTo>
                      <a:pt x="881" y="835"/>
                    </a:lnTo>
                    <a:lnTo>
                      <a:pt x="891" y="840"/>
                    </a:lnTo>
                    <a:lnTo>
                      <a:pt x="841" y="877"/>
                    </a:lnTo>
                    <a:lnTo>
                      <a:pt x="803" y="917"/>
                    </a:lnTo>
                    <a:lnTo>
                      <a:pt x="774" y="959"/>
                    </a:lnTo>
                    <a:lnTo>
                      <a:pt x="755" y="1006"/>
                    </a:lnTo>
                    <a:lnTo>
                      <a:pt x="741" y="1053"/>
                    </a:lnTo>
                    <a:lnTo>
                      <a:pt x="734" y="1107"/>
                    </a:lnTo>
                    <a:lnTo>
                      <a:pt x="733" y="1164"/>
                    </a:lnTo>
                    <a:lnTo>
                      <a:pt x="736" y="1227"/>
                    </a:lnTo>
                    <a:lnTo>
                      <a:pt x="732" y="1235"/>
                    </a:lnTo>
                    <a:lnTo>
                      <a:pt x="727" y="1248"/>
                    </a:lnTo>
                    <a:lnTo>
                      <a:pt x="720" y="1260"/>
                    </a:lnTo>
                    <a:lnTo>
                      <a:pt x="714" y="1276"/>
                    </a:lnTo>
                    <a:lnTo>
                      <a:pt x="705" y="1287"/>
                    </a:lnTo>
                    <a:lnTo>
                      <a:pt x="697" y="1299"/>
                    </a:lnTo>
                    <a:lnTo>
                      <a:pt x="689" y="1306"/>
                    </a:lnTo>
                    <a:lnTo>
                      <a:pt x="680" y="1311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14"/>
              <p:cNvSpPr/>
              <p:nvPr/>
            </p:nvSpPr>
            <p:spPr>
              <a:xfrm>
                <a:off x="5446440" y="4494600"/>
                <a:ext cx="87480" cy="57600"/>
              </a:xfrm>
              <a:custGeom>
                <a:avLst/>
                <a:gdLst>
                  <a:gd name="textAreaLeft" fmla="*/ 0 w 87480"/>
                  <a:gd name="textAreaRight" fmla="*/ 87480 w 87480"/>
                  <a:gd name="textAreaTop" fmla="*/ 0 h 57600"/>
                  <a:gd name="textAreaBottom" fmla="*/ 57960 h 57600"/>
                </a:gdLst>
                <a:ahLst/>
                <a:rect l="textAreaLeft" t="textAreaTop" r="textAreaRight" b="textAreaBottom"/>
                <a:pathLst>
                  <a:path w="92" h="76">
                    <a:moveTo>
                      <a:pt x="37" y="76"/>
                    </a:moveTo>
                    <a:lnTo>
                      <a:pt x="29" y="69"/>
                    </a:lnTo>
                    <a:lnTo>
                      <a:pt x="20" y="64"/>
                    </a:lnTo>
                    <a:lnTo>
                      <a:pt x="13" y="57"/>
                    </a:lnTo>
                    <a:lnTo>
                      <a:pt x="8" y="51"/>
                    </a:lnTo>
                    <a:lnTo>
                      <a:pt x="0" y="38"/>
                    </a:lnTo>
                    <a:lnTo>
                      <a:pt x="1" y="24"/>
                    </a:lnTo>
                    <a:lnTo>
                      <a:pt x="9" y="17"/>
                    </a:lnTo>
                    <a:lnTo>
                      <a:pt x="20" y="13"/>
                    </a:lnTo>
                    <a:lnTo>
                      <a:pt x="31" y="9"/>
                    </a:lnTo>
                    <a:lnTo>
                      <a:pt x="44" y="6"/>
                    </a:lnTo>
                    <a:lnTo>
                      <a:pt x="55" y="3"/>
                    </a:lnTo>
                    <a:lnTo>
                      <a:pt x="67" y="2"/>
                    </a:lnTo>
                    <a:lnTo>
                      <a:pt x="80" y="0"/>
                    </a:lnTo>
                    <a:lnTo>
                      <a:pt x="92" y="0"/>
                    </a:lnTo>
                    <a:lnTo>
                      <a:pt x="87" y="7"/>
                    </a:lnTo>
                    <a:lnTo>
                      <a:pt x="81" y="18"/>
                    </a:lnTo>
                    <a:lnTo>
                      <a:pt x="74" y="29"/>
                    </a:lnTo>
                    <a:lnTo>
                      <a:pt x="69" y="42"/>
                    </a:lnTo>
                    <a:lnTo>
                      <a:pt x="60" y="53"/>
                    </a:lnTo>
                    <a:lnTo>
                      <a:pt x="54" y="64"/>
                    </a:lnTo>
                    <a:lnTo>
                      <a:pt x="45" y="71"/>
                    </a:lnTo>
                    <a:lnTo>
                      <a:pt x="37" y="76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15"/>
              <p:cNvSpPr/>
              <p:nvPr/>
            </p:nvSpPr>
            <p:spPr>
              <a:xfrm>
                <a:off x="7110360" y="3825000"/>
                <a:ext cx="513360" cy="419400"/>
              </a:xfrm>
              <a:custGeom>
                <a:avLst/>
                <a:gdLst>
                  <a:gd name="textAreaLeft" fmla="*/ 0 w 513360"/>
                  <a:gd name="textAreaRight" fmla="*/ 513720 w 513360"/>
                  <a:gd name="textAreaTop" fmla="*/ 0 h 419400"/>
                  <a:gd name="textAreaBottom" fmla="*/ 419760 h 419400"/>
                </a:gdLst>
                <a:ahLst/>
                <a:rect l="textAreaLeft" t="textAreaTop" r="textAreaRight" b="textAreaBottom"/>
                <a:pathLst>
                  <a:path w="545" h="543">
                    <a:moveTo>
                      <a:pt x="259" y="543"/>
                    </a:moveTo>
                    <a:lnTo>
                      <a:pt x="230" y="524"/>
                    </a:lnTo>
                    <a:lnTo>
                      <a:pt x="203" y="503"/>
                    </a:lnTo>
                    <a:lnTo>
                      <a:pt x="177" y="478"/>
                    </a:lnTo>
                    <a:lnTo>
                      <a:pt x="153" y="455"/>
                    </a:lnTo>
                    <a:lnTo>
                      <a:pt x="129" y="428"/>
                    </a:lnTo>
                    <a:lnTo>
                      <a:pt x="108" y="405"/>
                    </a:lnTo>
                    <a:lnTo>
                      <a:pt x="87" y="380"/>
                    </a:lnTo>
                    <a:lnTo>
                      <a:pt x="66" y="359"/>
                    </a:lnTo>
                    <a:lnTo>
                      <a:pt x="55" y="351"/>
                    </a:lnTo>
                    <a:lnTo>
                      <a:pt x="46" y="344"/>
                    </a:lnTo>
                    <a:lnTo>
                      <a:pt x="35" y="337"/>
                    </a:lnTo>
                    <a:lnTo>
                      <a:pt x="25" y="330"/>
                    </a:lnTo>
                    <a:lnTo>
                      <a:pt x="15" y="322"/>
                    </a:lnTo>
                    <a:lnTo>
                      <a:pt x="8" y="314"/>
                    </a:lnTo>
                    <a:lnTo>
                      <a:pt x="3" y="305"/>
                    </a:lnTo>
                    <a:lnTo>
                      <a:pt x="0" y="298"/>
                    </a:lnTo>
                    <a:lnTo>
                      <a:pt x="10" y="294"/>
                    </a:lnTo>
                    <a:lnTo>
                      <a:pt x="22" y="290"/>
                    </a:lnTo>
                    <a:lnTo>
                      <a:pt x="35" y="282"/>
                    </a:lnTo>
                    <a:lnTo>
                      <a:pt x="48" y="275"/>
                    </a:lnTo>
                    <a:lnTo>
                      <a:pt x="59" y="265"/>
                    </a:lnTo>
                    <a:lnTo>
                      <a:pt x="70" y="254"/>
                    </a:lnTo>
                    <a:lnTo>
                      <a:pt x="77" y="243"/>
                    </a:lnTo>
                    <a:lnTo>
                      <a:pt x="84" y="232"/>
                    </a:lnTo>
                    <a:lnTo>
                      <a:pt x="73" y="231"/>
                    </a:lnTo>
                    <a:lnTo>
                      <a:pt x="70" y="228"/>
                    </a:lnTo>
                    <a:lnTo>
                      <a:pt x="69" y="224"/>
                    </a:lnTo>
                    <a:lnTo>
                      <a:pt x="70" y="220"/>
                    </a:lnTo>
                    <a:lnTo>
                      <a:pt x="91" y="210"/>
                    </a:lnTo>
                    <a:lnTo>
                      <a:pt x="112" y="202"/>
                    </a:lnTo>
                    <a:lnTo>
                      <a:pt x="129" y="189"/>
                    </a:lnTo>
                    <a:lnTo>
                      <a:pt x="147" y="178"/>
                    </a:lnTo>
                    <a:lnTo>
                      <a:pt x="162" y="163"/>
                    </a:lnTo>
                    <a:lnTo>
                      <a:pt x="177" y="149"/>
                    </a:lnTo>
                    <a:lnTo>
                      <a:pt x="194" y="133"/>
                    </a:lnTo>
                    <a:lnTo>
                      <a:pt x="213" y="116"/>
                    </a:lnTo>
                    <a:lnTo>
                      <a:pt x="221" y="99"/>
                    </a:lnTo>
                    <a:lnTo>
                      <a:pt x="231" y="84"/>
                    </a:lnTo>
                    <a:lnTo>
                      <a:pt x="238" y="69"/>
                    </a:lnTo>
                    <a:lnTo>
                      <a:pt x="246" y="55"/>
                    </a:lnTo>
                    <a:lnTo>
                      <a:pt x="253" y="40"/>
                    </a:lnTo>
                    <a:lnTo>
                      <a:pt x="263" y="27"/>
                    </a:lnTo>
                    <a:lnTo>
                      <a:pt x="272" y="12"/>
                    </a:lnTo>
                    <a:lnTo>
                      <a:pt x="288" y="0"/>
                    </a:lnTo>
                    <a:lnTo>
                      <a:pt x="296" y="3"/>
                    </a:lnTo>
                    <a:lnTo>
                      <a:pt x="304" y="11"/>
                    </a:lnTo>
                    <a:lnTo>
                      <a:pt x="308" y="21"/>
                    </a:lnTo>
                    <a:lnTo>
                      <a:pt x="314" y="33"/>
                    </a:lnTo>
                    <a:lnTo>
                      <a:pt x="317" y="45"/>
                    </a:lnTo>
                    <a:lnTo>
                      <a:pt x="319" y="58"/>
                    </a:lnTo>
                    <a:lnTo>
                      <a:pt x="319" y="70"/>
                    </a:lnTo>
                    <a:lnTo>
                      <a:pt x="321" y="84"/>
                    </a:lnTo>
                    <a:lnTo>
                      <a:pt x="303" y="108"/>
                    </a:lnTo>
                    <a:lnTo>
                      <a:pt x="282" y="126"/>
                    </a:lnTo>
                    <a:lnTo>
                      <a:pt x="257" y="139"/>
                    </a:lnTo>
                    <a:lnTo>
                      <a:pt x="234" y="152"/>
                    </a:lnTo>
                    <a:lnTo>
                      <a:pt x="209" y="164"/>
                    </a:lnTo>
                    <a:lnTo>
                      <a:pt x="189" y="180"/>
                    </a:lnTo>
                    <a:lnTo>
                      <a:pt x="173" y="200"/>
                    </a:lnTo>
                    <a:lnTo>
                      <a:pt x="163" y="229"/>
                    </a:lnTo>
                    <a:lnTo>
                      <a:pt x="156" y="236"/>
                    </a:lnTo>
                    <a:lnTo>
                      <a:pt x="151" y="244"/>
                    </a:lnTo>
                    <a:lnTo>
                      <a:pt x="142" y="251"/>
                    </a:lnTo>
                    <a:lnTo>
                      <a:pt x="134" y="256"/>
                    </a:lnTo>
                    <a:lnTo>
                      <a:pt x="134" y="260"/>
                    </a:lnTo>
                    <a:lnTo>
                      <a:pt x="134" y="264"/>
                    </a:lnTo>
                    <a:lnTo>
                      <a:pt x="149" y="261"/>
                    </a:lnTo>
                    <a:lnTo>
                      <a:pt x="160" y="254"/>
                    </a:lnTo>
                    <a:lnTo>
                      <a:pt x="167" y="246"/>
                    </a:lnTo>
                    <a:lnTo>
                      <a:pt x="173" y="236"/>
                    </a:lnTo>
                    <a:lnTo>
                      <a:pt x="177" y="225"/>
                    </a:lnTo>
                    <a:lnTo>
                      <a:pt x="182" y="217"/>
                    </a:lnTo>
                    <a:lnTo>
                      <a:pt x="189" y="209"/>
                    </a:lnTo>
                    <a:lnTo>
                      <a:pt x="200" y="206"/>
                    </a:lnTo>
                    <a:lnTo>
                      <a:pt x="231" y="203"/>
                    </a:lnTo>
                    <a:lnTo>
                      <a:pt x="278" y="197"/>
                    </a:lnTo>
                    <a:lnTo>
                      <a:pt x="333" y="186"/>
                    </a:lnTo>
                    <a:lnTo>
                      <a:pt x="393" y="178"/>
                    </a:lnTo>
                    <a:lnTo>
                      <a:pt x="448" y="171"/>
                    </a:lnTo>
                    <a:lnTo>
                      <a:pt x="496" y="173"/>
                    </a:lnTo>
                    <a:lnTo>
                      <a:pt x="530" y="184"/>
                    </a:lnTo>
                    <a:lnTo>
                      <a:pt x="545" y="209"/>
                    </a:lnTo>
                    <a:lnTo>
                      <a:pt x="512" y="221"/>
                    </a:lnTo>
                    <a:lnTo>
                      <a:pt x="478" y="229"/>
                    </a:lnTo>
                    <a:lnTo>
                      <a:pt x="444" y="233"/>
                    </a:lnTo>
                    <a:lnTo>
                      <a:pt x="409" y="236"/>
                    </a:lnTo>
                    <a:lnTo>
                      <a:pt x="373" y="238"/>
                    </a:lnTo>
                    <a:lnTo>
                      <a:pt x="340" y="242"/>
                    </a:lnTo>
                    <a:lnTo>
                      <a:pt x="307" y="250"/>
                    </a:lnTo>
                    <a:lnTo>
                      <a:pt x="279" y="264"/>
                    </a:lnTo>
                    <a:lnTo>
                      <a:pt x="279" y="272"/>
                    </a:lnTo>
                    <a:lnTo>
                      <a:pt x="279" y="280"/>
                    </a:lnTo>
                    <a:lnTo>
                      <a:pt x="297" y="287"/>
                    </a:lnTo>
                    <a:lnTo>
                      <a:pt x="329" y="297"/>
                    </a:lnTo>
                    <a:lnTo>
                      <a:pt x="368" y="305"/>
                    </a:lnTo>
                    <a:lnTo>
                      <a:pt x="409" y="318"/>
                    </a:lnTo>
                    <a:lnTo>
                      <a:pt x="447" y="329"/>
                    </a:lnTo>
                    <a:lnTo>
                      <a:pt x="481" y="343"/>
                    </a:lnTo>
                    <a:lnTo>
                      <a:pt x="505" y="355"/>
                    </a:lnTo>
                    <a:lnTo>
                      <a:pt x="514" y="372"/>
                    </a:lnTo>
                    <a:lnTo>
                      <a:pt x="473" y="384"/>
                    </a:lnTo>
                    <a:lnTo>
                      <a:pt x="429" y="384"/>
                    </a:lnTo>
                    <a:lnTo>
                      <a:pt x="382" y="374"/>
                    </a:lnTo>
                    <a:lnTo>
                      <a:pt x="336" y="363"/>
                    </a:lnTo>
                    <a:lnTo>
                      <a:pt x="290" y="352"/>
                    </a:lnTo>
                    <a:lnTo>
                      <a:pt x="250" y="350"/>
                    </a:lnTo>
                    <a:lnTo>
                      <a:pt x="216" y="356"/>
                    </a:lnTo>
                    <a:lnTo>
                      <a:pt x="192" y="383"/>
                    </a:lnTo>
                    <a:lnTo>
                      <a:pt x="200" y="397"/>
                    </a:lnTo>
                    <a:lnTo>
                      <a:pt x="214" y="415"/>
                    </a:lnTo>
                    <a:lnTo>
                      <a:pt x="230" y="434"/>
                    </a:lnTo>
                    <a:lnTo>
                      <a:pt x="246" y="455"/>
                    </a:lnTo>
                    <a:lnTo>
                      <a:pt x="260" y="475"/>
                    </a:lnTo>
                    <a:lnTo>
                      <a:pt x="272" y="496"/>
                    </a:lnTo>
                    <a:lnTo>
                      <a:pt x="281" y="515"/>
                    </a:lnTo>
                    <a:lnTo>
                      <a:pt x="285" y="535"/>
                    </a:lnTo>
                    <a:lnTo>
                      <a:pt x="275" y="538"/>
                    </a:lnTo>
                    <a:lnTo>
                      <a:pt x="270" y="540"/>
                    </a:lnTo>
                    <a:lnTo>
                      <a:pt x="264" y="542"/>
                    </a:lnTo>
                    <a:lnTo>
                      <a:pt x="259" y="54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16"/>
              <p:cNvSpPr/>
              <p:nvPr/>
            </p:nvSpPr>
            <p:spPr>
              <a:xfrm>
                <a:off x="6180840" y="4116960"/>
                <a:ext cx="120960" cy="64800"/>
              </a:xfrm>
              <a:custGeom>
                <a:avLst/>
                <a:gdLst>
                  <a:gd name="textAreaLeft" fmla="*/ 0 w 120960"/>
                  <a:gd name="textAreaRight" fmla="*/ 121320 w 120960"/>
                  <a:gd name="textAreaTop" fmla="*/ 0 h 64800"/>
                  <a:gd name="textAreaBottom" fmla="*/ 65160 h 64800"/>
                </a:gdLst>
                <a:ahLst/>
                <a:rect l="textAreaLeft" t="textAreaTop" r="textAreaRight" b="textAreaBottom"/>
                <a:pathLst>
                  <a:path w="129" h="85">
                    <a:moveTo>
                      <a:pt x="82" y="85"/>
                    </a:moveTo>
                    <a:lnTo>
                      <a:pt x="69" y="82"/>
                    </a:lnTo>
                    <a:lnTo>
                      <a:pt x="59" y="80"/>
                    </a:lnTo>
                    <a:lnTo>
                      <a:pt x="48" y="78"/>
                    </a:lnTo>
                    <a:lnTo>
                      <a:pt x="39" y="76"/>
                    </a:lnTo>
                    <a:lnTo>
                      <a:pt x="28" y="72"/>
                    </a:lnTo>
                    <a:lnTo>
                      <a:pt x="18" y="69"/>
                    </a:lnTo>
                    <a:lnTo>
                      <a:pt x="8" y="67"/>
                    </a:lnTo>
                    <a:lnTo>
                      <a:pt x="0" y="64"/>
                    </a:lnTo>
                    <a:lnTo>
                      <a:pt x="1" y="49"/>
                    </a:lnTo>
                    <a:lnTo>
                      <a:pt x="4" y="39"/>
                    </a:lnTo>
                    <a:lnTo>
                      <a:pt x="5" y="31"/>
                    </a:lnTo>
                    <a:lnTo>
                      <a:pt x="7" y="26"/>
                    </a:lnTo>
                    <a:lnTo>
                      <a:pt x="8" y="17"/>
                    </a:lnTo>
                    <a:lnTo>
                      <a:pt x="12" y="9"/>
                    </a:lnTo>
                    <a:lnTo>
                      <a:pt x="22" y="2"/>
                    </a:lnTo>
                    <a:lnTo>
                      <a:pt x="36" y="0"/>
                    </a:lnTo>
                    <a:lnTo>
                      <a:pt x="51" y="0"/>
                    </a:lnTo>
                    <a:lnTo>
                      <a:pt x="68" y="3"/>
                    </a:lnTo>
                    <a:lnTo>
                      <a:pt x="82" y="4"/>
                    </a:lnTo>
                    <a:lnTo>
                      <a:pt x="94" y="7"/>
                    </a:lnTo>
                    <a:lnTo>
                      <a:pt x="104" y="7"/>
                    </a:lnTo>
                    <a:lnTo>
                      <a:pt x="111" y="6"/>
                    </a:lnTo>
                    <a:lnTo>
                      <a:pt x="115" y="6"/>
                    </a:lnTo>
                    <a:lnTo>
                      <a:pt x="116" y="10"/>
                    </a:lnTo>
                    <a:lnTo>
                      <a:pt x="116" y="11"/>
                    </a:lnTo>
                    <a:lnTo>
                      <a:pt x="118" y="14"/>
                    </a:lnTo>
                    <a:lnTo>
                      <a:pt x="120" y="17"/>
                    </a:lnTo>
                    <a:lnTo>
                      <a:pt x="129" y="21"/>
                    </a:lnTo>
                    <a:lnTo>
                      <a:pt x="127" y="28"/>
                    </a:lnTo>
                    <a:lnTo>
                      <a:pt x="126" y="36"/>
                    </a:lnTo>
                    <a:lnTo>
                      <a:pt x="123" y="44"/>
                    </a:lnTo>
                    <a:lnTo>
                      <a:pt x="120" y="53"/>
                    </a:lnTo>
                    <a:lnTo>
                      <a:pt x="116" y="60"/>
                    </a:lnTo>
                    <a:lnTo>
                      <a:pt x="113" y="68"/>
                    </a:lnTo>
                    <a:lnTo>
                      <a:pt x="111" y="76"/>
                    </a:lnTo>
                    <a:lnTo>
                      <a:pt x="108" y="85"/>
                    </a:lnTo>
                    <a:lnTo>
                      <a:pt x="94" y="85"/>
                    </a:lnTo>
                    <a:lnTo>
                      <a:pt x="82" y="85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17"/>
              <p:cNvSpPr/>
              <p:nvPr/>
            </p:nvSpPr>
            <p:spPr>
              <a:xfrm>
                <a:off x="5844600" y="4096080"/>
                <a:ext cx="177840" cy="71640"/>
              </a:xfrm>
              <a:custGeom>
                <a:avLst/>
                <a:gdLst>
                  <a:gd name="textAreaLeft" fmla="*/ 0 w 177840"/>
                  <a:gd name="textAreaRight" fmla="*/ 178200 w 17784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189" h="93">
                    <a:moveTo>
                      <a:pt x="0" y="93"/>
                    </a:moveTo>
                    <a:lnTo>
                      <a:pt x="3" y="80"/>
                    </a:lnTo>
                    <a:lnTo>
                      <a:pt x="7" y="70"/>
                    </a:lnTo>
                    <a:lnTo>
                      <a:pt x="12" y="62"/>
                    </a:lnTo>
                    <a:lnTo>
                      <a:pt x="19" y="55"/>
                    </a:lnTo>
                    <a:lnTo>
                      <a:pt x="25" y="47"/>
                    </a:lnTo>
                    <a:lnTo>
                      <a:pt x="32" y="39"/>
                    </a:lnTo>
                    <a:lnTo>
                      <a:pt x="36" y="29"/>
                    </a:lnTo>
                    <a:lnTo>
                      <a:pt x="41" y="21"/>
                    </a:lnTo>
                    <a:lnTo>
                      <a:pt x="61" y="14"/>
                    </a:lnTo>
                    <a:lnTo>
                      <a:pt x="84" y="8"/>
                    </a:lnTo>
                    <a:lnTo>
                      <a:pt x="109" y="1"/>
                    </a:lnTo>
                    <a:lnTo>
                      <a:pt x="134" y="0"/>
                    </a:lnTo>
                    <a:lnTo>
                      <a:pt x="155" y="0"/>
                    </a:lnTo>
                    <a:lnTo>
                      <a:pt x="173" y="10"/>
                    </a:lnTo>
                    <a:lnTo>
                      <a:pt x="184" y="26"/>
                    </a:lnTo>
                    <a:lnTo>
                      <a:pt x="189" y="55"/>
                    </a:lnTo>
                    <a:lnTo>
                      <a:pt x="177" y="64"/>
                    </a:lnTo>
                    <a:lnTo>
                      <a:pt x="156" y="72"/>
                    </a:lnTo>
                    <a:lnTo>
                      <a:pt x="128" y="79"/>
                    </a:lnTo>
                    <a:lnTo>
                      <a:pt x="99" y="84"/>
                    </a:lnTo>
                    <a:lnTo>
                      <a:pt x="68" y="87"/>
                    </a:lnTo>
                    <a:lnTo>
                      <a:pt x="39" y="90"/>
                    </a:lnTo>
                    <a:lnTo>
                      <a:pt x="15" y="9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18"/>
              <p:cNvSpPr/>
              <p:nvPr/>
            </p:nvSpPr>
            <p:spPr>
              <a:xfrm>
                <a:off x="3813840" y="3577680"/>
                <a:ext cx="658080" cy="499680"/>
              </a:xfrm>
              <a:custGeom>
                <a:avLst/>
                <a:gdLst>
                  <a:gd name="textAreaLeft" fmla="*/ 0 w 658080"/>
                  <a:gd name="textAreaRight" fmla="*/ 658440 w 65808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98" h="648">
                    <a:moveTo>
                      <a:pt x="159" y="648"/>
                    </a:moveTo>
                    <a:lnTo>
                      <a:pt x="168" y="612"/>
                    </a:lnTo>
                    <a:lnTo>
                      <a:pt x="196" y="579"/>
                    </a:lnTo>
                    <a:lnTo>
                      <a:pt x="235" y="545"/>
                    </a:lnTo>
                    <a:lnTo>
                      <a:pt x="279" y="513"/>
                    </a:lnTo>
                    <a:lnTo>
                      <a:pt x="319" y="480"/>
                    </a:lnTo>
                    <a:lnTo>
                      <a:pt x="351" y="451"/>
                    </a:lnTo>
                    <a:lnTo>
                      <a:pt x="366" y="422"/>
                    </a:lnTo>
                    <a:lnTo>
                      <a:pt x="362" y="398"/>
                    </a:lnTo>
                    <a:lnTo>
                      <a:pt x="316" y="394"/>
                    </a:lnTo>
                    <a:lnTo>
                      <a:pt x="271" y="394"/>
                    </a:lnTo>
                    <a:lnTo>
                      <a:pt x="225" y="397"/>
                    </a:lnTo>
                    <a:lnTo>
                      <a:pt x="181" y="400"/>
                    </a:lnTo>
                    <a:lnTo>
                      <a:pt x="135" y="401"/>
                    </a:lnTo>
                    <a:lnTo>
                      <a:pt x="89" y="401"/>
                    </a:lnTo>
                    <a:lnTo>
                      <a:pt x="44" y="395"/>
                    </a:lnTo>
                    <a:lnTo>
                      <a:pt x="0" y="387"/>
                    </a:lnTo>
                    <a:lnTo>
                      <a:pt x="8" y="375"/>
                    </a:lnTo>
                    <a:lnTo>
                      <a:pt x="35" y="362"/>
                    </a:lnTo>
                    <a:lnTo>
                      <a:pt x="74" y="350"/>
                    </a:lnTo>
                    <a:lnTo>
                      <a:pt x="123" y="340"/>
                    </a:lnTo>
                    <a:lnTo>
                      <a:pt x="172" y="329"/>
                    </a:lnTo>
                    <a:lnTo>
                      <a:pt x="221" y="322"/>
                    </a:lnTo>
                    <a:lnTo>
                      <a:pt x="262" y="317"/>
                    </a:lnTo>
                    <a:lnTo>
                      <a:pt x="293" y="317"/>
                    </a:lnTo>
                    <a:lnTo>
                      <a:pt x="294" y="318"/>
                    </a:lnTo>
                    <a:lnTo>
                      <a:pt x="298" y="321"/>
                    </a:lnTo>
                    <a:lnTo>
                      <a:pt x="307" y="317"/>
                    </a:lnTo>
                    <a:lnTo>
                      <a:pt x="315" y="317"/>
                    </a:lnTo>
                    <a:lnTo>
                      <a:pt x="318" y="315"/>
                    </a:lnTo>
                    <a:lnTo>
                      <a:pt x="323" y="315"/>
                    </a:lnTo>
                    <a:lnTo>
                      <a:pt x="330" y="314"/>
                    </a:lnTo>
                    <a:lnTo>
                      <a:pt x="340" y="314"/>
                    </a:lnTo>
                    <a:lnTo>
                      <a:pt x="340" y="310"/>
                    </a:lnTo>
                    <a:lnTo>
                      <a:pt x="340" y="306"/>
                    </a:lnTo>
                    <a:lnTo>
                      <a:pt x="318" y="296"/>
                    </a:lnTo>
                    <a:lnTo>
                      <a:pt x="295" y="282"/>
                    </a:lnTo>
                    <a:lnTo>
                      <a:pt x="272" y="266"/>
                    </a:lnTo>
                    <a:lnTo>
                      <a:pt x="250" y="248"/>
                    </a:lnTo>
                    <a:lnTo>
                      <a:pt x="228" y="228"/>
                    </a:lnTo>
                    <a:lnTo>
                      <a:pt x="207" y="209"/>
                    </a:lnTo>
                    <a:lnTo>
                      <a:pt x="189" y="192"/>
                    </a:lnTo>
                    <a:lnTo>
                      <a:pt x="174" y="180"/>
                    </a:lnTo>
                    <a:lnTo>
                      <a:pt x="164" y="173"/>
                    </a:lnTo>
                    <a:lnTo>
                      <a:pt x="149" y="162"/>
                    </a:lnTo>
                    <a:lnTo>
                      <a:pt x="131" y="148"/>
                    </a:lnTo>
                    <a:lnTo>
                      <a:pt x="114" y="134"/>
                    </a:lnTo>
                    <a:lnTo>
                      <a:pt x="102" y="120"/>
                    </a:lnTo>
                    <a:lnTo>
                      <a:pt x="100" y="109"/>
                    </a:lnTo>
                    <a:lnTo>
                      <a:pt x="112" y="102"/>
                    </a:lnTo>
                    <a:lnTo>
                      <a:pt x="139" y="102"/>
                    </a:lnTo>
                    <a:lnTo>
                      <a:pt x="177" y="123"/>
                    </a:lnTo>
                    <a:lnTo>
                      <a:pt x="212" y="144"/>
                    </a:lnTo>
                    <a:lnTo>
                      <a:pt x="246" y="162"/>
                    </a:lnTo>
                    <a:lnTo>
                      <a:pt x="280" y="177"/>
                    </a:lnTo>
                    <a:lnTo>
                      <a:pt x="313" y="187"/>
                    </a:lnTo>
                    <a:lnTo>
                      <a:pt x="351" y="194"/>
                    </a:lnTo>
                    <a:lnTo>
                      <a:pt x="391" y="194"/>
                    </a:lnTo>
                    <a:lnTo>
                      <a:pt x="438" y="187"/>
                    </a:lnTo>
                    <a:lnTo>
                      <a:pt x="442" y="189"/>
                    </a:lnTo>
                    <a:lnTo>
                      <a:pt x="448" y="192"/>
                    </a:lnTo>
                    <a:lnTo>
                      <a:pt x="434" y="207"/>
                    </a:lnTo>
                    <a:lnTo>
                      <a:pt x="423" y="224"/>
                    </a:lnTo>
                    <a:lnTo>
                      <a:pt x="413" y="241"/>
                    </a:lnTo>
                    <a:lnTo>
                      <a:pt x="409" y="257"/>
                    </a:lnTo>
                    <a:lnTo>
                      <a:pt x="406" y="274"/>
                    </a:lnTo>
                    <a:lnTo>
                      <a:pt x="409" y="292"/>
                    </a:lnTo>
                    <a:lnTo>
                      <a:pt x="414" y="311"/>
                    </a:lnTo>
                    <a:lnTo>
                      <a:pt x="427" y="332"/>
                    </a:lnTo>
                    <a:lnTo>
                      <a:pt x="434" y="333"/>
                    </a:lnTo>
                    <a:lnTo>
                      <a:pt x="441" y="335"/>
                    </a:lnTo>
                    <a:lnTo>
                      <a:pt x="435" y="300"/>
                    </a:lnTo>
                    <a:lnTo>
                      <a:pt x="434" y="274"/>
                    </a:lnTo>
                    <a:lnTo>
                      <a:pt x="434" y="252"/>
                    </a:lnTo>
                    <a:lnTo>
                      <a:pt x="439" y="234"/>
                    </a:lnTo>
                    <a:lnTo>
                      <a:pt x="449" y="216"/>
                    </a:lnTo>
                    <a:lnTo>
                      <a:pt x="466" y="199"/>
                    </a:lnTo>
                    <a:lnTo>
                      <a:pt x="489" y="180"/>
                    </a:lnTo>
                    <a:lnTo>
                      <a:pt x="522" y="158"/>
                    </a:lnTo>
                    <a:lnTo>
                      <a:pt x="535" y="133"/>
                    </a:lnTo>
                    <a:lnTo>
                      <a:pt x="544" y="109"/>
                    </a:lnTo>
                    <a:lnTo>
                      <a:pt x="553" y="86"/>
                    </a:lnTo>
                    <a:lnTo>
                      <a:pt x="564" y="66"/>
                    </a:lnTo>
                    <a:lnTo>
                      <a:pt x="575" y="46"/>
                    </a:lnTo>
                    <a:lnTo>
                      <a:pt x="593" y="28"/>
                    </a:lnTo>
                    <a:lnTo>
                      <a:pt x="616" y="11"/>
                    </a:lnTo>
                    <a:lnTo>
                      <a:pt x="651" y="0"/>
                    </a:lnTo>
                    <a:lnTo>
                      <a:pt x="658" y="0"/>
                    </a:lnTo>
                    <a:lnTo>
                      <a:pt x="667" y="1"/>
                    </a:lnTo>
                    <a:lnTo>
                      <a:pt x="676" y="3"/>
                    </a:lnTo>
                    <a:lnTo>
                      <a:pt x="685" y="7"/>
                    </a:lnTo>
                    <a:lnTo>
                      <a:pt x="692" y="11"/>
                    </a:lnTo>
                    <a:lnTo>
                      <a:pt x="696" y="21"/>
                    </a:lnTo>
                    <a:lnTo>
                      <a:pt x="698" y="30"/>
                    </a:lnTo>
                    <a:lnTo>
                      <a:pt x="696" y="44"/>
                    </a:lnTo>
                    <a:lnTo>
                      <a:pt x="665" y="73"/>
                    </a:lnTo>
                    <a:lnTo>
                      <a:pt x="641" y="101"/>
                    </a:lnTo>
                    <a:lnTo>
                      <a:pt x="622" y="126"/>
                    </a:lnTo>
                    <a:lnTo>
                      <a:pt x="609" y="152"/>
                    </a:lnTo>
                    <a:lnTo>
                      <a:pt x="598" y="180"/>
                    </a:lnTo>
                    <a:lnTo>
                      <a:pt x="593" y="212"/>
                    </a:lnTo>
                    <a:lnTo>
                      <a:pt x="590" y="249"/>
                    </a:lnTo>
                    <a:lnTo>
                      <a:pt x="590" y="295"/>
                    </a:lnTo>
                    <a:lnTo>
                      <a:pt x="582" y="306"/>
                    </a:lnTo>
                    <a:lnTo>
                      <a:pt x="573" y="318"/>
                    </a:lnTo>
                    <a:lnTo>
                      <a:pt x="565" y="329"/>
                    </a:lnTo>
                    <a:lnTo>
                      <a:pt x="558" y="342"/>
                    </a:lnTo>
                    <a:lnTo>
                      <a:pt x="550" y="353"/>
                    </a:lnTo>
                    <a:lnTo>
                      <a:pt x="546" y="365"/>
                    </a:lnTo>
                    <a:lnTo>
                      <a:pt x="543" y="379"/>
                    </a:lnTo>
                    <a:lnTo>
                      <a:pt x="543" y="395"/>
                    </a:lnTo>
                    <a:lnTo>
                      <a:pt x="496" y="418"/>
                    </a:lnTo>
                    <a:lnTo>
                      <a:pt x="445" y="452"/>
                    </a:lnTo>
                    <a:lnTo>
                      <a:pt x="391" y="494"/>
                    </a:lnTo>
                    <a:lnTo>
                      <a:pt x="338" y="539"/>
                    </a:lnTo>
                    <a:lnTo>
                      <a:pt x="286" y="581"/>
                    </a:lnTo>
                    <a:lnTo>
                      <a:pt x="237" y="617"/>
                    </a:lnTo>
                    <a:lnTo>
                      <a:pt x="193" y="640"/>
                    </a:lnTo>
                    <a:lnTo>
                      <a:pt x="159" y="64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19"/>
              <p:cNvSpPr/>
              <p:nvPr/>
            </p:nvSpPr>
            <p:spPr>
              <a:xfrm>
                <a:off x="7048080" y="3994200"/>
                <a:ext cx="112680" cy="55440"/>
              </a:xfrm>
              <a:custGeom>
                <a:avLst/>
                <a:gdLst>
                  <a:gd name="textAreaLeft" fmla="*/ 0 w 112680"/>
                  <a:gd name="textAreaRight" fmla="*/ 113040 w 112680"/>
                  <a:gd name="textAreaTop" fmla="*/ 0 h 55440"/>
                  <a:gd name="textAreaBottom" fmla="*/ 55800 h 55440"/>
                </a:gdLst>
                <a:ahLst/>
                <a:rect l="textAreaLeft" t="textAreaTop" r="textAreaRight" b="textAreaBottom"/>
                <a:pathLst>
                  <a:path w="121" h="73">
                    <a:moveTo>
                      <a:pt x="23" y="73"/>
                    </a:moveTo>
                    <a:lnTo>
                      <a:pt x="11" y="61"/>
                    </a:lnTo>
                    <a:lnTo>
                      <a:pt x="0" y="52"/>
                    </a:lnTo>
                    <a:lnTo>
                      <a:pt x="0" y="43"/>
                    </a:lnTo>
                    <a:lnTo>
                      <a:pt x="0" y="34"/>
                    </a:lnTo>
                    <a:lnTo>
                      <a:pt x="0" y="25"/>
                    </a:lnTo>
                    <a:lnTo>
                      <a:pt x="0" y="15"/>
                    </a:lnTo>
                    <a:lnTo>
                      <a:pt x="18" y="19"/>
                    </a:lnTo>
                    <a:lnTo>
                      <a:pt x="33" y="21"/>
                    </a:lnTo>
                    <a:lnTo>
                      <a:pt x="44" y="19"/>
                    </a:lnTo>
                    <a:lnTo>
                      <a:pt x="55" y="16"/>
                    </a:lnTo>
                    <a:lnTo>
                      <a:pt x="63" y="12"/>
                    </a:lnTo>
                    <a:lnTo>
                      <a:pt x="74" y="8"/>
                    </a:lnTo>
                    <a:lnTo>
                      <a:pt x="88" y="3"/>
                    </a:lnTo>
                    <a:lnTo>
                      <a:pt x="107" y="0"/>
                    </a:lnTo>
                    <a:lnTo>
                      <a:pt x="118" y="18"/>
                    </a:lnTo>
                    <a:lnTo>
                      <a:pt x="121" y="34"/>
                    </a:lnTo>
                    <a:lnTo>
                      <a:pt x="114" y="45"/>
                    </a:lnTo>
                    <a:lnTo>
                      <a:pt x="103" y="55"/>
                    </a:lnTo>
                    <a:lnTo>
                      <a:pt x="84" y="61"/>
                    </a:lnTo>
                    <a:lnTo>
                      <a:pt x="65" y="66"/>
                    </a:lnTo>
                    <a:lnTo>
                      <a:pt x="42" y="69"/>
                    </a:lnTo>
                    <a:lnTo>
                      <a:pt x="23" y="73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20"/>
              <p:cNvSpPr/>
              <p:nvPr/>
            </p:nvSpPr>
            <p:spPr>
              <a:xfrm>
                <a:off x="6886800" y="3829680"/>
                <a:ext cx="226080" cy="166680"/>
              </a:xfrm>
              <a:custGeom>
                <a:avLst/>
                <a:gdLst>
                  <a:gd name="textAreaLeft" fmla="*/ 0 w 226080"/>
                  <a:gd name="textAreaRight" fmla="*/ 226440 w 226080"/>
                  <a:gd name="textAreaTop" fmla="*/ 0 h 166680"/>
                  <a:gd name="textAreaBottom" fmla="*/ 167040 h 166680"/>
                </a:gdLst>
                <a:ahLst/>
                <a:rect l="textAreaLeft" t="textAreaTop" r="textAreaRight" b="textAreaBottom"/>
                <a:pathLst>
                  <a:path w="241" h="217">
                    <a:moveTo>
                      <a:pt x="206" y="217"/>
                    </a:moveTo>
                    <a:lnTo>
                      <a:pt x="173" y="204"/>
                    </a:lnTo>
                    <a:lnTo>
                      <a:pt x="145" y="186"/>
                    </a:lnTo>
                    <a:lnTo>
                      <a:pt x="119" y="165"/>
                    </a:lnTo>
                    <a:lnTo>
                      <a:pt x="98" y="141"/>
                    </a:lnTo>
                    <a:lnTo>
                      <a:pt x="75" y="116"/>
                    </a:lnTo>
                    <a:lnTo>
                      <a:pt x="53" y="93"/>
                    </a:lnTo>
                    <a:lnTo>
                      <a:pt x="26" y="71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22" y="27"/>
                    </a:lnTo>
                    <a:lnTo>
                      <a:pt x="39" y="13"/>
                    </a:lnTo>
                    <a:lnTo>
                      <a:pt x="51" y="3"/>
                    </a:lnTo>
                    <a:lnTo>
                      <a:pt x="62" y="0"/>
                    </a:lnTo>
                    <a:lnTo>
                      <a:pt x="72" y="3"/>
                    </a:lnTo>
                    <a:lnTo>
                      <a:pt x="86" y="13"/>
                    </a:lnTo>
                    <a:lnTo>
                      <a:pt x="104" y="29"/>
                    </a:lnTo>
                    <a:lnTo>
                      <a:pt x="130" y="56"/>
                    </a:lnTo>
                    <a:lnTo>
                      <a:pt x="134" y="61"/>
                    </a:lnTo>
                    <a:lnTo>
                      <a:pt x="148" y="76"/>
                    </a:lnTo>
                    <a:lnTo>
                      <a:pt x="165" y="97"/>
                    </a:lnTo>
                    <a:lnTo>
                      <a:pt x="185" y="123"/>
                    </a:lnTo>
                    <a:lnTo>
                      <a:pt x="205" y="148"/>
                    </a:lnTo>
                    <a:lnTo>
                      <a:pt x="223" y="173"/>
                    </a:lnTo>
                    <a:lnTo>
                      <a:pt x="235" y="192"/>
                    </a:lnTo>
                    <a:lnTo>
                      <a:pt x="241" y="206"/>
                    </a:lnTo>
                    <a:lnTo>
                      <a:pt x="230" y="210"/>
                    </a:lnTo>
                    <a:lnTo>
                      <a:pt x="221" y="215"/>
                    </a:lnTo>
                    <a:lnTo>
                      <a:pt x="213" y="216"/>
                    </a:lnTo>
                    <a:lnTo>
                      <a:pt x="206" y="217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21"/>
              <p:cNvSpPr/>
              <p:nvPr/>
            </p:nvSpPr>
            <p:spPr>
              <a:xfrm>
                <a:off x="4418280" y="3190680"/>
                <a:ext cx="1039320" cy="715320"/>
              </a:xfrm>
              <a:custGeom>
                <a:avLst/>
                <a:gdLst>
                  <a:gd name="textAreaLeft" fmla="*/ 0 w 1039320"/>
                  <a:gd name="textAreaRight" fmla="*/ 1039680 w 1039320"/>
                  <a:gd name="textAreaTop" fmla="*/ 0 h 715320"/>
                  <a:gd name="textAreaBottom" fmla="*/ 715680 h 715320"/>
                </a:gdLst>
                <a:ahLst/>
                <a:rect l="textAreaLeft" t="textAreaTop" r="textAreaRight" b="textAreaBottom"/>
                <a:pathLst>
                  <a:path w="1104" h="927">
                    <a:moveTo>
                      <a:pt x="29" y="927"/>
                    </a:moveTo>
                    <a:lnTo>
                      <a:pt x="16" y="918"/>
                    </a:lnTo>
                    <a:lnTo>
                      <a:pt x="8" y="908"/>
                    </a:lnTo>
                    <a:lnTo>
                      <a:pt x="2" y="894"/>
                    </a:lnTo>
                    <a:lnTo>
                      <a:pt x="1" y="882"/>
                    </a:lnTo>
                    <a:lnTo>
                      <a:pt x="0" y="867"/>
                    </a:lnTo>
                    <a:lnTo>
                      <a:pt x="1" y="853"/>
                    </a:lnTo>
                    <a:lnTo>
                      <a:pt x="2" y="839"/>
                    </a:lnTo>
                    <a:lnTo>
                      <a:pt x="5" y="827"/>
                    </a:lnTo>
                    <a:lnTo>
                      <a:pt x="80" y="803"/>
                    </a:lnTo>
                    <a:lnTo>
                      <a:pt x="149" y="778"/>
                    </a:lnTo>
                    <a:lnTo>
                      <a:pt x="213" y="749"/>
                    </a:lnTo>
                    <a:lnTo>
                      <a:pt x="273" y="716"/>
                    </a:lnTo>
                    <a:lnTo>
                      <a:pt x="330" y="679"/>
                    </a:lnTo>
                    <a:lnTo>
                      <a:pt x="388" y="639"/>
                    </a:lnTo>
                    <a:lnTo>
                      <a:pt x="445" y="593"/>
                    </a:lnTo>
                    <a:lnTo>
                      <a:pt x="504" y="543"/>
                    </a:lnTo>
                    <a:lnTo>
                      <a:pt x="507" y="539"/>
                    </a:lnTo>
                    <a:lnTo>
                      <a:pt x="514" y="532"/>
                    </a:lnTo>
                    <a:lnTo>
                      <a:pt x="525" y="522"/>
                    </a:lnTo>
                    <a:lnTo>
                      <a:pt x="540" y="510"/>
                    </a:lnTo>
                    <a:lnTo>
                      <a:pt x="557" y="493"/>
                    </a:lnTo>
                    <a:lnTo>
                      <a:pt x="579" y="474"/>
                    </a:lnTo>
                    <a:lnTo>
                      <a:pt x="604" y="452"/>
                    </a:lnTo>
                    <a:lnTo>
                      <a:pt x="633" y="427"/>
                    </a:lnTo>
                    <a:lnTo>
                      <a:pt x="667" y="387"/>
                    </a:lnTo>
                    <a:lnTo>
                      <a:pt x="703" y="348"/>
                    </a:lnTo>
                    <a:lnTo>
                      <a:pt x="738" y="310"/>
                    </a:lnTo>
                    <a:lnTo>
                      <a:pt x="774" y="271"/>
                    </a:lnTo>
                    <a:lnTo>
                      <a:pt x="807" y="231"/>
                    </a:lnTo>
                    <a:lnTo>
                      <a:pt x="842" y="191"/>
                    </a:lnTo>
                    <a:lnTo>
                      <a:pt x="875" y="151"/>
                    </a:lnTo>
                    <a:lnTo>
                      <a:pt x="909" y="110"/>
                    </a:lnTo>
                    <a:lnTo>
                      <a:pt x="932" y="73"/>
                    </a:lnTo>
                    <a:lnTo>
                      <a:pt x="951" y="45"/>
                    </a:lnTo>
                    <a:lnTo>
                      <a:pt x="969" y="25"/>
                    </a:lnTo>
                    <a:lnTo>
                      <a:pt x="987" y="11"/>
                    </a:lnTo>
                    <a:lnTo>
                      <a:pt x="1006" y="1"/>
                    </a:lnTo>
                    <a:lnTo>
                      <a:pt x="1031" y="0"/>
                    </a:lnTo>
                    <a:lnTo>
                      <a:pt x="1063" y="4"/>
                    </a:lnTo>
                    <a:lnTo>
                      <a:pt x="1104" y="15"/>
                    </a:lnTo>
                    <a:lnTo>
                      <a:pt x="1100" y="22"/>
                    </a:lnTo>
                    <a:lnTo>
                      <a:pt x="1099" y="30"/>
                    </a:lnTo>
                    <a:lnTo>
                      <a:pt x="1095" y="37"/>
                    </a:lnTo>
                    <a:lnTo>
                      <a:pt x="1093" y="45"/>
                    </a:lnTo>
                    <a:lnTo>
                      <a:pt x="1091" y="52"/>
                    </a:lnTo>
                    <a:lnTo>
                      <a:pt x="1088" y="59"/>
                    </a:lnTo>
                    <a:lnTo>
                      <a:pt x="1085" y="68"/>
                    </a:lnTo>
                    <a:lnTo>
                      <a:pt x="1084" y="76"/>
                    </a:lnTo>
                    <a:lnTo>
                      <a:pt x="1077" y="117"/>
                    </a:lnTo>
                    <a:lnTo>
                      <a:pt x="1063" y="151"/>
                    </a:lnTo>
                    <a:lnTo>
                      <a:pt x="1041" y="177"/>
                    </a:lnTo>
                    <a:lnTo>
                      <a:pt x="1017" y="200"/>
                    </a:lnTo>
                    <a:lnTo>
                      <a:pt x="991" y="221"/>
                    </a:lnTo>
                    <a:lnTo>
                      <a:pt x="970" y="245"/>
                    </a:lnTo>
                    <a:lnTo>
                      <a:pt x="952" y="271"/>
                    </a:lnTo>
                    <a:lnTo>
                      <a:pt x="944" y="305"/>
                    </a:lnTo>
                    <a:lnTo>
                      <a:pt x="959" y="311"/>
                    </a:lnTo>
                    <a:lnTo>
                      <a:pt x="979" y="318"/>
                    </a:lnTo>
                    <a:lnTo>
                      <a:pt x="999" y="325"/>
                    </a:lnTo>
                    <a:lnTo>
                      <a:pt x="1022" y="333"/>
                    </a:lnTo>
                    <a:lnTo>
                      <a:pt x="1041" y="341"/>
                    </a:lnTo>
                    <a:lnTo>
                      <a:pt x="1060" y="351"/>
                    </a:lnTo>
                    <a:lnTo>
                      <a:pt x="1074" y="363"/>
                    </a:lnTo>
                    <a:lnTo>
                      <a:pt x="1084" y="379"/>
                    </a:lnTo>
                    <a:lnTo>
                      <a:pt x="1071" y="387"/>
                    </a:lnTo>
                    <a:lnTo>
                      <a:pt x="1062" y="395"/>
                    </a:lnTo>
                    <a:lnTo>
                      <a:pt x="1052" y="404"/>
                    </a:lnTo>
                    <a:lnTo>
                      <a:pt x="1044" y="412"/>
                    </a:lnTo>
                    <a:lnTo>
                      <a:pt x="1035" y="420"/>
                    </a:lnTo>
                    <a:lnTo>
                      <a:pt x="1027" y="430"/>
                    </a:lnTo>
                    <a:lnTo>
                      <a:pt x="1020" y="439"/>
                    </a:lnTo>
                    <a:lnTo>
                      <a:pt x="1013" y="453"/>
                    </a:lnTo>
                    <a:lnTo>
                      <a:pt x="915" y="524"/>
                    </a:lnTo>
                    <a:lnTo>
                      <a:pt x="804" y="601"/>
                    </a:lnTo>
                    <a:lnTo>
                      <a:pt x="681" y="679"/>
                    </a:lnTo>
                    <a:lnTo>
                      <a:pt x="551" y="755"/>
                    </a:lnTo>
                    <a:lnTo>
                      <a:pt x="416" y="821"/>
                    </a:lnTo>
                    <a:lnTo>
                      <a:pt x="282" y="875"/>
                    </a:lnTo>
                    <a:lnTo>
                      <a:pt x="150" y="911"/>
                    </a:lnTo>
                    <a:lnTo>
                      <a:pt x="29" y="927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22"/>
              <p:cNvSpPr/>
              <p:nvPr/>
            </p:nvSpPr>
            <p:spPr>
              <a:xfrm>
                <a:off x="4342320" y="3818160"/>
                <a:ext cx="70200" cy="83160"/>
              </a:xfrm>
              <a:custGeom>
                <a:avLst/>
                <a:gdLst>
                  <a:gd name="textAreaLeft" fmla="*/ 0 w 70200"/>
                  <a:gd name="textAreaRight" fmla="*/ 70560 w 70200"/>
                  <a:gd name="textAreaTop" fmla="*/ 0 h 83160"/>
                  <a:gd name="textAreaBottom" fmla="*/ 83520 h 83160"/>
                </a:gdLst>
                <a:ahLst/>
                <a:rect l="textAreaLeft" t="textAreaTop" r="textAreaRight" b="textAreaBottom"/>
                <a:pathLst>
                  <a:path w="75" h="108">
                    <a:moveTo>
                      <a:pt x="66" y="108"/>
                    </a:moveTo>
                    <a:lnTo>
                      <a:pt x="33" y="101"/>
                    </a:lnTo>
                    <a:lnTo>
                      <a:pt x="12" y="94"/>
                    </a:lnTo>
                    <a:lnTo>
                      <a:pt x="1" y="86"/>
                    </a:lnTo>
                    <a:lnTo>
                      <a:pt x="0" y="76"/>
                    </a:lnTo>
                    <a:lnTo>
                      <a:pt x="3" y="61"/>
                    </a:lnTo>
                    <a:lnTo>
                      <a:pt x="11" y="44"/>
                    </a:lnTo>
                    <a:lnTo>
                      <a:pt x="22" y="24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46" y="0"/>
                    </a:lnTo>
                    <a:lnTo>
                      <a:pt x="50" y="8"/>
                    </a:lnTo>
                    <a:lnTo>
                      <a:pt x="54" y="18"/>
                    </a:lnTo>
                    <a:lnTo>
                      <a:pt x="61" y="18"/>
                    </a:lnTo>
                    <a:lnTo>
                      <a:pt x="69" y="18"/>
                    </a:lnTo>
                    <a:lnTo>
                      <a:pt x="68" y="24"/>
                    </a:lnTo>
                    <a:lnTo>
                      <a:pt x="68" y="31"/>
                    </a:lnTo>
                    <a:lnTo>
                      <a:pt x="68" y="37"/>
                    </a:lnTo>
                    <a:lnTo>
                      <a:pt x="69" y="47"/>
                    </a:lnTo>
                    <a:lnTo>
                      <a:pt x="69" y="57"/>
                    </a:lnTo>
                    <a:lnTo>
                      <a:pt x="72" y="71"/>
                    </a:lnTo>
                    <a:lnTo>
                      <a:pt x="72" y="87"/>
                    </a:lnTo>
                    <a:lnTo>
                      <a:pt x="75" y="108"/>
                    </a:lnTo>
                    <a:lnTo>
                      <a:pt x="71" y="108"/>
                    </a:lnTo>
                    <a:lnTo>
                      <a:pt x="66" y="108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23"/>
              <p:cNvSpPr/>
              <p:nvPr/>
            </p:nvSpPr>
            <p:spPr>
              <a:xfrm>
                <a:off x="5330520" y="3310920"/>
                <a:ext cx="898560" cy="532800"/>
              </a:xfrm>
              <a:custGeom>
                <a:avLst/>
                <a:gdLst>
                  <a:gd name="textAreaLeft" fmla="*/ 0 w 898560"/>
                  <a:gd name="textAreaRight" fmla="*/ 898920 w 898560"/>
                  <a:gd name="textAreaTop" fmla="*/ 0 h 532800"/>
                  <a:gd name="textAreaBottom" fmla="*/ 532800 h 532800"/>
                </a:gdLst>
                <a:ahLst/>
                <a:rect l="textAreaLeft" t="textAreaTop" r="textAreaRight" b="textAreaBottom"/>
                <a:pathLst>
                  <a:path w="955" h="689">
                    <a:moveTo>
                      <a:pt x="941" y="689"/>
                    </a:moveTo>
                    <a:lnTo>
                      <a:pt x="929" y="678"/>
                    </a:lnTo>
                    <a:lnTo>
                      <a:pt x="918" y="672"/>
                    </a:lnTo>
                    <a:lnTo>
                      <a:pt x="908" y="667"/>
                    </a:lnTo>
                    <a:lnTo>
                      <a:pt x="898" y="665"/>
                    </a:lnTo>
                    <a:lnTo>
                      <a:pt x="806" y="646"/>
                    </a:lnTo>
                    <a:lnTo>
                      <a:pt x="715" y="624"/>
                    </a:lnTo>
                    <a:lnTo>
                      <a:pt x="623" y="598"/>
                    </a:lnTo>
                    <a:lnTo>
                      <a:pt x="535" y="570"/>
                    </a:lnTo>
                    <a:lnTo>
                      <a:pt x="446" y="538"/>
                    </a:lnTo>
                    <a:lnTo>
                      <a:pt x="359" y="508"/>
                    </a:lnTo>
                    <a:lnTo>
                      <a:pt x="272" y="475"/>
                    </a:lnTo>
                    <a:lnTo>
                      <a:pt x="189" y="446"/>
                    </a:lnTo>
                    <a:lnTo>
                      <a:pt x="167" y="435"/>
                    </a:lnTo>
                    <a:lnTo>
                      <a:pt x="141" y="422"/>
                    </a:lnTo>
                    <a:lnTo>
                      <a:pt x="110" y="406"/>
                    </a:lnTo>
                    <a:lnTo>
                      <a:pt x="84" y="388"/>
                    </a:lnTo>
                    <a:lnTo>
                      <a:pt x="60" y="367"/>
                    </a:lnTo>
                    <a:lnTo>
                      <a:pt x="48" y="346"/>
                    </a:lnTo>
                    <a:lnTo>
                      <a:pt x="49" y="324"/>
                    </a:lnTo>
                    <a:lnTo>
                      <a:pt x="69" y="303"/>
                    </a:lnTo>
                    <a:lnTo>
                      <a:pt x="66" y="298"/>
                    </a:lnTo>
                    <a:lnTo>
                      <a:pt x="66" y="294"/>
                    </a:lnTo>
                    <a:lnTo>
                      <a:pt x="74" y="282"/>
                    </a:lnTo>
                    <a:lnTo>
                      <a:pt x="83" y="273"/>
                    </a:lnTo>
                    <a:lnTo>
                      <a:pt x="91" y="265"/>
                    </a:lnTo>
                    <a:lnTo>
                      <a:pt x="101" y="258"/>
                    </a:lnTo>
                    <a:lnTo>
                      <a:pt x="109" y="249"/>
                    </a:lnTo>
                    <a:lnTo>
                      <a:pt x="120" y="244"/>
                    </a:lnTo>
                    <a:lnTo>
                      <a:pt x="131" y="238"/>
                    </a:lnTo>
                    <a:lnTo>
                      <a:pt x="145" y="235"/>
                    </a:lnTo>
                    <a:lnTo>
                      <a:pt x="136" y="215"/>
                    </a:lnTo>
                    <a:lnTo>
                      <a:pt x="123" y="198"/>
                    </a:lnTo>
                    <a:lnTo>
                      <a:pt x="103" y="183"/>
                    </a:lnTo>
                    <a:lnTo>
                      <a:pt x="83" y="172"/>
                    </a:lnTo>
                    <a:lnTo>
                      <a:pt x="59" y="161"/>
                    </a:lnTo>
                    <a:lnTo>
                      <a:pt x="36" y="153"/>
                    </a:lnTo>
                    <a:lnTo>
                      <a:pt x="15" y="143"/>
                    </a:lnTo>
                    <a:lnTo>
                      <a:pt x="0" y="133"/>
                    </a:lnTo>
                    <a:lnTo>
                      <a:pt x="2" y="118"/>
                    </a:lnTo>
                    <a:lnTo>
                      <a:pt x="15" y="101"/>
                    </a:lnTo>
                    <a:lnTo>
                      <a:pt x="30" y="83"/>
                    </a:lnTo>
                    <a:lnTo>
                      <a:pt x="51" y="67"/>
                    </a:lnTo>
                    <a:lnTo>
                      <a:pt x="70" y="47"/>
                    </a:lnTo>
                    <a:lnTo>
                      <a:pt x="89" y="31"/>
                    </a:lnTo>
                    <a:lnTo>
                      <a:pt x="105" y="14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4" y="0"/>
                    </a:lnTo>
                    <a:lnTo>
                      <a:pt x="130" y="9"/>
                    </a:lnTo>
                    <a:lnTo>
                      <a:pt x="135" y="17"/>
                    </a:lnTo>
                    <a:lnTo>
                      <a:pt x="141" y="23"/>
                    </a:lnTo>
                    <a:lnTo>
                      <a:pt x="146" y="30"/>
                    </a:lnTo>
                    <a:lnTo>
                      <a:pt x="152" y="34"/>
                    </a:lnTo>
                    <a:lnTo>
                      <a:pt x="161" y="39"/>
                    </a:lnTo>
                    <a:lnTo>
                      <a:pt x="171" y="43"/>
                    </a:lnTo>
                    <a:lnTo>
                      <a:pt x="186" y="49"/>
                    </a:lnTo>
                    <a:lnTo>
                      <a:pt x="189" y="100"/>
                    </a:lnTo>
                    <a:lnTo>
                      <a:pt x="192" y="147"/>
                    </a:lnTo>
                    <a:lnTo>
                      <a:pt x="196" y="187"/>
                    </a:lnTo>
                    <a:lnTo>
                      <a:pt x="206" y="224"/>
                    </a:lnTo>
                    <a:lnTo>
                      <a:pt x="219" y="256"/>
                    </a:lnTo>
                    <a:lnTo>
                      <a:pt x="246" y="285"/>
                    </a:lnTo>
                    <a:lnTo>
                      <a:pt x="283" y="312"/>
                    </a:lnTo>
                    <a:lnTo>
                      <a:pt x="337" y="338"/>
                    </a:lnTo>
                    <a:lnTo>
                      <a:pt x="358" y="335"/>
                    </a:lnTo>
                    <a:lnTo>
                      <a:pt x="377" y="331"/>
                    </a:lnTo>
                    <a:lnTo>
                      <a:pt x="395" y="324"/>
                    </a:lnTo>
                    <a:lnTo>
                      <a:pt x="414" y="317"/>
                    </a:lnTo>
                    <a:lnTo>
                      <a:pt x="430" y="309"/>
                    </a:lnTo>
                    <a:lnTo>
                      <a:pt x="446" y="300"/>
                    </a:lnTo>
                    <a:lnTo>
                      <a:pt x="463" y="294"/>
                    </a:lnTo>
                    <a:lnTo>
                      <a:pt x="479" y="291"/>
                    </a:lnTo>
                    <a:lnTo>
                      <a:pt x="503" y="345"/>
                    </a:lnTo>
                    <a:lnTo>
                      <a:pt x="538" y="392"/>
                    </a:lnTo>
                    <a:lnTo>
                      <a:pt x="579" y="433"/>
                    </a:lnTo>
                    <a:lnTo>
                      <a:pt x="629" y="469"/>
                    </a:lnTo>
                    <a:lnTo>
                      <a:pt x="680" y="500"/>
                    </a:lnTo>
                    <a:lnTo>
                      <a:pt x="737" y="529"/>
                    </a:lnTo>
                    <a:lnTo>
                      <a:pt x="792" y="555"/>
                    </a:lnTo>
                    <a:lnTo>
                      <a:pt x="849" y="581"/>
                    </a:lnTo>
                    <a:lnTo>
                      <a:pt x="858" y="585"/>
                    </a:lnTo>
                    <a:lnTo>
                      <a:pt x="876" y="598"/>
                    </a:lnTo>
                    <a:lnTo>
                      <a:pt x="898" y="613"/>
                    </a:lnTo>
                    <a:lnTo>
                      <a:pt x="923" y="632"/>
                    </a:lnTo>
                    <a:lnTo>
                      <a:pt x="941" y="649"/>
                    </a:lnTo>
                    <a:lnTo>
                      <a:pt x="955" y="667"/>
                    </a:lnTo>
                    <a:lnTo>
                      <a:pt x="955" y="679"/>
                    </a:lnTo>
                    <a:lnTo>
                      <a:pt x="941" y="689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24"/>
              <p:cNvSpPr/>
              <p:nvPr/>
            </p:nvSpPr>
            <p:spPr>
              <a:xfrm>
                <a:off x="6078960" y="3070440"/>
                <a:ext cx="364320" cy="745560"/>
              </a:xfrm>
              <a:custGeom>
                <a:avLst/>
                <a:gdLst>
                  <a:gd name="textAreaLeft" fmla="*/ 0 w 364320"/>
                  <a:gd name="textAreaRight" fmla="*/ 364680 w 364320"/>
                  <a:gd name="textAreaTop" fmla="*/ 0 h 745560"/>
                  <a:gd name="textAreaBottom" fmla="*/ 745920 h 745560"/>
                </a:gdLst>
                <a:ahLst/>
                <a:rect l="textAreaLeft" t="textAreaTop" r="textAreaRight" b="textAreaBottom"/>
                <a:pathLst>
                  <a:path w="386" h="965">
                    <a:moveTo>
                      <a:pt x="182" y="965"/>
                    </a:moveTo>
                    <a:lnTo>
                      <a:pt x="182" y="935"/>
                    </a:lnTo>
                    <a:lnTo>
                      <a:pt x="182" y="911"/>
                    </a:lnTo>
                    <a:lnTo>
                      <a:pt x="182" y="892"/>
                    </a:lnTo>
                    <a:lnTo>
                      <a:pt x="184" y="874"/>
                    </a:lnTo>
                    <a:lnTo>
                      <a:pt x="184" y="853"/>
                    </a:lnTo>
                    <a:lnTo>
                      <a:pt x="184" y="831"/>
                    </a:lnTo>
                    <a:lnTo>
                      <a:pt x="184" y="801"/>
                    </a:lnTo>
                    <a:lnTo>
                      <a:pt x="185" y="765"/>
                    </a:lnTo>
                    <a:lnTo>
                      <a:pt x="178" y="708"/>
                    </a:lnTo>
                    <a:lnTo>
                      <a:pt x="171" y="656"/>
                    </a:lnTo>
                    <a:lnTo>
                      <a:pt x="160" y="603"/>
                    </a:lnTo>
                    <a:lnTo>
                      <a:pt x="146" y="553"/>
                    </a:lnTo>
                    <a:lnTo>
                      <a:pt x="127" y="505"/>
                    </a:lnTo>
                    <a:lnTo>
                      <a:pt x="103" y="461"/>
                    </a:lnTo>
                    <a:lnTo>
                      <a:pt x="73" y="418"/>
                    </a:lnTo>
                    <a:lnTo>
                      <a:pt x="37" y="381"/>
                    </a:lnTo>
                    <a:lnTo>
                      <a:pt x="36" y="376"/>
                    </a:lnTo>
                    <a:lnTo>
                      <a:pt x="36" y="372"/>
                    </a:lnTo>
                    <a:lnTo>
                      <a:pt x="65" y="363"/>
                    </a:lnTo>
                    <a:lnTo>
                      <a:pt x="84" y="345"/>
                    </a:lnTo>
                    <a:lnTo>
                      <a:pt x="92" y="321"/>
                    </a:lnTo>
                    <a:lnTo>
                      <a:pt x="94" y="295"/>
                    </a:lnTo>
                    <a:lnTo>
                      <a:pt x="85" y="266"/>
                    </a:lnTo>
                    <a:lnTo>
                      <a:pt x="73" y="238"/>
                    </a:lnTo>
                    <a:lnTo>
                      <a:pt x="56" y="215"/>
                    </a:lnTo>
                    <a:lnTo>
                      <a:pt x="37" y="198"/>
                    </a:lnTo>
                    <a:lnTo>
                      <a:pt x="14" y="186"/>
                    </a:lnTo>
                    <a:lnTo>
                      <a:pt x="2" y="172"/>
                    </a:lnTo>
                    <a:lnTo>
                      <a:pt x="0" y="154"/>
                    </a:lnTo>
                    <a:lnTo>
                      <a:pt x="5" y="135"/>
                    </a:lnTo>
                    <a:lnTo>
                      <a:pt x="14" y="112"/>
                    </a:lnTo>
                    <a:lnTo>
                      <a:pt x="25" y="90"/>
                    </a:lnTo>
                    <a:lnTo>
                      <a:pt x="36" y="70"/>
                    </a:lnTo>
                    <a:lnTo>
                      <a:pt x="45" y="50"/>
                    </a:lnTo>
                    <a:lnTo>
                      <a:pt x="45" y="38"/>
                    </a:lnTo>
                    <a:lnTo>
                      <a:pt x="45" y="27"/>
                    </a:lnTo>
                    <a:lnTo>
                      <a:pt x="45" y="14"/>
                    </a:lnTo>
                    <a:lnTo>
                      <a:pt x="45" y="3"/>
                    </a:lnTo>
                    <a:lnTo>
                      <a:pt x="72" y="0"/>
                    </a:lnTo>
                    <a:lnTo>
                      <a:pt x="103" y="0"/>
                    </a:lnTo>
                    <a:lnTo>
                      <a:pt x="135" y="0"/>
                    </a:lnTo>
                    <a:lnTo>
                      <a:pt x="171" y="3"/>
                    </a:lnTo>
                    <a:lnTo>
                      <a:pt x="204" y="6"/>
                    </a:lnTo>
                    <a:lnTo>
                      <a:pt x="239" y="14"/>
                    </a:lnTo>
                    <a:lnTo>
                      <a:pt x="268" y="27"/>
                    </a:lnTo>
                    <a:lnTo>
                      <a:pt x="296" y="43"/>
                    </a:lnTo>
                    <a:lnTo>
                      <a:pt x="293" y="50"/>
                    </a:lnTo>
                    <a:lnTo>
                      <a:pt x="287" y="63"/>
                    </a:lnTo>
                    <a:lnTo>
                      <a:pt x="279" y="76"/>
                    </a:lnTo>
                    <a:lnTo>
                      <a:pt x="271" y="92"/>
                    </a:lnTo>
                    <a:lnTo>
                      <a:pt x="260" y="105"/>
                    </a:lnTo>
                    <a:lnTo>
                      <a:pt x="250" y="118"/>
                    </a:lnTo>
                    <a:lnTo>
                      <a:pt x="239" y="128"/>
                    </a:lnTo>
                    <a:lnTo>
                      <a:pt x="231" y="133"/>
                    </a:lnTo>
                    <a:lnTo>
                      <a:pt x="231" y="141"/>
                    </a:lnTo>
                    <a:lnTo>
                      <a:pt x="232" y="151"/>
                    </a:lnTo>
                    <a:lnTo>
                      <a:pt x="231" y="159"/>
                    </a:lnTo>
                    <a:lnTo>
                      <a:pt x="231" y="170"/>
                    </a:lnTo>
                    <a:lnTo>
                      <a:pt x="229" y="180"/>
                    </a:lnTo>
                    <a:lnTo>
                      <a:pt x="232" y="191"/>
                    </a:lnTo>
                    <a:lnTo>
                      <a:pt x="239" y="201"/>
                    </a:lnTo>
                    <a:lnTo>
                      <a:pt x="251" y="212"/>
                    </a:lnTo>
                    <a:lnTo>
                      <a:pt x="267" y="216"/>
                    </a:lnTo>
                    <a:lnTo>
                      <a:pt x="283" y="220"/>
                    </a:lnTo>
                    <a:lnTo>
                      <a:pt x="297" y="224"/>
                    </a:lnTo>
                    <a:lnTo>
                      <a:pt x="312" y="229"/>
                    </a:lnTo>
                    <a:lnTo>
                      <a:pt x="326" y="233"/>
                    </a:lnTo>
                    <a:lnTo>
                      <a:pt x="340" y="241"/>
                    </a:lnTo>
                    <a:lnTo>
                      <a:pt x="354" y="251"/>
                    </a:lnTo>
                    <a:lnTo>
                      <a:pt x="370" y="267"/>
                    </a:lnTo>
                    <a:lnTo>
                      <a:pt x="383" y="313"/>
                    </a:lnTo>
                    <a:lnTo>
                      <a:pt x="386" y="370"/>
                    </a:lnTo>
                    <a:lnTo>
                      <a:pt x="377" y="433"/>
                    </a:lnTo>
                    <a:lnTo>
                      <a:pt x="365" y="502"/>
                    </a:lnTo>
                    <a:lnTo>
                      <a:pt x="345" y="569"/>
                    </a:lnTo>
                    <a:lnTo>
                      <a:pt x="325" y="632"/>
                    </a:lnTo>
                    <a:lnTo>
                      <a:pt x="301" y="687"/>
                    </a:lnTo>
                    <a:lnTo>
                      <a:pt x="280" y="733"/>
                    </a:lnTo>
                    <a:lnTo>
                      <a:pt x="271" y="754"/>
                    </a:lnTo>
                    <a:lnTo>
                      <a:pt x="261" y="784"/>
                    </a:lnTo>
                    <a:lnTo>
                      <a:pt x="249" y="819"/>
                    </a:lnTo>
                    <a:lnTo>
                      <a:pt x="236" y="859"/>
                    </a:lnTo>
                    <a:lnTo>
                      <a:pt x="221" y="895"/>
                    </a:lnTo>
                    <a:lnTo>
                      <a:pt x="207" y="928"/>
                    </a:lnTo>
                    <a:lnTo>
                      <a:pt x="193" y="952"/>
                    </a:lnTo>
                    <a:lnTo>
                      <a:pt x="182" y="965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25"/>
              <p:cNvSpPr/>
              <p:nvPr/>
            </p:nvSpPr>
            <p:spPr>
              <a:xfrm>
                <a:off x="6435360" y="3276360"/>
                <a:ext cx="417240" cy="523440"/>
              </a:xfrm>
              <a:custGeom>
                <a:avLst/>
                <a:gdLst>
                  <a:gd name="textAreaLeft" fmla="*/ 0 w 417240"/>
                  <a:gd name="textAreaRight" fmla="*/ 417600 w 417240"/>
                  <a:gd name="textAreaTop" fmla="*/ 0 h 523440"/>
                  <a:gd name="textAreaBottom" fmla="*/ 523800 h 523440"/>
                </a:gdLst>
                <a:ahLst/>
                <a:rect l="textAreaLeft" t="textAreaTop" r="textAreaRight" b="textAreaBottom"/>
                <a:pathLst>
                  <a:path w="444" h="678">
                    <a:moveTo>
                      <a:pt x="375" y="678"/>
                    </a:moveTo>
                    <a:lnTo>
                      <a:pt x="347" y="643"/>
                    </a:lnTo>
                    <a:lnTo>
                      <a:pt x="309" y="606"/>
                    </a:lnTo>
                    <a:lnTo>
                      <a:pt x="260" y="566"/>
                    </a:lnTo>
                    <a:lnTo>
                      <a:pt x="208" y="527"/>
                    </a:lnTo>
                    <a:lnTo>
                      <a:pt x="151" y="491"/>
                    </a:lnTo>
                    <a:lnTo>
                      <a:pt x="98" y="459"/>
                    </a:lnTo>
                    <a:lnTo>
                      <a:pt x="50" y="436"/>
                    </a:lnTo>
                    <a:lnTo>
                      <a:pt x="11" y="422"/>
                    </a:lnTo>
                    <a:lnTo>
                      <a:pt x="0" y="365"/>
                    </a:lnTo>
                    <a:lnTo>
                      <a:pt x="2" y="311"/>
                    </a:lnTo>
                    <a:lnTo>
                      <a:pt x="7" y="257"/>
                    </a:lnTo>
                    <a:lnTo>
                      <a:pt x="17" y="205"/>
                    </a:lnTo>
                    <a:lnTo>
                      <a:pt x="24" y="151"/>
                    </a:lnTo>
                    <a:lnTo>
                      <a:pt x="28" y="101"/>
                    </a:lnTo>
                    <a:lnTo>
                      <a:pt x="24" y="50"/>
                    </a:lnTo>
                    <a:lnTo>
                      <a:pt x="9" y="3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51" y="76"/>
                    </a:lnTo>
                    <a:lnTo>
                      <a:pt x="90" y="152"/>
                    </a:lnTo>
                    <a:lnTo>
                      <a:pt x="132" y="226"/>
                    </a:lnTo>
                    <a:lnTo>
                      <a:pt x="179" y="299"/>
                    </a:lnTo>
                    <a:lnTo>
                      <a:pt x="227" y="368"/>
                    </a:lnTo>
                    <a:lnTo>
                      <a:pt x="280" y="438"/>
                    </a:lnTo>
                    <a:lnTo>
                      <a:pt x="335" y="503"/>
                    </a:lnTo>
                    <a:lnTo>
                      <a:pt x="396" y="570"/>
                    </a:lnTo>
                    <a:lnTo>
                      <a:pt x="401" y="577"/>
                    </a:lnTo>
                    <a:lnTo>
                      <a:pt x="408" y="585"/>
                    </a:lnTo>
                    <a:lnTo>
                      <a:pt x="414" y="592"/>
                    </a:lnTo>
                    <a:lnTo>
                      <a:pt x="419" y="599"/>
                    </a:lnTo>
                    <a:lnTo>
                      <a:pt x="423" y="604"/>
                    </a:lnTo>
                    <a:lnTo>
                      <a:pt x="430" y="610"/>
                    </a:lnTo>
                    <a:lnTo>
                      <a:pt x="436" y="617"/>
                    </a:lnTo>
                    <a:lnTo>
                      <a:pt x="444" y="626"/>
                    </a:lnTo>
                    <a:lnTo>
                      <a:pt x="437" y="631"/>
                    </a:lnTo>
                    <a:lnTo>
                      <a:pt x="430" y="639"/>
                    </a:lnTo>
                    <a:lnTo>
                      <a:pt x="419" y="647"/>
                    </a:lnTo>
                    <a:lnTo>
                      <a:pt x="410" y="657"/>
                    </a:lnTo>
                    <a:lnTo>
                      <a:pt x="399" y="664"/>
                    </a:lnTo>
                    <a:lnTo>
                      <a:pt x="389" y="671"/>
                    </a:lnTo>
                    <a:lnTo>
                      <a:pt x="381" y="675"/>
                    </a:lnTo>
                    <a:lnTo>
                      <a:pt x="375" y="678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26"/>
              <p:cNvSpPr/>
              <p:nvPr/>
            </p:nvSpPr>
            <p:spPr>
              <a:xfrm>
                <a:off x="5790960" y="3346200"/>
                <a:ext cx="446400" cy="451440"/>
              </a:xfrm>
              <a:custGeom>
                <a:avLst/>
                <a:gdLst>
                  <a:gd name="textAreaLeft" fmla="*/ 0 w 446400"/>
                  <a:gd name="textAreaRight" fmla="*/ 446760 w 446400"/>
                  <a:gd name="textAreaTop" fmla="*/ 0 h 451440"/>
                  <a:gd name="textAreaBottom" fmla="*/ 451800 h 451440"/>
                </a:gdLst>
                <a:ahLst/>
                <a:rect l="textAreaLeft" t="textAreaTop" r="textAreaRight" b="textAreaBottom"/>
                <a:pathLst>
                  <a:path w="474" h="585">
                    <a:moveTo>
                      <a:pt x="469" y="585"/>
                    </a:moveTo>
                    <a:lnTo>
                      <a:pt x="423" y="542"/>
                    </a:lnTo>
                    <a:lnTo>
                      <a:pt x="370" y="507"/>
                    </a:lnTo>
                    <a:lnTo>
                      <a:pt x="314" y="478"/>
                    </a:lnTo>
                    <a:lnTo>
                      <a:pt x="256" y="454"/>
                    </a:lnTo>
                    <a:lnTo>
                      <a:pt x="196" y="427"/>
                    </a:lnTo>
                    <a:lnTo>
                      <a:pt x="141" y="397"/>
                    </a:lnTo>
                    <a:lnTo>
                      <a:pt x="90" y="361"/>
                    </a:lnTo>
                    <a:lnTo>
                      <a:pt x="47" y="315"/>
                    </a:lnTo>
                    <a:lnTo>
                      <a:pt x="25" y="279"/>
                    </a:lnTo>
                    <a:lnTo>
                      <a:pt x="11" y="257"/>
                    </a:lnTo>
                    <a:lnTo>
                      <a:pt x="2" y="243"/>
                    </a:lnTo>
                    <a:lnTo>
                      <a:pt x="0" y="234"/>
                    </a:lnTo>
                    <a:lnTo>
                      <a:pt x="0" y="224"/>
                    </a:lnTo>
                    <a:lnTo>
                      <a:pt x="5" y="216"/>
                    </a:lnTo>
                    <a:lnTo>
                      <a:pt x="15" y="201"/>
                    </a:lnTo>
                    <a:lnTo>
                      <a:pt x="29" y="178"/>
                    </a:lnTo>
                    <a:lnTo>
                      <a:pt x="33" y="134"/>
                    </a:lnTo>
                    <a:lnTo>
                      <a:pt x="37" y="107"/>
                    </a:lnTo>
                    <a:lnTo>
                      <a:pt x="41" y="90"/>
                    </a:lnTo>
                    <a:lnTo>
                      <a:pt x="50" y="82"/>
                    </a:lnTo>
                    <a:lnTo>
                      <a:pt x="61" y="76"/>
                    </a:lnTo>
                    <a:lnTo>
                      <a:pt x="79" y="73"/>
                    </a:lnTo>
                    <a:lnTo>
                      <a:pt x="105" y="66"/>
                    </a:lnTo>
                    <a:lnTo>
                      <a:pt x="139" y="55"/>
                    </a:lnTo>
                    <a:lnTo>
                      <a:pt x="144" y="47"/>
                    </a:lnTo>
                    <a:lnTo>
                      <a:pt x="149" y="42"/>
                    </a:lnTo>
                    <a:lnTo>
                      <a:pt x="153" y="36"/>
                    </a:lnTo>
                    <a:lnTo>
                      <a:pt x="157" y="32"/>
                    </a:lnTo>
                    <a:lnTo>
                      <a:pt x="160" y="25"/>
                    </a:lnTo>
                    <a:lnTo>
                      <a:pt x="164" y="19"/>
                    </a:lnTo>
                    <a:lnTo>
                      <a:pt x="170" y="10"/>
                    </a:lnTo>
                    <a:lnTo>
                      <a:pt x="178" y="0"/>
                    </a:lnTo>
                    <a:lnTo>
                      <a:pt x="181" y="0"/>
                    </a:lnTo>
                    <a:lnTo>
                      <a:pt x="188" y="3"/>
                    </a:lnTo>
                    <a:lnTo>
                      <a:pt x="195" y="6"/>
                    </a:lnTo>
                    <a:lnTo>
                      <a:pt x="204" y="10"/>
                    </a:lnTo>
                    <a:lnTo>
                      <a:pt x="213" y="13"/>
                    </a:lnTo>
                    <a:lnTo>
                      <a:pt x="222" y="17"/>
                    </a:lnTo>
                    <a:lnTo>
                      <a:pt x="231" y="19"/>
                    </a:lnTo>
                    <a:lnTo>
                      <a:pt x="239" y="24"/>
                    </a:lnTo>
                    <a:lnTo>
                      <a:pt x="249" y="24"/>
                    </a:lnTo>
                    <a:lnTo>
                      <a:pt x="260" y="24"/>
                    </a:lnTo>
                    <a:lnTo>
                      <a:pt x="271" y="24"/>
                    </a:lnTo>
                    <a:lnTo>
                      <a:pt x="282" y="24"/>
                    </a:lnTo>
                    <a:lnTo>
                      <a:pt x="292" y="24"/>
                    </a:lnTo>
                    <a:lnTo>
                      <a:pt x="304" y="24"/>
                    </a:lnTo>
                    <a:lnTo>
                      <a:pt x="314" y="25"/>
                    </a:lnTo>
                    <a:lnTo>
                      <a:pt x="326" y="26"/>
                    </a:lnTo>
                    <a:lnTo>
                      <a:pt x="373" y="84"/>
                    </a:lnTo>
                    <a:lnTo>
                      <a:pt x="410" y="148"/>
                    </a:lnTo>
                    <a:lnTo>
                      <a:pt x="437" y="213"/>
                    </a:lnTo>
                    <a:lnTo>
                      <a:pt x="456" y="283"/>
                    </a:lnTo>
                    <a:lnTo>
                      <a:pt x="467" y="354"/>
                    </a:lnTo>
                    <a:lnTo>
                      <a:pt x="473" y="429"/>
                    </a:lnTo>
                    <a:lnTo>
                      <a:pt x="474" y="505"/>
                    </a:lnTo>
                    <a:lnTo>
                      <a:pt x="471" y="585"/>
                    </a:lnTo>
                    <a:lnTo>
                      <a:pt x="470" y="585"/>
                    </a:lnTo>
                    <a:lnTo>
                      <a:pt x="469" y="585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27"/>
              <p:cNvSpPr/>
              <p:nvPr/>
            </p:nvSpPr>
            <p:spPr>
              <a:xfrm>
                <a:off x="7002720" y="3232800"/>
                <a:ext cx="671760" cy="541080"/>
              </a:xfrm>
              <a:custGeom>
                <a:avLst/>
                <a:gdLst>
                  <a:gd name="textAreaLeft" fmla="*/ 0 w 671760"/>
                  <a:gd name="textAreaRight" fmla="*/ 672120 w 671760"/>
                  <a:gd name="textAreaTop" fmla="*/ 0 h 541080"/>
                  <a:gd name="textAreaBottom" fmla="*/ 541440 h 541080"/>
                </a:gdLst>
                <a:ahLst/>
                <a:rect l="textAreaLeft" t="textAreaTop" r="textAreaRight" b="textAreaBottom"/>
                <a:pathLst>
                  <a:path w="712" h="702">
                    <a:moveTo>
                      <a:pt x="148" y="702"/>
                    </a:moveTo>
                    <a:lnTo>
                      <a:pt x="134" y="698"/>
                    </a:lnTo>
                    <a:lnTo>
                      <a:pt x="123" y="695"/>
                    </a:lnTo>
                    <a:lnTo>
                      <a:pt x="113" y="691"/>
                    </a:lnTo>
                    <a:lnTo>
                      <a:pt x="105" y="688"/>
                    </a:lnTo>
                    <a:lnTo>
                      <a:pt x="96" y="683"/>
                    </a:lnTo>
                    <a:lnTo>
                      <a:pt x="88" y="679"/>
                    </a:lnTo>
                    <a:lnTo>
                      <a:pt x="80" y="674"/>
                    </a:lnTo>
                    <a:lnTo>
                      <a:pt x="73" y="670"/>
                    </a:lnTo>
                    <a:lnTo>
                      <a:pt x="73" y="654"/>
                    </a:lnTo>
                    <a:lnTo>
                      <a:pt x="73" y="641"/>
                    </a:lnTo>
                    <a:lnTo>
                      <a:pt x="73" y="629"/>
                    </a:lnTo>
                    <a:lnTo>
                      <a:pt x="76" y="616"/>
                    </a:lnTo>
                    <a:lnTo>
                      <a:pt x="76" y="604"/>
                    </a:lnTo>
                    <a:lnTo>
                      <a:pt x="78" y="591"/>
                    </a:lnTo>
                    <a:lnTo>
                      <a:pt x="83" y="579"/>
                    </a:lnTo>
                    <a:lnTo>
                      <a:pt x="87" y="568"/>
                    </a:lnTo>
                    <a:lnTo>
                      <a:pt x="128" y="488"/>
                    </a:lnTo>
                    <a:lnTo>
                      <a:pt x="182" y="405"/>
                    </a:lnTo>
                    <a:lnTo>
                      <a:pt x="247" y="325"/>
                    </a:lnTo>
                    <a:lnTo>
                      <a:pt x="323" y="254"/>
                    </a:lnTo>
                    <a:lnTo>
                      <a:pt x="405" y="193"/>
                    </a:lnTo>
                    <a:lnTo>
                      <a:pt x="493" y="152"/>
                    </a:lnTo>
                    <a:lnTo>
                      <a:pt x="585" y="131"/>
                    </a:lnTo>
                    <a:lnTo>
                      <a:pt x="680" y="141"/>
                    </a:lnTo>
                    <a:lnTo>
                      <a:pt x="667" y="123"/>
                    </a:lnTo>
                    <a:lnTo>
                      <a:pt x="647" y="113"/>
                    </a:lnTo>
                    <a:lnTo>
                      <a:pt x="619" y="109"/>
                    </a:lnTo>
                    <a:lnTo>
                      <a:pt x="589" y="110"/>
                    </a:lnTo>
                    <a:lnTo>
                      <a:pt x="557" y="113"/>
                    </a:lnTo>
                    <a:lnTo>
                      <a:pt x="528" y="120"/>
                    </a:lnTo>
                    <a:lnTo>
                      <a:pt x="504" y="126"/>
                    </a:lnTo>
                    <a:lnTo>
                      <a:pt x="489" y="130"/>
                    </a:lnTo>
                    <a:lnTo>
                      <a:pt x="416" y="166"/>
                    </a:lnTo>
                    <a:lnTo>
                      <a:pt x="347" y="211"/>
                    </a:lnTo>
                    <a:lnTo>
                      <a:pt x="279" y="264"/>
                    </a:lnTo>
                    <a:lnTo>
                      <a:pt x="218" y="326"/>
                    </a:lnTo>
                    <a:lnTo>
                      <a:pt x="161" y="391"/>
                    </a:lnTo>
                    <a:lnTo>
                      <a:pt x="114" y="462"/>
                    </a:lnTo>
                    <a:lnTo>
                      <a:pt x="77" y="536"/>
                    </a:lnTo>
                    <a:lnTo>
                      <a:pt x="52" y="615"/>
                    </a:lnTo>
                    <a:lnTo>
                      <a:pt x="8" y="535"/>
                    </a:lnTo>
                    <a:lnTo>
                      <a:pt x="0" y="453"/>
                    </a:lnTo>
                    <a:lnTo>
                      <a:pt x="20" y="369"/>
                    </a:lnTo>
                    <a:lnTo>
                      <a:pt x="65" y="289"/>
                    </a:lnTo>
                    <a:lnTo>
                      <a:pt x="123" y="211"/>
                    </a:lnTo>
                    <a:lnTo>
                      <a:pt x="189" y="144"/>
                    </a:lnTo>
                    <a:lnTo>
                      <a:pt x="258" y="86"/>
                    </a:lnTo>
                    <a:lnTo>
                      <a:pt x="323" y="45"/>
                    </a:lnTo>
                    <a:lnTo>
                      <a:pt x="381" y="23"/>
                    </a:lnTo>
                    <a:lnTo>
                      <a:pt x="448" y="8"/>
                    </a:lnTo>
                    <a:lnTo>
                      <a:pt x="514" y="0"/>
                    </a:lnTo>
                    <a:lnTo>
                      <a:pt x="578" y="5"/>
                    </a:lnTo>
                    <a:lnTo>
                      <a:pt x="633" y="23"/>
                    </a:lnTo>
                    <a:lnTo>
                      <a:pt x="676" y="58"/>
                    </a:lnTo>
                    <a:lnTo>
                      <a:pt x="703" y="113"/>
                    </a:lnTo>
                    <a:lnTo>
                      <a:pt x="712" y="191"/>
                    </a:lnTo>
                    <a:lnTo>
                      <a:pt x="676" y="256"/>
                    </a:lnTo>
                    <a:lnTo>
                      <a:pt x="636" y="319"/>
                    </a:lnTo>
                    <a:lnTo>
                      <a:pt x="587" y="380"/>
                    </a:lnTo>
                    <a:lnTo>
                      <a:pt x="536" y="438"/>
                    </a:lnTo>
                    <a:lnTo>
                      <a:pt x="479" y="492"/>
                    </a:lnTo>
                    <a:lnTo>
                      <a:pt x="423" y="543"/>
                    </a:lnTo>
                    <a:lnTo>
                      <a:pt x="363" y="590"/>
                    </a:lnTo>
                    <a:lnTo>
                      <a:pt x="305" y="636"/>
                    </a:lnTo>
                    <a:lnTo>
                      <a:pt x="287" y="643"/>
                    </a:lnTo>
                    <a:lnTo>
                      <a:pt x="268" y="654"/>
                    </a:lnTo>
                    <a:lnTo>
                      <a:pt x="247" y="665"/>
                    </a:lnTo>
                    <a:lnTo>
                      <a:pt x="226" y="676"/>
                    </a:lnTo>
                    <a:lnTo>
                      <a:pt x="204" y="684"/>
                    </a:lnTo>
                    <a:lnTo>
                      <a:pt x="183" y="694"/>
                    </a:lnTo>
                    <a:lnTo>
                      <a:pt x="163" y="699"/>
                    </a:lnTo>
                    <a:lnTo>
                      <a:pt x="148" y="702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28"/>
              <p:cNvSpPr/>
              <p:nvPr/>
            </p:nvSpPr>
            <p:spPr>
              <a:xfrm>
                <a:off x="7203240" y="3413520"/>
                <a:ext cx="310320" cy="254520"/>
              </a:xfrm>
              <a:custGeom>
                <a:avLst/>
                <a:gdLst>
                  <a:gd name="textAreaLeft" fmla="*/ 0 w 310320"/>
                  <a:gd name="textAreaRight" fmla="*/ 310680 w 310320"/>
                  <a:gd name="textAreaTop" fmla="*/ 0 h 254520"/>
                  <a:gd name="textAreaBottom" fmla="*/ 254880 h 254520"/>
                </a:gdLst>
                <a:ahLst/>
                <a:rect l="textAreaLeft" t="textAreaTop" r="textAreaRight" b="textAreaBottom"/>
                <a:pathLst>
                  <a:path w="330" h="329">
                    <a:moveTo>
                      <a:pt x="51" y="329"/>
                    </a:moveTo>
                    <a:lnTo>
                      <a:pt x="5" y="299"/>
                    </a:lnTo>
                    <a:lnTo>
                      <a:pt x="0" y="243"/>
                    </a:lnTo>
                    <a:lnTo>
                      <a:pt x="24" y="172"/>
                    </a:lnTo>
                    <a:lnTo>
                      <a:pt x="74" y="101"/>
                    </a:lnTo>
                    <a:lnTo>
                      <a:pt x="135" y="39"/>
                    </a:lnTo>
                    <a:lnTo>
                      <a:pt x="204" y="2"/>
                    </a:lnTo>
                    <a:lnTo>
                      <a:pt x="272" y="0"/>
                    </a:lnTo>
                    <a:lnTo>
                      <a:pt x="330" y="50"/>
                    </a:lnTo>
                    <a:lnTo>
                      <a:pt x="322" y="93"/>
                    </a:lnTo>
                    <a:lnTo>
                      <a:pt x="301" y="140"/>
                    </a:lnTo>
                    <a:lnTo>
                      <a:pt x="271" y="185"/>
                    </a:lnTo>
                    <a:lnTo>
                      <a:pt x="232" y="230"/>
                    </a:lnTo>
                    <a:lnTo>
                      <a:pt x="188" y="267"/>
                    </a:lnTo>
                    <a:lnTo>
                      <a:pt x="141" y="299"/>
                    </a:lnTo>
                    <a:lnTo>
                      <a:pt x="94" y="320"/>
                    </a:lnTo>
                    <a:lnTo>
                      <a:pt x="51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29"/>
              <p:cNvSpPr/>
              <p:nvPr/>
            </p:nvSpPr>
            <p:spPr>
              <a:xfrm>
                <a:off x="7211520" y="3425040"/>
                <a:ext cx="279720" cy="231480"/>
              </a:xfrm>
              <a:custGeom>
                <a:avLst/>
                <a:gdLst>
                  <a:gd name="textAreaLeft" fmla="*/ 0 w 279720"/>
                  <a:gd name="textAreaRight" fmla="*/ 280080 w 279720"/>
                  <a:gd name="textAreaTop" fmla="*/ 0 h 231480"/>
                  <a:gd name="textAreaBottom" fmla="*/ 231480 h 231480"/>
                </a:gdLst>
                <a:ahLst/>
                <a:rect l="textAreaLeft" t="textAreaTop" r="textAreaRight" b="textAreaBottom"/>
                <a:pathLst>
                  <a:path w="295" h="301">
                    <a:moveTo>
                      <a:pt x="36" y="301"/>
                    </a:moveTo>
                    <a:lnTo>
                      <a:pt x="4" y="281"/>
                    </a:lnTo>
                    <a:lnTo>
                      <a:pt x="0" y="247"/>
                    </a:lnTo>
                    <a:lnTo>
                      <a:pt x="15" y="205"/>
                    </a:lnTo>
                    <a:lnTo>
                      <a:pt x="44" y="158"/>
                    </a:lnTo>
                    <a:lnTo>
                      <a:pt x="79" y="109"/>
                    </a:lnTo>
                    <a:lnTo>
                      <a:pt x="115" y="68"/>
                    </a:lnTo>
                    <a:lnTo>
                      <a:pt x="143" y="36"/>
                    </a:lnTo>
                    <a:lnTo>
                      <a:pt x="159" y="22"/>
                    </a:lnTo>
                    <a:lnTo>
                      <a:pt x="202" y="4"/>
                    </a:lnTo>
                    <a:lnTo>
                      <a:pt x="239" y="0"/>
                    </a:lnTo>
                    <a:lnTo>
                      <a:pt x="267" y="4"/>
                    </a:lnTo>
                    <a:lnTo>
                      <a:pt x="288" y="19"/>
                    </a:lnTo>
                    <a:lnTo>
                      <a:pt x="295" y="41"/>
                    </a:lnTo>
                    <a:lnTo>
                      <a:pt x="291" y="72"/>
                    </a:lnTo>
                    <a:lnTo>
                      <a:pt x="271" y="108"/>
                    </a:lnTo>
                    <a:lnTo>
                      <a:pt x="237" y="149"/>
                    </a:lnTo>
                    <a:lnTo>
                      <a:pt x="231" y="170"/>
                    </a:lnTo>
                    <a:lnTo>
                      <a:pt x="215" y="195"/>
                    </a:lnTo>
                    <a:lnTo>
                      <a:pt x="190" y="220"/>
                    </a:lnTo>
                    <a:lnTo>
                      <a:pt x="159" y="246"/>
                    </a:lnTo>
                    <a:lnTo>
                      <a:pt x="125" y="267"/>
                    </a:lnTo>
                    <a:lnTo>
                      <a:pt x="91" y="285"/>
                    </a:lnTo>
                    <a:lnTo>
                      <a:pt x="60" y="296"/>
                    </a:lnTo>
                    <a:lnTo>
                      <a:pt x="36" y="30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30"/>
              <p:cNvSpPr/>
              <p:nvPr/>
            </p:nvSpPr>
            <p:spPr>
              <a:xfrm>
                <a:off x="5454720" y="3181680"/>
                <a:ext cx="491760" cy="37476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524" h="485">
                    <a:moveTo>
                      <a:pt x="217" y="485"/>
                    </a:moveTo>
                    <a:lnTo>
                      <a:pt x="171" y="466"/>
                    </a:lnTo>
                    <a:lnTo>
                      <a:pt x="138" y="442"/>
                    </a:lnTo>
                    <a:lnTo>
                      <a:pt x="113" y="415"/>
                    </a:lnTo>
                    <a:lnTo>
                      <a:pt x="98" y="384"/>
                    </a:lnTo>
                    <a:lnTo>
                      <a:pt x="87" y="348"/>
                    </a:lnTo>
                    <a:lnTo>
                      <a:pt x="82" y="311"/>
                    </a:lnTo>
                    <a:lnTo>
                      <a:pt x="80" y="271"/>
                    </a:lnTo>
                    <a:lnTo>
                      <a:pt x="80" y="229"/>
                    </a:lnTo>
                    <a:lnTo>
                      <a:pt x="83" y="227"/>
                    </a:lnTo>
                    <a:lnTo>
                      <a:pt x="94" y="224"/>
                    </a:lnTo>
                    <a:lnTo>
                      <a:pt x="108" y="218"/>
                    </a:lnTo>
                    <a:lnTo>
                      <a:pt x="127" y="214"/>
                    </a:lnTo>
                    <a:lnTo>
                      <a:pt x="145" y="207"/>
                    </a:lnTo>
                    <a:lnTo>
                      <a:pt x="163" y="203"/>
                    </a:lnTo>
                    <a:lnTo>
                      <a:pt x="177" y="198"/>
                    </a:lnTo>
                    <a:lnTo>
                      <a:pt x="188" y="195"/>
                    </a:lnTo>
                    <a:lnTo>
                      <a:pt x="189" y="193"/>
                    </a:lnTo>
                    <a:lnTo>
                      <a:pt x="191" y="192"/>
                    </a:lnTo>
                    <a:lnTo>
                      <a:pt x="182" y="191"/>
                    </a:lnTo>
                    <a:lnTo>
                      <a:pt x="171" y="191"/>
                    </a:lnTo>
                    <a:lnTo>
                      <a:pt x="155" y="192"/>
                    </a:lnTo>
                    <a:lnTo>
                      <a:pt x="140" y="195"/>
                    </a:lnTo>
                    <a:lnTo>
                      <a:pt x="122" y="196"/>
                    </a:lnTo>
                    <a:lnTo>
                      <a:pt x="106" y="199"/>
                    </a:lnTo>
                    <a:lnTo>
                      <a:pt x="94" y="200"/>
                    </a:lnTo>
                    <a:lnTo>
                      <a:pt x="87" y="203"/>
                    </a:lnTo>
                    <a:lnTo>
                      <a:pt x="40" y="185"/>
                    </a:lnTo>
                    <a:lnTo>
                      <a:pt x="12" y="159"/>
                    </a:lnTo>
                    <a:lnTo>
                      <a:pt x="0" y="126"/>
                    </a:lnTo>
                    <a:lnTo>
                      <a:pt x="3" y="91"/>
                    </a:lnTo>
                    <a:lnTo>
                      <a:pt x="17" y="56"/>
                    </a:lnTo>
                    <a:lnTo>
                      <a:pt x="41" y="27"/>
                    </a:lnTo>
                    <a:lnTo>
                      <a:pt x="75" y="7"/>
                    </a:lnTo>
                    <a:lnTo>
                      <a:pt x="116" y="0"/>
                    </a:lnTo>
                    <a:lnTo>
                      <a:pt x="129" y="15"/>
                    </a:lnTo>
                    <a:lnTo>
                      <a:pt x="145" y="33"/>
                    </a:lnTo>
                    <a:lnTo>
                      <a:pt x="162" y="52"/>
                    </a:lnTo>
                    <a:lnTo>
                      <a:pt x="180" y="72"/>
                    </a:lnTo>
                    <a:lnTo>
                      <a:pt x="198" y="88"/>
                    </a:lnTo>
                    <a:lnTo>
                      <a:pt x="218" y="106"/>
                    </a:lnTo>
                    <a:lnTo>
                      <a:pt x="239" y="121"/>
                    </a:lnTo>
                    <a:lnTo>
                      <a:pt x="261" y="134"/>
                    </a:lnTo>
                    <a:lnTo>
                      <a:pt x="282" y="127"/>
                    </a:lnTo>
                    <a:lnTo>
                      <a:pt x="307" y="131"/>
                    </a:lnTo>
                    <a:lnTo>
                      <a:pt x="333" y="139"/>
                    </a:lnTo>
                    <a:lnTo>
                      <a:pt x="364" y="149"/>
                    </a:lnTo>
                    <a:lnTo>
                      <a:pt x="394" y="153"/>
                    </a:lnTo>
                    <a:lnTo>
                      <a:pt x="426" y="148"/>
                    </a:lnTo>
                    <a:lnTo>
                      <a:pt x="456" y="127"/>
                    </a:lnTo>
                    <a:lnTo>
                      <a:pt x="488" y="87"/>
                    </a:lnTo>
                    <a:lnTo>
                      <a:pt x="492" y="84"/>
                    </a:lnTo>
                    <a:lnTo>
                      <a:pt x="499" y="84"/>
                    </a:lnTo>
                    <a:lnTo>
                      <a:pt x="512" y="99"/>
                    </a:lnTo>
                    <a:lnTo>
                      <a:pt x="520" y="120"/>
                    </a:lnTo>
                    <a:lnTo>
                      <a:pt x="524" y="141"/>
                    </a:lnTo>
                    <a:lnTo>
                      <a:pt x="524" y="163"/>
                    </a:lnTo>
                    <a:lnTo>
                      <a:pt x="520" y="185"/>
                    </a:lnTo>
                    <a:lnTo>
                      <a:pt x="513" y="207"/>
                    </a:lnTo>
                    <a:lnTo>
                      <a:pt x="501" y="227"/>
                    </a:lnTo>
                    <a:lnTo>
                      <a:pt x="488" y="247"/>
                    </a:lnTo>
                    <a:lnTo>
                      <a:pt x="477" y="250"/>
                    </a:lnTo>
                    <a:lnTo>
                      <a:pt x="467" y="253"/>
                    </a:lnTo>
                    <a:lnTo>
                      <a:pt x="456" y="256"/>
                    </a:lnTo>
                    <a:lnTo>
                      <a:pt x="447" y="260"/>
                    </a:lnTo>
                    <a:lnTo>
                      <a:pt x="434" y="262"/>
                    </a:lnTo>
                    <a:lnTo>
                      <a:pt x="424" y="265"/>
                    </a:lnTo>
                    <a:lnTo>
                      <a:pt x="416" y="269"/>
                    </a:lnTo>
                    <a:lnTo>
                      <a:pt x="409" y="274"/>
                    </a:lnTo>
                    <a:lnTo>
                      <a:pt x="409" y="257"/>
                    </a:lnTo>
                    <a:lnTo>
                      <a:pt x="412" y="243"/>
                    </a:lnTo>
                    <a:lnTo>
                      <a:pt x="415" y="231"/>
                    </a:lnTo>
                    <a:lnTo>
                      <a:pt x="420" y="220"/>
                    </a:lnTo>
                    <a:lnTo>
                      <a:pt x="424" y="207"/>
                    </a:lnTo>
                    <a:lnTo>
                      <a:pt x="429" y="196"/>
                    </a:lnTo>
                    <a:lnTo>
                      <a:pt x="431" y="184"/>
                    </a:lnTo>
                    <a:lnTo>
                      <a:pt x="436" y="171"/>
                    </a:lnTo>
                    <a:lnTo>
                      <a:pt x="401" y="193"/>
                    </a:lnTo>
                    <a:lnTo>
                      <a:pt x="382" y="233"/>
                    </a:lnTo>
                    <a:lnTo>
                      <a:pt x="369" y="285"/>
                    </a:lnTo>
                    <a:lnTo>
                      <a:pt x="361" y="340"/>
                    </a:lnTo>
                    <a:lnTo>
                      <a:pt x="346" y="394"/>
                    </a:lnTo>
                    <a:lnTo>
                      <a:pt x="322" y="439"/>
                    </a:lnTo>
                    <a:lnTo>
                      <a:pt x="281" y="473"/>
                    </a:lnTo>
                    <a:lnTo>
                      <a:pt x="217" y="48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31"/>
              <p:cNvSpPr/>
              <p:nvPr/>
            </p:nvSpPr>
            <p:spPr>
              <a:xfrm>
                <a:off x="5915160" y="3031200"/>
                <a:ext cx="237600" cy="32184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321840"/>
                  <a:gd name="textAreaBottom" fmla="*/ 322200 h 321840"/>
                </a:gdLst>
                <a:ahLst/>
                <a:rect l="textAreaLeft" t="textAreaTop" r="textAreaRight" b="textAreaBottom"/>
                <a:pathLst>
                  <a:path w="250" h="415">
                    <a:moveTo>
                      <a:pt x="116" y="415"/>
                    </a:moveTo>
                    <a:lnTo>
                      <a:pt x="106" y="412"/>
                    </a:lnTo>
                    <a:lnTo>
                      <a:pt x="98" y="411"/>
                    </a:lnTo>
                    <a:lnTo>
                      <a:pt x="90" y="408"/>
                    </a:lnTo>
                    <a:lnTo>
                      <a:pt x="81" y="407"/>
                    </a:lnTo>
                    <a:lnTo>
                      <a:pt x="73" y="403"/>
                    </a:lnTo>
                    <a:lnTo>
                      <a:pt x="65" y="400"/>
                    </a:lnTo>
                    <a:lnTo>
                      <a:pt x="58" y="397"/>
                    </a:lnTo>
                    <a:lnTo>
                      <a:pt x="52" y="394"/>
                    </a:lnTo>
                    <a:lnTo>
                      <a:pt x="51" y="374"/>
                    </a:lnTo>
                    <a:lnTo>
                      <a:pt x="50" y="354"/>
                    </a:lnTo>
                    <a:lnTo>
                      <a:pt x="47" y="335"/>
                    </a:lnTo>
                    <a:lnTo>
                      <a:pt x="44" y="318"/>
                    </a:lnTo>
                    <a:lnTo>
                      <a:pt x="37" y="302"/>
                    </a:lnTo>
                    <a:lnTo>
                      <a:pt x="29" y="288"/>
                    </a:lnTo>
                    <a:lnTo>
                      <a:pt x="16" y="274"/>
                    </a:lnTo>
                    <a:lnTo>
                      <a:pt x="3" y="266"/>
                    </a:lnTo>
                    <a:lnTo>
                      <a:pt x="0" y="241"/>
                    </a:lnTo>
                    <a:lnTo>
                      <a:pt x="3" y="210"/>
                    </a:lnTo>
                    <a:lnTo>
                      <a:pt x="7" y="177"/>
                    </a:lnTo>
                    <a:lnTo>
                      <a:pt x="15" y="143"/>
                    </a:lnTo>
                    <a:lnTo>
                      <a:pt x="22" y="105"/>
                    </a:lnTo>
                    <a:lnTo>
                      <a:pt x="30" y="72"/>
                    </a:lnTo>
                    <a:lnTo>
                      <a:pt x="36" y="43"/>
                    </a:lnTo>
                    <a:lnTo>
                      <a:pt x="41" y="20"/>
                    </a:lnTo>
                    <a:lnTo>
                      <a:pt x="62" y="14"/>
                    </a:lnTo>
                    <a:lnTo>
                      <a:pt x="80" y="9"/>
                    </a:lnTo>
                    <a:lnTo>
                      <a:pt x="94" y="4"/>
                    </a:lnTo>
                    <a:lnTo>
                      <a:pt x="109" y="2"/>
                    </a:lnTo>
                    <a:lnTo>
                      <a:pt x="122" y="0"/>
                    </a:lnTo>
                    <a:lnTo>
                      <a:pt x="140" y="4"/>
                    </a:lnTo>
                    <a:lnTo>
                      <a:pt x="160" y="13"/>
                    </a:lnTo>
                    <a:lnTo>
                      <a:pt x="189" y="28"/>
                    </a:lnTo>
                    <a:lnTo>
                      <a:pt x="202" y="56"/>
                    </a:lnTo>
                    <a:lnTo>
                      <a:pt x="202" y="85"/>
                    </a:lnTo>
                    <a:lnTo>
                      <a:pt x="192" y="114"/>
                    </a:lnTo>
                    <a:lnTo>
                      <a:pt x="178" y="144"/>
                    </a:lnTo>
                    <a:lnTo>
                      <a:pt x="164" y="172"/>
                    </a:lnTo>
                    <a:lnTo>
                      <a:pt x="156" y="201"/>
                    </a:lnTo>
                    <a:lnTo>
                      <a:pt x="159" y="228"/>
                    </a:lnTo>
                    <a:lnTo>
                      <a:pt x="177" y="255"/>
                    </a:lnTo>
                    <a:lnTo>
                      <a:pt x="202" y="264"/>
                    </a:lnTo>
                    <a:lnTo>
                      <a:pt x="223" y="280"/>
                    </a:lnTo>
                    <a:lnTo>
                      <a:pt x="238" y="297"/>
                    </a:lnTo>
                    <a:lnTo>
                      <a:pt x="249" y="321"/>
                    </a:lnTo>
                    <a:lnTo>
                      <a:pt x="250" y="343"/>
                    </a:lnTo>
                    <a:lnTo>
                      <a:pt x="245" y="367"/>
                    </a:lnTo>
                    <a:lnTo>
                      <a:pt x="231" y="389"/>
                    </a:lnTo>
                    <a:lnTo>
                      <a:pt x="210" y="411"/>
                    </a:lnTo>
                    <a:lnTo>
                      <a:pt x="202" y="411"/>
                    </a:lnTo>
                    <a:lnTo>
                      <a:pt x="196" y="412"/>
                    </a:lnTo>
                    <a:lnTo>
                      <a:pt x="189" y="412"/>
                    </a:lnTo>
                    <a:lnTo>
                      <a:pt x="182" y="414"/>
                    </a:lnTo>
                    <a:lnTo>
                      <a:pt x="171" y="414"/>
                    </a:lnTo>
                    <a:lnTo>
                      <a:pt x="158" y="414"/>
                    </a:lnTo>
                    <a:lnTo>
                      <a:pt x="138" y="414"/>
                    </a:lnTo>
                    <a:lnTo>
                      <a:pt x="116" y="41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32"/>
              <p:cNvSpPr/>
              <p:nvPr/>
            </p:nvSpPr>
            <p:spPr>
              <a:xfrm>
                <a:off x="5313600" y="2327040"/>
                <a:ext cx="883800" cy="960840"/>
              </a:xfrm>
              <a:custGeom>
                <a:avLst/>
                <a:gdLst>
                  <a:gd name="textAreaLeft" fmla="*/ 0 w 883800"/>
                  <a:gd name="textAreaRight" fmla="*/ 884160 w 883800"/>
                  <a:gd name="textAreaTop" fmla="*/ 0 h 960840"/>
                  <a:gd name="textAreaBottom" fmla="*/ 961200 h 960840"/>
                </a:gdLst>
                <a:ahLst/>
                <a:rect l="textAreaLeft" t="textAreaTop" r="textAreaRight" b="textAreaBottom"/>
                <a:pathLst>
                  <a:path w="940" h="1245">
                    <a:moveTo>
                      <a:pt x="540" y="1245"/>
                    </a:moveTo>
                    <a:lnTo>
                      <a:pt x="475" y="1223"/>
                    </a:lnTo>
                    <a:lnTo>
                      <a:pt x="421" y="1185"/>
                    </a:lnTo>
                    <a:lnTo>
                      <a:pt x="377" y="1132"/>
                    </a:lnTo>
                    <a:lnTo>
                      <a:pt x="341" y="1071"/>
                    </a:lnTo>
                    <a:lnTo>
                      <a:pt x="311" y="1004"/>
                    </a:lnTo>
                    <a:lnTo>
                      <a:pt x="289" y="936"/>
                    </a:lnTo>
                    <a:lnTo>
                      <a:pt x="272" y="869"/>
                    </a:lnTo>
                    <a:lnTo>
                      <a:pt x="262" y="811"/>
                    </a:lnTo>
                    <a:lnTo>
                      <a:pt x="257" y="799"/>
                    </a:lnTo>
                    <a:lnTo>
                      <a:pt x="254" y="792"/>
                    </a:lnTo>
                    <a:lnTo>
                      <a:pt x="250" y="786"/>
                    </a:lnTo>
                    <a:lnTo>
                      <a:pt x="244" y="782"/>
                    </a:lnTo>
                    <a:lnTo>
                      <a:pt x="242" y="822"/>
                    </a:lnTo>
                    <a:lnTo>
                      <a:pt x="249" y="868"/>
                    </a:lnTo>
                    <a:lnTo>
                      <a:pt x="260" y="916"/>
                    </a:lnTo>
                    <a:lnTo>
                      <a:pt x="276" y="966"/>
                    </a:lnTo>
                    <a:lnTo>
                      <a:pt x="294" y="1015"/>
                    </a:lnTo>
                    <a:lnTo>
                      <a:pt x="316" y="1062"/>
                    </a:lnTo>
                    <a:lnTo>
                      <a:pt x="338" y="1106"/>
                    </a:lnTo>
                    <a:lnTo>
                      <a:pt x="361" y="1146"/>
                    </a:lnTo>
                    <a:lnTo>
                      <a:pt x="372" y="1158"/>
                    </a:lnTo>
                    <a:lnTo>
                      <a:pt x="381" y="1169"/>
                    </a:lnTo>
                    <a:lnTo>
                      <a:pt x="387" y="1176"/>
                    </a:lnTo>
                    <a:lnTo>
                      <a:pt x="392" y="1183"/>
                    </a:lnTo>
                    <a:lnTo>
                      <a:pt x="398" y="1189"/>
                    </a:lnTo>
                    <a:lnTo>
                      <a:pt x="401" y="1196"/>
                    </a:lnTo>
                    <a:lnTo>
                      <a:pt x="396" y="1197"/>
                    </a:lnTo>
                    <a:lnTo>
                      <a:pt x="395" y="1201"/>
                    </a:lnTo>
                    <a:lnTo>
                      <a:pt x="323" y="1142"/>
                    </a:lnTo>
                    <a:lnTo>
                      <a:pt x="268" y="1078"/>
                    </a:lnTo>
                    <a:lnTo>
                      <a:pt x="224" y="1008"/>
                    </a:lnTo>
                    <a:lnTo>
                      <a:pt x="192" y="934"/>
                    </a:lnTo>
                    <a:lnTo>
                      <a:pt x="166" y="856"/>
                    </a:lnTo>
                    <a:lnTo>
                      <a:pt x="143" y="777"/>
                    </a:lnTo>
                    <a:lnTo>
                      <a:pt x="124" y="694"/>
                    </a:lnTo>
                    <a:lnTo>
                      <a:pt x="105" y="611"/>
                    </a:lnTo>
                    <a:lnTo>
                      <a:pt x="103" y="597"/>
                    </a:lnTo>
                    <a:lnTo>
                      <a:pt x="103" y="589"/>
                    </a:lnTo>
                    <a:lnTo>
                      <a:pt x="105" y="583"/>
                    </a:lnTo>
                    <a:lnTo>
                      <a:pt x="107" y="580"/>
                    </a:lnTo>
                    <a:lnTo>
                      <a:pt x="109" y="575"/>
                    </a:lnTo>
                    <a:lnTo>
                      <a:pt x="112" y="571"/>
                    </a:lnTo>
                    <a:lnTo>
                      <a:pt x="114" y="565"/>
                    </a:lnTo>
                    <a:lnTo>
                      <a:pt x="119" y="558"/>
                    </a:lnTo>
                    <a:lnTo>
                      <a:pt x="113" y="558"/>
                    </a:lnTo>
                    <a:lnTo>
                      <a:pt x="107" y="558"/>
                    </a:lnTo>
                    <a:lnTo>
                      <a:pt x="74" y="571"/>
                    </a:lnTo>
                    <a:lnTo>
                      <a:pt x="51" y="568"/>
                    </a:lnTo>
                    <a:lnTo>
                      <a:pt x="31" y="551"/>
                    </a:lnTo>
                    <a:lnTo>
                      <a:pt x="18" y="528"/>
                    </a:lnTo>
                    <a:lnTo>
                      <a:pt x="8" y="498"/>
                    </a:lnTo>
                    <a:lnTo>
                      <a:pt x="2" y="467"/>
                    </a:lnTo>
                    <a:lnTo>
                      <a:pt x="0" y="438"/>
                    </a:lnTo>
                    <a:lnTo>
                      <a:pt x="0" y="416"/>
                    </a:lnTo>
                    <a:lnTo>
                      <a:pt x="26" y="392"/>
                    </a:lnTo>
                    <a:lnTo>
                      <a:pt x="47" y="383"/>
                    </a:lnTo>
                    <a:lnTo>
                      <a:pt x="62" y="381"/>
                    </a:lnTo>
                    <a:lnTo>
                      <a:pt x="74" y="390"/>
                    </a:lnTo>
                    <a:lnTo>
                      <a:pt x="81" y="405"/>
                    </a:lnTo>
                    <a:lnTo>
                      <a:pt x="88" y="427"/>
                    </a:lnTo>
                    <a:lnTo>
                      <a:pt x="92" y="455"/>
                    </a:lnTo>
                    <a:lnTo>
                      <a:pt x="99" y="486"/>
                    </a:lnTo>
                    <a:lnTo>
                      <a:pt x="95" y="491"/>
                    </a:lnTo>
                    <a:lnTo>
                      <a:pt x="91" y="495"/>
                    </a:lnTo>
                    <a:lnTo>
                      <a:pt x="96" y="495"/>
                    </a:lnTo>
                    <a:lnTo>
                      <a:pt x="103" y="495"/>
                    </a:lnTo>
                    <a:lnTo>
                      <a:pt x="110" y="495"/>
                    </a:lnTo>
                    <a:lnTo>
                      <a:pt x="119" y="495"/>
                    </a:lnTo>
                    <a:lnTo>
                      <a:pt x="120" y="478"/>
                    </a:lnTo>
                    <a:lnTo>
                      <a:pt x="124" y="463"/>
                    </a:lnTo>
                    <a:lnTo>
                      <a:pt x="128" y="448"/>
                    </a:lnTo>
                    <a:lnTo>
                      <a:pt x="134" y="435"/>
                    </a:lnTo>
                    <a:lnTo>
                      <a:pt x="138" y="420"/>
                    </a:lnTo>
                    <a:lnTo>
                      <a:pt x="143" y="406"/>
                    </a:lnTo>
                    <a:lnTo>
                      <a:pt x="148" y="392"/>
                    </a:lnTo>
                    <a:lnTo>
                      <a:pt x="152" y="379"/>
                    </a:lnTo>
                    <a:lnTo>
                      <a:pt x="146" y="316"/>
                    </a:lnTo>
                    <a:lnTo>
                      <a:pt x="141" y="269"/>
                    </a:lnTo>
                    <a:lnTo>
                      <a:pt x="136" y="232"/>
                    </a:lnTo>
                    <a:lnTo>
                      <a:pt x="138" y="202"/>
                    </a:lnTo>
                    <a:lnTo>
                      <a:pt x="145" y="171"/>
                    </a:lnTo>
                    <a:lnTo>
                      <a:pt x="166" y="139"/>
                    </a:lnTo>
                    <a:lnTo>
                      <a:pt x="199" y="99"/>
                    </a:lnTo>
                    <a:lnTo>
                      <a:pt x="250" y="47"/>
                    </a:lnTo>
                    <a:lnTo>
                      <a:pt x="255" y="37"/>
                    </a:lnTo>
                    <a:lnTo>
                      <a:pt x="261" y="30"/>
                    </a:lnTo>
                    <a:lnTo>
                      <a:pt x="265" y="25"/>
                    </a:lnTo>
                    <a:lnTo>
                      <a:pt x="269" y="21"/>
                    </a:lnTo>
                    <a:lnTo>
                      <a:pt x="276" y="11"/>
                    </a:lnTo>
                    <a:lnTo>
                      <a:pt x="289" y="0"/>
                    </a:lnTo>
                    <a:lnTo>
                      <a:pt x="290" y="0"/>
                    </a:lnTo>
                    <a:lnTo>
                      <a:pt x="291" y="0"/>
                    </a:lnTo>
                    <a:lnTo>
                      <a:pt x="287" y="18"/>
                    </a:lnTo>
                    <a:lnTo>
                      <a:pt x="280" y="43"/>
                    </a:lnTo>
                    <a:lnTo>
                      <a:pt x="269" y="70"/>
                    </a:lnTo>
                    <a:lnTo>
                      <a:pt x="258" y="102"/>
                    </a:lnTo>
                    <a:lnTo>
                      <a:pt x="243" y="130"/>
                    </a:lnTo>
                    <a:lnTo>
                      <a:pt x="228" y="156"/>
                    </a:lnTo>
                    <a:lnTo>
                      <a:pt x="213" y="175"/>
                    </a:lnTo>
                    <a:lnTo>
                      <a:pt x="197" y="189"/>
                    </a:lnTo>
                    <a:lnTo>
                      <a:pt x="211" y="186"/>
                    </a:lnTo>
                    <a:lnTo>
                      <a:pt x="225" y="180"/>
                    </a:lnTo>
                    <a:lnTo>
                      <a:pt x="235" y="170"/>
                    </a:lnTo>
                    <a:lnTo>
                      <a:pt x="244" y="160"/>
                    </a:lnTo>
                    <a:lnTo>
                      <a:pt x="251" y="148"/>
                    </a:lnTo>
                    <a:lnTo>
                      <a:pt x="260" y="138"/>
                    </a:lnTo>
                    <a:lnTo>
                      <a:pt x="268" y="130"/>
                    </a:lnTo>
                    <a:lnTo>
                      <a:pt x="279" y="126"/>
                    </a:lnTo>
                    <a:lnTo>
                      <a:pt x="275" y="151"/>
                    </a:lnTo>
                    <a:lnTo>
                      <a:pt x="272" y="181"/>
                    </a:lnTo>
                    <a:lnTo>
                      <a:pt x="266" y="214"/>
                    </a:lnTo>
                    <a:lnTo>
                      <a:pt x="261" y="250"/>
                    </a:lnTo>
                    <a:lnTo>
                      <a:pt x="251" y="282"/>
                    </a:lnTo>
                    <a:lnTo>
                      <a:pt x="242" y="315"/>
                    </a:lnTo>
                    <a:lnTo>
                      <a:pt x="229" y="341"/>
                    </a:lnTo>
                    <a:lnTo>
                      <a:pt x="213" y="363"/>
                    </a:lnTo>
                    <a:lnTo>
                      <a:pt x="218" y="362"/>
                    </a:lnTo>
                    <a:lnTo>
                      <a:pt x="228" y="359"/>
                    </a:lnTo>
                    <a:lnTo>
                      <a:pt x="236" y="354"/>
                    </a:lnTo>
                    <a:lnTo>
                      <a:pt x="247" y="348"/>
                    </a:lnTo>
                    <a:lnTo>
                      <a:pt x="257" y="340"/>
                    </a:lnTo>
                    <a:lnTo>
                      <a:pt x="266" y="333"/>
                    </a:lnTo>
                    <a:lnTo>
                      <a:pt x="275" y="328"/>
                    </a:lnTo>
                    <a:lnTo>
                      <a:pt x="284" y="323"/>
                    </a:lnTo>
                    <a:lnTo>
                      <a:pt x="298" y="323"/>
                    </a:lnTo>
                    <a:lnTo>
                      <a:pt x="314" y="325"/>
                    </a:lnTo>
                    <a:lnTo>
                      <a:pt x="327" y="326"/>
                    </a:lnTo>
                    <a:lnTo>
                      <a:pt x="344" y="329"/>
                    </a:lnTo>
                    <a:lnTo>
                      <a:pt x="358" y="329"/>
                    </a:lnTo>
                    <a:lnTo>
                      <a:pt x="374" y="329"/>
                    </a:lnTo>
                    <a:lnTo>
                      <a:pt x="391" y="326"/>
                    </a:lnTo>
                    <a:lnTo>
                      <a:pt x="408" y="323"/>
                    </a:lnTo>
                    <a:lnTo>
                      <a:pt x="435" y="283"/>
                    </a:lnTo>
                    <a:lnTo>
                      <a:pt x="461" y="257"/>
                    </a:lnTo>
                    <a:lnTo>
                      <a:pt x="484" y="240"/>
                    </a:lnTo>
                    <a:lnTo>
                      <a:pt x="508" y="232"/>
                    </a:lnTo>
                    <a:lnTo>
                      <a:pt x="532" y="225"/>
                    </a:lnTo>
                    <a:lnTo>
                      <a:pt x="561" y="218"/>
                    </a:lnTo>
                    <a:lnTo>
                      <a:pt x="594" y="209"/>
                    </a:lnTo>
                    <a:lnTo>
                      <a:pt x="634" y="192"/>
                    </a:lnTo>
                    <a:lnTo>
                      <a:pt x="662" y="170"/>
                    </a:lnTo>
                    <a:lnTo>
                      <a:pt x="698" y="144"/>
                    </a:lnTo>
                    <a:lnTo>
                      <a:pt x="737" y="115"/>
                    </a:lnTo>
                    <a:lnTo>
                      <a:pt x="780" y="87"/>
                    </a:lnTo>
                    <a:lnTo>
                      <a:pt x="821" y="59"/>
                    </a:lnTo>
                    <a:lnTo>
                      <a:pt x="864" y="37"/>
                    </a:lnTo>
                    <a:lnTo>
                      <a:pt x="903" y="21"/>
                    </a:lnTo>
                    <a:lnTo>
                      <a:pt x="937" y="12"/>
                    </a:lnTo>
                    <a:lnTo>
                      <a:pt x="936" y="16"/>
                    </a:lnTo>
                    <a:lnTo>
                      <a:pt x="937" y="25"/>
                    </a:lnTo>
                    <a:lnTo>
                      <a:pt x="937" y="29"/>
                    </a:lnTo>
                    <a:lnTo>
                      <a:pt x="939" y="36"/>
                    </a:lnTo>
                    <a:lnTo>
                      <a:pt x="939" y="44"/>
                    </a:lnTo>
                    <a:lnTo>
                      <a:pt x="940" y="52"/>
                    </a:lnTo>
                    <a:lnTo>
                      <a:pt x="912" y="90"/>
                    </a:lnTo>
                    <a:lnTo>
                      <a:pt x="880" y="131"/>
                    </a:lnTo>
                    <a:lnTo>
                      <a:pt x="842" y="174"/>
                    </a:lnTo>
                    <a:lnTo>
                      <a:pt x="802" y="217"/>
                    </a:lnTo>
                    <a:lnTo>
                      <a:pt x="757" y="256"/>
                    </a:lnTo>
                    <a:lnTo>
                      <a:pt x="715" y="292"/>
                    </a:lnTo>
                    <a:lnTo>
                      <a:pt x="673" y="319"/>
                    </a:lnTo>
                    <a:lnTo>
                      <a:pt x="637" y="339"/>
                    </a:lnTo>
                    <a:lnTo>
                      <a:pt x="655" y="336"/>
                    </a:lnTo>
                    <a:lnTo>
                      <a:pt x="669" y="330"/>
                    </a:lnTo>
                    <a:lnTo>
                      <a:pt x="679" y="323"/>
                    </a:lnTo>
                    <a:lnTo>
                      <a:pt x="688" y="319"/>
                    </a:lnTo>
                    <a:lnTo>
                      <a:pt x="694" y="316"/>
                    </a:lnTo>
                    <a:lnTo>
                      <a:pt x="702" y="319"/>
                    </a:lnTo>
                    <a:lnTo>
                      <a:pt x="710" y="329"/>
                    </a:lnTo>
                    <a:lnTo>
                      <a:pt x="724" y="350"/>
                    </a:lnTo>
                    <a:lnTo>
                      <a:pt x="742" y="369"/>
                    </a:lnTo>
                    <a:lnTo>
                      <a:pt x="757" y="388"/>
                    </a:lnTo>
                    <a:lnTo>
                      <a:pt x="767" y="405"/>
                    </a:lnTo>
                    <a:lnTo>
                      <a:pt x="775" y="424"/>
                    </a:lnTo>
                    <a:lnTo>
                      <a:pt x="777" y="442"/>
                    </a:lnTo>
                    <a:lnTo>
                      <a:pt x="777" y="466"/>
                    </a:lnTo>
                    <a:lnTo>
                      <a:pt x="773" y="492"/>
                    </a:lnTo>
                    <a:lnTo>
                      <a:pt x="768" y="524"/>
                    </a:lnTo>
                    <a:lnTo>
                      <a:pt x="742" y="611"/>
                    </a:lnTo>
                    <a:lnTo>
                      <a:pt x="724" y="679"/>
                    </a:lnTo>
                    <a:lnTo>
                      <a:pt x="709" y="731"/>
                    </a:lnTo>
                    <a:lnTo>
                      <a:pt x="699" y="773"/>
                    </a:lnTo>
                    <a:lnTo>
                      <a:pt x="688" y="807"/>
                    </a:lnTo>
                    <a:lnTo>
                      <a:pt x="680" y="843"/>
                    </a:lnTo>
                    <a:lnTo>
                      <a:pt x="669" y="883"/>
                    </a:lnTo>
                    <a:lnTo>
                      <a:pt x="658" y="932"/>
                    </a:lnTo>
                    <a:lnTo>
                      <a:pt x="652" y="962"/>
                    </a:lnTo>
                    <a:lnTo>
                      <a:pt x="647" y="994"/>
                    </a:lnTo>
                    <a:lnTo>
                      <a:pt x="643" y="1026"/>
                    </a:lnTo>
                    <a:lnTo>
                      <a:pt x="638" y="1059"/>
                    </a:lnTo>
                    <a:lnTo>
                      <a:pt x="633" y="1091"/>
                    </a:lnTo>
                    <a:lnTo>
                      <a:pt x="627" y="1122"/>
                    </a:lnTo>
                    <a:lnTo>
                      <a:pt x="623" y="1154"/>
                    </a:lnTo>
                    <a:lnTo>
                      <a:pt x="619" y="1187"/>
                    </a:lnTo>
                    <a:lnTo>
                      <a:pt x="612" y="1197"/>
                    </a:lnTo>
                    <a:lnTo>
                      <a:pt x="605" y="1208"/>
                    </a:lnTo>
                    <a:lnTo>
                      <a:pt x="596" y="1216"/>
                    </a:lnTo>
                    <a:lnTo>
                      <a:pt x="586" y="1226"/>
                    </a:lnTo>
                    <a:lnTo>
                      <a:pt x="573" y="1233"/>
                    </a:lnTo>
                    <a:lnTo>
                      <a:pt x="562" y="1240"/>
                    </a:lnTo>
                    <a:lnTo>
                      <a:pt x="551" y="1243"/>
                    </a:lnTo>
                    <a:lnTo>
                      <a:pt x="540" y="124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33"/>
              <p:cNvSpPr/>
              <p:nvPr/>
            </p:nvSpPr>
            <p:spPr>
              <a:xfrm>
                <a:off x="6313680" y="3177000"/>
                <a:ext cx="110160" cy="71280"/>
              </a:xfrm>
              <a:custGeom>
                <a:avLst/>
                <a:gdLst>
                  <a:gd name="textAreaLeft" fmla="*/ 0 w 110160"/>
                  <a:gd name="textAreaRight" fmla="*/ 110520 w 11016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116" h="93">
                    <a:moveTo>
                      <a:pt x="110" y="93"/>
                    </a:moveTo>
                    <a:lnTo>
                      <a:pt x="85" y="82"/>
                    </a:lnTo>
                    <a:lnTo>
                      <a:pt x="65" y="76"/>
                    </a:lnTo>
                    <a:lnTo>
                      <a:pt x="45" y="72"/>
                    </a:lnTo>
                    <a:lnTo>
                      <a:pt x="30" y="69"/>
                    </a:lnTo>
                    <a:lnTo>
                      <a:pt x="15" y="64"/>
                    </a:lnTo>
                    <a:lnTo>
                      <a:pt x="7" y="54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" y="17"/>
                    </a:lnTo>
                    <a:lnTo>
                      <a:pt x="13" y="20"/>
                    </a:lnTo>
                    <a:lnTo>
                      <a:pt x="16" y="11"/>
                    </a:lnTo>
                    <a:lnTo>
                      <a:pt x="19" y="6"/>
                    </a:lnTo>
                    <a:lnTo>
                      <a:pt x="22" y="0"/>
                    </a:lnTo>
                    <a:lnTo>
                      <a:pt x="31" y="0"/>
                    </a:lnTo>
                    <a:lnTo>
                      <a:pt x="43" y="9"/>
                    </a:lnTo>
                    <a:lnTo>
                      <a:pt x="55" y="18"/>
                    </a:lnTo>
                    <a:lnTo>
                      <a:pt x="65" y="28"/>
                    </a:lnTo>
                    <a:lnTo>
                      <a:pt x="76" y="39"/>
                    </a:lnTo>
                    <a:lnTo>
                      <a:pt x="85" y="49"/>
                    </a:lnTo>
                    <a:lnTo>
                      <a:pt x="95" y="61"/>
                    </a:lnTo>
                    <a:lnTo>
                      <a:pt x="105" y="74"/>
                    </a:lnTo>
                    <a:lnTo>
                      <a:pt x="116" y="90"/>
                    </a:lnTo>
                    <a:lnTo>
                      <a:pt x="113" y="92"/>
                    </a:lnTo>
                    <a:lnTo>
                      <a:pt x="110" y="93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34"/>
              <p:cNvSpPr/>
              <p:nvPr/>
            </p:nvSpPr>
            <p:spPr>
              <a:xfrm>
                <a:off x="5664240" y="2642040"/>
                <a:ext cx="318600" cy="581040"/>
              </a:xfrm>
              <a:custGeom>
                <a:avLst/>
                <a:gdLst>
                  <a:gd name="textAreaLeft" fmla="*/ 0 w 318600"/>
                  <a:gd name="textAreaRight" fmla="*/ 318960 w 31860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337" h="755">
                    <a:moveTo>
                      <a:pt x="151" y="755"/>
                    </a:moveTo>
                    <a:lnTo>
                      <a:pt x="147" y="748"/>
                    </a:lnTo>
                    <a:lnTo>
                      <a:pt x="142" y="745"/>
                    </a:lnTo>
                    <a:lnTo>
                      <a:pt x="65" y="692"/>
                    </a:lnTo>
                    <a:lnTo>
                      <a:pt x="21" y="625"/>
                    </a:lnTo>
                    <a:lnTo>
                      <a:pt x="0" y="548"/>
                    </a:lnTo>
                    <a:lnTo>
                      <a:pt x="3" y="465"/>
                    </a:lnTo>
                    <a:lnTo>
                      <a:pt x="19" y="376"/>
                    </a:lnTo>
                    <a:lnTo>
                      <a:pt x="47" y="292"/>
                    </a:lnTo>
                    <a:lnTo>
                      <a:pt x="82" y="210"/>
                    </a:lnTo>
                    <a:lnTo>
                      <a:pt x="116" y="139"/>
                    </a:lnTo>
                    <a:lnTo>
                      <a:pt x="133" y="114"/>
                    </a:lnTo>
                    <a:lnTo>
                      <a:pt x="158" y="85"/>
                    </a:lnTo>
                    <a:lnTo>
                      <a:pt x="185" y="54"/>
                    </a:lnTo>
                    <a:lnTo>
                      <a:pt x="218" y="28"/>
                    </a:lnTo>
                    <a:lnTo>
                      <a:pt x="250" y="7"/>
                    </a:lnTo>
                    <a:lnTo>
                      <a:pt x="282" y="0"/>
                    </a:lnTo>
                    <a:lnTo>
                      <a:pt x="311" y="9"/>
                    </a:lnTo>
                    <a:lnTo>
                      <a:pt x="336" y="39"/>
                    </a:lnTo>
                    <a:lnTo>
                      <a:pt x="337" y="107"/>
                    </a:lnTo>
                    <a:lnTo>
                      <a:pt x="330" y="177"/>
                    </a:lnTo>
                    <a:lnTo>
                      <a:pt x="315" y="251"/>
                    </a:lnTo>
                    <a:lnTo>
                      <a:pt x="297" y="325"/>
                    </a:lnTo>
                    <a:lnTo>
                      <a:pt x="277" y="400"/>
                    </a:lnTo>
                    <a:lnTo>
                      <a:pt x="259" y="474"/>
                    </a:lnTo>
                    <a:lnTo>
                      <a:pt x="245" y="551"/>
                    </a:lnTo>
                    <a:lnTo>
                      <a:pt x="241" y="627"/>
                    </a:lnTo>
                    <a:lnTo>
                      <a:pt x="235" y="661"/>
                    </a:lnTo>
                    <a:lnTo>
                      <a:pt x="232" y="687"/>
                    </a:lnTo>
                    <a:lnTo>
                      <a:pt x="228" y="705"/>
                    </a:lnTo>
                    <a:lnTo>
                      <a:pt x="224" y="719"/>
                    </a:lnTo>
                    <a:lnTo>
                      <a:pt x="213" y="727"/>
                    </a:lnTo>
                    <a:lnTo>
                      <a:pt x="199" y="734"/>
                    </a:lnTo>
                    <a:lnTo>
                      <a:pt x="178" y="743"/>
                    </a:lnTo>
                    <a:lnTo>
                      <a:pt x="151" y="7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35"/>
              <p:cNvSpPr/>
              <p:nvPr/>
            </p:nvSpPr>
            <p:spPr>
              <a:xfrm>
                <a:off x="5692320" y="2989440"/>
                <a:ext cx="188640" cy="219240"/>
              </a:xfrm>
              <a:custGeom>
                <a:avLst/>
                <a:gdLst>
                  <a:gd name="textAreaLeft" fmla="*/ 0 w 188640"/>
                  <a:gd name="textAreaRight" fmla="*/ 189000 w 188640"/>
                  <a:gd name="textAreaTop" fmla="*/ 0 h 219240"/>
                  <a:gd name="textAreaBottom" fmla="*/ 219600 h 219240"/>
                </a:gdLst>
                <a:ahLst/>
                <a:rect l="textAreaLeft" t="textAreaTop" r="textAreaRight" b="textAreaBottom"/>
                <a:pathLst>
                  <a:path w="202" h="285">
                    <a:moveTo>
                      <a:pt x="134" y="285"/>
                    </a:moveTo>
                    <a:lnTo>
                      <a:pt x="88" y="257"/>
                    </a:lnTo>
                    <a:lnTo>
                      <a:pt x="55" y="230"/>
                    </a:lnTo>
                    <a:lnTo>
                      <a:pt x="31" y="199"/>
                    </a:lnTo>
                    <a:lnTo>
                      <a:pt x="16" y="169"/>
                    </a:lnTo>
                    <a:lnTo>
                      <a:pt x="7" y="133"/>
                    </a:lnTo>
                    <a:lnTo>
                      <a:pt x="1" y="96"/>
                    </a:lnTo>
                    <a:lnTo>
                      <a:pt x="0" y="53"/>
                    </a:lnTo>
                    <a:lnTo>
                      <a:pt x="1" y="6"/>
                    </a:lnTo>
                    <a:lnTo>
                      <a:pt x="8" y="2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3" y="0"/>
                    </a:lnTo>
                    <a:lnTo>
                      <a:pt x="41" y="0"/>
                    </a:lnTo>
                    <a:lnTo>
                      <a:pt x="45" y="24"/>
                    </a:lnTo>
                    <a:lnTo>
                      <a:pt x="51" y="45"/>
                    </a:lnTo>
                    <a:lnTo>
                      <a:pt x="58" y="61"/>
                    </a:lnTo>
                    <a:lnTo>
                      <a:pt x="70" y="78"/>
                    </a:lnTo>
                    <a:lnTo>
                      <a:pt x="84" y="89"/>
                    </a:lnTo>
                    <a:lnTo>
                      <a:pt x="102" y="99"/>
                    </a:lnTo>
                    <a:lnTo>
                      <a:pt x="123" y="104"/>
                    </a:lnTo>
                    <a:lnTo>
                      <a:pt x="152" y="108"/>
                    </a:lnTo>
                    <a:lnTo>
                      <a:pt x="155" y="103"/>
                    </a:lnTo>
                    <a:lnTo>
                      <a:pt x="160" y="97"/>
                    </a:lnTo>
                    <a:lnTo>
                      <a:pt x="166" y="89"/>
                    </a:lnTo>
                    <a:lnTo>
                      <a:pt x="174" y="82"/>
                    </a:lnTo>
                    <a:lnTo>
                      <a:pt x="188" y="68"/>
                    </a:lnTo>
                    <a:lnTo>
                      <a:pt x="202" y="64"/>
                    </a:lnTo>
                    <a:lnTo>
                      <a:pt x="197" y="89"/>
                    </a:lnTo>
                    <a:lnTo>
                      <a:pt x="196" y="116"/>
                    </a:lnTo>
                    <a:lnTo>
                      <a:pt x="195" y="144"/>
                    </a:lnTo>
                    <a:lnTo>
                      <a:pt x="195" y="173"/>
                    </a:lnTo>
                    <a:lnTo>
                      <a:pt x="190" y="201"/>
                    </a:lnTo>
                    <a:lnTo>
                      <a:pt x="186" y="228"/>
                    </a:lnTo>
                    <a:lnTo>
                      <a:pt x="179" y="253"/>
                    </a:lnTo>
                    <a:lnTo>
                      <a:pt x="170" y="280"/>
                    </a:lnTo>
                    <a:lnTo>
                      <a:pt x="166" y="280"/>
                    </a:lnTo>
                    <a:lnTo>
                      <a:pt x="163" y="280"/>
                    </a:lnTo>
                    <a:lnTo>
                      <a:pt x="160" y="277"/>
                    </a:lnTo>
                    <a:lnTo>
                      <a:pt x="157" y="274"/>
                    </a:lnTo>
                    <a:lnTo>
                      <a:pt x="145" y="280"/>
                    </a:lnTo>
                    <a:lnTo>
                      <a:pt x="134" y="285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36"/>
              <p:cNvSpPr/>
              <p:nvPr/>
            </p:nvSpPr>
            <p:spPr>
              <a:xfrm>
                <a:off x="5694840" y="2914920"/>
                <a:ext cx="195120" cy="148320"/>
              </a:xfrm>
              <a:custGeom>
                <a:avLst/>
                <a:gdLst>
                  <a:gd name="textAreaLeft" fmla="*/ 0 w 195120"/>
                  <a:gd name="textAreaRight" fmla="*/ 195480 w 195120"/>
                  <a:gd name="textAreaTop" fmla="*/ 0 h 148320"/>
                  <a:gd name="textAreaBottom" fmla="*/ 148680 h 148320"/>
                </a:gdLst>
                <a:ahLst/>
                <a:rect l="textAreaLeft" t="textAreaTop" r="textAreaRight" b="textAreaBottom"/>
                <a:pathLst>
                  <a:path w="205" h="194">
                    <a:moveTo>
                      <a:pt x="129" y="194"/>
                    </a:moveTo>
                    <a:lnTo>
                      <a:pt x="115" y="190"/>
                    </a:lnTo>
                    <a:lnTo>
                      <a:pt x="105" y="185"/>
                    </a:lnTo>
                    <a:lnTo>
                      <a:pt x="97" y="181"/>
                    </a:lnTo>
                    <a:lnTo>
                      <a:pt x="90" y="177"/>
                    </a:lnTo>
                    <a:lnTo>
                      <a:pt x="78" y="166"/>
                    </a:lnTo>
                    <a:lnTo>
                      <a:pt x="68" y="154"/>
                    </a:lnTo>
                    <a:lnTo>
                      <a:pt x="64" y="136"/>
                    </a:lnTo>
                    <a:lnTo>
                      <a:pt x="61" y="119"/>
                    </a:lnTo>
                    <a:lnTo>
                      <a:pt x="55" y="105"/>
                    </a:lnTo>
                    <a:lnTo>
                      <a:pt x="51" y="94"/>
                    </a:lnTo>
                    <a:lnTo>
                      <a:pt x="42" y="86"/>
                    </a:lnTo>
                    <a:lnTo>
                      <a:pt x="32" y="82"/>
                    </a:lnTo>
                    <a:lnTo>
                      <a:pt x="18" y="83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3" y="50"/>
                    </a:lnTo>
                    <a:lnTo>
                      <a:pt x="8" y="33"/>
                    </a:lnTo>
                    <a:lnTo>
                      <a:pt x="18" y="22"/>
                    </a:lnTo>
                    <a:lnTo>
                      <a:pt x="28" y="11"/>
                    </a:lnTo>
                    <a:lnTo>
                      <a:pt x="43" y="4"/>
                    </a:lnTo>
                    <a:lnTo>
                      <a:pt x="60" y="0"/>
                    </a:lnTo>
                    <a:lnTo>
                      <a:pt x="80" y="0"/>
                    </a:lnTo>
                    <a:lnTo>
                      <a:pt x="83" y="11"/>
                    </a:lnTo>
                    <a:lnTo>
                      <a:pt x="87" y="24"/>
                    </a:lnTo>
                    <a:lnTo>
                      <a:pt x="91" y="36"/>
                    </a:lnTo>
                    <a:lnTo>
                      <a:pt x="96" y="49"/>
                    </a:lnTo>
                    <a:lnTo>
                      <a:pt x="100" y="60"/>
                    </a:lnTo>
                    <a:lnTo>
                      <a:pt x="108" y="72"/>
                    </a:lnTo>
                    <a:lnTo>
                      <a:pt x="116" y="82"/>
                    </a:lnTo>
                    <a:lnTo>
                      <a:pt x="129" y="93"/>
                    </a:lnTo>
                    <a:lnTo>
                      <a:pt x="127" y="80"/>
                    </a:lnTo>
                    <a:lnTo>
                      <a:pt x="125" y="69"/>
                    </a:lnTo>
                    <a:lnTo>
                      <a:pt x="120" y="58"/>
                    </a:lnTo>
                    <a:lnTo>
                      <a:pt x="118" y="49"/>
                    </a:lnTo>
                    <a:lnTo>
                      <a:pt x="114" y="38"/>
                    </a:lnTo>
                    <a:lnTo>
                      <a:pt x="109" y="28"/>
                    </a:lnTo>
                    <a:lnTo>
                      <a:pt x="107" y="18"/>
                    </a:lnTo>
                    <a:lnTo>
                      <a:pt x="107" y="9"/>
                    </a:lnTo>
                    <a:lnTo>
                      <a:pt x="109" y="6"/>
                    </a:lnTo>
                    <a:lnTo>
                      <a:pt x="114" y="6"/>
                    </a:lnTo>
                    <a:lnTo>
                      <a:pt x="119" y="6"/>
                    </a:lnTo>
                    <a:lnTo>
                      <a:pt x="129" y="6"/>
                    </a:lnTo>
                    <a:lnTo>
                      <a:pt x="134" y="15"/>
                    </a:lnTo>
                    <a:lnTo>
                      <a:pt x="140" y="28"/>
                    </a:lnTo>
                    <a:lnTo>
                      <a:pt x="145" y="40"/>
                    </a:lnTo>
                    <a:lnTo>
                      <a:pt x="152" y="56"/>
                    </a:lnTo>
                    <a:lnTo>
                      <a:pt x="156" y="69"/>
                    </a:lnTo>
                    <a:lnTo>
                      <a:pt x="163" y="83"/>
                    </a:lnTo>
                    <a:lnTo>
                      <a:pt x="170" y="94"/>
                    </a:lnTo>
                    <a:lnTo>
                      <a:pt x="179" y="107"/>
                    </a:lnTo>
                    <a:lnTo>
                      <a:pt x="183" y="103"/>
                    </a:lnTo>
                    <a:lnTo>
                      <a:pt x="188" y="104"/>
                    </a:lnTo>
                    <a:lnTo>
                      <a:pt x="194" y="107"/>
                    </a:lnTo>
                    <a:lnTo>
                      <a:pt x="205" y="112"/>
                    </a:lnTo>
                    <a:lnTo>
                      <a:pt x="201" y="120"/>
                    </a:lnTo>
                    <a:lnTo>
                      <a:pt x="197" y="129"/>
                    </a:lnTo>
                    <a:lnTo>
                      <a:pt x="191" y="136"/>
                    </a:lnTo>
                    <a:lnTo>
                      <a:pt x="187" y="145"/>
                    </a:lnTo>
                    <a:lnTo>
                      <a:pt x="184" y="143"/>
                    </a:lnTo>
                    <a:lnTo>
                      <a:pt x="181" y="143"/>
                    </a:lnTo>
                    <a:lnTo>
                      <a:pt x="177" y="148"/>
                    </a:lnTo>
                    <a:lnTo>
                      <a:pt x="172" y="156"/>
                    </a:lnTo>
                    <a:lnTo>
                      <a:pt x="163" y="165"/>
                    </a:lnTo>
                    <a:lnTo>
                      <a:pt x="156" y="174"/>
                    </a:lnTo>
                    <a:lnTo>
                      <a:pt x="147" y="181"/>
                    </a:lnTo>
                    <a:lnTo>
                      <a:pt x="140" y="188"/>
                    </a:lnTo>
                    <a:lnTo>
                      <a:pt x="132" y="192"/>
                    </a:lnTo>
                    <a:lnTo>
                      <a:pt x="129" y="19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37"/>
              <p:cNvSpPr/>
              <p:nvPr/>
            </p:nvSpPr>
            <p:spPr>
              <a:xfrm>
                <a:off x="5717880" y="2718720"/>
                <a:ext cx="250920" cy="27288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267" h="354">
                    <a:moveTo>
                      <a:pt x="180" y="354"/>
                    </a:moveTo>
                    <a:lnTo>
                      <a:pt x="172" y="347"/>
                    </a:lnTo>
                    <a:lnTo>
                      <a:pt x="168" y="344"/>
                    </a:lnTo>
                    <a:lnTo>
                      <a:pt x="163" y="343"/>
                    </a:lnTo>
                    <a:lnTo>
                      <a:pt x="159" y="343"/>
                    </a:lnTo>
                    <a:lnTo>
                      <a:pt x="150" y="310"/>
                    </a:lnTo>
                    <a:lnTo>
                      <a:pt x="141" y="286"/>
                    </a:lnTo>
                    <a:lnTo>
                      <a:pt x="130" y="268"/>
                    </a:lnTo>
                    <a:lnTo>
                      <a:pt x="119" y="257"/>
                    </a:lnTo>
                    <a:lnTo>
                      <a:pt x="104" y="249"/>
                    </a:lnTo>
                    <a:lnTo>
                      <a:pt x="87" y="245"/>
                    </a:lnTo>
                    <a:lnTo>
                      <a:pt x="67" y="242"/>
                    </a:lnTo>
                    <a:lnTo>
                      <a:pt x="43" y="241"/>
                    </a:lnTo>
                    <a:lnTo>
                      <a:pt x="29" y="245"/>
                    </a:lnTo>
                    <a:lnTo>
                      <a:pt x="20" y="249"/>
                    </a:lnTo>
                    <a:lnTo>
                      <a:pt x="10" y="253"/>
                    </a:lnTo>
                    <a:lnTo>
                      <a:pt x="0" y="259"/>
                    </a:lnTo>
                    <a:lnTo>
                      <a:pt x="0" y="238"/>
                    </a:lnTo>
                    <a:lnTo>
                      <a:pt x="9" y="208"/>
                    </a:lnTo>
                    <a:lnTo>
                      <a:pt x="21" y="167"/>
                    </a:lnTo>
                    <a:lnTo>
                      <a:pt x="38" y="127"/>
                    </a:lnTo>
                    <a:lnTo>
                      <a:pt x="56" y="86"/>
                    </a:lnTo>
                    <a:lnTo>
                      <a:pt x="75" y="51"/>
                    </a:lnTo>
                    <a:lnTo>
                      <a:pt x="93" y="25"/>
                    </a:lnTo>
                    <a:lnTo>
                      <a:pt x="112" y="14"/>
                    </a:lnTo>
                    <a:lnTo>
                      <a:pt x="121" y="18"/>
                    </a:lnTo>
                    <a:lnTo>
                      <a:pt x="129" y="18"/>
                    </a:lnTo>
                    <a:lnTo>
                      <a:pt x="136" y="15"/>
                    </a:lnTo>
                    <a:lnTo>
                      <a:pt x="143" y="13"/>
                    </a:lnTo>
                    <a:lnTo>
                      <a:pt x="148" y="7"/>
                    </a:lnTo>
                    <a:lnTo>
                      <a:pt x="154" y="4"/>
                    </a:lnTo>
                    <a:lnTo>
                      <a:pt x="161" y="0"/>
                    </a:lnTo>
                    <a:lnTo>
                      <a:pt x="169" y="0"/>
                    </a:lnTo>
                    <a:lnTo>
                      <a:pt x="177" y="4"/>
                    </a:lnTo>
                    <a:lnTo>
                      <a:pt x="190" y="7"/>
                    </a:lnTo>
                    <a:lnTo>
                      <a:pt x="202" y="7"/>
                    </a:lnTo>
                    <a:lnTo>
                      <a:pt x="215" y="7"/>
                    </a:lnTo>
                    <a:lnTo>
                      <a:pt x="227" y="4"/>
                    </a:lnTo>
                    <a:lnTo>
                      <a:pt x="241" y="2"/>
                    </a:lnTo>
                    <a:lnTo>
                      <a:pt x="253" y="0"/>
                    </a:lnTo>
                    <a:lnTo>
                      <a:pt x="267" y="0"/>
                    </a:lnTo>
                    <a:lnTo>
                      <a:pt x="260" y="35"/>
                    </a:lnTo>
                    <a:lnTo>
                      <a:pt x="249" y="85"/>
                    </a:lnTo>
                    <a:lnTo>
                      <a:pt x="235" y="143"/>
                    </a:lnTo>
                    <a:lnTo>
                      <a:pt x="222" y="205"/>
                    </a:lnTo>
                    <a:lnTo>
                      <a:pt x="206" y="262"/>
                    </a:lnTo>
                    <a:lnTo>
                      <a:pt x="194" y="310"/>
                    </a:lnTo>
                    <a:lnTo>
                      <a:pt x="184" y="342"/>
                    </a:lnTo>
                    <a:lnTo>
                      <a:pt x="180" y="354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38"/>
              <p:cNvSpPr/>
              <p:nvPr/>
            </p:nvSpPr>
            <p:spPr>
              <a:xfrm>
                <a:off x="5824800" y="2653560"/>
                <a:ext cx="146520" cy="69120"/>
              </a:xfrm>
              <a:custGeom>
                <a:avLst/>
                <a:gdLst>
                  <a:gd name="textAreaLeft" fmla="*/ 0 w 146520"/>
                  <a:gd name="textAreaRight" fmla="*/ 146880 w 14652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54" h="90">
                    <a:moveTo>
                      <a:pt x="9" y="90"/>
                    </a:moveTo>
                    <a:lnTo>
                      <a:pt x="5" y="88"/>
                    </a:lnTo>
                    <a:lnTo>
                      <a:pt x="0" y="87"/>
                    </a:lnTo>
                    <a:lnTo>
                      <a:pt x="3" y="65"/>
                    </a:lnTo>
                    <a:lnTo>
                      <a:pt x="14" y="48"/>
                    </a:lnTo>
                    <a:lnTo>
                      <a:pt x="31" y="32"/>
                    </a:lnTo>
                    <a:lnTo>
                      <a:pt x="52" y="21"/>
                    </a:lnTo>
                    <a:lnTo>
                      <a:pt x="74" y="11"/>
                    </a:lnTo>
                    <a:lnTo>
                      <a:pt x="96" y="4"/>
                    </a:lnTo>
                    <a:lnTo>
                      <a:pt x="118" y="0"/>
                    </a:lnTo>
                    <a:lnTo>
                      <a:pt x="137" y="0"/>
                    </a:lnTo>
                    <a:lnTo>
                      <a:pt x="140" y="5"/>
                    </a:lnTo>
                    <a:lnTo>
                      <a:pt x="143" y="12"/>
                    </a:lnTo>
                    <a:lnTo>
                      <a:pt x="144" y="21"/>
                    </a:lnTo>
                    <a:lnTo>
                      <a:pt x="147" y="29"/>
                    </a:lnTo>
                    <a:lnTo>
                      <a:pt x="148" y="37"/>
                    </a:lnTo>
                    <a:lnTo>
                      <a:pt x="150" y="46"/>
                    </a:lnTo>
                    <a:lnTo>
                      <a:pt x="151" y="54"/>
                    </a:lnTo>
                    <a:lnTo>
                      <a:pt x="154" y="63"/>
                    </a:lnTo>
                    <a:lnTo>
                      <a:pt x="141" y="68"/>
                    </a:lnTo>
                    <a:lnTo>
                      <a:pt x="130" y="72"/>
                    </a:lnTo>
                    <a:lnTo>
                      <a:pt x="119" y="75"/>
                    </a:lnTo>
                    <a:lnTo>
                      <a:pt x="108" y="77"/>
                    </a:lnTo>
                    <a:lnTo>
                      <a:pt x="97" y="79"/>
                    </a:lnTo>
                    <a:lnTo>
                      <a:pt x="86" y="81"/>
                    </a:lnTo>
                    <a:lnTo>
                      <a:pt x="75" y="81"/>
                    </a:lnTo>
                    <a:lnTo>
                      <a:pt x="67" y="83"/>
                    </a:lnTo>
                    <a:lnTo>
                      <a:pt x="64" y="77"/>
                    </a:lnTo>
                    <a:lnTo>
                      <a:pt x="61" y="72"/>
                    </a:lnTo>
                    <a:lnTo>
                      <a:pt x="52" y="72"/>
                    </a:lnTo>
                    <a:lnTo>
                      <a:pt x="43" y="73"/>
                    </a:lnTo>
                    <a:lnTo>
                      <a:pt x="36" y="76"/>
                    </a:lnTo>
                    <a:lnTo>
                      <a:pt x="31" y="80"/>
                    </a:lnTo>
                    <a:lnTo>
                      <a:pt x="20" y="86"/>
                    </a:lnTo>
                    <a:lnTo>
                      <a:pt x="9" y="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39"/>
              <p:cNvSpPr/>
              <p:nvPr/>
            </p:nvSpPr>
            <p:spPr>
              <a:xfrm>
                <a:off x="5313600" y="1820160"/>
                <a:ext cx="446400" cy="851400"/>
              </a:xfrm>
              <a:custGeom>
                <a:avLst/>
                <a:gdLst>
                  <a:gd name="textAreaLeft" fmla="*/ 0 w 446400"/>
                  <a:gd name="textAreaRight" fmla="*/ 446760 w 446400"/>
                  <a:gd name="textAreaTop" fmla="*/ 0 h 851400"/>
                  <a:gd name="textAreaBottom" fmla="*/ 851760 h 851400"/>
                </a:gdLst>
                <a:ahLst/>
                <a:rect l="textAreaLeft" t="textAreaTop" r="textAreaRight" b="textAreaBottom"/>
                <a:pathLst>
                  <a:path w="474" h="1102">
                    <a:moveTo>
                      <a:pt x="113" y="1102"/>
                    </a:moveTo>
                    <a:lnTo>
                      <a:pt x="103" y="1073"/>
                    </a:lnTo>
                    <a:lnTo>
                      <a:pt x="95" y="1052"/>
                    </a:lnTo>
                    <a:lnTo>
                      <a:pt x="84" y="1036"/>
                    </a:lnTo>
                    <a:lnTo>
                      <a:pt x="73" y="1027"/>
                    </a:lnTo>
                    <a:lnTo>
                      <a:pt x="58" y="1023"/>
                    </a:lnTo>
                    <a:lnTo>
                      <a:pt x="41" y="1027"/>
                    </a:lnTo>
                    <a:lnTo>
                      <a:pt x="20" y="1037"/>
                    </a:lnTo>
                    <a:lnTo>
                      <a:pt x="0" y="1056"/>
                    </a:lnTo>
                    <a:lnTo>
                      <a:pt x="2" y="1022"/>
                    </a:lnTo>
                    <a:lnTo>
                      <a:pt x="9" y="989"/>
                    </a:lnTo>
                    <a:lnTo>
                      <a:pt x="20" y="955"/>
                    </a:lnTo>
                    <a:lnTo>
                      <a:pt x="36" y="922"/>
                    </a:lnTo>
                    <a:lnTo>
                      <a:pt x="48" y="888"/>
                    </a:lnTo>
                    <a:lnTo>
                      <a:pt x="62" y="853"/>
                    </a:lnTo>
                    <a:lnTo>
                      <a:pt x="72" y="816"/>
                    </a:lnTo>
                    <a:lnTo>
                      <a:pt x="78" y="780"/>
                    </a:lnTo>
                    <a:lnTo>
                      <a:pt x="73" y="718"/>
                    </a:lnTo>
                    <a:lnTo>
                      <a:pt x="72" y="668"/>
                    </a:lnTo>
                    <a:lnTo>
                      <a:pt x="76" y="625"/>
                    </a:lnTo>
                    <a:lnTo>
                      <a:pt x="85" y="588"/>
                    </a:lnTo>
                    <a:lnTo>
                      <a:pt x="98" y="550"/>
                    </a:lnTo>
                    <a:lnTo>
                      <a:pt x="120" y="513"/>
                    </a:lnTo>
                    <a:lnTo>
                      <a:pt x="146" y="470"/>
                    </a:lnTo>
                    <a:lnTo>
                      <a:pt x="181" y="422"/>
                    </a:lnTo>
                    <a:lnTo>
                      <a:pt x="200" y="379"/>
                    </a:lnTo>
                    <a:lnTo>
                      <a:pt x="228" y="321"/>
                    </a:lnTo>
                    <a:lnTo>
                      <a:pt x="258" y="250"/>
                    </a:lnTo>
                    <a:lnTo>
                      <a:pt x="294" y="180"/>
                    </a:lnTo>
                    <a:lnTo>
                      <a:pt x="329" y="111"/>
                    </a:lnTo>
                    <a:lnTo>
                      <a:pt x="366" y="54"/>
                    </a:lnTo>
                    <a:lnTo>
                      <a:pt x="401" y="14"/>
                    </a:lnTo>
                    <a:lnTo>
                      <a:pt x="437" y="0"/>
                    </a:lnTo>
                    <a:lnTo>
                      <a:pt x="441" y="17"/>
                    </a:lnTo>
                    <a:lnTo>
                      <a:pt x="441" y="44"/>
                    </a:lnTo>
                    <a:lnTo>
                      <a:pt x="435" y="78"/>
                    </a:lnTo>
                    <a:lnTo>
                      <a:pt x="428" y="115"/>
                    </a:lnTo>
                    <a:lnTo>
                      <a:pt x="416" y="151"/>
                    </a:lnTo>
                    <a:lnTo>
                      <a:pt x="402" y="184"/>
                    </a:lnTo>
                    <a:lnTo>
                      <a:pt x="387" y="209"/>
                    </a:lnTo>
                    <a:lnTo>
                      <a:pt x="372" y="227"/>
                    </a:lnTo>
                    <a:lnTo>
                      <a:pt x="372" y="231"/>
                    </a:lnTo>
                    <a:lnTo>
                      <a:pt x="372" y="237"/>
                    </a:lnTo>
                    <a:lnTo>
                      <a:pt x="373" y="238"/>
                    </a:lnTo>
                    <a:lnTo>
                      <a:pt x="377" y="239"/>
                    </a:lnTo>
                    <a:lnTo>
                      <a:pt x="381" y="239"/>
                    </a:lnTo>
                    <a:lnTo>
                      <a:pt x="390" y="239"/>
                    </a:lnTo>
                    <a:lnTo>
                      <a:pt x="396" y="227"/>
                    </a:lnTo>
                    <a:lnTo>
                      <a:pt x="403" y="219"/>
                    </a:lnTo>
                    <a:lnTo>
                      <a:pt x="408" y="214"/>
                    </a:lnTo>
                    <a:lnTo>
                      <a:pt x="412" y="212"/>
                    </a:lnTo>
                    <a:lnTo>
                      <a:pt x="417" y="209"/>
                    </a:lnTo>
                    <a:lnTo>
                      <a:pt x="427" y="209"/>
                    </a:lnTo>
                    <a:lnTo>
                      <a:pt x="431" y="219"/>
                    </a:lnTo>
                    <a:lnTo>
                      <a:pt x="432" y="232"/>
                    </a:lnTo>
                    <a:lnTo>
                      <a:pt x="430" y="249"/>
                    </a:lnTo>
                    <a:lnTo>
                      <a:pt x="426" y="267"/>
                    </a:lnTo>
                    <a:lnTo>
                      <a:pt x="419" y="285"/>
                    </a:lnTo>
                    <a:lnTo>
                      <a:pt x="413" y="304"/>
                    </a:lnTo>
                    <a:lnTo>
                      <a:pt x="408" y="321"/>
                    </a:lnTo>
                    <a:lnTo>
                      <a:pt x="408" y="338"/>
                    </a:lnTo>
                    <a:lnTo>
                      <a:pt x="416" y="342"/>
                    </a:lnTo>
                    <a:lnTo>
                      <a:pt x="424" y="343"/>
                    </a:lnTo>
                    <a:lnTo>
                      <a:pt x="426" y="339"/>
                    </a:lnTo>
                    <a:lnTo>
                      <a:pt x="428" y="338"/>
                    </a:lnTo>
                    <a:lnTo>
                      <a:pt x="432" y="336"/>
                    </a:lnTo>
                    <a:lnTo>
                      <a:pt x="442" y="335"/>
                    </a:lnTo>
                    <a:lnTo>
                      <a:pt x="437" y="368"/>
                    </a:lnTo>
                    <a:lnTo>
                      <a:pt x="432" y="398"/>
                    </a:lnTo>
                    <a:lnTo>
                      <a:pt x="431" y="427"/>
                    </a:lnTo>
                    <a:lnTo>
                      <a:pt x="432" y="456"/>
                    </a:lnTo>
                    <a:lnTo>
                      <a:pt x="434" y="484"/>
                    </a:lnTo>
                    <a:lnTo>
                      <a:pt x="439" y="514"/>
                    </a:lnTo>
                    <a:lnTo>
                      <a:pt x="448" y="546"/>
                    </a:lnTo>
                    <a:lnTo>
                      <a:pt x="460" y="582"/>
                    </a:lnTo>
                    <a:lnTo>
                      <a:pt x="460" y="599"/>
                    </a:lnTo>
                    <a:lnTo>
                      <a:pt x="460" y="618"/>
                    </a:lnTo>
                    <a:lnTo>
                      <a:pt x="461" y="636"/>
                    </a:lnTo>
                    <a:lnTo>
                      <a:pt x="464" y="657"/>
                    </a:lnTo>
                    <a:lnTo>
                      <a:pt x="466" y="676"/>
                    </a:lnTo>
                    <a:lnTo>
                      <a:pt x="468" y="696"/>
                    </a:lnTo>
                    <a:lnTo>
                      <a:pt x="471" y="715"/>
                    </a:lnTo>
                    <a:lnTo>
                      <a:pt x="474" y="736"/>
                    </a:lnTo>
                    <a:lnTo>
                      <a:pt x="471" y="736"/>
                    </a:lnTo>
                    <a:lnTo>
                      <a:pt x="468" y="738"/>
                    </a:lnTo>
                    <a:lnTo>
                      <a:pt x="449" y="711"/>
                    </a:lnTo>
                    <a:lnTo>
                      <a:pt x="435" y="689"/>
                    </a:lnTo>
                    <a:lnTo>
                      <a:pt x="423" y="669"/>
                    </a:lnTo>
                    <a:lnTo>
                      <a:pt x="412" y="653"/>
                    </a:lnTo>
                    <a:lnTo>
                      <a:pt x="398" y="636"/>
                    </a:lnTo>
                    <a:lnTo>
                      <a:pt x="384" y="621"/>
                    </a:lnTo>
                    <a:lnTo>
                      <a:pt x="365" y="606"/>
                    </a:lnTo>
                    <a:lnTo>
                      <a:pt x="340" y="591"/>
                    </a:lnTo>
                    <a:lnTo>
                      <a:pt x="340" y="579"/>
                    </a:lnTo>
                    <a:lnTo>
                      <a:pt x="341" y="570"/>
                    </a:lnTo>
                    <a:lnTo>
                      <a:pt x="341" y="557"/>
                    </a:lnTo>
                    <a:lnTo>
                      <a:pt x="344" y="546"/>
                    </a:lnTo>
                    <a:lnTo>
                      <a:pt x="343" y="534"/>
                    </a:lnTo>
                    <a:lnTo>
                      <a:pt x="341" y="527"/>
                    </a:lnTo>
                    <a:lnTo>
                      <a:pt x="337" y="521"/>
                    </a:lnTo>
                    <a:lnTo>
                      <a:pt x="331" y="521"/>
                    </a:lnTo>
                    <a:lnTo>
                      <a:pt x="330" y="531"/>
                    </a:lnTo>
                    <a:lnTo>
                      <a:pt x="330" y="546"/>
                    </a:lnTo>
                    <a:lnTo>
                      <a:pt x="327" y="553"/>
                    </a:lnTo>
                    <a:lnTo>
                      <a:pt x="326" y="561"/>
                    </a:lnTo>
                    <a:lnTo>
                      <a:pt x="323" y="567"/>
                    </a:lnTo>
                    <a:lnTo>
                      <a:pt x="320" y="574"/>
                    </a:lnTo>
                    <a:lnTo>
                      <a:pt x="315" y="570"/>
                    </a:lnTo>
                    <a:lnTo>
                      <a:pt x="314" y="567"/>
                    </a:lnTo>
                    <a:lnTo>
                      <a:pt x="305" y="579"/>
                    </a:lnTo>
                    <a:lnTo>
                      <a:pt x="297" y="595"/>
                    </a:lnTo>
                    <a:lnTo>
                      <a:pt x="293" y="602"/>
                    </a:lnTo>
                    <a:lnTo>
                      <a:pt x="289" y="610"/>
                    </a:lnTo>
                    <a:lnTo>
                      <a:pt x="286" y="617"/>
                    </a:lnTo>
                    <a:lnTo>
                      <a:pt x="284" y="625"/>
                    </a:lnTo>
                    <a:lnTo>
                      <a:pt x="262" y="651"/>
                    </a:lnTo>
                    <a:lnTo>
                      <a:pt x="237" y="680"/>
                    </a:lnTo>
                    <a:lnTo>
                      <a:pt x="213" y="709"/>
                    </a:lnTo>
                    <a:lnTo>
                      <a:pt x="188" y="743"/>
                    </a:lnTo>
                    <a:lnTo>
                      <a:pt x="163" y="773"/>
                    </a:lnTo>
                    <a:lnTo>
                      <a:pt x="142" y="806"/>
                    </a:lnTo>
                    <a:lnTo>
                      <a:pt x="124" y="839"/>
                    </a:lnTo>
                    <a:lnTo>
                      <a:pt x="113" y="873"/>
                    </a:lnTo>
                    <a:lnTo>
                      <a:pt x="116" y="896"/>
                    </a:lnTo>
                    <a:lnTo>
                      <a:pt x="120" y="921"/>
                    </a:lnTo>
                    <a:lnTo>
                      <a:pt x="124" y="947"/>
                    </a:lnTo>
                    <a:lnTo>
                      <a:pt x="130" y="975"/>
                    </a:lnTo>
                    <a:lnTo>
                      <a:pt x="132" y="1001"/>
                    </a:lnTo>
                    <a:lnTo>
                      <a:pt x="134" y="1027"/>
                    </a:lnTo>
                    <a:lnTo>
                      <a:pt x="132" y="1054"/>
                    </a:lnTo>
                    <a:lnTo>
                      <a:pt x="128" y="1080"/>
                    </a:lnTo>
                    <a:lnTo>
                      <a:pt x="123" y="1081"/>
                    </a:lnTo>
                    <a:lnTo>
                      <a:pt x="120" y="1083"/>
                    </a:lnTo>
                    <a:lnTo>
                      <a:pt x="119" y="1090"/>
                    </a:lnTo>
                    <a:lnTo>
                      <a:pt x="119" y="1096"/>
                    </a:lnTo>
                    <a:lnTo>
                      <a:pt x="116" y="1099"/>
                    </a:lnTo>
                    <a:lnTo>
                      <a:pt x="113" y="110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40"/>
              <p:cNvSpPr/>
              <p:nvPr/>
            </p:nvSpPr>
            <p:spPr>
              <a:xfrm>
                <a:off x="5703840" y="2556360"/>
                <a:ext cx="104040" cy="48600"/>
              </a:xfrm>
              <a:custGeom>
                <a:avLst/>
                <a:gdLst>
                  <a:gd name="textAreaLeft" fmla="*/ 0 w 104040"/>
                  <a:gd name="textAreaRight" fmla="*/ 104400 w 104040"/>
                  <a:gd name="textAreaTop" fmla="*/ 0 h 48600"/>
                  <a:gd name="textAreaBottom" fmla="*/ 48960 h 48600"/>
                </a:gdLst>
                <a:ahLst/>
                <a:rect l="textAreaLeft" t="textAreaTop" r="textAreaRight" b="textAreaBottom"/>
                <a:pathLst>
                  <a:path w="111" h="62">
                    <a:moveTo>
                      <a:pt x="35" y="62"/>
                    </a:moveTo>
                    <a:lnTo>
                      <a:pt x="19" y="58"/>
                    </a:lnTo>
                    <a:lnTo>
                      <a:pt x="10" y="51"/>
                    </a:lnTo>
                    <a:lnTo>
                      <a:pt x="1" y="41"/>
                    </a:lnTo>
                    <a:lnTo>
                      <a:pt x="0" y="33"/>
                    </a:lnTo>
                    <a:lnTo>
                      <a:pt x="22" y="40"/>
                    </a:lnTo>
                    <a:lnTo>
                      <a:pt x="42" y="40"/>
                    </a:lnTo>
                    <a:lnTo>
                      <a:pt x="55" y="33"/>
                    </a:lnTo>
                    <a:lnTo>
                      <a:pt x="69" y="25"/>
                    </a:lnTo>
                    <a:lnTo>
                      <a:pt x="79" y="14"/>
                    </a:lnTo>
                    <a:lnTo>
                      <a:pt x="89" y="5"/>
                    </a:lnTo>
                    <a:lnTo>
                      <a:pt x="98" y="0"/>
                    </a:lnTo>
                    <a:lnTo>
                      <a:pt x="111" y="1"/>
                    </a:lnTo>
                    <a:lnTo>
                      <a:pt x="101" y="9"/>
                    </a:lnTo>
                    <a:lnTo>
                      <a:pt x="93" y="19"/>
                    </a:lnTo>
                    <a:lnTo>
                      <a:pt x="84" y="29"/>
                    </a:lnTo>
                    <a:lnTo>
                      <a:pt x="76" y="38"/>
                    </a:lnTo>
                    <a:lnTo>
                      <a:pt x="65" y="45"/>
                    </a:lnTo>
                    <a:lnTo>
                      <a:pt x="55" y="54"/>
                    </a:lnTo>
                    <a:lnTo>
                      <a:pt x="44" y="58"/>
                    </a:lnTo>
                    <a:lnTo>
                      <a:pt x="35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41"/>
              <p:cNvSpPr/>
              <p:nvPr/>
            </p:nvSpPr>
            <p:spPr>
              <a:xfrm>
                <a:off x="5559840" y="2285640"/>
                <a:ext cx="196920" cy="28692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286920"/>
                  <a:gd name="textAreaBottom" fmla="*/ 287280 h 286920"/>
                </a:gdLst>
                <a:ahLst/>
                <a:rect l="textAreaLeft" t="textAreaTop" r="textAreaRight" b="textAreaBottom"/>
                <a:pathLst>
                  <a:path w="209" h="372">
                    <a:moveTo>
                      <a:pt x="0" y="372"/>
                    </a:moveTo>
                    <a:lnTo>
                      <a:pt x="2" y="352"/>
                    </a:lnTo>
                    <a:lnTo>
                      <a:pt x="6" y="335"/>
                    </a:lnTo>
                    <a:lnTo>
                      <a:pt x="10" y="315"/>
                    </a:lnTo>
                    <a:lnTo>
                      <a:pt x="14" y="297"/>
                    </a:lnTo>
                    <a:lnTo>
                      <a:pt x="18" y="278"/>
                    </a:lnTo>
                    <a:lnTo>
                      <a:pt x="22" y="260"/>
                    </a:lnTo>
                    <a:lnTo>
                      <a:pt x="25" y="240"/>
                    </a:lnTo>
                    <a:lnTo>
                      <a:pt x="29" y="224"/>
                    </a:lnTo>
                    <a:lnTo>
                      <a:pt x="28" y="192"/>
                    </a:lnTo>
                    <a:lnTo>
                      <a:pt x="31" y="163"/>
                    </a:lnTo>
                    <a:lnTo>
                      <a:pt x="34" y="134"/>
                    </a:lnTo>
                    <a:lnTo>
                      <a:pt x="40" y="108"/>
                    </a:lnTo>
                    <a:lnTo>
                      <a:pt x="46" y="80"/>
                    </a:lnTo>
                    <a:lnTo>
                      <a:pt x="54" y="54"/>
                    </a:lnTo>
                    <a:lnTo>
                      <a:pt x="63" y="26"/>
                    </a:lnTo>
                    <a:lnTo>
                      <a:pt x="72" y="0"/>
                    </a:lnTo>
                    <a:lnTo>
                      <a:pt x="101" y="8"/>
                    </a:lnTo>
                    <a:lnTo>
                      <a:pt x="128" y="33"/>
                    </a:lnTo>
                    <a:lnTo>
                      <a:pt x="150" y="69"/>
                    </a:lnTo>
                    <a:lnTo>
                      <a:pt x="169" y="113"/>
                    </a:lnTo>
                    <a:lnTo>
                      <a:pt x="184" y="159"/>
                    </a:lnTo>
                    <a:lnTo>
                      <a:pt x="195" y="206"/>
                    </a:lnTo>
                    <a:lnTo>
                      <a:pt x="204" y="247"/>
                    </a:lnTo>
                    <a:lnTo>
                      <a:pt x="209" y="281"/>
                    </a:lnTo>
                    <a:lnTo>
                      <a:pt x="195" y="287"/>
                    </a:lnTo>
                    <a:lnTo>
                      <a:pt x="183" y="297"/>
                    </a:lnTo>
                    <a:lnTo>
                      <a:pt x="172" y="307"/>
                    </a:lnTo>
                    <a:lnTo>
                      <a:pt x="162" y="319"/>
                    </a:lnTo>
                    <a:lnTo>
                      <a:pt x="151" y="330"/>
                    </a:lnTo>
                    <a:lnTo>
                      <a:pt x="141" y="341"/>
                    </a:lnTo>
                    <a:lnTo>
                      <a:pt x="132" y="352"/>
                    </a:lnTo>
                    <a:lnTo>
                      <a:pt x="122" y="365"/>
                    </a:lnTo>
                    <a:lnTo>
                      <a:pt x="104" y="365"/>
                    </a:lnTo>
                    <a:lnTo>
                      <a:pt x="87" y="365"/>
                    </a:lnTo>
                    <a:lnTo>
                      <a:pt x="72" y="364"/>
                    </a:lnTo>
                    <a:lnTo>
                      <a:pt x="58" y="364"/>
                    </a:lnTo>
                    <a:lnTo>
                      <a:pt x="43" y="362"/>
                    </a:lnTo>
                    <a:lnTo>
                      <a:pt x="29" y="364"/>
                    </a:lnTo>
                    <a:lnTo>
                      <a:pt x="14" y="365"/>
                    </a:lnTo>
                    <a:lnTo>
                      <a:pt x="0" y="3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42"/>
              <p:cNvSpPr/>
              <p:nvPr/>
            </p:nvSpPr>
            <p:spPr>
              <a:xfrm>
                <a:off x="5776920" y="2466000"/>
                <a:ext cx="19800" cy="32400"/>
              </a:xfrm>
              <a:custGeom>
                <a:avLst/>
                <a:gdLst>
                  <a:gd name="textAreaLeft" fmla="*/ 0 w 19800"/>
                  <a:gd name="textAreaRight" fmla="*/ 20160 w 19800"/>
                  <a:gd name="textAreaTop" fmla="*/ 0 h 32400"/>
                  <a:gd name="textAreaBottom" fmla="*/ 32760 h 32400"/>
                </a:gdLst>
                <a:ahLst/>
                <a:rect l="textAreaLeft" t="textAreaTop" r="textAreaRight" b="textAreaBottom"/>
                <a:pathLst>
                  <a:path w="21" h="43">
                    <a:moveTo>
                      <a:pt x="0" y="43"/>
                    </a:moveTo>
                    <a:lnTo>
                      <a:pt x="0" y="32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14" y="15"/>
                    </a:lnTo>
                    <a:lnTo>
                      <a:pt x="16" y="26"/>
                    </a:lnTo>
                    <a:lnTo>
                      <a:pt x="21" y="40"/>
                    </a:lnTo>
                    <a:lnTo>
                      <a:pt x="11" y="42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43"/>
              <p:cNvSpPr/>
              <p:nvPr/>
            </p:nvSpPr>
            <p:spPr>
              <a:xfrm>
                <a:off x="5757120" y="2287440"/>
                <a:ext cx="152280" cy="2034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203400"/>
                  <a:gd name="textAreaBottom" fmla="*/ 203760 h 203400"/>
                </a:gdLst>
                <a:ahLst/>
                <a:rect l="textAreaLeft" t="textAreaTop" r="textAreaRight" b="textAreaBottom"/>
                <a:pathLst>
                  <a:path w="161" h="264">
                    <a:moveTo>
                      <a:pt x="61" y="264"/>
                    </a:moveTo>
                    <a:lnTo>
                      <a:pt x="53" y="228"/>
                    </a:lnTo>
                    <a:lnTo>
                      <a:pt x="44" y="195"/>
                    </a:lnTo>
                    <a:lnTo>
                      <a:pt x="36" y="161"/>
                    </a:lnTo>
                    <a:lnTo>
                      <a:pt x="28" y="130"/>
                    </a:lnTo>
                    <a:lnTo>
                      <a:pt x="20" y="96"/>
                    </a:lnTo>
                    <a:lnTo>
                      <a:pt x="13" y="63"/>
                    </a:lnTo>
                    <a:lnTo>
                      <a:pt x="4" y="32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22" y="9"/>
                    </a:lnTo>
                    <a:lnTo>
                      <a:pt x="35" y="18"/>
                    </a:lnTo>
                    <a:lnTo>
                      <a:pt x="47" y="30"/>
                    </a:lnTo>
                    <a:lnTo>
                      <a:pt x="60" y="40"/>
                    </a:lnTo>
                    <a:lnTo>
                      <a:pt x="75" y="51"/>
                    </a:lnTo>
                    <a:lnTo>
                      <a:pt x="89" y="61"/>
                    </a:lnTo>
                    <a:lnTo>
                      <a:pt x="105" y="69"/>
                    </a:lnTo>
                    <a:lnTo>
                      <a:pt x="111" y="85"/>
                    </a:lnTo>
                    <a:lnTo>
                      <a:pt x="116" y="102"/>
                    </a:lnTo>
                    <a:lnTo>
                      <a:pt x="120" y="120"/>
                    </a:lnTo>
                    <a:lnTo>
                      <a:pt x="125" y="138"/>
                    </a:lnTo>
                    <a:lnTo>
                      <a:pt x="129" y="155"/>
                    </a:lnTo>
                    <a:lnTo>
                      <a:pt x="137" y="173"/>
                    </a:lnTo>
                    <a:lnTo>
                      <a:pt x="145" y="190"/>
                    </a:lnTo>
                    <a:lnTo>
                      <a:pt x="158" y="208"/>
                    </a:lnTo>
                    <a:lnTo>
                      <a:pt x="159" y="214"/>
                    </a:lnTo>
                    <a:lnTo>
                      <a:pt x="161" y="221"/>
                    </a:lnTo>
                    <a:lnTo>
                      <a:pt x="147" y="226"/>
                    </a:lnTo>
                    <a:lnTo>
                      <a:pt x="134" y="233"/>
                    </a:lnTo>
                    <a:lnTo>
                      <a:pt x="122" y="239"/>
                    </a:lnTo>
                    <a:lnTo>
                      <a:pt x="111" y="244"/>
                    </a:lnTo>
                    <a:lnTo>
                      <a:pt x="98" y="249"/>
                    </a:lnTo>
                    <a:lnTo>
                      <a:pt x="86" y="254"/>
                    </a:lnTo>
                    <a:lnTo>
                      <a:pt x="73" y="258"/>
                    </a:lnTo>
                    <a:lnTo>
                      <a:pt x="61" y="2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Rectangle 46"/>
          <p:cNvSpPr/>
          <p:nvPr/>
        </p:nvSpPr>
        <p:spPr>
          <a:xfrm>
            <a:off x="0" y="1371600"/>
            <a:ext cx="32767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8"/>
          <p:cNvSpPr/>
          <p:nvPr/>
        </p:nvSpPr>
        <p:spPr>
          <a:xfrm>
            <a:off x="8482320" y="597204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9" descr="MCj03972560000[1]"/>
          <p:cNvPicPr/>
          <p:nvPr/>
        </p:nvPicPr>
        <p:blipFill>
          <a:blip r:embed="rId2"/>
          <a:stretch/>
        </p:blipFill>
        <p:spPr>
          <a:xfrm>
            <a:off x="3132000" y="2525760"/>
            <a:ext cx="295128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pe00011_"/>
          <p:cNvPicPr/>
          <p:nvPr/>
        </p:nvPicPr>
        <p:blipFill>
          <a:blip r:embed="rId1"/>
          <a:stretch/>
        </p:blipFill>
        <p:spPr>
          <a:xfrm>
            <a:off x="981000" y="2637000"/>
            <a:ext cx="2078280" cy="3168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5"/>
          <p:cNvSpPr/>
          <p:nvPr/>
        </p:nvSpPr>
        <p:spPr>
          <a:xfrm>
            <a:off x="2916360" y="2421000"/>
            <a:ext cx="5473440" cy="1871640"/>
          </a:xfrm>
          <a:prstGeom prst="wedgeRoundRectCallout">
            <a:avLst>
              <a:gd name="adj1" fmla="val -60935"/>
              <a:gd name="adj2" fmla="val -55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as there a singer in the h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MCj04325790000[1]"/>
          <p:cNvPicPr/>
          <p:nvPr/>
        </p:nvPicPr>
        <p:blipFill>
          <a:blip r:embed="rId2"/>
          <a:stretch/>
        </p:blipFill>
        <p:spPr>
          <a:xfrm>
            <a:off x="7257960" y="765000"/>
            <a:ext cx="1201680" cy="12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237600" y="2959200"/>
            <a:ext cx="385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Yes,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here wa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r>
              <a:rPr b="0" lang="en-GB" sz="3600" spc="-1" strike="noStrike">
                <a:solidFill>
                  <a:srgbClr val="ff0066"/>
                </a:solidFill>
                <a:latin typeface="Comic Sans MS"/>
                <a:ea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3"/>
          <p:cNvGrpSpPr/>
          <p:nvPr/>
        </p:nvGrpSpPr>
        <p:grpSpPr>
          <a:xfrm>
            <a:off x="5003640" y="1773360"/>
            <a:ext cx="3563640" cy="3960360"/>
            <a:chOff x="5003640" y="1773360"/>
            <a:chExt cx="3563640" cy="3960360"/>
          </a:xfrm>
        </p:grpSpPr>
        <p:pic>
          <p:nvPicPr>
            <p:cNvPr id="146" name="Picture 4" descr="MCj00898770000[1]"/>
            <p:cNvPicPr/>
            <p:nvPr/>
          </p:nvPicPr>
          <p:blipFill>
            <a:blip r:embed="rId1"/>
            <a:stretch/>
          </p:blipFill>
          <p:spPr>
            <a:xfrm>
              <a:off x="5003640" y="1773360"/>
              <a:ext cx="3563640" cy="3960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7" name="Group 5"/>
            <p:cNvGrpSpPr/>
            <p:nvPr/>
          </p:nvGrpSpPr>
          <p:grpSpPr>
            <a:xfrm>
              <a:off x="6429240" y="2600640"/>
              <a:ext cx="1699200" cy="2773080"/>
              <a:chOff x="6429240" y="2600640"/>
              <a:chExt cx="1699200" cy="2773080"/>
            </a:xfrm>
          </p:grpSpPr>
          <p:sp>
            <p:nvSpPr>
              <p:cNvPr id="148" name="AutoShape 6"/>
              <p:cNvSpPr/>
              <p:nvPr/>
            </p:nvSpPr>
            <p:spPr>
              <a:xfrm>
                <a:off x="6435000" y="2600640"/>
                <a:ext cx="1693440" cy="276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7"/>
              <p:cNvSpPr/>
              <p:nvPr/>
            </p:nvSpPr>
            <p:spPr>
              <a:xfrm>
                <a:off x="6429240" y="2649600"/>
                <a:ext cx="1669320" cy="2724120"/>
              </a:xfrm>
              <a:custGeom>
                <a:avLst/>
                <a:gdLst>
                  <a:gd name="textAreaLeft" fmla="*/ 0 w 1669320"/>
                  <a:gd name="textAreaRight" fmla="*/ 1669680 w 1669320"/>
                  <a:gd name="textAreaTop" fmla="*/ 0 h 2724120"/>
                  <a:gd name="textAreaBottom" fmla="*/ 2724480 h 2724120"/>
                </a:gdLst>
                <a:ahLst/>
                <a:rect l="textAreaLeft" t="textAreaTop" r="textAreaRight" b="textAreaBottom"/>
                <a:pathLst>
                  <a:path w="4136" h="5475">
                    <a:moveTo>
                      <a:pt x="482" y="5475"/>
                    </a:moveTo>
                    <a:lnTo>
                      <a:pt x="448" y="5466"/>
                    </a:lnTo>
                    <a:lnTo>
                      <a:pt x="416" y="5461"/>
                    </a:lnTo>
                    <a:lnTo>
                      <a:pt x="384" y="5455"/>
                    </a:lnTo>
                    <a:lnTo>
                      <a:pt x="355" y="5452"/>
                    </a:lnTo>
                    <a:lnTo>
                      <a:pt x="325" y="5450"/>
                    </a:lnTo>
                    <a:lnTo>
                      <a:pt x="296" y="5448"/>
                    </a:lnTo>
                    <a:lnTo>
                      <a:pt x="264" y="5448"/>
                    </a:lnTo>
                    <a:lnTo>
                      <a:pt x="232" y="5448"/>
                    </a:lnTo>
                    <a:lnTo>
                      <a:pt x="218" y="5432"/>
                    </a:lnTo>
                    <a:lnTo>
                      <a:pt x="210" y="5410"/>
                    </a:lnTo>
                    <a:lnTo>
                      <a:pt x="200" y="5381"/>
                    </a:lnTo>
                    <a:lnTo>
                      <a:pt x="196" y="5350"/>
                    </a:lnTo>
                    <a:lnTo>
                      <a:pt x="191" y="5318"/>
                    </a:lnTo>
                    <a:lnTo>
                      <a:pt x="186" y="5289"/>
                    </a:lnTo>
                    <a:lnTo>
                      <a:pt x="185" y="5263"/>
                    </a:lnTo>
                    <a:lnTo>
                      <a:pt x="185" y="5245"/>
                    </a:lnTo>
                    <a:lnTo>
                      <a:pt x="193" y="5238"/>
                    </a:lnTo>
                    <a:lnTo>
                      <a:pt x="202" y="5235"/>
                    </a:lnTo>
                    <a:lnTo>
                      <a:pt x="210" y="5231"/>
                    </a:lnTo>
                    <a:lnTo>
                      <a:pt x="218" y="5231"/>
                    </a:lnTo>
                    <a:lnTo>
                      <a:pt x="227" y="5230"/>
                    </a:lnTo>
                    <a:lnTo>
                      <a:pt x="236" y="5230"/>
                    </a:lnTo>
                    <a:lnTo>
                      <a:pt x="247" y="5230"/>
                    </a:lnTo>
                    <a:lnTo>
                      <a:pt x="261" y="5231"/>
                    </a:lnTo>
                    <a:lnTo>
                      <a:pt x="287" y="5240"/>
                    </a:lnTo>
                    <a:lnTo>
                      <a:pt x="319" y="5241"/>
                    </a:lnTo>
                    <a:lnTo>
                      <a:pt x="354" y="5238"/>
                    </a:lnTo>
                    <a:lnTo>
                      <a:pt x="391" y="5231"/>
                    </a:lnTo>
                    <a:lnTo>
                      <a:pt x="426" y="5219"/>
                    </a:lnTo>
                    <a:lnTo>
                      <a:pt x="462" y="5206"/>
                    </a:lnTo>
                    <a:lnTo>
                      <a:pt x="492" y="5191"/>
                    </a:lnTo>
                    <a:lnTo>
                      <a:pt x="520" y="5179"/>
                    </a:lnTo>
                    <a:lnTo>
                      <a:pt x="529" y="5180"/>
                    </a:lnTo>
                    <a:lnTo>
                      <a:pt x="542" y="5187"/>
                    </a:lnTo>
                    <a:lnTo>
                      <a:pt x="549" y="5190"/>
                    </a:lnTo>
                    <a:lnTo>
                      <a:pt x="556" y="5193"/>
                    </a:lnTo>
                    <a:lnTo>
                      <a:pt x="564" y="5194"/>
                    </a:lnTo>
                    <a:lnTo>
                      <a:pt x="572" y="5195"/>
                    </a:lnTo>
                    <a:lnTo>
                      <a:pt x="574" y="5180"/>
                    </a:lnTo>
                    <a:lnTo>
                      <a:pt x="576" y="5166"/>
                    </a:lnTo>
                    <a:lnTo>
                      <a:pt x="578" y="5154"/>
                    </a:lnTo>
                    <a:lnTo>
                      <a:pt x="581" y="5141"/>
                    </a:lnTo>
                    <a:lnTo>
                      <a:pt x="589" y="5136"/>
                    </a:lnTo>
                    <a:lnTo>
                      <a:pt x="600" y="5136"/>
                    </a:lnTo>
                    <a:lnTo>
                      <a:pt x="610" y="5136"/>
                    </a:lnTo>
                    <a:lnTo>
                      <a:pt x="622" y="5137"/>
                    </a:lnTo>
                    <a:lnTo>
                      <a:pt x="651" y="5146"/>
                    </a:lnTo>
                    <a:lnTo>
                      <a:pt x="682" y="5154"/>
                    </a:lnTo>
                    <a:lnTo>
                      <a:pt x="711" y="5158"/>
                    </a:lnTo>
                    <a:lnTo>
                      <a:pt x="740" y="5162"/>
                    </a:lnTo>
                    <a:lnTo>
                      <a:pt x="769" y="5162"/>
                    </a:lnTo>
                    <a:lnTo>
                      <a:pt x="799" y="5161"/>
                    </a:lnTo>
                    <a:lnTo>
                      <a:pt x="831" y="5155"/>
                    </a:lnTo>
                    <a:lnTo>
                      <a:pt x="867" y="5150"/>
                    </a:lnTo>
                    <a:lnTo>
                      <a:pt x="917" y="5017"/>
                    </a:lnTo>
                    <a:lnTo>
                      <a:pt x="973" y="4891"/>
                    </a:lnTo>
                    <a:lnTo>
                      <a:pt x="1034" y="4765"/>
                    </a:lnTo>
                    <a:lnTo>
                      <a:pt x="1101" y="4645"/>
                    </a:lnTo>
                    <a:lnTo>
                      <a:pt x="1168" y="4523"/>
                    </a:lnTo>
                    <a:lnTo>
                      <a:pt x="1237" y="4405"/>
                    </a:lnTo>
                    <a:lnTo>
                      <a:pt x="1308" y="4284"/>
                    </a:lnTo>
                    <a:lnTo>
                      <a:pt x="1379" y="4164"/>
                    </a:lnTo>
                    <a:lnTo>
                      <a:pt x="1405" y="4124"/>
                    </a:lnTo>
                    <a:lnTo>
                      <a:pt x="1432" y="4084"/>
                    </a:lnTo>
                    <a:lnTo>
                      <a:pt x="1459" y="4044"/>
                    </a:lnTo>
                    <a:lnTo>
                      <a:pt x="1486" y="4005"/>
                    </a:lnTo>
                    <a:lnTo>
                      <a:pt x="1513" y="3965"/>
                    </a:lnTo>
                    <a:lnTo>
                      <a:pt x="1540" y="3926"/>
                    </a:lnTo>
                    <a:lnTo>
                      <a:pt x="1567" y="3886"/>
                    </a:lnTo>
                    <a:lnTo>
                      <a:pt x="1594" y="3847"/>
                    </a:lnTo>
                    <a:lnTo>
                      <a:pt x="1604" y="3834"/>
                    </a:lnTo>
                    <a:lnTo>
                      <a:pt x="1615" y="3820"/>
                    </a:lnTo>
                    <a:lnTo>
                      <a:pt x="1626" y="3803"/>
                    </a:lnTo>
                    <a:lnTo>
                      <a:pt x="1637" y="3787"/>
                    </a:lnTo>
                    <a:lnTo>
                      <a:pt x="1647" y="3769"/>
                    </a:lnTo>
                    <a:lnTo>
                      <a:pt x="1658" y="3752"/>
                    </a:lnTo>
                    <a:lnTo>
                      <a:pt x="1668" y="3735"/>
                    </a:lnTo>
                    <a:lnTo>
                      <a:pt x="1677" y="3722"/>
                    </a:lnTo>
                    <a:lnTo>
                      <a:pt x="1686" y="3708"/>
                    </a:lnTo>
                    <a:lnTo>
                      <a:pt x="1701" y="3690"/>
                    </a:lnTo>
                    <a:lnTo>
                      <a:pt x="1719" y="3668"/>
                    </a:lnTo>
                    <a:lnTo>
                      <a:pt x="1739" y="3644"/>
                    </a:lnTo>
                    <a:lnTo>
                      <a:pt x="1757" y="3619"/>
                    </a:lnTo>
                    <a:lnTo>
                      <a:pt x="1774" y="3596"/>
                    </a:lnTo>
                    <a:lnTo>
                      <a:pt x="1785" y="3577"/>
                    </a:lnTo>
                    <a:lnTo>
                      <a:pt x="1792" y="3564"/>
                    </a:lnTo>
                    <a:lnTo>
                      <a:pt x="1771" y="3554"/>
                    </a:lnTo>
                    <a:lnTo>
                      <a:pt x="1756" y="3546"/>
                    </a:lnTo>
                    <a:lnTo>
                      <a:pt x="1741" y="3535"/>
                    </a:lnTo>
                    <a:lnTo>
                      <a:pt x="1730" y="3524"/>
                    </a:lnTo>
                    <a:lnTo>
                      <a:pt x="1719" y="3510"/>
                    </a:lnTo>
                    <a:lnTo>
                      <a:pt x="1712" y="3496"/>
                    </a:lnTo>
                    <a:lnTo>
                      <a:pt x="1708" y="3480"/>
                    </a:lnTo>
                    <a:lnTo>
                      <a:pt x="1708" y="3463"/>
                    </a:lnTo>
                    <a:lnTo>
                      <a:pt x="1741" y="3398"/>
                    </a:lnTo>
                    <a:lnTo>
                      <a:pt x="1792" y="3340"/>
                    </a:lnTo>
                    <a:lnTo>
                      <a:pt x="1854" y="3285"/>
                    </a:lnTo>
                    <a:lnTo>
                      <a:pt x="1926" y="3235"/>
                    </a:lnTo>
                    <a:lnTo>
                      <a:pt x="1997" y="3184"/>
                    </a:lnTo>
                    <a:lnTo>
                      <a:pt x="2064" y="3133"/>
                    </a:lnTo>
                    <a:lnTo>
                      <a:pt x="2122" y="3077"/>
                    </a:lnTo>
                    <a:lnTo>
                      <a:pt x="2170" y="3018"/>
                    </a:lnTo>
                    <a:lnTo>
                      <a:pt x="2189" y="2993"/>
                    </a:lnTo>
                    <a:lnTo>
                      <a:pt x="2204" y="2972"/>
                    </a:lnTo>
                    <a:lnTo>
                      <a:pt x="2217" y="2952"/>
                    </a:lnTo>
                    <a:lnTo>
                      <a:pt x="2228" y="2934"/>
                    </a:lnTo>
                    <a:lnTo>
                      <a:pt x="2233" y="2912"/>
                    </a:lnTo>
                    <a:lnTo>
                      <a:pt x="2237" y="2891"/>
                    </a:lnTo>
                    <a:lnTo>
                      <a:pt x="2239" y="2865"/>
                    </a:lnTo>
                    <a:lnTo>
                      <a:pt x="2240" y="2834"/>
                    </a:lnTo>
                    <a:lnTo>
                      <a:pt x="2223" y="2783"/>
                    </a:lnTo>
                    <a:lnTo>
                      <a:pt x="2200" y="2737"/>
                    </a:lnTo>
                    <a:lnTo>
                      <a:pt x="2171" y="2695"/>
                    </a:lnTo>
                    <a:lnTo>
                      <a:pt x="2139" y="2656"/>
                    </a:lnTo>
                    <a:lnTo>
                      <a:pt x="2106" y="2616"/>
                    </a:lnTo>
                    <a:lnTo>
                      <a:pt x="2075" y="2577"/>
                    </a:lnTo>
                    <a:lnTo>
                      <a:pt x="2049" y="2534"/>
                    </a:lnTo>
                    <a:lnTo>
                      <a:pt x="2030" y="2491"/>
                    </a:lnTo>
                    <a:lnTo>
                      <a:pt x="1987" y="2473"/>
                    </a:lnTo>
                    <a:lnTo>
                      <a:pt x="1936" y="2454"/>
                    </a:lnTo>
                    <a:lnTo>
                      <a:pt x="1880" y="2433"/>
                    </a:lnTo>
                    <a:lnTo>
                      <a:pt x="1825" y="2410"/>
                    </a:lnTo>
                    <a:lnTo>
                      <a:pt x="1770" y="2383"/>
                    </a:lnTo>
                    <a:lnTo>
                      <a:pt x="1723" y="2357"/>
                    </a:lnTo>
                    <a:lnTo>
                      <a:pt x="1686" y="2330"/>
                    </a:lnTo>
                    <a:lnTo>
                      <a:pt x="1663" y="2303"/>
                    </a:lnTo>
                    <a:lnTo>
                      <a:pt x="1663" y="2295"/>
                    </a:lnTo>
                    <a:lnTo>
                      <a:pt x="1663" y="2288"/>
                    </a:lnTo>
                    <a:lnTo>
                      <a:pt x="1663" y="2280"/>
                    </a:lnTo>
                    <a:lnTo>
                      <a:pt x="1663" y="2274"/>
                    </a:lnTo>
                    <a:lnTo>
                      <a:pt x="1650" y="2278"/>
                    </a:lnTo>
                    <a:lnTo>
                      <a:pt x="1636" y="2289"/>
                    </a:lnTo>
                    <a:lnTo>
                      <a:pt x="1622" y="2302"/>
                    </a:lnTo>
                    <a:lnTo>
                      <a:pt x="1614" y="2312"/>
                    </a:lnTo>
                    <a:lnTo>
                      <a:pt x="1511" y="2379"/>
                    </a:lnTo>
                    <a:lnTo>
                      <a:pt x="1405" y="2447"/>
                    </a:lnTo>
                    <a:lnTo>
                      <a:pt x="1294" y="2513"/>
                    </a:lnTo>
                    <a:lnTo>
                      <a:pt x="1182" y="2576"/>
                    </a:lnTo>
                    <a:lnTo>
                      <a:pt x="1066" y="2630"/>
                    </a:lnTo>
                    <a:lnTo>
                      <a:pt x="948" y="2677"/>
                    </a:lnTo>
                    <a:lnTo>
                      <a:pt x="830" y="2711"/>
                    </a:lnTo>
                    <a:lnTo>
                      <a:pt x="712" y="2733"/>
                    </a:lnTo>
                    <a:lnTo>
                      <a:pt x="694" y="2729"/>
                    </a:lnTo>
                    <a:lnTo>
                      <a:pt x="677" y="2726"/>
                    </a:lnTo>
                    <a:lnTo>
                      <a:pt x="661" y="2722"/>
                    </a:lnTo>
                    <a:lnTo>
                      <a:pt x="644" y="2721"/>
                    </a:lnTo>
                    <a:lnTo>
                      <a:pt x="628" y="2718"/>
                    </a:lnTo>
                    <a:lnTo>
                      <a:pt x="611" y="2715"/>
                    </a:lnTo>
                    <a:lnTo>
                      <a:pt x="596" y="2711"/>
                    </a:lnTo>
                    <a:lnTo>
                      <a:pt x="582" y="2707"/>
                    </a:lnTo>
                    <a:lnTo>
                      <a:pt x="554" y="2706"/>
                    </a:lnTo>
                    <a:lnTo>
                      <a:pt x="513" y="2728"/>
                    </a:lnTo>
                    <a:lnTo>
                      <a:pt x="460" y="2764"/>
                    </a:lnTo>
                    <a:lnTo>
                      <a:pt x="402" y="2809"/>
                    </a:lnTo>
                    <a:lnTo>
                      <a:pt x="340" y="2856"/>
                    </a:lnTo>
                    <a:lnTo>
                      <a:pt x="281" y="2899"/>
                    </a:lnTo>
                    <a:lnTo>
                      <a:pt x="225" y="2931"/>
                    </a:lnTo>
                    <a:lnTo>
                      <a:pt x="182" y="2946"/>
                    </a:lnTo>
                    <a:lnTo>
                      <a:pt x="168" y="2918"/>
                    </a:lnTo>
                    <a:lnTo>
                      <a:pt x="178" y="2888"/>
                    </a:lnTo>
                    <a:lnTo>
                      <a:pt x="203" y="2853"/>
                    </a:lnTo>
                    <a:lnTo>
                      <a:pt x="242" y="2819"/>
                    </a:lnTo>
                    <a:lnTo>
                      <a:pt x="282" y="2784"/>
                    </a:lnTo>
                    <a:lnTo>
                      <a:pt x="323" y="2753"/>
                    </a:lnTo>
                    <a:lnTo>
                      <a:pt x="357" y="2724"/>
                    </a:lnTo>
                    <a:lnTo>
                      <a:pt x="377" y="2701"/>
                    </a:lnTo>
                    <a:lnTo>
                      <a:pt x="329" y="2700"/>
                    </a:lnTo>
                    <a:lnTo>
                      <a:pt x="279" y="2704"/>
                    </a:lnTo>
                    <a:lnTo>
                      <a:pt x="228" y="2707"/>
                    </a:lnTo>
                    <a:lnTo>
                      <a:pt x="178" y="2710"/>
                    </a:lnTo>
                    <a:lnTo>
                      <a:pt x="127" y="2708"/>
                    </a:lnTo>
                    <a:lnTo>
                      <a:pt x="80" y="2703"/>
                    </a:lnTo>
                    <a:lnTo>
                      <a:pt x="37" y="2690"/>
                    </a:lnTo>
                    <a:lnTo>
                      <a:pt x="0" y="2670"/>
                    </a:lnTo>
                    <a:lnTo>
                      <a:pt x="16" y="2649"/>
                    </a:lnTo>
                    <a:lnTo>
                      <a:pt x="39" y="2636"/>
                    </a:lnTo>
                    <a:lnTo>
                      <a:pt x="65" y="2627"/>
                    </a:lnTo>
                    <a:lnTo>
                      <a:pt x="95" y="2623"/>
                    </a:lnTo>
                    <a:lnTo>
                      <a:pt x="124" y="2618"/>
                    </a:lnTo>
                    <a:lnTo>
                      <a:pt x="156" y="2616"/>
                    </a:lnTo>
                    <a:lnTo>
                      <a:pt x="188" y="2610"/>
                    </a:lnTo>
                    <a:lnTo>
                      <a:pt x="218" y="2605"/>
                    </a:lnTo>
                    <a:lnTo>
                      <a:pt x="231" y="2602"/>
                    </a:lnTo>
                    <a:lnTo>
                      <a:pt x="243" y="2599"/>
                    </a:lnTo>
                    <a:lnTo>
                      <a:pt x="257" y="2596"/>
                    </a:lnTo>
                    <a:lnTo>
                      <a:pt x="271" y="2595"/>
                    </a:lnTo>
                    <a:lnTo>
                      <a:pt x="283" y="2592"/>
                    </a:lnTo>
                    <a:lnTo>
                      <a:pt x="297" y="2591"/>
                    </a:lnTo>
                    <a:lnTo>
                      <a:pt x="311" y="2591"/>
                    </a:lnTo>
                    <a:lnTo>
                      <a:pt x="328" y="2591"/>
                    </a:lnTo>
                    <a:lnTo>
                      <a:pt x="328" y="2589"/>
                    </a:lnTo>
                    <a:lnTo>
                      <a:pt x="329" y="2588"/>
                    </a:lnTo>
                    <a:lnTo>
                      <a:pt x="303" y="2569"/>
                    </a:lnTo>
                    <a:lnTo>
                      <a:pt x="272" y="2548"/>
                    </a:lnTo>
                    <a:lnTo>
                      <a:pt x="238" y="2524"/>
                    </a:lnTo>
                    <a:lnTo>
                      <a:pt x="204" y="2501"/>
                    </a:lnTo>
                    <a:lnTo>
                      <a:pt x="170" y="2476"/>
                    </a:lnTo>
                    <a:lnTo>
                      <a:pt x="141" y="2453"/>
                    </a:lnTo>
                    <a:lnTo>
                      <a:pt x="117" y="2430"/>
                    </a:lnTo>
                    <a:lnTo>
                      <a:pt x="102" y="2412"/>
                    </a:lnTo>
                    <a:lnTo>
                      <a:pt x="112" y="2382"/>
                    </a:lnTo>
                    <a:lnTo>
                      <a:pt x="134" y="2372"/>
                    </a:lnTo>
                    <a:lnTo>
                      <a:pt x="164" y="2375"/>
                    </a:lnTo>
                    <a:lnTo>
                      <a:pt x="200" y="2389"/>
                    </a:lnTo>
                    <a:lnTo>
                      <a:pt x="238" y="2407"/>
                    </a:lnTo>
                    <a:lnTo>
                      <a:pt x="274" y="2430"/>
                    </a:lnTo>
                    <a:lnTo>
                      <a:pt x="305" y="2450"/>
                    </a:lnTo>
                    <a:lnTo>
                      <a:pt x="329" y="2465"/>
                    </a:lnTo>
                    <a:lnTo>
                      <a:pt x="372" y="2466"/>
                    </a:lnTo>
                    <a:lnTo>
                      <a:pt x="410" y="2469"/>
                    </a:lnTo>
                    <a:lnTo>
                      <a:pt x="442" y="2469"/>
                    </a:lnTo>
                    <a:lnTo>
                      <a:pt x="470" y="2466"/>
                    </a:lnTo>
                    <a:lnTo>
                      <a:pt x="492" y="2457"/>
                    </a:lnTo>
                    <a:lnTo>
                      <a:pt x="513" y="2440"/>
                    </a:lnTo>
                    <a:lnTo>
                      <a:pt x="529" y="2414"/>
                    </a:lnTo>
                    <a:lnTo>
                      <a:pt x="546" y="2375"/>
                    </a:lnTo>
                    <a:lnTo>
                      <a:pt x="558" y="2356"/>
                    </a:lnTo>
                    <a:lnTo>
                      <a:pt x="581" y="2332"/>
                    </a:lnTo>
                    <a:lnTo>
                      <a:pt x="608" y="2307"/>
                    </a:lnTo>
                    <a:lnTo>
                      <a:pt x="640" y="2288"/>
                    </a:lnTo>
                    <a:lnTo>
                      <a:pt x="670" y="2274"/>
                    </a:lnTo>
                    <a:lnTo>
                      <a:pt x="698" y="2274"/>
                    </a:lnTo>
                    <a:lnTo>
                      <a:pt x="720" y="2288"/>
                    </a:lnTo>
                    <a:lnTo>
                      <a:pt x="735" y="2323"/>
                    </a:lnTo>
                    <a:lnTo>
                      <a:pt x="730" y="2334"/>
                    </a:lnTo>
                    <a:lnTo>
                      <a:pt x="722" y="2346"/>
                    </a:lnTo>
                    <a:lnTo>
                      <a:pt x="711" y="2359"/>
                    </a:lnTo>
                    <a:lnTo>
                      <a:pt x="700" y="2371"/>
                    </a:lnTo>
                    <a:lnTo>
                      <a:pt x="687" y="2382"/>
                    </a:lnTo>
                    <a:lnTo>
                      <a:pt x="676" y="2395"/>
                    </a:lnTo>
                    <a:lnTo>
                      <a:pt x="664" y="2407"/>
                    </a:lnTo>
                    <a:lnTo>
                      <a:pt x="657" y="2419"/>
                    </a:lnTo>
                    <a:lnTo>
                      <a:pt x="650" y="2430"/>
                    </a:lnTo>
                    <a:lnTo>
                      <a:pt x="643" y="2454"/>
                    </a:lnTo>
                    <a:lnTo>
                      <a:pt x="633" y="2482"/>
                    </a:lnTo>
                    <a:lnTo>
                      <a:pt x="626" y="2513"/>
                    </a:lnTo>
                    <a:lnTo>
                      <a:pt x="621" y="2542"/>
                    </a:lnTo>
                    <a:lnTo>
                      <a:pt x="622" y="2569"/>
                    </a:lnTo>
                    <a:lnTo>
                      <a:pt x="630" y="2585"/>
                    </a:lnTo>
                    <a:lnTo>
                      <a:pt x="648" y="2591"/>
                    </a:lnTo>
                    <a:lnTo>
                      <a:pt x="653" y="2583"/>
                    </a:lnTo>
                    <a:lnTo>
                      <a:pt x="657" y="2578"/>
                    </a:lnTo>
                    <a:lnTo>
                      <a:pt x="661" y="2583"/>
                    </a:lnTo>
                    <a:lnTo>
                      <a:pt x="665" y="2588"/>
                    </a:lnTo>
                    <a:lnTo>
                      <a:pt x="755" y="2565"/>
                    </a:lnTo>
                    <a:lnTo>
                      <a:pt x="842" y="2529"/>
                    </a:lnTo>
                    <a:lnTo>
                      <a:pt x="926" y="2480"/>
                    </a:lnTo>
                    <a:lnTo>
                      <a:pt x="1008" y="2425"/>
                    </a:lnTo>
                    <a:lnTo>
                      <a:pt x="1085" y="2361"/>
                    </a:lnTo>
                    <a:lnTo>
                      <a:pt x="1159" y="2296"/>
                    </a:lnTo>
                    <a:lnTo>
                      <a:pt x="1228" y="2231"/>
                    </a:lnTo>
                    <a:lnTo>
                      <a:pt x="1294" y="2172"/>
                    </a:lnTo>
                    <a:lnTo>
                      <a:pt x="1337" y="2125"/>
                    </a:lnTo>
                    <a:lnTo>
                      <a:pt x="1380" y="2077"/>
                    </a:lnTo>
                    <a:lnTo>
                      <a:pt x="1421" y="2028"/>
                    </a:lnTo>
                    <a:lnTo>
                      <a:pt x="1464" y="1980"/>
                    </a:lnTo>
                    <a:lnTo>
                      <a:pt x="1506" y="1930"/>
                    </a:lnTo>
                    <a:lnTo>
                      <a:pt x="1549" y="1882"/>
                    </a:lnTo>
                    <a:lnTo>
                      <a:pt x="1590" y="1833"/>
                    </a:lnTo>
                    <a:lnTo>
                      <a:pt x="1634" y="1788"/>
                    </a:lnTo>
                    <a:lnTo>
                      <a:pt x="1656" y="1774"/>
                    </a:lnTo>
                    <a:lnTo>
                      <a:pt x="1676" y="1770"/>
                    </a:lnTo>
                    <a:lnTo>
                      <a:pt x="1691" y="1768"/>
                    </a:lnTo>
                    <a:lnTo>
                      <a:pt x="1705" y="1772"/>
                    </a:lnTo>
                    <a:lnTo>
                      <a:pt x="1717" y="1777"/>
                    </a:lnTo>
                    <a:lnTo>
                      <a:pt x="1734" y="1783"/>
                    </a:lnTo>
                    <a:lnTo>
                      <a:pt x="1753" y="1788"/>
                    </a:lnTo>
                    <a:lnTo>
                      <a:pt x="1780" y="1790"/>
                    </a:lnTo>
                    <a:lnTo>
                      <a:pt x="1788" y="1782"/>
                    </a:lnTo>
                    <a:lnTo>
                      <a:pt x="1798" y="1775"/>
                    </a:lnTo>
                    <a:lnTo>
                      <a:pt x="1807" y="1768"/>
                    </a:lnTo>
                    <a:lnTo>
                      <a:pt x="1817" y="1764"/>
                    </a:lnTo>
                    <a:lnTo>
                      <a:pt x="1827" y="1759"/>
                    </a:lnTo>
                    <a:lnTo>
                      <a:pt x="1838" y="1757"/>
                    </a:lnTo>
                    <a:lnTo>
                      <a:pt x="1850" y="1756"/>
                    </a:lnTo>
                    <a:lnTo>
                      <a:pt x="1864" y="1759"/>
                    </a:lnTo>
                    <a:lnTo>
                      <a:pt x="1860" y="1749"/>
                    </a:lnTo>
                    <a:lnTo>
                      <a:pt x="1856" y="1739"/>
                    </a:lnTo>
                    <a:lnTo>
                      <a:pt x="1850" y="1731"/>
                    </a:lnTo>
                    <a:lnTo>
                      <a:pt x="1846" y="1723"/>
                    </a:lnTo>
                    <a:lnTo>
                      <a:pt x="1839" y="1713"/>
                    </a:lnTo>
                    <a:lnTo>
                      <a:pt x="1833" y="1705"/>
                    </a:lnTo>
                    <a:lnTo>
                      <a:pt x="1828" y="1698"/>
                    </a:lnTo>
                    <a:lnTo>
                      <a:pt x="1824" y="1692"/>
                    </a:lnTo>
                    <a:lnTo>
                      <a:pt x="1802" y="1642"/>
                    </a:lnTo>
                    <a:lnTo>
                      <a:pt x="1781" y="1590"/>
                    </a:lnTo>
                    <a:lnTo>
                      <a:pt x="1762" y="1533"/>
                    </a:lnTo>
                    <a:lnTo>
                      <a:pt x="1745" y="1478"/>
                    </a:lnTo>
                    <a:lnTo>
                      <a:pt x="1728" y="1420"/>
                    </a:lnTo>
                    <a:lnTo>
                      <a:pt x="1717" y="1363"/>
                    </a:lnTo>
                    <a:lnTo>
                      <a:pt x="1708" y="1308"/>
                    </a:lnTo>
                    <a:lnTo>
                      <a:pt x="1703" y="1258"/>
                    </a:lnTo>
                    <a:lnTo>
                      <a:pt x="1648" y="1246"/>
                    </a:lnTo>
                    <a:lnTo>
                      <a:pt x="1614" y="1214"/>
                    </a:lnTo>
                    <a:lnTo>
                      <a:pt x="1594" y="1168"/>
                    </a:lnTo>
                    <a:lnTo>
                      <a:pt x="1590" y="1114"/>
                    </a:lnTo>
                    <a:lnTo>
                      <a:pt x="1594" y="1055"/>
                    </a:lnTo>
                    <a:lnTo>
                      <a:pt x="1607" y="997"/>
                    </a:lnTo>
                    <a:lnTo>
                      <a:pt x="1621" y="947"/>
                    </a:lnTo>
                    <a:lnTo>
                      <a:pt x="1637" y="910"/>
                    </a:lnTo>
                    <a:lnTo>
                      <a:pt x="1644" y="859"/>
                    </a:lnTo>
                    <a:lnTo>
                      <a:pt x="1650" y="812"/>
                    </a:lnTo>
                    <a:lnTo>
                      <a:pt x="1652" y="766"/>
                    </a:lnTo>
                    <a:lnTo>
                      <a:pt x="1656" y="723"/>
                    </a:lnTo>
                    <a:lnTo>
                      <a:pt x="1661" y="679"/>
                    </a:lnTo>
                    <a:lnTo>
                      <a:pt x="1669" y="636"/>
                    </a:lnTo>
                    <a:lnTo>
                      <a:pt x="1680" y="592"/>
                    </a:lnTo>
                    <a:lnTo>
                      <a:pt x="1698" y="546"/>
                    </a:lnTo>
                    <a:lnTo>
                      <a:pt x="1727" y="501"/>
                    </a:lnTo>
                    <a:lnTo>
                      <a:pt x="1756" y="456"/>
                    </a:lnTo>
                    <a:lnTo>
                      <a:pt x="1784" y="412"/>
                    </a:lnTo>
                    <a:lnTo>
                      <a:pt x="1810" y="368"/>
                    </a:lnTo>
                    <a:lnTo>
                      <a:pt x="1833" y="322"/>
                    </a:lnTo>
                    <a:lnTo>
                      <a:pt x="1856" y="277"/>
                    </a:lnTo>
                    <a:lnTo>
                      <a:pt x="1875" y="230"/>
                    </a:lnTo>
                    <a:lnTo>
                      <a:pt x="1896" y="183"/>
                    </a:lnTo>
                    <a:lnTo>
                      <a:pt x="1910" y="152"/>
                    </a:lnTo>
                    <a:lnTo>
                      <a:pt x="1926" y="122"/>
                    </a:lnTo>
                    <a:lnTo>
                      <a:pt x="1943" y="91"/>
                    </a:lnTo>
                    <a:lnTo>
                      <a:pt x="1962" y="64"/>
                    </a:lnTo>
                    <a:lnTo>
                      <a:pt x="1983" y="39"/>
                    </a:lnTo>
                    <a:lnTo>
                      <a:pt x="2008" y="20"/>
                    </a:lnTo>
                    <a:lnTo>
                      <a:pt x="2035" y="6"/>
                    </a:lnTo>
                    <a:lnTo>
                      <a:pt x="2070" y="0"/>
                    </a:lnTo>
                    <a:lnTo>
                      <a:pt x="2078" y="21"/>
                    </a:lnTo>
                    <a:lnTo>
                      <a:pt x="2081" y="47"/>
                    </a:lnTo>
                    <a:lnTo>
                      <a:pt x="2078" y="76"/>
                    </a:lnTo>
                    <a:lnTo>
                      <a:pt x="2071" y="107"/>
                    </a:lnTo>
                    <a:lnTo>
                      <a:pt x="2060" y="136"/>
                    </a:lnTo>
                    <a:lnTo>
                      <a:pt x="2051" y="165"/>
                    </a:lnTo>
                    <a:lnTo>
                      <a:pt x="2040" y="190"/>
                    </a:lnTo>
                    <a:lnTo>
                      <a:pt x="2033" y="212"/>
                    </a:lnTo>
                    <a:lnTo>
                      <a:pt x="2049" y="214"/>
                    </a:lnTo>
                    <a:lnTo>
                      <a:pt x="2059" y="223"/>
                    </a:lnTo>
                    <a:lnTo>
                      <a:pt x="2063" y="237"/>
                    </a:lnTo>
                    <a:lnTo>
                      <a:pt x="2063" y="255"/>
                    </a:lnTo>
                    <a:lnTo>
                      <a:pt x="2059" y="274"/>
                    </a:lnTo>
                    <a:lnTo>
                      <a:pt x="2056" y="293"/>
                    </a:lnTo>
                    <a:lnTo>
                      <a:pt x="2051" y="313"/>
                    </a:lnTo>
                    <a:lnTo>
                      <a:pt x="2048" y="332"/>
                    </a:lnTo>
                    <a:lnTo>
                      <a:pt x="2052" y="332"/>
                    </a:lnTo>
                    <a:lnTo>
                      <a:pt x="2059" y="332"/>
                    </a:lnTo>
                    <a:lnTo>
                      <a:pt x="2060" y="339"/>
                    </a:lnTo>
                    <a:lnTo>
                      <a:pt x="2071" y="346"/>
                    </a:lnTo>
                    <a:lnTo>
                      <a:pt x="2070" y="354"/>
                    </a:lnTo>
                    <a:lnTo>
                      <a:pt x="2070" y="366"/>
                    </a:lnTo>
                    <a:lnTo>
                      <a:pt x="2069" y="379"/>
                    </a:lnTo>
                    <a:lnTo>
                      <a:pt x="2067" y="391"/>
                    </a:lnTo>
                    <a:lnTo>
                      <a:pt x="2064" y="404"/>
                    </a:lnTo>
                    <a:lnTo>
                      <a:pt x="2062" y="416"/>
                    </a:lnTo>
                    <a:lnTo>
                      <a:pt x="2059" y="429"/>
                    </a:lnTo>
                    <a:lnTo>
                      <a:pt x="2056" y="441"/>
                    </a:lnTo>
                    <a:lnTo>
                      <a:pt x="2057" y="477"/>
                    </a:lnTo>
                    <a:lnTo>
                      <a:pt x="2064" y="510"/>
                    </a:lnTo>
                    <a:lnTo>
                      <a:pt x="2075" y="539"/>
                    </a:lnTo>
                    <a:lnTo>
                      <a:pt x="2091" y="566"/>
                    </a:lnTo>
                    <a:lnTo>
                      <a:pt x="2109" y="590"/>
                    </a:lnTo>
                    <a:lnTo>
                      <a:pt x="2131" y="615"/>
                    </a:lnTo>
                    <a:lnTo>
                      <a:pt x="2156" y="639"/>
                    </a:lnTo>
                    <a:lnTo>
                      <a:pt x="2185" y="665"/>
                    </a:lnTo>
                    <a:lnTo>
                      <a:pt x="2192" y="665"/>
                    </a:lnTo>
                    <a:lnTo>
                      <a:pt x="2197" y="665"/>
                    </a:lnTo>
                    <a:lnTo>
                      <a:pt x="2200" y="665"/>
                    </a:lnTo>
                    <a:lnTo>
                      <a:pt x="2204" y="666"/>
                    </a:lnTo>
                    <a:lnTo>
                      <a:pt x="2207" y="668"/>
                    </a:lnTo>
                    <a:lnTo>
                      <a:pt x="2210" y="669"/>
                    </a:lnTo>
                    <a:lnTo>
                      <a:pt x="2207" y="680"/>
                    </a:lnTo>
                    <a:lnTo>
                      <a:pt x="2210" y="697"/>
                    </a:lnTo>
                    <a:lnTo>
                      <a:pt x="2214" y="716"/>
                    </a:lnTo>
                    <a:lnTo>
                      <a:pt x="2222" y="740"/>
                    </a:lnTo>
                    <a:lnTo>
                      <a:pt x="2230" y="762"/>
                    </a:lnTo>
                    <a:lnTo>
                      <a:pt x="2241" y="785"/>
                    </a:lnTo>
                    <a:lnTo>
                      <a:pt x="2250" y="805"/>
                    </a:lnTo>
                    <a:lnTo>
                      <a:pt x="2259" y="823"/>
                    </a:lnTo>
                    <a:lnTo>
                      <a:pt x="2294" y="813"/>
                    </a:lnTo>
                    <a:lnTo>
                      <a:pt x="2331" y="791"/>
                    </a:lnTo>
                    <a:lnTo>
                      <a:pt x="2371" y="760"/>
                    </a:lnTo>
                    <a:lnTo>
                      <a:pt x="2413" y="729"/>
                    </a:lnTo>
                    <a:lnTo>
                      <a:pt x="2453" y="698"/>
                    </a:lnTo>
                    <a:lnTo>
                      <a:pt x="2496" y="676"/>
                    </a:lnTo>
                    <a:lnTo>
                      <a:pt x="2537" y="666"/>
                    </a:lnTo>
                    <a:lnTo>
                      <a:pt x="2580" y="678"/>
                    </a:lnTo>
                    <a:lnTo>
                      <a:pt x="2572" y="713"/>
                    </a:lnTo>
                    <a:lnTo>
                      <a:pt x="2551" y="754"/>
                    </a:lnTo>
                    <a:lnTo>
                      <a:pt x="2521" y="796"/>
                    </a:lnTo>
                    <a:lnTo>
                      <a:pt x="2486" y="839"/>
                    </a:lnTo>
                    <a:lnTo>
                      <a:pt x="2446" y="879"/>
                    </a:lnTo>
                    <a:lnTo>
                      <a:pt x="2406" y="915"/>
                    </a:lnTo>
                    <a:lnTo>
                      <a:pt x="2369" y="944"/>
                    </a:lnTo>
                    <a:lnTo>
                      <a:pt x="2338" y="968"/>
                    </a:lnTo>
                    <a:lnTo>
                      <a:pt x="2338" y="982"/>
                    </a:lnTo>
                    <a:lnTo>
                      <a:pt x="2341" y="994"/>
                    </a:lnTo>
                    <a:lnTo>
                      <a:pt x="2345" y="1004"/>
                    </a:lnTo>
                    <a:lnTo>
                      <a:pt x="2353" y="1015"/>
                    </a:lnTo>
                    <a:lnTo>
                      <a:pt x="2360" y="1023"/>
                    </a:lnTo>
                    <a:lnTo>
                      <a:pt x="2370" y="1031"/>
                    </a:lnTo>
                    <a:lnTo>
                      <a:pt x="2381" y="1041"/>
                    </a:lnTo>
                    <a:lnTo>
                      <a:pt x="2394" y="1055"/>
                    </a:lnTo>
                    <a:lnTo>
                      <a:pt x="2402" y="1103"/>
                    </a:lnTo>
                    <a:lnTo>
                      <a:pt x="2402" y="1157"/>
                    </a:lnTo>
                    <a:lnTo>
                      <a:pt x="2395" y="1213"/>
                    </a:lnTo>
                    <a:lnTo>
                      <a:pt x="2385" y="1269"/>
                    </a:lnTo>
                    <a:lnTo>
                      <a:pt x="2369" y="1325"/>
                    </a:lnTo>
                    <a:lnTo>
                      <a:pt x="2352" y="1381"/>
                    </a:lnTo>
                    <a:lnTo>
                      <a:pt x="2335" y="1434"/>
                    </a:lnTo>
                    <a:lnTo>
                      <a:pt x="2320" y="1485"/>
                    </a:lnTo>
                    <a:lnTo>
                      <a:pt x="2312" y="1514"/>
                    </a:lnTo>
                    <a:lnTo>
                      <a:pt x="2308" y="1536"/>
                    </a:lnTo>
                    <a:lnTo>
                      <a:pt x="2304" y="1551"/>
                    </a:lnTo>
                    <a:lnTo>
                      <a:pt x="2304" y="1562"/>
                    </a:lnTo>
                    <a:lnTo>
                      <a:pt x="2301" y="1569"/>
                    </a:lnTo>
                    <a:lnTo>
                      <a:pt x="2301" y="1575"/>
                    </a:lnTo>
                    <a:lnTo>
                      <a:pt x="2302" y="1578"/>
                    </a:lnTo>
                    <a:lnTo>
                      <a:pt x="2304" y="1582"/>
                    </a:lnTo>
                    <a:lnTo>
                      <a:pt x="2326" y="1573"/>
                    </a:lnTo>
                    <a:lnTo>
                      <a:pt x="2348" y="1571"/>
                    </a:lnTo>
                    <a:lnTo>
                      <a:pt x="2367" y="1568"/>
                    </a:lnTo>
                    <a:lnTo>
                      <a:pt x="2388" y="1571"/>
                    </a:lnTo>
                    <a:lnTo>
                      <a:pt x="2406" y="1575"/>
                    </a:lnTo>
                    <a:lnTo>
                      <a:pt x="2427" y="1584"/>
                    </a:lnTo>
                    <a:lnTo>
                      <a:pt x="2446" y="1597"/>
                    </a:lnTo>
                    <a:lnTo>
                      <a:pt x="2467" y="1616"/>
                    </a:lnTo>
                    <a:lnTo>
                      <a:pt x="2494" y="1616"/>
                    </a:lnTo>
                    <a:lnTo>
                      <a:pt x="2533" y="1618"/>
                    </a:lnTo>
                    <a:lnTo>
                      <a:pt x="2577" y="1619"/>
                    </a:lnTo>
                    <a:lnTo>
                      <a:pt x="2624" y="1625"/>
                    </a:lnTo>
                    <a:lnTo>
                      <a:pt x="2666" y="1631"/>
                    </a:lnTo>
                    <a:lnTo>
                      <a:pt x="2702" y="1645"/>
                    </a:lnTo>
                    <a:lnTo>
                      <a:pt x="2727" y="1666"/>
                    </a:lnTo>
                    <a:lnTo>
                      <a:pt x="2736" y="1695"/>
                    </a:lnTo>
                    <a:lnTo>
                      <a:pt x="2728" y="1709"/>
                    </a:lnTo>
                    <a:lnTo>
                      <a:pt x="2719" y="1723"/>
                    </a:lnTo>
                    <a:lnTo>
                      <a:pt x="2713" y="1728"/>
                    </a:lnTo>
                    <a:lnTo>
                      <a:pt x="2709" y="1735"/>
                    </a:lnTo>
                    <a:lnTo>
                      <a:pt x="2705" y="1742"/>
                    </a:lnTo>
                    <a:lnTo>
                      <a:pt x="2702" y="1750"/>
                    </a:lnTo>
                    <a:lnTo>
                      <a:pt x="2730" y="1761"/>
                    </a:lnTo>
                    <a:lnTo>
                      <a:pt x="2759" y="1785"/>
                    </a:lnTo>
                    <a:lnTo>
                      <a:pt x="2786" y="1815"/>
                    </a:lnTo>
                    <a:lnTo>
                      <a:pt x="2814" y="1854"/>
                    </a:lnTo>
                    <a:lnTo>
                      <a:pt x="2837" y="1894"/>
                    </a:lnTo>
                    <a:lnTo>
                      <a:pt x="2860" y="1934"/>
                    </a:lnTo>
                    <a:lnTo>
                      <a:pt x="2879" y="1970"/>
                    </a:lnTo>
                    <a:lnTo>
                      <a:pt x="2894" y="2003"/>
                    </a:lnTo>
                    <a:lnTo>
                      <a:pt x="2930" y="2063"/>
                    </a:lnTo>
                    <a:lnTo>
                      <a:pt x="2969" y="2122"/>
                    </a:lnTo>
                    <a:lnTo>
                      <a:pt x="3008" y="2179"/>
                    </a:lnTo>
                    <a:lnTo>
                      <a:pt x="3050" y="2237"/>
                    </a:lnTo>
                    <a:lnTo>
                      <a:pt x="3092" y="2292"/>
                    </a:lnTo>
                    <a:lnTo>
                      <a:pt x="3138" y="2348"/>
                    </a:lnTo>
                    <a:lnTo>
                      <a:pt x="3183" y="2403"/>
                    </a:lnTo>
                    <a:lnTo>
                      <a:pt x="3234" y="2460"/>
                    </a:lnTo>
                    <a:lnTo>
                      <a:pt x="3240" y="2469"/>
                    </a:lnTo>
                    <a:lnTo>
                      <a:pt x="3251" y="2482"/>
                    </a:lnTo>
                    <a:lnTo>
                      <a:pt x="3261" y="2494"/>
                    </a:lnTo>
                    <a:lnTo>
                      <a:pt x="3272" y="2507"/>
                    </a:lnTo>
                    <a:lnTo>
                      <a:pt x="3285" y="2502"/>
                    </a:lnTo>
                    <a:lnTo>
                      <a:pt x="3302" y="2494"/>
                    </a:lnTo>
                    <a:lnTo>
                      <a:pt x="3320" y="2484"/>
                    </a:lnTo>
                    <a:lnTo>
                      <a:pt x="3339" y="2475"/>
                    </a:lnTo>
                    <a:lnTo>
                      <a:pt x="3357" y="2464"/>
                    </a:lnTo>
                    <a:lnTo>
                      <a:pt x="3377" y="2453"/>
                    </a:lnTo>
                    <a:lnTo>
                      <a:pt x="3393" y="2443"/>
                    </a:lnTo>
                    <a:lnTo>
                      <a:pt x="3411" y="2436"/>
                    </a:lnTo>
                    <a:lnTo>
                      <a:pt x="3410" y="2428"/>
                    </a:lnTo>
                    <a:lnTo>
                      <a:pt x="3407" y="2421"/>
                    </a:lnTo>
                    <a:lnTo>
                      <a:pt x="3404" y="2414"/>
                    </a:lnTo>
                    <a:lnTo>
                      <a:pt x="3403" y="2410"/>
                    </a:lnTo>
                    <a:lnTo>
                      <a:pt x="3395" y="2316"/>
                    </a:lnTo>
                    <a:lnTo>
                      <a:pt x="3406" y="2231"/>
                    </a:lnTo>
                    <a:lnTo>
                      <a:pt x="3431" y="2155"/>
                    </a:lnTo>
                    <a:lnTo>
                      <a:pt x="3471" y="2086"/>
                    </a:lnTo>
                    <a:lnTo>
                      <a:pt x="3521" y="2023"/>
                    </a:lnTo>
                    <a:lnTo>
                      <a:pt x="3583" y="1965"/>
                    </a:lnTo>
                    <a:lnTo>
                      <a:pt x="3652" y="1911"/>
                    </a:lnTo>
                    <a:lnTo>
                      <a:pt x="3728" y="1861"/>
                    </a:lnTo>
                    <a:lnTo>
                      <a:pt x="3796" y="1836"/>
                    </a:lnTo>
                    <a:lnTo>
                      <a:pt x="3866" y="1821"/>
                    </a:lnTo>
                    <a:lnTo>
                      <a:pt x="3935" y="1818"/>
                    </a:lnTo>
                    <a:lnTo>
                      <a:pt x="4002" y="1830"/>
                    </a:lnTo>
                    <a:lnTo>
                      <a:pt x="4057" y="1857"/>
                    </a:lnTo>
                    <a:lnTo>
                      <a:pt x="4100" y="1902"/>
                    </a:lnTo>
                    <a:lnTo>
                      <a:pt x="4126" y="1966"/>
                    </a:lnTo>
                    <a:lnTo>
                      <a:pt x="4136" y="2053"/>
                    </a:lnTo>
                    <a:lnTo>
                      <a:pt x="4132" y="2061"/>
                    </a:lnTo>
                    <a:lnTo>
                      <a:pt x="4130" y="2070"/>
                    </a:lnTo>
                    <a:lnTo>
                      <a:pt x="4126" y="2070"/>
                    </a:lnTo>
                    <a:lnTo>
                      <a:pt x="4123" y="2072"/>
                    </a:lnTo>
                    <a:lnTo>
                      <a:pt x="4086" y="2135"/>
                    </a:lnTo>
                    <a:lnTo>
                      <a:pt x="4021" y="2219"/>
                    </a:lnTo>
                    <a:lnTo>
                      <a:pt x="3934" y="2312"/>
                    </a:lnTo>
                    <a:lnTo>
                      <a:pt x="3836" y="2403"/>
                    </a:lnTo>
                    <a:lnTo>
                      <a:pt x="3731" y="2479"/>
                    </a:lnTo>
                    <a:lnTo>
                      <a:pt x="3630" y="2530"/>
                    </a:lnTo>
                    <a:lnTo>
                      <a:pt x="3540" y="2545"/>
                    </a:lnTo>
                    <a:lnTo>
                      <a:pt x="3469" y="2515"/>
                    </a:lnTo>
                    <a:lnTo>
                      <a:pt x="3457" y="2518"/>
                    </a:lnTo>
                    <a:lnTo>
                      <a:pt x="3442" y="2524"/>
                    </a:lnTo>
                    <a:lnTo>
                      <a:pt x="3424" y="2536"/>
                    </a:lnTo>
                    <a:lnTo>
                      <a:pt x="3407" y="2551"/>
                    </a:lnTo>
                    <a:lnTo>
                      <a:pt x="3391" y="2565"/>
                    </a:lnTo>
                    <a:lnTo>
                      <a:pt x="3377" y="2580"/>
                    </a:lnTo>
                    <a:lnTo>
                      <a:pt x="3367" y="2592"/>
                    </a:lnTo>
                    <a:lnTo>
                      <a:pt x="3366" y="2605"/>
                    </a:lnTo>
                    <a:lnTo>
                      <a:pt x="3391" y="2625"/>
                    </a:lnTo>
                    <a:lnTo>
                      <a:pt x="3415" y="2650"/>
                    </a:lnTo>
                    <a:lnTo>
                      <a:pt x="3438" y="2675"/>
                    </a:lnTo>
                    <a:lnTo>
                      <a:pt x="3460" y="2701"/>
                    </a:lnTo>
                    <a:lnTo>
                      <a:pt x="3480" y="2725"/>
                    </a:lnTo>
                    <a:lnTo>
                      <a:pt x="3505" y="2750"/>
                    </a:lnTo>
                    <a:lnTo>
                      <a:pt x="3530" y="2772"/>
                    </a:lnTo>
                    <a:lnTo>
                      <a:pt x="3559" y="2794"/>
                    </a:lnTo>
                    <a:lnTo>
                      <a:pt x="3576" y="2802"/>
                    </a:lnTo>
                    <a:lnTo>
                      <a:pt x="3598" y="2800"/>
                    </a:lnTo>
                    <a:lnTo>
                      <a:pt x="3620" y="2789"/>
                    </a:lnTo>
                    <a:lnTo>
                      <a:pt x="3645" y="2773"/>
                    </a:lnTo>
                    <a:lnTo>
                      <a:pt x="3669" y="2754"/>
                    </a:lnTo>
                    <a:lnTo>
                      <a:pt x="3689" y="2735"/>
                    </a:lnTo>
                    <a:lnTo>
                      <a:pt x="3706" y="2715"/>
                    </a:lnTo>
                    <a:lnTo>
                      <a:pt x="3720" y="2704"/>
                    </a:lnTo>
                    <a:lnTo>
                      <a:pt x="3735" y="2663"/>
                    </a:lnTo>
                    <a:lnTo>
                      <a:pt x="3753" y="2630"/>
                    </a:lnTo>
                    <a:lnTo>
                      <a:pt x="3772" y="2605"/>
                    </a:lnTo>
                    <a:lnTo>
                      <a:pt x="3793" y="2591"/>
                    </a:lnTo>
                    <a:lnTo>
                      <a:pt x="3811" y="2589"/>
                    </a:lnTo>
                    <a:lnTo>
                      <a:pt x="3830" y="2603"/>
                    </a:lnTo>
                    <a:lnTo>
                      <a:pt x="3846" y="2634"/>
                    </a:lnTo>
                    <a:lnTo>
                      <a:pt x="3859" y="2683"/>
                    </a:lnTo>
                    <a:lnTo>
                      <a:pt x="3851" y="2711"/>
                    </a:lnTo>
                    <a:lnTo>
                      <a:pt x="3836" y="2735"/>
                    </a:lnTo>
                    <a:lnTo>
                      <a:pt x="3815" y="2751"/>
                    </a:lnTo>
                    <a:lnTo>
                      <a:pt x="3793" y="2766"/>
                    </a:lnTo>
                    <a:lnTo>
                      <a:pt x="3768" y="2776"/>
                    </a:lnTo>
                    <a:lnTo>
                      <a:pt x="3749" y="2787"/>
                    </a:lnTo>
                    <a:lnTo>
                      <a:pt x="3734" y="2797"/>
                    </a:lnTo>
                    <a:lnTo>
                      <a:pt x="3728" y="2809"/>
                    </a:lnTo>
                    <a:lnTo>
                      <a:pt x="3757" y="2804"/>
                    </a:lnTo>
                    <a:lnTo>
                      <a:pt x="3804" y="2794"/>
                    </a:lnTo>
                    <a:lnTo>
                      <a:pt x="3859" y="2780"/>
                    </a:lnTo>
                    <a:lnTo>
                      <a:pt x="3919" y="2771"/>
                    </a:lnTo>
                    <a:lnTo>
                      <a:pt x="3976" y="2764"/>
                    </a:lnTo>
                    <a:lnTo>
                      <a:pt x="4025" y="2769"/>
                    </a:lnTo>
                    <a:lnTo>
                      <a:pt x="4063" y="2787"/>
                    </a:lnTo>
                    <a:lnTo>
                      <a:pt x="4081" y="2823"/>
                    </a:lnTo>
                    <a:lnTo>
                      <a:pt x="4064" y="2837"/>
                    </a:lnTo>
                    <a:lnTo>
                      <a:pt x="4036" y="2848"/>
                    </a:lnTo>
                    <a:lnTo>
                      <a:pt x="4000" y="2855"/>
                    </a:lnTo>
                    <a:lnTo>
                      <a:pt x="3962" y="2862"/>
                    </a:lnTo>
                    <a:lnTo>
                      <a:pt x="3920" y="2866"/>
                    </a:lnTo>
                    <a:lnTo>
                      <a:pt x="3881" y="2870"/>
                    </a:lnTo>
                    <a:lnTo>
                      <a:pt x="3848" y="2873"/>
                    </a:lnTo>
                    <a:lnTo>
                      <a:pt x="3825" y="2878"/>
                    </a:lnTo>
                    <a:lnTo>
                      <a:pt x="3825" y="2883"/>
                    </a:lnTo>
                    <a:lnTo>
                      <a:pt x="3825" y="2889"/>
                    </a:lnTo>
                    <a:lnTo>
                      <a:pt x="3850" y="2898"/>
                    </a:lnTo>
                    <a:lnTo>
                      <a:pt x="3877" y="2906"/>
                    </a:lnTo>
                    <a:lnTo>
                      <a:pt x="3906" y="2912"/>
                    </a:lnTo>
                    <a:lnTo>
                      <a:pt x="3935" y="2920"/>
                    </a:lnTo>
                    <a:lnTo>
                      <a:pt x="3964" y="2927"/>
                    </a:lnTo>
                    <a:lnTo>
                      <a:pt x="3994" y="2938"/>
                    </a:lnTo>
                    <a:lnTo>
                      <a:pt x="4024" y="2950"/>
                    </a:lnTo>
                    <a:lnTo>
                      <a:pt x="4054" y="2968"/>
                    </a:lnTo>
                    <a:lnTo>
                      <a:pt x="4028" y="2999"/>
                    </a:lnTo>
                    <a:lnTo>
                      <a:pt x="3980" y="3006"/>
                    </a:lnTo>
                    <a:lnTo>
                      <a:pt x="3916" y="2995"/>
                    </a:lnTo>
                    <a:lnTo>
                      <a:pt x="3852" y="2981"/>
                    </a:lnTo>
                    <a:lnTo>
                      <a:pt x="3793" y="2968"/>
                    </a:lnTo>
                    <a:lnTo>
                      <a:pt x="3752" y="2971"/>
                    </a:lnTo>
                    <a:lnTo>
                      <a:pt x="3739" y="2996"/>
                    </a:lnTo>
                    <a:lnTo>
                      <a:pt x="3767" y="3055"/>
                    </a:lnTo>
                    <a:lnTo>
                      <a:pt x="3786" y="3073"/>
                    </a:lnTo>
                    <a:lnTo>
                      <a:pt x="3801" y="3095"/>
                    </a:lnTo>
                    <a:lnTo>
                      <a:pt x="3812" y="3118"/>
                    </a:lnTo>
                    <a:lnTo>
                      <a:pt x="3818" y="3140"/>
                    </a:lnTo>
                    <a:lnTo>
                      <a:pt x="3814" y="3155"/>
                    </a:lnTo>
                    <a:lnTo>
                      <a:pt x="3803" y="3163"/>
                    </a:lnTo>
                    <a:lnTo>
                      <a:pt x="3781" y="3162"/>
                    </a:lnTo>
                    <a:lnTo>
                      <a:pt x="3746" y="3149"/>
                    </a:lnTo>
                    <a:lnTo>
                      <a:pt x="3718" y="3123"/>
                    </a:lnTo>
                    <a:lnTo>
                      <a:pt x="3693" y="3098"/>
                    </a:lnTo>
                    <a:lnTo>
                      <a:pt x="3669" y="3071"/>
                    </a:lnTo>
                    <a:lnTo>
                      <a:pt x="3645" y="3044"/>
                    </a:lnTo>
                    <a:lnTo>
                      <a:pt x="3620" y="3018"/>
                    </a:lnTo>
                    <a:lnTo>
                      <a:pt x="3595" y="2993"/>
                    </a:lnTo>
                    <a:lnTo>
                      <a:pt x="3569" y="2970"/>
                    </a:lnTo>
                    <a:lnTo>
                      <a:pt x="3543" y="2952"/>
                    </a:lnTo>
                    <a:lnTo>
                      <a:pt x="3530" y="2938"/>
                    </a:lnTo>
                    <a:lnTo>
                      <a:pt x="3521" y="2928"/>
                    </a:lnTo>
                    <a:lnTo>
                      <a:pt x="3512" y="2917"/>
                    </a:lnTo>
                    <a:lnTo>
                      <a:pt x="3505" y="2907"/>
                    </a:lnTo>
                    <a:lnTo>
                      <a:pt x="3483" y="2902"/>
                    </a:lnTo>
                    <a:lnTo>
                      <a:pt x="3467" y="2898"/>
                    </a:lnTo>
                    <a:lnTo>
                      <a:pt x="3454" y="2894"/>
                    </a:lnTo>
                    <a:lnTo>
                      <a:pt x="3446" y="2889"/>
                    </a:lnTo>
                    <a:lnTo>
                      <a:pt x="3440" y="2881"/>
                    </a:lnTo>
                    <a:lnTo>
                      <a:pt x="3438" y="2870"/>
                    </a:lnTo>
                    <a:lnTo>
                      <a:pt x="3438" y="2853"/>
                    </a:lnTo>
                    <a:lnTo>
                      <a:pt x="3438" y="2834"/>
                    </a:lnTo>
                    <a:lnTo>
                      <a:pt x="3414" y="2812"/>
                    </a:lnTo>
                    <a:lnTo>
                      <a:pt x="3393" y="2789"/>
                    </a:lnTo>
                    <a:lnTo>
                      <a:pt x="3373" y="2764"/>
                    </a:lnTo>
                    <a:lnTo>
                      <a:pt x="3353" y="2740"/>
                    </a:lnTo>
                    <a:lnTo>
                      <a:pt x="3331" y="2717"/>
                    </a:lnTo>
                    <a:lnTo>
                      <a:pt x="3310" y="2699"/>
                    </a:lnTo>
                    <a:lnTo>
                      <a:pt x="3287" y="2685"/>
                    </a:lnTo>
                    <a:lnTo>
                      <a:pt x="3263" y="2678"/>
                    </a:lnTo>
                    <a:lnTo>
                      <a:pt x="3175" y="2769"/>
                    </a:lnTo>
                    <a:lnTo>
                      <a:pt x="3100" y="2869"/>
                    </a:lnTo>
                    <a:lnTo>
                      <a:pt x="3031" y="2971"/>
                    </a:lnTo>
                    <a:lnTo>
                      <a:pt x="2972" y="3077"/>
                    </a:lnTo>
                    <a:lnTo>
                      <a:pt x="2915" y="3187"/>
                    </a:lnTo>
                    <a:lnTo>
                      <a:pt x="2862" y="3300"/>
                    </a:lnTo>
                    <a:lnTo>
                      <a:pt x="2813" y="3415"/>
                    </a:lnTo>
                    <a:lnTo>
                      <a:pt x="2763" y="3532"/>
                    </a:lnTo>
                    <a:lnTo>
                      <a:pt x="2734" y="3615"/>
                    </a:lnTo>
                    <a:lnTo>
                      <a:pt x="2709" y="3698"/>
                    </a:lnTo>
                    <a:lnTo>
                      <a:pt x="2685" y="3780"/>
                    </a:lnTo>
                    <a:lnTo>
                      <a:pt x="2665" y="3861"/>
                    </a:lnTo>
                    <a:lnTo>
                      <a:pt x="2644" y="3941"/>
                    </a:lnTo>
                    <a:lnTo>
                      <a:pt x="2627" y="4026"/>
                    </a:lnTo>
                    <a:lnTo>
                      <a:pt x="2611" y="4112"/>
                    </a:lnTo>
                    <a:lnTo>
                      <a:pt x="2597" y="4201"/>
                    </a:lnTo>
                    <a:lnTo>
                      <a:pt x="2587" y="4300"/>
                    </a:lnTo>
                    <a:lnTo>
                      <a:pt x="2579" y="4403"/>
                    </a:lnTo>
                    <a:lnTo>
                      <a:pt x="2572" y="4510"/>
                    </a:lnTo>
                    <a:lnTo>
                      <a:pt x="2569" y="4620"/>
                    </a:lnTo>
                    <a:lnTo>
                      <a:pt x="2569" y="4728"/>
                    </a:lnTo>
                    <a:lnTo>
                      <a:pt x="2579" y="4836"/>
                    </a:lnTo>
                    <a:lnTo>
                      <a:pt x="2595" y="4940"/>
                    </a:lnTo>
                    <a:lnTo>
                      <a:pt x="2623" y="5039"/>
                    </a:lnTo>
                    <a:lnTo>
                      <a:pt x="2629" y="5041"/>
                    </a:lnTo>
                    <a:lnTo>
                      <a:pt x="2638" y="5042"/>
                    </a:lnTo>
                    <a:lnTo>
                      <a:pt x="2680" y="5078"/>
                    </a:lnTo>
                    <a:lnTo>
                      <a:pt x="2731" y="5107"/>
                    </a:lnTo>
                    <a:lnTo>
                      <a:pt x="2785" y="5129"/>
                    </a:lnTo>
                    <a:lnTo>
                      <a:pt x="2842" y="5152"/>
                    </a:lnTo>
                    <a:lnTo>
                      <a:pt x="2894" y="5175"/>
                    </a:lnTo>
                    <a:lnTo>
                      <a:pt x="2944" y="5202"/>
                    </a:lnTo>
                    <a:lnTo>
                      <a:pt x="2984" y="5238"/>
                    </a:lnTo>
                    <a:lnTo>
                      <a:pt x="3016" y="5287"/>
                    </a:lnTo>
                    <a:lnTo>
                      <a:pt x="3013" y="5311"/>
                    </a:lnTo>
                    <a:lnTo>
                      <a:pt x="3009" y="5334"/>
                    </a:lnTo>
                    <a:lnTo>
                      <a:pt x="3003" y="5352"/>
                    </a:lnTo>
                    <a:lnTo>
                      <a:pt x="2995" y="5365"/>
                    </a:lnTo>
                    <a:lnTo>
                      <a:pt x="2981" y="5375"/>
                    </a:lnTo>
                    <a:lnTo>
                      <a:pt x="2966" y="5383"/>
                    </a:lnTo>
                    <a:lnTo>
                      <a:pt x="2945" y="5387"/>
                    </a:lnTo>
                    <a:lnTo>
                      <a:pt x="2920" y="5390"/>
                    </a:lnTo>
                    <a:lnTo>
                      <a:pt x="2850" y="5400"/>
                    </a:lnTo>
                    <a:lnTo>
                      <a:pt x="2763" y="5412"/>
                    </a:lnTo>
                    <a:lnTo>
                      <a:pt x="2663" y="5421"/>
                    </a:lnTo>
                    <a:lnTo>
                      <a:pt x="2559" y="5426"/>
                    </a:lnTo>
                    <a:lnTo>
                      <a:pt x="2457" y="5421"/>
                    </a:lnTo>
                    <a:lnTo>
                      <a:pt x="2366" y="5405"/>
                    </a:lnTo>
                    <a:lnTo>
                      <a:pt x="2288" y="5374"/>
                    </a:lnTo>
                    <a:lnTo>
                      <a:pt x="2236" y="5327"/>
                    </a:lnTo>
                    <a:lnTo>
                      <a:pt x="2228" y="5276"/>
                    </a:lnTo>
                    <a:lnTo>
                      <a:pt x="2241" y="5237"/>
                    </a:lnTo>
                    <a:lnTo>
                      <a:pt x="2272" y="5205"/>
                    </a:lnTo>
                    <a:lnTo>
                      <a:pt x="2315" y="5182"/>
                    </a:lnTo>
                    <a:lnTo>
                      <a:pt x="2362" y="5159"/>
                    </a:lnTo>
                    <a:lnTo>
                      <a:pt x="2412" y="5139"/>
                    </a:lnTo>
                    <a:lnTo>
                      <a:pt x="2457" y="5117"/>
                    </a:lnTo>
                    <a:lnTo>
                      <a:pt x="2493" y="5092"/>
                    </a:lnTo>
                    <a:lnTo>
                      <a:pt x="2492" y="5090"/>
                    </a:lnTo>
                    <a:lnTo>
                      <a:pt x="2492" y="5089"/>
                    </a:lnTo>
                    <a:lnTo>
                      <a:pt x="2500" y="5086"/>
                    </a:lnTo>
                    <a:lnTo>
                      <a:pt x="2510" y="5079"/>
                    </a:lnTo>
                    <a:lnTo>
                      <a:pt x="2518" y="5072"/>
                    </a:lnTo>
                    <a:lnTo>
                      <a:pt x="2528" y="5065"/>
                    </a:lnTo>
                    <a:lnTo>
                      <a:pt x="2507" y="5000"/>
                    </a:lnTo>
                    <a:lnTo>
                      <a:pt x="2490" y="4935"/>
                    </a:lnTo>
                    <a:lnTo>
                      <a:pt x="2477" y="4870"/>
                    </a:lnTo>
                    <a:lnTo>
                      <a:pt x="2467" y="4805"/>
                    </a:lnTo>
                    <a:lnTo>
                      <a:pt x="2457" y="4741"/>
                    </a:lnTo>
                    <a:lnTo>
                      <a:pt x="2453" y="4676"/>
                    </a:lnTo>
                    <a:lnTo>
                      <a:pt x="2449" y="4611"/>
                    </a:lnTo>
                    <a:lnTo>
                      <a:pt x="2449" y="4547"/>
                    </a:lnTo>
                    <a:lnTo>
                      <a:pt x="2445" y="4517"/>
                    </a:lnTo>
                    <a:lnTo>
                      <a:pt x="2445" y="4474"/>
                    </a:lnTo>
                    <a:lnTo>
                      <a:pt x="2445" y="4424"/>
                    </a:lnTo>
                    <a:lnTo>
                      <a:pt x="2449" y="4373"/>
                    </a:lnTo>
                    <a:lnTo>
                      <a:pt x="2453" y="4323"/>
                    </a:lnTo>
                    <a:lnTo>
                      <a:pt x="2457" y="4282"/>
                    </a:lnTo>
                    <a:lnTo>
                      <a:pt x="2461" y="4251"/>
                    </a:lnTo>
                    <a:lnTo>
                      <a:pt x="2467" y="4239"/>
                    </a:lnTo>
                    <a:lnTo>
                      <a:pt x="2474" y="4164"/>
                    </a:lnTo>
                    <a:lnTo>
                      <a:pt x="2485" y="4092"/>
                    </a:lnTo>
                    <a:lnTo>
                      <a:pt x="2497" y="4022"/>
                    </a:lnTo>
                    <a:lnTo>
                      <a:pt x="2512" y="3954"/>
                    </a:lnTo>
                    <a:lnTo>
                      <a:pt x="2526" y="3883"/>
                    </a:lnTo>
                    <a:lnTo>
                      <a:pt x="2541" y="3816"/>
                    </a:lnTo>
                    <a:lnTo>
                      <a:pt x="2555" y="3747"/>
                    </a:lnTo>
                    <a:lnTo>
                      <a:pt x="2571" y="3679"/>
                    </a:lnTo>
                    <a:lnTo>
                      <a:pt x="2573" y="3669"/>
                    </a:lnTo>
                    <a:lnTo>
                      <a:pt x="2577" y="3657"/>
                    </a:lnTo>
                    <a:lnTo>
                      <a:pt x="2582" y="3640"/>
                    </a:lnTo>
                    <a:lnTo>
                      <a:pt x="2589" y="3622"/>
                    </a:lnTo>
                    <a:lnTo>
                      <a:pt x="2593" y="3603"/>
                    </a:lnTo>
                    <a:lnTo>
                      <a:pt x="2597" y="3586"/>
                    </a:lnTo>
                    <a:lnTo>
                      <a:pt x="2600" y="3571"/>
                    </a:lnTo>
                    <a:lnTo>
                      <a:pt x="2602" y="3564"/>
                    </a:lnTo>
                    <a:lnTo>
                      <a:pt x="2605" y="3564"/>
                    </a:lnTo>
                    <a:lnTo>
                      <a:pt x="2609" y="3564"/>
                    </a:lnTo>
                    <a:lnTo>
                      <a:pt x="2611" y="3545"/>
                    </a:lnTo>
                    <a:lnTo>
                      <a:pt x="2618" y="3524"/>
                    </a:lnTo>
                    <a:lnTo>
                      <a:pt x="2624" y="3499"/>
                    </a:lnTo>
                    <a:lnTo>
                      <a:pt x="2636" y="3476"/>
                    </a:lnTo>
                    <a:lnTo>
                      <a:pt x="2642" y="3451"/>
                    </a:lnTo>
                    <a:lnTo>
                      <a:pt x="2651" y="3430"/>
                    </a:lnTo>
                    <a:lnTo>
                      <a:pt x="2655" y="3412"/>
                    </a:lnTo>
                    <a:lnTo>
                      <a:pt x="2655" y="3400"/>
                    </a:lnTo>
                    <a:lnTo>
                      <a:pt x="2663" y="3387"/>
                    </a:lnTo>
                    <a:lnTo>
                      <a:pt x="2676" y="3362"/>
                    </a:lnTo>
                    <a:lnTo>
                      <a:pt x="2689" y="3329"/>
                    </a:lnTo>
                    <a:lnTo>
                      <a:pt x="2705" y="3293"/>
                    </a:lnTo>
                    <a:lnTo>
                      <a:pt x="2719" y="3254"/>
                    </a:lnTo>
                    <a:lnTo>
                      <a:pt x="2731" y="3223"/>
                    </a:lnTo>
                    <a:lnTo>
                      <a:pt x="2739" y="3198"/>
                    </a:lnTo>
                    <a:lnTo>
                      <a:pt x="2745" y="3187"/>
                    </a:lnTo>
                    <a:lnTo>
                      <a:pt x="2748" y="3178"/>
                    </a:lnTo>
                    <a:lnTo>
                      <a:pt x="2757" y="3160"/>
                    </a:lnTo>
                    <a:lnTo>
                      <a:pt x="2771" y="3133"/>
                    </a:lnTo>
                    <a:lnTo>
                      <a:pt x="2788" y="3102"/>
                    </a:lnTo>
                    <a:lnTo>
                      <a:pt x="2801" y="3071"/>
                    </a:lnTo>
                    <a:lnTo>
                      <a:pt x="2817" y="3043"/>
                    </a:lnTo>
                    <a:lnTo>
                      <a:pt x="2826" y="3021"/>
                    </a:lnTo>
                    <a:lnTo>
                      <a:pt x="2831" y="3012"/>
                    </a:lnTo>
                    <a:lnTo>
                      <a:pt x="2847" y="2986"/>
                    </a:lnTo>
                    <a:lnTo>
                      <a:pt x="2864" y="2961"/>
                    </a:lnTo>
                    <a:lnTo>
                      <a:pt x="2880" y="2935"/>
                    </a:lnTo>
                    <a:lnTo>
                      <a:pt x="2898" y="2910"/>
                    </a:lnTo>
                    <a:lnTo>
                      <a:pt x="2915" y="2884"/>
                    </a:lnTo>
                    <a:lnTo>
                      <a:pt x="2931" y="2859"/>
                    </a:lnTo>
                    <a:lnTo>
                      <a:pt x="2948" y="2834"/>
                    </a:lnTo>
                    <a:lnTo>
                      <a:pt x="2966" y="2809"/>
                    </a:lnTo>
                    <a:lnTo>
                      <a:pt x="2967" y="2806"/>
                    </a:lnTo>
                    <a:lnTo>
                      <a:pt x="2974" y="2801"/>
                    </a:lnTo>
                    <a:lnTo>
                      <a:pt x="2983" y="2791"/>
                    </a:lnTo>
                    <a:lnTo>
                      <a:pt x="2992" y="2780"/>
                    </a:lnTo>
                    <a:lnTo>
                      <a:pt x="3001" y="2768"/>
                    </a:lnTo>
                    <a:lnTo>
                      <a:pt x="3009" y="2757"/>
                    </a:lnTo>
                    <a:lnTo>
                      <a:pt x="3014" y="2747"/>
                    </a:lnTo>
                    <a:lnTo>
                      <a:pt x="3019" y="2742"/>
                    </a:lnTo>
                    <a:lnTo>
                      <a:pt x="3026" y="2736"/>
                    </a:lnTo>
                    <a:lnTo>
                      <a:pt x="3037" y="2725"/>
                    </a:lnTo>
                    <a:lnTo>
                      <a:pt x="3043" y="2711"/>
                    </a:lnTo>
                    <a:lnTo>
                      <a:pt x="3048" y="2701"/>
                    </a:lnTo>
                    <a:lnTo>
                      <a:pt x="3057" y="2690"/>
                    </a:lnTo>
                    <a:lnTo>
                      <a:pt x="3073" y="2677"/>
                    </a:lnTo>
                    <a:lnTo>
                      <a:pt x="3092" y="2660"/>
                    </a:lnTo>
                    <a:lnTo>
                      <a:pt x="3114" y="2642"/>
                    </a:lnTo>
                    <a:lnTo>
                      <a:pt x="3133" y="2623"/>
                    </a:lnTo>
                    <a:lnTo>
                      <a:pt x="3150" y="2607"/>
                    </a:lnTo>
                    <a:lnTo>
                      <a:pt x="3161" y="2594"/>
                    </a:lnTo>
                    <a:lnTo>
                      <a:pt x="3167" y="2585"/>
                    </a:lnTo>
                    <a:lnTo>
                      <a:pt x="3124" y="2552"/>
                    </a:lnTo>
                    <a:lnTo>
                      <a:pt x="3082" y="2516"/>
                    </a:lnTo>
                    <a:lnTo>
                      <a:pt x="3038" y="2477"/>
                    </a:lnTo>
                    <a:lnTo>
                      <a:pt x="2994" y="2440"/>
                    </a:lnTo>
                    <a:lnTo>
                      <a:pt x="2948" y="2404"/>
                    </a:lnTo>
                    <a:lnTo>
                      <a:pt x="2902" y="2372"/>
                    </a:lnTo>
                    <a:lnTo>
                      <a:pt x="2857" y="2348"/>
                    </a:lnTo>
                    <a:lnTo>
                      <a:pt x="2813" y="2332"/>
                    </a:lnTo>
                    <a:lnTo>
                      <a:pt x="2808" y="2401"/>
                    </a:lnTo>
                    <a:lnTo>
                      <a:pt x="2801" y="2472"/>
                    </a:lnTo>
                    <a:lnTo>
                      <a:pt x="2792" y="2541"/>
                    </a:lnTo>
                    <a:lnTo>
                      <a:pt x="2779" y="2610"/>
                    </a:lnTo>
                    <a:lnTo>
                      <a:pt x="2763" y="2678"/>
                    </a:lnTo>
                    <a:lnTo>
                      <a:pt x="2743" y="2747"/>
                    </a:lnTo>
                    <a:lnTo>
                      <a:pt x="2723" y="2815"/>
                    </a:lnTo>
                    <a:lnTo>
                      <a:pt x="2699" y="2884"/>
                    </a:lnTo>
                    <a:lnTo>
                      <a:pt x="2695" y="2909"/>
                    </a:lnTo>
                    <a:lnTo>
                      <a:pt x="2692" y="2939"/>
                    </a:lnTo>
                    <a:lnTo>
                      <a:pt x="2688" y="2968"/>
                    </a:lnTo>
                    <a:lnTo>
                      <a:pt x="2685" y="3000"/>
                    </a:lnTo>
                    <a:lnTo>
                      <a:pt x="2677" y="3029"/>
                    </a:lnTo>
                    <a:lnTo>
                      <a:pt x="2667" y="3058"/>
                    </a:lnTo>
                    <a:lnTo>
                      <a:pt x="2655" y="3084"/>
                    </a:lnTo>
                    <a:lnTo>
                      <a:pt x="2638" y="3108"/>
                    </a:lnTo>
                    <a:lnTo>
                      <a:pt x="2594" y="3133"/>
                    </a:lnTo>
                    <a:lnTo>
                      <a:pt x="2561" y="3163"/>
                    </a:lnTo>
                    <a:lnTo>
                      <a:pt x="2533" y="3198"/>
                    </a:lnTo>
                    <a:lnTo>
                      <a:pt x="2514" y="3236"/>
                    </a:lnTo>
                    <a:lnTo>
                      <a:pt x="2497" y="3277"/>
                    </a:lnTo>
                    <a:lnTo>
                      <a:pt x="2488" y="3322"/>
                    </a:lnTo>
                    <a:lnTo>
                      <a:pt x="2481" y="3369"/>
                    </a:lnTo>
                    <a:lnTo>
                      <a:pt x="2478" y="3422"/>
                    </a:lnTo>
                    <a:lnTo>
                      <a:pt x="2478" y="3463"/>
                    </a:lnTo>
                    <a:lnTo>
                      <a:pt x="2475" y="3494"/>
                    </a:lnTo>
                    <a:lnTo>
                      <a:pt x="2467" y="3516"/>
                    </a:lnTo>
                    <a:lnTo>
                      <a:pt x="2459" y="3535"/>
                    </a:lnTo>
                    <a:lnTo>
                      <a:pt x="2446" y="3549"/>
                    </a:lnTo>
                    <a:lnTo>
                      <a:pt x="2432" y="3567"/>
                    </a:lnTo>
                    <a:lnTo>
                      <a:pt x="2417" y="3589"/>
                    </a:lnTo>
                    <a:lnTo>
                      <a:pt x="2402" y="3621"/>
                    </a:lnTo>
                    <a:lnTo>
                      <a:pt x="2398" y="3621"/>
                    </a:lnTo>
                    <a:lnTo>
                      <a:pt x="2394" y="3621"/>
                    </a:lnTo>
                    <a:lnTo>
                      <a:pt x="2389" y="3614"/>
                    </a:lnTo>
                    <a:lnTo>
                      <a:pt x="2388" y="3608"/>
                    </a:lnTo>
                    <a:lnTo>
                      <a:pt x="2378" y="3611"/>
                    </a:lnTo>
                    <a:lnTo>
                      <a:pt x="2370" y="3619"/>
                    </a:lnTo>
                    <a:lnTo>
                      <a:pt x="2362" y="3629"/>
                    </a:lnTo>
                    <a:lnTo>
                      <a:pt x="2353" y="3641"/>
                    </a:lnTo>
                    <a:lnTo>
                      <a:pt x="2344" y="3654"/>
                    </a:lnTo>
                    <a:lnTo>
                      <a:pt x="2335" y="3666"/>
                    </a:lnTo>
                    <a:lnTo>
                      <a:pt x="2327" y="3676"/>
                    </a:lnTo>
                    <a:lnTo>
                      <a:pt x="2323" y="3687"/>
                    </a:lnTo>
                    <a:lnTo>
                      <a:pt x="2244" y="3762"/>
                    </a:lnTo>
                    <a:lnTo>
                      <a:pt x="2165" y="3836"/>
                    </a:lnTo>
                    <a:lnTo>
                      <a:pt x="2084" y="3907"/>
                    </a:lnTo>
                    <a:lnTo>
                      <a:pt x="2004" y="3979"/>
                    </a:lnTo>
                    <a:lnTo>
                      <a:pt x="1921" y="4049"/>
                    </a:lnTo>
                    <a:lnTo>
                      <a:pt x="1840" y="4123"/>
                    </a:lnTo>
                    <a:lnTo>
                      <a:pt x="1762" y="4197"/>
                    </a:lnTo>
                    <a:lnTo>
                      <a:pt x="1687" y="4277"/>
                    </a:lnTo>
                    <a:lnTo>
                      <a:pt x="1684" y="4277"/>
                    </a:lnTo>
                    <a:lnTo>
                      <a:pt x="1681" y="4277"/>
                    </a:lnTo>
                    <a:lnTo>
                      <a:pt x="1672" y="4295"/>
                    </a:lnTo>
                    <a:lnTo>
                      <a:pt x="1654" y="4322"/>
                    </a:lnTo>
                    <a:lnTo>
                      <a:pt x="1629" y="4349"/>
                    </a:lnTo>
                    <a:lnTo>
                      <a:pt x="1601" y="4382"/>
                    </a:lnTo>
                    <a:lnTo>
                      <a:pt x="1569" y="4413"/>
                    </a:lnTo>
                    <a:lnTo>
                      <a:pt x="1542" y="4443"/>
                    </a:lnTo>
                    <a:lnTo>
                      <a:pt x="1518" y="4470"/>
                    </a:lnTo>
                    <a:lnTo>
                      <a:pt x="1503" y="4492"/>
                    </a:lnTo>
                    <a:lnTo>
                      <a:pt x="1466" y="4532"/>
                    </a:lnTo>
                    <a:lnTo>
                      <a:pt x="1430" y="4573"/>
                    </a:lnTo>
                    <a:lnTo>
                      <a:pt x="1394" y="4615"/>
                    </a:lnTo>
                    <a:lnTo>
                      <a:pt x="1359" y="4656"/>
                    </a:lnTo>
                    <a:lnTo>
                      <a:pt x="1325" y="4698"/>
                    </a:lnTo>
                    <a:lnTo>
                      <a:pt x="1291" y="4742"/>
                    </a:lnTo>
                    <a:lnTo>
                      <a:pt x="1258" y="4785"/>
                    </a:lnTo>
                    <a:lnTo>
                      <a:pt x="1226" y="4829"/>
                    </a:lnTo>
                    <a:lnTo>
                      <a:pt x="1203" y="4866"/>
                    </a:lnTo>
                    <a:lnTo>
                      <a:pt x="1179" y="4904"/>
                    </a:lnTo>
                    <a:lnTo>
                      <a:pt x="1154" y="4941"/>
                    </a:lnTo>
                    <a:lnTo>
                      <a:pt x="1132" y="4980"/>
                    </a:lnTo>
                    <a:lnTo>
                      <a:pt x="1110" y="5018"/>
                    </a:lnTo>
                    <a:lnTo>
                      <a:pt x="1094" y="5058"/>
                    </a:lnTo>
                    <a:lnTo>
                      <a:pt x="1080" y="5100"/>
                    </a:lnTo>
                    <a:lnTo>
                      <a:pt x="1073" y="5144"/>
                    </a:lnTo>
                    <a:lnTo>
                      <a:pt x="1109" y="5143"/>
                    </a:lnTo>
                    <a:lnTo>
                      <a:pt x="1145" y="5141"/>
                    </a:lnTo>
                    <a:lnTo>
                      <a:pt x="1178" y="5140"/>
                    </a:lnTo>
                    <a:lnTo>
                      <a:pt x="1213" y="5143"/>
                    </a:lnTo>
                    <a:lnTo>
                      <a:pt x="1244" y="5147"/>
                    </a:lnTo>
                    <a:lnTo>
                      <a:pt x="1275" y="5158"/>
                    </a:lnTo>
                    <a:lnTo>
                      <a:pt x="1304" y="5176"/>
                    </a:lnTo>
                    <a:lnTo>
                      <a:pt x="1331" y="5202"/>
                    </a:lnTo>
                    <a:lnTo>
                      <a:pt x="1367" y="5213"/>
                    </a:lnTo>
                    <a:lnTo>
                      <a:pt x="1421" y="5216"/>
                    </a:lnTo>
                    <a:lnTo>
                      <a:pt x="1484" y="5213"/>
                    </a:lnTo>
                    <a:lnTo>
                      <a:pt x="1549" y="5211"/>
                    </a:lnTo>
                    <a:lnTo>
                      <a:pt x="1604" y="5211"/>
                    </a:lnTo>
                    <a:lnTo>
                      <a:pt x="1645" y="5222"/>
                    </a:lnTo>
                    <a:lnTo>
                      <a:pt x="1665" y="5245"/>
                    </a:lnTo>
                    <a:lnTo>
                      <a:pt x="1652" y="5289"/>
                    </a:lnTo>
                    <a:lnTo>
                      <a:pt x="1648" y="5299"/>
                    </a:lnTo>
                    <a:lnTo>
                      <a:pt x="1645" y="5309"/>
                    </a:lnTo>
                    <a:lnTo>
                      <a:pt x="1643" y="5318"/>
                    </a:lnTo>
                    <a:lnTo>
                      <a:pt x="1640" y="5329"/>
                    </a:lnTo>
                    <a:lnTo>
                      <a:pt x="1650" y="5329"/>
                    </a:lnTo>
                    <a:lnTo>
                      <a:pt x="1658" y="5329"/>
                    </a:lnTo>
                    <a:lnTo>
                      <a:pt x="1662" y="5334"/>
                    </a:lnTo>
                    <a:lnTo>
                      <a:pt x="1663" y="5339"/>
                    </a:lnTo>
                    <a:lnTo>
                      <a:pt x="1618" y="5347"/>
                    </a:lnTo>
                    <a:lnTo>
                      <a:pt x="1568" y="5360"/>
                    </a:lnTo>
                    <a:lnTo>
                      <a:pt x="1514" y="5370"/>
                    </a:lnTo>
                    <a:lnTo>
                      <a:pt x="1460" y="5381"/>
                    </a:lnTo>
                    <a:lnTo>
                      <a:pt x="1403" y="5387"/>
                    </a:lnTo>
                    <a:lnTo>
                      <a:pt x="1351" y="5396"/>
                    </a:lnTo>
                    <a:lnTo>
                      <a:pt x="1301" y="5400"/>
                    </a:lnTo>
                    <a:lnTo>
                      <a:pt x="1257" y="5403"/>
                    </a:lnTo>
                    <a:lnTo>
                      <a:pt x="1213" y="5382"/>
                    </a:lnTo>
                    <a:lnTo>
                      <a:pt x="1172" y="5364"/>
                    </a:lnTo>
                    <a:lnTo>
                      <a:pt x="1137" y="5347"/>
                    </a:lnTo>
                    <a:lnTo>
                      <a:pt x="1102" y="5332"/>
                    </a:lnTo>
                    <a:lnTo>
                      <a:pt x="1065" y="5318"/>
                    </a:lnTo>
                    <a:lnTo>
                      <a:pt x="1026" y="5310"/>
                    </a:lnTo>
                    <a:lnTo>
                      <a:pt x="984" y="5305"/>
                    </a:lnTo>
                    <a:lnTo>
                      <a:pt x="939" y="5303"/>
                    </a:lnTo>
                    <a:lnTo>
                      <a:pt x="877" y="5317"/>
                    </a:lnTo>
                    <a:lnTo>
                      <a:pt x="818" y="5339"/>
                    </a:lnTo>
                    <a:lnTo>
                      <a:pt x="760" y="5365"/>
                    </a:lnTo>
                    <a:lnTo>
                      <a:pt x="704" y="5396"/>
                    </a:lnTo>
                    <a:lnTo>
                      <a:pt x="646" y="5423"/>
                    </a:lnTo>
                    <a:lnTo>
                      <a:pt x="590" y="5448"/>
                    </a:lnTo>
                    <a:lnTo>
                      <a:pt x="536" y="5465"/>
                    </a:lnTo>
                    <a:lnTo>
                      <a:pt x="482" y="54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8"/>
              <p:cNvSpPr/>
              <p:nvPr/>
            </p:nvSpPr>
            <p:spPr>
              <a:xfrm>
                <a:off x="6506640" y="5215680"/>
                <a:ext cx="586800" cy="149040"/>
              </a:xfrm>
              <a:custGeom>
                <a:avLst/>
                <a:gdLst>
                  <a:gd name="textAreaLeft" fmla="*/ 0 w 586800"/>
                  <a:gd name="textAreaRight" fmla="*/ 587160 w 58680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1455" h="300">
                    <a:moveTo>
                      <a:pt x="298" y="300"/>
                    </a:moveTo>
                    <a:lnTo>
                      <a:pt x="260" y="290"/>
                    </a:lnTo>
                    <a:lnTo>
                      <a:pt x="226" y="285"/>
                    </a:lnTo>
                    <a:lnTo>
                      <a:pt x="193" y="281"/>
                    </a:lnTo>
                    <a:lnTo>
                      <a:pt x="159" y="279"/>
                    </a:lnTo>
                    <a:lnTo>
                      <a:pt x="126" y="276"/>
                    </a:lnTo>
                    <a:lnTo>
                      <a:pt x="94" y="274"/>
                    </a:lnTo>
                    <a:lnTo>
                      <a:pt x="63" y="270"/>
                    </a:lnTo>
                    <a:lnTo>
                      <a:pt x="34" y="265"/>
                    </a:lnTo>
                    <a:lnTo>
                      <a:pt x="27" y="229"/>
                    </a:lnTo>
                    <a:lnTo>
                      <a:pt x="17" y="194"/>
                    </a:lnTo>
                    <a:lnTo>
                      <a:pt x="6" y="159"/>
                    </a:lnTo>
                    <a:lnTo>
                      <a:pt x="0" y="131"/>
                    </a:lnTo>
                    <a:lnTo>
                      <a:pt x="0" y="109"/>
                    </a:lnTo>
                    <a:lnTo>
                      <a:pt x="14" y="97"/>
                    </a:lnTo>
                    <a:lnTo>
                      <a:pt x="42" y="94"/>
                    </a:lnTo>
                    <a:lnTo>
                      <a:pt x="92" y="105"/>
                    </a:lnTo>
                    <a:lnTo>
                      <a:pt x="123" y="104"/>
                    </a:lnTo>
                    <a:lnTo>
                      <a:pt x="154" y="104"/>
                    </a:lnTo>
                    <a:lnTo>
                      <a:pt x="183" y="98"/>
                    </a:lnTo>
                    <a:lnTo>
                      <a:pt x="212" y="94"/>
                    </a:lnTo>
                    <a:lnTo>
                      <a:pt x="238" y="84"/>
                    </a:lnTo>
                    <a:lnTo>
                      <a:pt x="266" y="75"/>
                    </a:lnTo>
                    <a:lnTo>
                      <a:pt x="294" y="61"/>
                    </a:lnTo>
                    <a:lnTo>
                      <a:pt x="324" y="44"/>
                    </a:lnTo>
                    <a:lnTo>
                      <a:pt x="334" y="47"/>
                    </a:lnTo>
                    <a:lnTo>
                      <a:pt x="345" y="53"/>
                    </a:lnTo>
                    <a:lnTo>
                      <a:pt x="350" y="54"/>
                    </a:lnTo>
                    <a:lnTo>
                      <a:pt x="357" y="57"/>
                    </a:lnTo>
                    <a:lnTo>
                      <a:pt x="364" y="58"/>
                    </a:lnTo>
                    <a:lnTo>
                      <a:pt x="374" y="61"/>
                    </a:lnTo>
                    <a:lnTo>
                      <a:pt x="383" y="46"/>
                    </a:lnTo>
                    <a:lnTo>
                      <a:pt x="389" y="33"/>
                    </a:lnTo>
                    <a:lnTo>
                      <a:pt x="390" y="25"/>
                    </a:lnTo>
                    <a:lnTo>
                      <a:pt x="392" y="18"/>
                    </a:lnTo>
                    <a:lnTo>
                      <a:pt x="393" y="10"/>
                    </a:lnTo>
                    <a:lnTo>
                      <a:pt x="395" y="3"/>
                    </a:lnTo>
                    <a:lnTo>
                      <a:pt x="425" y="3"/>
                    </a:lnTo>
                    <a:lnTo>
                      <a:pt x="455" y="7"/>
                    </a:lnTo>
                    <a:lnTo>
                      <a:pt x="484" y="11"/>
                    </a:lnTo>
                    <a:lnTo>
                      <a:pt x="516" y="18"/>
                    </a:lnTo>
                    <a:lnTo>
                      <a:pt x="547" y="21"/>
                    </a:lnTo>
                    <a:lnTo>
                      <a:pt x="580" y="25"/>
                    </a:lnTo>
                    <a:lnTo>
                      <a:pt x="613" y="25"/>
                    </a:lnTo>
                    <a:lnTo>
                      <a:pt x="650" y="24"/>
                    </a:lnTo>
                    <a:lnTo>
                      <a:pt x="652" y="26"/>
                    </a:lnTo>
                    <a:lnTo>
                      <a:pt x="656" y="32"/>
                    </a:lnTo>
                    <a:lnTo>
                      <a:pt x="681" y="29"/>
                    </a:lnTo>
                    <a:lnTo>
                      <a:pt x="707" y="26"/>
                    </a:lnTo>
                    <a:lnTo>
                      <a:pt x="733" y="21"/>
                    </a:lnTo>
                    <a:lnTo>
                      <a:pt x="761" y="15"/>
                    </a:lnTo>
                    <a:lnTo>
                      <a:pt x="787" y="8"/>
                    </a:lnTo>
                    <a:lnTo>
                      <a:pt x="815" y="4"/>
                    </a:lnTo>
                    <a:lnTo>
                      <a:pt x="844" y="0"/>
                    </a:lnTo>
                    <a:lnTo>
                      <a:pt x="874" y="0"/>
                    </a:lnTo>
                    <a:lnTo>
                      <a:pt x="890" y="8"/>
                    </a:lnTo>
                    <a:lnTo>
                      <a:pt x="913" y="14"/>
                    </a:lnTo>
                    <a:lnTo>
                      <a:pt x="942" y="17"/>
                    </a:lnTo>
                    <a:lnTo>
                      <a:pt x="977" y="19"/>
                    </a:lnTo>
                    <a:lnTo>
                      <a:pt x="1011" y="19"/>
                    </a:lnTo>
                    <a:lnTo>
                      <a:pt x="1046" y="21"/>
                    </a:lnTo>
                    <a:lnTo>
                      <a:pt x="1076" y="21"/>
                    </a:lnTo>
                    <a:lnTo>
                      <a:pt x="1101" y="24"/>
                    </a:lnTo>
                    <a:lnTo>
                      <a:pt x="1114" y="39"/>
                    </a:lnTo>
                    <a:lnTo>
                      <a:pt x="1125" y="51"/>
                    </a:lnTo>
                    <a:lnTo>
                      <a:pt x="1133" y="61"/>
                    </a:lnTo>
                    <a:lnTo>
                      <a:pt x="1138" y="68"/>
                    </a:lnTo>
                    <a:lnTo>
                      <a:pt x="1144" y="75"/>
                    </a:lnTo>
                    <a:lnTo>
                      <a:pt x="1148" y="79"/>
                    </a:lnTo>
                    <a:lnTo>
                      <a:pt x="1183" y="82"/>
                    </a:lnTo>
                    <a:lnTo>
                      <a:pt x="1220" y="84"/>
                    </a:lnTo>
                    <a:lnTo>
                      <a:pt x="1259" y="84"/>
                    </a:lnTo>
                    <a:lnTo>
                      <a:pt x="1298" y="84"/>
                    </a:lnTo>
                    <a:lnTo>
                      <a:pt x="1336" y="82"/>
                    </a:lnTo>
                    <a:lnTo>
                      <a:pt x="1376" y="79"/>
                    </a:lnTo>
                    <a:lnTo>
                      <a:pt x="1415" y="76"/>
                    </a:lnTo>
                    <a:lnTo>
                      <a:pt x="1455" y="73"/>
                    </a:lnTo>
                    <a:lnTo>
                      <a:pt x="1452" y="79"/>
                    </a:lnTo>
                    <a:lnTo>
                      <a:pt x="1451" y="86"/>
                    </a:lnTo>
                    <a:lnTo>
                      <a:pt x="1448" y="91"/>
                    </a:lnTo>
                    <a:lnTo>
                      <a:pt x="1447" y="100"/>
                    </a:lnTo>
                    <a:lnTo>
                      <a:pt x="1443" y="109"/>
                    </a:lnTo>
                    <a:lnTo>
                      <a:pt x="1440" y="124"/>
                    </a:lnTo>
                    <a:lnTo>
                      <a:pt x="1434" y="142"/>
                    </a:lnTo>
                    <a:lnTo>
                      <a:pt x="1428" y="169"/>
                    </a:lnTo>
                    <a:lnTo>
                      <a:pt x="1372" y="176"/>
                    </a:lnTo>
                    <a:lnTo>
                      <a:pt x="1315" y="188"/>
                    </a:lnTo>
                    <a:lnTo>
                      <a:pt x="1259" y="200"/>
                    </a:lnTo>
                    <a:lnTo>
                      <a:pt x="1202" y="213"/>
                    </a:lnTo>
                    <a:lnTo>
                      <a:pt x="1145" y="218"/>
                    </a:lnTo>
                    <a:lnTo>
                      <a:pt x="1091" y="220"/>
                    </a:lnTo>
                    <a:lnTo>
                      <a:pt x="1039" y="210"/>
                    </a:lnTo>
                    <a:lnTo>
                      <a:pt x="991" y="189"/>
                    </a:lnTo>
                    <a:lnTo>
                      <a:pt x="946" y="170"/>
                    </a:lnTo>
                    <a:lnTo>
                      <a:pt x="908" y="155"/>
                    </a:lnTo>
                    <a:lnTo>
                      <a:pt x="870" y="141"/>
                    </a:lnTo>
                    <a:lnTo>
                      <a:pt x="836" y="131"/>
                    </a:lnTo>
                    <a:lnTo>
                      <a:pt x="800" y="124"/>
                    </a:lnTo>
                    <a:lnTo>
                      <a:pt x="762" y="123"/>
                    </a:lnTo>
                    <a:lnTo>
                      <a:pt x="721" y="127"/>
                    </a:lnTo>
                    <a:lnTo>
                      <a:pt x="677" y="137"/>
                    </a:lnTo>
                    <a:lnTo>
                      <a:pt x="631" y="153"/>
                    </a:lnTo>
                    <a:lnTo>
                      <a:pt x="585" y="171"/>
                    </a:lnTo>
                    <a:lnTo>
                      <a:pt x="540" y="189"/>
                    </a:lnTo>
                    <a:lnTo>
                      <a:pt x="495" y="210"/>
                    </a:lnTo>
                    <a:lnTo>
                      <a:pt x="451" y="231"/>
                    </a:lnTo>
                    <a:lnTo>
                      <a:pt x="408" y="253"/>
                    </a:lnTo>
                    <a:lnTo>
                      <a:pt x="365" y="275"/>
                    </a:lnTo>
                    <a:lnTo>
                      <a:pt x="324" y="300"/>
                    </a:lnTo>
                    <a:lnTo>
                      <a:pt x="317" y="300"/>
                    </a:lnTo>
                    <a:lnTo>
                      <a:pt x="310" y="300"/>
                    </a:lnTo>
                    <a:lnTo>
                      <a:pt x="302" y="300"/>
                    </a:lnTo>
                    <a:lnTo>
                      <a:pt x="298" y="30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Freeform 9"/>
              <p:cNvSpPr/>
              <p:nvPr/>
            </p:nvSpPr>
            <p:spPr>
              <a:xfrm>
                <a:off x="7337880" y="5178240"/>
                <a:ext cx="298800" cy="161280"/>
              </a:xfrm>
              <a:custGeom>
                <a:avLst/>
                <a:gdLst>
                  <a:gd name="textAreaLeft" fmla="*/ 0 w 298800"/>
                  <a:gd name="textAreaRight" fmla="*/ 299160 w 298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40" h="325">
                    <a:moveTo>
                      <a:pt x="290" y="325"/>
                    </a:moveTo>
                    <a:lnTo>
                      <a:pt x="250" y="322"/>
                    </a:lnTo>
                    <a:lnTo>
                      <a:pt x="214" y="320"/>
                    </a:lnTo>
                    <a:lnTo>
                      <a:pt x="180" y="314"/>
                    </a:lnTo>
                    <a:lnTo>
                      <a:pt x="146" y="310"/>
                    </a:lnTo>
                    <a:lnTo>
                      <a:pt x="113" y="300"/>
                    </a:lnTo>
                    <a:lnTo>
                      <a:pt x="83" y="289"/>
                    </a:lnTo>
                    <a:lnTo>
                      <a:pt x="51" y="274"/>
                    </a:lnTo>
                    <a:lnTo>
                      <a:pt x="21" y="256"/>
                    </a:lnTo>
                    <a:lnTo>
                      <a:pt x="0" y="208"/>
                    </a:lnTo>
                    <a:lnTo>
                      <a:pt x="8" y="169"/>
                    </a:lnTo>
                    <a:lnTo>
                      <a:pt x="40" y="136"/>
                    </a:lnTo>
                    <a:lnTo>
                      <a:pt x="87" y="107"/>
                    </a:lnTo>
                    <a:lnTo>
                      <a:pt x="140" y="81"/>
                    </a:lnTo>
                    <a:lnTo>
                      <a:pt x="193" y="56"/>
                    </a:lnTo>
                    <a:lnTo>
                      <a:pt x="240" y="28"/>
                    </a:lnTo>
                    <a:lnTo>
                      <a:pt x="274" y="0"/>
                    </a:lnTo>
                    <a:lnTo>
                      <a:pt x="278" y="0"/>
                    </a:lnTo>
                    <a:lnTo>
                      <a:pt x="282" y="0"/>
                    </a:lnTo>
                    <a:lnTo>
                      <a:pt x="287" y="28"/>
                    </a:lnTo>
                    <a:lnTo>
                      <a:pt x="303" y="53"/>
                    </a:lnTo>
                    <a:lnTo>
                      <a:pt x="323" y="71"/>
                    </a:lnTo>
                    <a:lnTo>
                      <a:pt x="348" y="82"/>
                    </a:lnTo>
                    <a:lnTo>
                      <a:pt x="372" y="82"/>
                    </a:lnTo>
                    <a:lnTo>
                      <a:pt x="393" y="74"/>
                    </a:lnTo>
                    <a:lnTo>
                      <a:pt x="406" y="52"/>
                    </a:lnTo>
                    <a:lnTo>
                      <a:pt x="411" y="17"/>
                    </a:lnTo>
                    <a:lnTo>
                      <a:pt x="447" y="32"/>
                    </a:lnTo>
                    <a:lnTo>
                      <a:pt x="488" y="49"/>
                    </a:lnTo>
                    <a:lnTo>
                      <a:pt x="531" y="64"/>
                    </a:lnTo>
                    <a:lnTo>
                      <a:pt x="575" y="82"/>
                    </a:lnTo>
                    <a:lnTo>
                      <a:pt x="617" y="99"/>
                    </a:lnTo>
                    <a:lnTo>
                      <a:pt x="658" y="121"/>
                    </a:lnTo>
                    <a:lnTo>
                      <a:pt x="694" y="144"/>
                    </a:lnTo>
                    <a:lnTo>
                      <a:pt x="727" y="172"/>
                    </a:lnTo>
                    <a:lnTo>
                      <a:pt x="740" y="212"/>
                    </a:lnTo>
                    <a:lnTo>
                      <a:pt x="740" y="242"/>
                    </a:lnTo>
                    <a:lnTo>
                      <a:pt x="727" y="263"/>
                    </a:lnTo>
                    <a:lnTo>
                      <a:pt x="707" y="280"/>
                    </a:lnTo>
                    <a:lnTo>
                      <a:pt x="677" y="289"/>
                    </a:lnTo>
                    <a:lnTo>
                      <a:pt x="646" y="298"/>
                    </a:lnTo>
                    <a:lnTo>
                      <a:pt x="611" y="303"/>
                    </a:lnTo>
                    <a:lnTo>
                      <a:pt x="577" y="311"/>
                    </a:lnTo>
                    <a:lnTo>
                      <a:pt x="539" y="313"/>
                    </a:lnTo>
                    <a:lnTo>
                      <a:pt x="503" y="316"/>
                    </a:lnTo>
                    <a:lnTo>
                      <a:pt x="466" y="317"/>
                    </a:lnTo>
                    <a:lnTo>
                      <a:pt x="431" y="320"/>
                    </a:lnTo>
                    <a:lnTo>
                      <a:pt x="394" y="321"/>
                    </a:lnTo>
                    <a:lnTo>
                      <a:pt x="359" y="322"/>
                    </a:lnTo>
                    <a:lnTo>
                      <a:pt x="323" y="324"/>
                    </a:lnTo>
                    <a:lnTo>
                      <a:pt x="290" y="325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Freeform 10"/>
              <p:cNvSpPr/>
              <p:nvPr/>
            </p:nvSpPr>
            <p:spPr>
              <a:xfrm>
                <a:off x="7367040" y="5266440"/>
                <a:ext cx="195840" cy="39960"/>
              </a:xfrm>
              <a:custGeom>
                <a:avLst/>
                <a:gdLst>
                  <a:gd name="textAreaLeft" fmla="*/ 0 w 195840"/>
                  <a:gd name="textAreaRight" fmla="*/ 196200 w 19584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486" h="82">
                    <a:moveTo>
                      <a:pt x="282" y="79"/>
                    </a:moveTo>
                    <a:lnTo>
                      <a:pt x="245" y="76"/>
                    </a:lnTo>
                    <a:lnTo>
                      <a:pt x="206" y="75"/>
                    </a:lnTo>
                    <a:lnTo>
                      <a:pt x="166" y="69"/>
                    </a:lnTo>
                    <a:lnTo>
                      <a:pt x="129" y="65"/>
                    </a:lnTo>
                    <a:lnTo>
                      <a:pt x="90" y="54"/>
                    </a:lnTo>
                    <a:lnTo>
                      <a:pt x="56" y="42"/>
                    </a:lnTo>
                    <a:lnTo>
                      <a:pt x="25" y="22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1" y="2"/>
                    </a:lnTo>
                    <a:lnTo>
                      <a:pt x="20" y="4"/>
                    </a:lnTo>
                    <a:lnTo>
                      <a:pt x="28" y="9"/>
                    </a:lnTo>
                    <a:lnTo>
                      <a:pt x="36" y="13"/>
                    </a:lnTo>
                    <a:lnTo>
                      <a:pt x="45" y="17"/>
                    </a:lnTo>
                    <a:lnTo>
                      <a:pt x="53" y="21"/>
                    </a:lnTo>
                    <a:lnTo>
                      <a:pt x="61" y="27"/>
                    </a:lnTo>
                    <a:lnTo>
                      <a:pt x="110" y="39"/>
                    </a:lnTo>
                    <a:lnTo>
                      <a:pt x="161" y="49"/>
                    </a:lnTo>
                    <a:lnTo>
                      <a:pt x="213" y="56"/>
                    </a:lnTo>
                    <a:lnTo>
                      <a:pt x="269" y="61"/>
                    </a:lnTo>
                    <a:lnTo>
                      <a:pt x="323" y="63"/>
                    </a:lnTo>
                    <a:lnTo>
                      <a:pt x="377" y="65"/>
                    </a:lnTo>
                    <a:lnTo>
                      <a:pt x="430" y="68"/>
                    </a:lnTo>
                    <a:lnTo>
                      <a:pt x="486" y="72"/>
                    </a:lnTo>
                    <a:lnTo>
                      <a:pt x="461" y="76"/>
                    </a:lnTo>
                    <a:lnTo>
                      <a:pt x="436" y="79"/>
                    </a:lnTo>
                    <a:lnTo>
                      <a:pt x="410" y="80"/>
                    </a:lnTo>
                    <a:lnTo>
                      <a:pt x="383" y="82"/>
                    </a:lnTo>
                    <a:lnTo>
                      <a:pt x="356" y="80"/>
                    </a:lnTo>
                    <a:lnTo>
                      <a:pt x="330" y="80"/>
                    </a:lnTo>
                    <a:lnTo>
                      <a:pt x="305" y="79"/>
                    </a:lnTo>
                    <a:lnTo>
                      <a:pt x="282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Freeform 11"/>
              <p:cNvSpPr/>
              <p:nvPr/>
            </p:nvSpPr>
            <p:spPr>
              <a:xfrm>
                <a:off x="6784920" y="4347000"/>
                <a:ext cx="600120" cy="877680"/>
              </a:xfrm>
              <a:custGeom>
                <a:avLst/>
                <a:gdLst>
                  <a:gd name="textAreaLeft" fmla="*/ 0 w 600120"/>
                  <a:gd name="textAreaRight" fmla="*/ 600480 w 600120"/>
                  <a:gd name="textAreaTop" fmla="*/ 0 h 877680"/>
                  <a:gd name="textAreaBottom" fmla="*/ 878040 h 877680"/>
                </a:gdLst>
                <a:ahLst/>
                <a:rect l="textAreaLeft" t="textAreaTop" r="textAreaRight" b="textAreaBottom"/>
                <a:pathLst>
                  <a:path w="1490" h="1765">
                    <a:moveTo>
                      <a:pt x="0" y="1765"/>
                    </a:moveTo>
                    <a:lnTo>
                      <a:pt x="0" y="1755"/>
                    </a:lnTo>
                    <a:lnTo>
                      <a:pt x="1" y="1748"/>
                    </a:lnTo>
                    <a:lnTo>
                      <a:pt x="2" y="1741"/>
                    </a:lnTo>
                    <a:lnTo>
                      <a:pt x="7" y="1737"/>
                    </a:lnTo>
                    <a:lnTo>
                      <a:pt x="11" y="1726"/>
                    </a:lnTo>
                    <a:lnTo>
                      <a:pt x="18" y="1715"/>
                    </a:lnTo>
                    <a:lnTo>
                      <a:pt x="56" y="1605"/>
                    </a:lnTo>
                    <a:lnTo>
                      <a:pt x="103" y="1495"/>
                    </a:lnTo>
                    <a:lnTo>
                      <a:pt x="157" y="1386"/>
                    </a:lnTo>
                    <a:lnTo>
                      <a:pt x="217" y="1280"/>
                    </a:lnTo>
                    <a:lnTo>
                      <a:pt x="278" y="1172"/>
                    </a:lnTo>
                    <a:lnTo>
                      <a:pt x="341" y="1070"/>
                    </a:lnTo>
                    <a:lnTo>
                      <a:pt x="403" y="967"/>
                    </a:lnTo>
                    <a:lnTo>
                      <a:pt x="466" y="869"/>
                    </a:lnTo>
                    <a:lnTo>
                      <a:pt x="482" y="850"/>
                    </a:lnTo>
                    <a:lnTo>
                      <a:pt x="498" y="826"/>
                    </a:lnTo>
                    <a:lnTo>
                      <a:pt x="511" y="799"/>
                    </a:lnTo>
                    <a:lnTo>
                      <a:pt x="527" y="772"/>
                    </a:lnTo>
                    <a:lnTo>
                      <a:pt x="540" y="743"/>
                    </a:lnTo>
                    <a:lnTo>
                      <a:pt x="556" y="718"/>
                    </a:lnTo>
                    <a:lnTo>
                      <a:pt x="572" y="695"/>
                    </a:lnTo>
                    <a:lnTo>
                      <a:pt x="593" y="677"/>
                    </a:lnTo>
                    <a:lnTo>
                      <a:pt x="601" y="656"/>
                    </a:lnTo>
                    <a:lnTo>
                      <a:pt x="622" y="623"/>
                    </a:lnTo>
                    <a:lnTo>
                      <a:pt x="648" y="582"/>
                    </a:lnTo>
                    <a:lnTo>
                      <a:pt x="680" y="537"/>
                    </a:lnTo>
                    <a:lnTo>
                      <a:pt x="710" y="493"/>
                    </a:lnTo>
                    <a:lnTo>
                      <a:pt x="741" y="453"/>
                    </a:lnTo>
                    <a:lnTo>
                      <a:pt x="764" y="423"/>
                    </a:lnTo>
                    <a:lnTo>
                      <a:pt x="782" y="407"/>
                    </a:lnTo>
                    <a:lnTo>
                      <a:pt x="802" y="370"/>
                    </a:lnTo>
                    <a:lnTo>
                      <a:pt x="827" y="334"/>
                    </a:lnTo>
                    <a:lnTo>
                      <a:pt x="852" y="298"/>
                    </a:lnTo>
                    <a:lnTo>
                      <a:pt x="879" y="264"/>
                    </a:lnTo>
                    <a:lnTo>
                      <a:pt x="904" y="228"/>
                    </a:lnTo>
                    <a:lnTo>
                      <a:pt x="932" y="193"/>
                    </a:lnTo>
                    <a:lnTo>
                      <a:pt x="955" y="157"/>
                    </a:lnTo>
                    <a:lnTo>
                      <a:pt x="980" y="121"/>
                    </a:lnTo>
                    <a:lnTo>
                      <a:pt x="987" y="91"/>
                    </a:lnTo>
                    <a:lnTo>
                      <a:pt x="998" y="73"/>
                    </a:lnTo>
                    <a:lnTo>
                      <a:pt x="1011" y="62"/>
                    </a:lnTo>
                    <a:lnTo>
                      <a:pt x="1029" y="58"/>
                    </a:lnTo>
                    <a:lnTo>
                      <a:pt x="1047" y="56"/>
                    </a:lnTo>
                    <a:lnTo>
                      <a:pt x="1071" y="59"/>
                    </a:lnTo>
                    <a:lnTo>
                      <a:pt x="1098" y="62"/>
                    </a:lnTo>
                    <a:lnTo>
                      <a:pt x="1131" y="66"/>
                    </a:lnTo>
                    <a:lnTo>
                      <a:pt x="1164" y="67"/>
                    </a:lnTo>
                    <a:lnTo>
                      <a:pt x="1196" y="65"/>
                    </a:lnTo>
                    <a:lnTo>
                      <a:pt x="1226" y="55"/>
                    </a:lnTo>
                    <a:lnTo>
                      <a:pt x="1257" y="44"/>
                    </a:lnTo>
                    <a:lnTo>
                      <a:pt x="1284" y="30"/>
                    </a:lnTo>
                    <a:lnTo>
                      <a:pt x="1313" y="18"/>
                    </a:lnTo>
                    <a:lnTo>
                      <a:pt x="1344" y="7"/>
                    </a:lnTo>
                    <a:lnTo>
                      <a:pt x="1376" y="0"/>
                    </a:lnTo>
                    <a:lnTo>
                      <a:pt x="1384" y="5"/>
                    </a:lnTo>
                    <a:lnTo>
                      <a:pt x="1396" y="12"/>
                    </a:lnTo>
                    <a:lnTo>
                      <a:pt x="1410" y="19"/>
                    </a:lnTo>
                    <a:lnTo>
                      <a:pt x="1425" y="26"/>
                    </a:lnTo>
                    <a:lnTo>
                      <a:pt x="1467" y="59"/>
                    </a:lnTo>
                    <a:lnTo>
                      <a:pt x="1488" y="95"/>
                    </a:lnTo>
                    <a:lnTo>
                      <a:pt x="1490" y="132"/>
                    </a:lnTo>
                    <a:lnTo>
                      <a:pt x="1482" y="171"/>
                    </a:lnTo>
                    <a:lnTo>
                      <a:pt x="1460" y="208"/>
                    </a:lnTo>
                    <a:lnTo>
                      <a:pt x="1432" y="247"/>
                    </a:lnTo>
                    <a:lnTo>
                      <a:pt x="1402" y="284"/>
                    </a:lnTo>
                    <a:lnTo>
                      <a:pt x="1373" y="323"/>
                    </a:lnTo>
                    <a:lnTo>
                      <a:pt x="1294" y="388"/>
                    </a:lnTo>
                    <a:lnTo>
                      <a:pt x="1218" y="454"/>
                    </a:lnTo>
                    <a:lnTo>
                      <a:pt x="1142" y="518"/>
                    </a:lnTo>
                    <a:lnTo>
                      <a:pt x="1067" y="583"/>
                    </a:lnTo>
                    <a:lnTo>
                      <a:pt x="993" y="648"/>
                    </a:lnTo>
                    <a:lnTo>
                      <a:pt x="919" y="716"/>
                    </a:lnTo>
                    <a:lnTo>
                      <a:pt x="847" y="786"/>
                    </a:lnTo>
                    <a:lnTo>
                      <a:pt x="777" y="861"/>
                    </a:lnTo>
                    <a:lnTo>
                      <a:pt x="771" y="868"/>
                    </a:lnTo>
                    <a:lnTo>
                      <a:pt x="766" y="876"/>
                    </a:lnTo>
                    <a:lnTo>
                      <a:pt x="759" y="884"/>
                    </a:lnTo>
                    <a:lnTo>
                      <a:pt x="752" y="894"/>
                    </a:lnTo>
                    <a:lnTo>
                      <a:pt x="744" y="901"/>
                    </a:lnTo>
                    <a:lnTo>
                      <a:pt x="737" y="909"/>
                    </a:lnTo>
                    <a:lnTo>
                      <a:pt x="728" y="916"/>
                    </a:lnTo>
                    <a:lnTo>
                      <a:pt x="724" y="922"/>
                    </a:lnTo>
                    <a:lnTo>
                      <a:pt x="658" y="996"/>
                    </a:lnTo>
                    <a:lnTo>
                      <a:pt x="593" y="1072"/>
                    </a:lnTo>
                    <a:lnTo>
                      <a:pt x="528" y="1147"/>
                    </a:lnTo>
                    <a:lnTo>
                      <a:pt x="467" y="1226"/>
                    </a:lnTo>
                    <a:lnTo>
                      <a:pt x="405" y="1303"/>
                    </a:lnTo>
                    <a:lnTo>
                      <a:pt x="348" y="1385"/>
                    </a:lnTo>
                    <a:lnTo>
                      <a:pt x="296" y="1468"/>
                    </a:lnTo>
                    <a:lnTo>
                      <a:pt x="247" y="1555"/>
                    </a:lnTo>
                    <a:lnTo>
                      <a:pt x="239" y="1567"/>
                    </a:lnTo>
                    <a:lnTo>
                      <a:pt x="231" y="1584"/>
                    </a:lnTo>
                    <a:lnTo>
                      <a:pt x="221" y="1600"/>
                    </a:lnTo>
                    <a:lnTo>
                      <a:pt x="213" y="1620"/>
                    </a:lnTo>
                    <a:lnTo>
                      <a:pt x="202" y="1636"/>
                    </a:lnTo>
                    <a:lnTo>
                      <a:pt x="193" y="1653"/>
                    </a:lnTo>
                    <a:lnTo>
                      <a:pt x="182" y="1668"/>
                    </a:lnTo>
                    <a:lnTo>
                      <a:pt x="174" y="1681"/>
                    </a:lnTo>
                    <a:lnTo>
                      <a:pt x="177" y="1681"/>
                    </a:lnTo>
                    <a:lnTo>
                      <a:pt x="181" y="1683"/>
                    </a:lnTo>
                    <a:lnTo>
                      <a:pt x="182" y="1685"/>
                    </a:lnTo>
                    <a:lnTo>
                      <a:pt x="184" y="1689"/>
                    </a:lnTo>
                    <a:lnTo>
                      <a:pt x="175" y="1697"/>
                    </a:lnTo>
                    <a:lnTo>
                      <a:pt x="170" y="1710"/>
                    </a:lnTo>
                    <a:lnTo>
                      <a:pt x="163" y="1722"/>
                    </a:lnTo>
                    <a:lnTo>
                      <a:pt x="157" y="1736"/>
                    </a:lnTo>
                    <a:lnTo>
                      <a:pt x="143" y="1733"/>
                    </a:lnTo>
                    <a:lnTo>
                      <a:pt x="130" y="1733"/>
                    </a:lnTo>
                    <a:lnTo>
                      <a:pt x="117" y="1733"/>
                    </a:lnTo>
                    <a:lnTo>
                      <a:pt x="105" y="1733"/>
                    </a:lnTo>
                    <a:lnTo>
                      <a:pt x="112" y="1682"/>
                    </a:lnTo>
                    <a:lnTo>
                      <a:pt x="134" y="1624"/>
                    </a:lnTo>
                    <a:lnTo>
                      <a:pt x="164" y="1560"/>
                    </a:lnTo>
                    <a:lnTo>
                      <a:pt x="204" y="1495"/>
                    </a:lnTo>
                    <a:lnTo>
                      <a:pt x="244" y="1429"/>
                    </a:lnTo>
                    <a:lnTo>
                      <a:pt x="287" y="1370"/>
                    </a:lnTo>
                    <a:lnTo>
                      <a:pt x="326" y="1317"/>
                    </a:lnTo>
                    <a:lnTo>
                      <a:pt x="358" y="1278"/>
                    </a:lnTo>
                    <a:lnTo>
                      <a:pt x="434" y="1166"/>
                    </a:lnTo>
                    <a:lnTo>
                      <a:pt x="517" y="1059"/>
                    </a:lnTo>
                    <a:lnTo>
                      <a:pt x="601" y="951"/>
                    </a:lnTo>
                    <a:lnTo>
                      <a:pt x="691" y="847"/>
                    </a:lnTo>
                    <a:lnTo>
                      <a:pt x="781" y="743"/>
                    </a:lnTo>
                    <a:lnTo>
                      <a:pt x="874" y="644"/>
                    </a:lnTo>
                    <a:lnTo>
                      <a:pt x="968" y="546"/>
                    </a:lnTo>
                    <a:lnTo>
                      <a:pt x="1062" y="450"/>
                    </a:lnTo>
                    <a:lnTo>
                      <a:pt x="1070" y="442"/>
                    </a:lnTo>
                    <a:lnTo>
                      <a:pt x="1084" y="434"/>
                    </a:lnTo>
                    <a:lnTo>
                      <a:pt x="1099" y="421"/>
                    </a:lnTo>
                    <a:lnTo>
                      <a:pt x="1116" y="410"/>
                    </a:lnTo>
                    <a:lnTo>
                      <a:pt x="1129" y="396"/>
                    </a:lnTo>
                    <a:lnTo>
                      <a:pt x="1142" y="384"/>
                    </a:lnTo>
                    <a:lnTo>
                      <a:pt x="1150" y="371"/>
                    </a:lnTo>
                    <a:lnTo>
                      <a:pt x="1154" y="363"/>
                    </a:lnTo>
                    <a:lnTo>
                      <a:pt x="1153" y="362"/>
                    </a:lnTo>
                    <a:lnTo>
                      <a:pt x="1152" y="360"/>
                    </a:lnTo>
                    <a:lnTo>
                      <a:pt x="1081" y="412"/>
                    </a:lnTo>
                    <a:lnTo>
                      <a:pt x="1017" y="468"/>
                    </a:lnTo>
                    <a:lnTo>
                      <a:pt x="955" y="526"/>
                    </a:lnTo>
                    <a:lnTo>
                      <a:pt x="897" y="589"/>
                    </a:lnTo>
                    <a:lnTo>
                      <a:pt x="839" y="652"/>
                    </a:lnTo>
                    <a:lnTo>
                      <a:pt x="782" y="717"/>
                    </a:lnTo>
                    <a:lnTo>
                      <a:pt x="727" y="783"/>
                    </a:lnTo>
                    <a:lnTo>
                      <a:pt x="672" y="851"/>
                    </a:lnTo>
                    <a:lnTo>
                      <a:pt x="605" y="922"/>
                    </a:lnTo>
                    <a:lnTo>
                      <a:pt x="543" y="996"/>
                    </a:lnTo>
                    <a:lnTo>
                      <a:pt x="484" y="1070"/>
                    </a:lnTo>
                    <a:lnTo>
                      <a:pt x="428" y="1146"/>
                    </a:lnTo>
                    <a:lnTo>
                      <a:pt x="372" y="1220"/>
                    </a:lnTo>
                    <a:lnTo>
                      <a:pt x="318" y="1299"/>
                    </a:lnTo>
                    <a:lnTo>
                      <a:pt x="262" y="1378"/>
                    </a:lnTo>
                    <a:lnTo>
                      <a:pt x="207" y="1459"/>
                    </a:lnTo>
                    <a:lnTo>
                      <a:pt x="189" y="1491"/>
                    </a:lnTo>
                    <a:lnTo>
                      <a:pt x="173" y="1523"/>
                    </a:lnTo>
                    <a:lnTo>
                      <a:pt x="156" y="1556"/>
                    </a:lnTo>
                    <a:lnTo>
                      <a:pt x="139" y="1589"/>
                    </a:lnTo>
                    <a:lnTo>
                      <a:pt x="123" y="1623"/>
                    </a:lnTo>
                    <a:lnTo>
                      <a:pt x="108" y="1656"/>
                    </a:lnTo>
                    <a:lnTo>
                      <a:pt x="94" y="1689"/>
                    </a:lnTo>
                    <a:lnTo>
                      <a:pt x="81" y="1726"/>
                    </a:lnTo>
                    <a:lnTo>
                      <a:pt x="77" y="1729"/>
                    </a:lnTo>
                    <a:lnTo>
                      <a:pt x="73" y="1733"/>
                    </a:lnTo>
                    <a:lnTo>
                      <a:pt x="59" y="1733"/>
                    </a:lnTo>
                    <a:lnTo>
                      <a:pt x="48" y="1736"/>
                    </a:lnTo>
                    <a:lnTo>
                      <a:pt x="40" y="1740"/>
                    </a:lnTo>
                    <a:lnTo>
                      <a:pt x="33" y="1746"/>
                    </a:lnTo>
                    <a:lnTo>
                      <a:pt x="25" y="1750"/>
                    </a:lnTo>
                    <a:lnTo>
                      <a:pt x="18" y="1755"/>
                    </a:lnTo>
                    <a:lnTo>
                      <a:pt x="8" y="1759"/>
                    </a:lnTo>
                    <a:lnTo>
                      <a:pt x="0" y="1765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Freeform 12"/>
              <p:cNvSpPr/>
              <p:nvPr/>
            </p:nvSpPr>
            <p:spPr>
              <a:xfrm>
                <a:off x="7426440" y="3867840"/>
                <a:ext cx="394560" cy="1347840"/>
              </a:xfrm>
              <a:custGeom>
                <a:avLst/>
                <a:gdLst>
                  <a:gd name="textAreaLeft" fmla="*/ 0 w 394560"/>
                  <a:gd name="textAreaRight" fmla="*/ 394920 w 394560"/>
                  <a:gd name="textAreaTop" fmla="*/ 0 h 1347840"/>
                  <a:gd name="textAreaBottom" fmla="*/ 1348200 h 1347840"/>
                </a:gdLst>
                <a:ahLst/>
                <a:rect l="textAreaLeft" t="textAreaTop" r="textAreaRight" b="textAreaBottom"/>
                <a:pathLst>
                  <a:path w="977" h="2710">
                    <a:moveTo>
                      <a:pt x="140" y="2710"/>
                    </a:moveTo>
                    <a:lnTo>
                      <a:pt x="99" y="2663"/>
                    </a:lnTo>
                    <a:lnTo>
                      <a:pt x="68" y="2598"/>
                    </a:lnTo>
                    <a:lnTo>
                      <a:pt x="45" y="2521"/>
                    </a:lnTo>
                    <a:lnTo>
                      <a:pt x="28" y="2438"/>
                    </a:lnTo>
                    <a:lnTo>
                      <a:pt x="16" y="2351"/>
                    </a:lnTo>
                    <a:lnTo>
                      <a:pt x="7" y="2269"/>
                    </a:lnTo>
                    <a:lnTo>
                      <a:pt x="3" y="2194"/>
                    </a:lnTo>
                    <a:lnTo>
                      <a:pt x="0" y="2138"/>
                    </a:lnTo>
                    <a:lnTo>
                      <a:pt x="3" y="2056"/>
                    </a:lnTo>
                    <a:lnTo>
                      <a:pt x="9" y="1977"/>
                    </a:lnTo>
                    <a:lnTo>
                      <a:pt x="17" y="1899"/>
                    </a:lnTo>
                    <a:lnTo>
                      <a:pt x="27" y="1821"/>
                    </a:lnTo>
                    <a:lnTo>
                      <a:pt x="36" y="1742"/>
                    </a:lnTo>
                    <a:lnTo>
                      <a:pt x="46" y="1665"/>
                    </a:lnTo>
                    <a:lnTo>
                      <a:pt x="54" y="1586"/>
                    </a:lnTo>
                    <a:lnTo>
                      <a:pt x="64" y="1509"/>
                    </a:lnTo>
                    <a:lnTo>
                      <a:pt x="108" y="1315"/>
                    </a:lnTo>
                    <a:lnTo>
                      <a:pt x="161" y="1126"/>
                    </a:lnTo>
                    <a:lnTo>
                      <a:pt x="220" y="940"/>
                    </a:lnTo>
                    <a:lnTo>
                      <a:pt x="292" y="764"/>
                    </a:lnTo>
                    <a:lnTo>
                      <a:pt x="376" y="591"/>
                    </a:lnTo>
                    <a:lnTo>
                      <a:pt x="479" y="429"/>
                    </a:lnTo>
                    <a:lnTo>
                      <a:pt x="601" y="276"/>
                    </a:lnTo>
                    <a:lnTo>
                      <a:pt x="744" y="135"/>
                    </a:lnTo>
                    <a:lnTo>
                      <a:pt x="757" y="117"/>
                    </a:lnTo>
                    <a:lnTo>
                      <a:pt x="779" y="97"/>
                    </a:lnTo>
                    <a:lnTo>
                      <a:pt x="804" y="75"/>
                    </a:lnTo>
                    <a:lnTo>
                      <a:pt x="834" y="56"/>
                    </a:lnTo>
                    <a:lnTo>
                      <a:pt x="865" y="35"/>
                    </a:lnTo>
                    <a:lnTo>
                      <a:pt x="895" y="20"/>
                    </a:lnTo>
                    <a:lnTo>
                      <a:pt x="921" y="7"/>
                    </a:lnTo>
                    <a:lnTo>
                      <a:pt x="945" y="0"/>
                    </a:lnTo>
                    <a:lnTo>
                      <a:pt x="950" y="10"/>
                    </a:lnTo>
                    <a:lnTo>
                      <a:pt x="960" y="25"/>
                    </a:lnTo>
                    <a:lnTo>
                      <a:pt x="964" y="32"/>
                    </a:lnTo>
                    <a:lnTo>
                      <a:pt x="970" y="41"/>
                    </a:lnTo>
                    <a:lnTo>
                      <a:pt x="973" y="47"/>
                    </a:lnTo>
                    <a:lnTo>
                      <a:pt x="977" y="56"/>
                    </a:lnTo>
                    <a:lnTo>
                      <a:pt x="955" y="70"/>
                    </a:lnTo>
                    <a:lnTo>
                      <a:pt x="931" y="89"/>
                    </a:lnTo>
                    <a:lnTo>
                      <a:pt x="903" y="110"/>
                    </a:lnTo>
                    <a:lnTo>
                      <a:pt x="876" y="133"/>
                    </a:lnTo>
                    <a:lnTo>
                      <a:pt x="847" y="153"/>
                    </a:lnTo>
                    <a:lnTo>
                      <a:pt x="819" y="173"/>
                    </a:lnTo>
                    <a:lnTo>
                      <a:pt x="793" y="188"/>
                    </a:lnTo>
                    <a:lnTo>
                      <a:pt x="771" y="201"/>
                    </a:lnTo>
                    <a:lnTo>
                      <a:pt x="771" y="205"/>
                    </a:lnTo>
                    <a:lnTo>
                      <a:pt x="771" y="212"/>
                    </a:lnTo>
                    <a:lnTo>
                      <a:pt x="746" y="233"/>
                    </a:lnTo>
                    <a:lnTo>
                      <a:pt x="722" y="258"/>
                    </a:lnTo>
                    <a:lnTo>
                      <a:pt x="696" y="282"/>
                    </a:lnTo>
                    <a:lnTo>
                      <a:pt x="671" y="310"/>
                    </a:lnTo>
                    <a:lnTo>
                      <a:pt x="646" y="336"/>
                    </a:lnTo>
                    <a:lnTo>
                      <a:pt x="625" y="364"/>
                    </a:lnTo>
                    <a:lnTo>
                      <a:pt x="606" y="393"/>
                    </a:lnTo>
                    <a:lnTo>
                      <a:pt x="594" y="422"/>
                    </a:lnTo>
                    <a:lnTo>
                      <a:pt x="584" y="429"/>
                    </a:lnTo>
                    <a:lnTo>
                      <a:pt x="576" y="440"/>
                    </a:lnTo>
                    <a:lnTo>
                      <a:pt x="567" y="452"/>
                    </a:lnTo>
                    <a:lnTo>
                      <a:pt x="559" y="468"/>
                    </a:lnTo>
                    <a:lnTo>
                      <a:pt x="551" y="480"/>
                    </a:lnTo>
                    <a:lnTo>
                      <a:pt x="545" y="495"/>
                    </a:lnTo>
                    <a:lnTo>
                      <a:pt x="540" y="509"/>
                    </a:lnTo>
                    <a:lnTo>
                      <a:pt x="536" y="523"/>
                    </a:lnTo>
                    <a:lnTo>
                      <a:pt x="500" y="563"/>
                    </a:lnTo>
                    <a:lnTo>
                      <a:pt x="468" y="614"/>
                    </a:lnTo>
                    <a:lnTo>
                      <a:pt x="437" y="670"/>
                    </a:lnTo>
                    <a:lnTo>
                      <a:pt x="410" y="730"/>
                    </a:lnTo>
                    <a:lnTo>
                      <a:pt x="382" y="791"/>
                    </a:lnTo>
                    <a:lnTo>
                      <a:pt x="357" y="853"/>
                    </a:lnTo>
                    <a:lnTo>
                      <a:pt x="332" y="911"/>
                    </a:lnTo>
                    <a:lnTo>
                      <a:pt x="309" y="965"/>
                    </a:lnTo>
                    <a:lnTo>
                      <a:pt x="309" y="972"/>
                    </a:lnTo>
                    <a:lnTo>
                      <a:pt x="309" y="981"/>
                    </a:lnTo>
                    <a:lnTo>
                      <a:pt x="298" y="996"/>
                    </a:lnTo>
                    <a:lnTo>
                      <a:pt x="284" y="1028"/>
                    </a:lnTo>
                    <a:lnTo>
                      <a:pt x="267" y="1069"/>
                    </a:lnTo>
                    <a:lnTo>
                      <a:pt x="251" y="1116"/>
                    </a:lnTo>
                    <a:lnTo>
                      <a:pt x="233" y="1163"/>
                    </a:lnTo>
                    <a:lnTo>
                      <a:pt x="219" y="1209"/>
                    </a:lnTo>
                    <a:lnTo>
                      <a:pt x="209" y="1245"/>
                    </a:lnTo>
                    <a:lnTo>
                      <a:pt x="206" y="1268"/>
                    </a:lnTo>
                    <a:lnTo>
                      <a:pt x="179" y="1334"/>
                    </a:lnTo>
                    <a:lnTo>
                      <a:pt x="157" y="1405"/>
                    </a:lnTo>
                    <a:lnTo>
                      <a:pt x="139" y="1477"/>
                    </a:lnTo>
                    <a:lnTo>
                      <a:pt x="125" y="1552"/>
                    </a:lnTo>
                    <a:lnTo>
                      <a:pt x="112" y="1626"/>
                    </a:lnTo>
                    <a:lnTo>
                      <a:pt x="104" y="1702"/>
                    </a:lnTo>
                    <a:lnTo>
                      <a:pt x="97" y="1777"/>
                    </a:lnTo>
                    <a:lnTo>
                      <a:pt x="93" y="1853"/>
                    </a:lnTo>
                    <a:lnTo>
                      <a:pt x="87" y="1865"/>
                    </a:lnTo>
                    <a:lnTo>
                      <a:pt x="85" y="1885"/>
                    </a:lnTo>
                    <a:lnTo>
                      <a:pt x="83" y="1907"/>
                    </a:lnTo>
                    <a:lnTo>
                      <a:pt x="83" y="1932"/>
                    </a:lnTo>
                    <a:lnTo>
                      <a:pt x="83" y="1955"/>
                    </a:lnTo>
                    <a:lnTo>
                      <a:pt x="83" y="1980"/>
                    </a:lnTo>
                    <a:lnTo>
                      <a:pt x="83" y="2002"/>
                    </a:lnTo>
                    <a:lnTo>
                      <a:pt x="85" y="2022"/>
                    </a:lnTo>
                    <a:lnTo>
                      <a:pt x="82" y="2103"/>
                    </a:lnTo>
                    <a:lnTo>
                      <a:pt x="79" y="2186"/>
                    </a:lnTo>
                    <a:lnTo>
                      <a:pt x="76" y="2268"/>
                    </a:lnTo>
                    <a:lnTo>
                      <a:pt x="79" y="2351"/>
                    </a:lnTo>
                    <a:lnTo>
                      <a:pt x="86" y="2429"/>
                    </a:lnTo>
                    <a:lnTo>
                      <a:pt x="104" y="2510"/>
                    </a:lnTo>
                    <a:lnTo>
                      <a:pt x="132" y="2587"/>
                    </a:lnTo>
                    <a:lnTo>
                      <a:pt x="175" y="2663"/>
                    </a:lnTo>
                    <a:lnTo>
                      <a:pt x="173" y="2671"/>
                    </a:lnTo>
                    <a:lnTo>
                      <a:pt x="173" y="2681"/>
                    </a:lnTo>
                    <a:lnTo>
                      <a:pt x="170" y="2688"/>
                    </a:lnTo>
                    <a:lnTo>
                      <a:pt x="169" y="2696"/>
                    </a:lnTo>
                    <a:lnTo>
                      <a:pt x="164" y="2700"/>
                    </a:lnTo>
                    <a:lnTo>
                      <a:pt x="158" y="2706"/>
                    </a:lnTo>
                    <a:lnTo>
                      <a:pt x="148" y="2709"/>
                    </a:lnTo>
                    <a:lnTo>
                      <a:pt x="140" y="2710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Freeform 13"/>
              <p:cNvSpPr/>
              <p:nvPr/>
            </p:nvSpPr>
            <p:spPr>
              <a:xfrm>
                <a:off x="7126200" y="3770640"/>
                <a:ext cx="428400" cy="652320"/>
              </a:xfrm>
              <a:custGeom>
                <a:avLst/>
                <a:gdLst>
                  <a:gd name="textAreaLeft" fmla="*/ 0 w 428400"/>
                  <a:gd name="textAreaRight" fmla="*/ 428760 w 428400"/>
                  <a:gd name="textAreaTop" fmla="*/ 0 h 652320"/>
                  <a:gd name="textAreaBottom" fmla="*/ 652680 h 652320"/>
                </a:gdLst>
                <a:ahLst/>
                <a:rect l="textAreaLeft" t="textAreaTop" r="textAreaRight" b="textAreaBottom"/>
                <a:pathLst>
                  <a:path w="1063" h="1311">
                    <a:moveTo>
                      <a:pt x="680" y="1311"/>
                    </a:moveTo>
                    <a:lnTo>
                      <a:pt x="671" y="1278"/>
                    </a:lnTo>
                    <a:lnTo>
                      <a:pt x="662" y="1249"/>
                    </a:lnTo>
                    <a:lnTo>
                      <a:pt x="649" y="1222"/>
                    </a:lnTo>
                    <a:lnTo>
                      <a:pt x="636" y="1199"/>
                    </a:lnTo>
                    <a:lnTo>
                      <a:pt x="617" y="1179"/>
                    </a:lnTo>
                    <a:lnTo>
                      <a:pt x="596" y="1162"/>
                    </a:lnTo>
                    <a:lnTo>
                      <a:pt x="570" y="1150"/>
                    </a:lnTo>
                    <a:lnTo>
                      <a:pt x="541" y="1141"/>
                    </a:lnTo>
                    <a:lnTo>
                      <a:pt x="538" y="1132"/>
                    </a:lnTo>
                    <a:lnTo>
                      <a:pt x="538" y="1126"/>
                    </a:lnTo>
                    <a:lnTo>
                      <a:pt x="537" y="1122"/>
                    </a:lnTo>
                    <a:lnTo>
                      <a:pt x="535" y="1119"/>
                    </a:lnTo>
                    <a:lnTo>
                      <a:pt x="484" y="1154"/>
                    </a:lnTo>
                    <a:lnTo>
                      <a:pt x="431" y="1176"/>
                    </a:lnTo>
                    <a:lnTo>
                      <a:pt x="375" y="1188"/>
                    </a:lnTo>
                    <a:lnTo>
                      <a:pt x="318" y="1194"/>
                    </a:lnTo>
                    <a:lnTo>
                      <a:pt x="259" y="1194"/>
                    </a:lnTo>
                    <a:lnTo>
                      <a:pt x="202" y="1193"/>
                    </a:lnTo>
                    <a:lnTo>
                      <a:pt x="144" y="1193"/>
                    </a:lnTo>
                    <a:lnTo>
                      <a:pt x="91" y="1197"/>
                    </a:lnTo>
                    <a:lnTo>
                      <a:pt x="79" y="1198"/>
                    </a:lnTo>
                    <a:lnTo>
                      <a:pt x="68" y="1202"/>
                    </a:lnTo>
                    <a:lnTo>
                      <a:pt x="57" y="1206"/>
                    </a:lnTo>
                    <a:lnTo>
                      <a:pt x="46" y="1211"/>
                    </a:lnTo>
                    <a:lnTo>
                      <a:pt x="33" y="1215"/>
                    </a:lnTo>
                    <a:lnTo>
                      <a:pt x="22" y="1219"/>
                    </a:lnTo>
                    <a:lnTo>
                      <a:pt x="11" y="1223"/>
                    </a:lnTo>
                    <a:lnTo>
                      <a:pt x="0" y="1227"/>
                    </a:lnTo>
                    <a:lnTo>
                      <a:pt x="11" y="1193"/>
                    </a:lnTo>
                    <a:lnTo>
                      <a:pt x="43" y="1152"/>
                    </a:lnTo>
                    <a:lnTo>
                      <a:pt x="88" y="1105"/>
                    </a:lnTo>
                    <a:lnTo>
                      <a:pt x="142" y="1058"/>
                    </a:lnTo>
                    <a:lnTo>
                      <a:pt x="198" y="1010"/>
                    </a:lnTo>
                    <a:lnTo>
                      <a:pt x="252" y="967"/>
                    </a:lnTo>
                    <a:lnTo>
                      <a:pt x="297" y="930"/>
                    </a:lnTo>
                    <a:lnTo>
                      <a:pt x="329" y="904"/>
                    </a:lnTo>
                    <a:lnTo>
                      <a:pt x="358" y="877"/>
                    </a:lnTo>
                    <a:lnTo>
                      <a:pt x="382" y="859"/>
                    </a:lnTo>
                    <a:lnTo>
                      <a:pt x="398" y="846"/>
                    </a:lnTo>
                    <a:lnTo>
                      <a:pt x="411" y="837"/>
                    </a:lnTo>
                    <a:lnTo>
                      <a:pt x="418" y="829"/>
                    </a:lnTo>
                    <a:lnTo>
                      <a:pt x="422" y="825"/>
                    </a:lnTo>
                    <a:lnTo>
                      <a:pt x="425" y="821"/>
                    </a:lnTo>
                    <a:lnTo>
                      <a:pt x="429" y="817"/>
                    </a:lnTo>
                    <a:lnTo>
                      <a:pt x="455" y="815"/>
                    </a:lnTo>
                    <a:lnTo>
                      <a:pt x="494" y="815"/>
                    </a:lnTo>
                    <a:lnTo>
                      <a:pt x="537" y="811"/>
                    </a:lnTo>
                    <a:lnTo>
                      <a:pt x="579" y="805"/>
                    </a:lnTo>
                    <a:lnTo>
                      <a:pt x="617" y="793"/>
                    </a:lnTo>
                    <a:lnTo>
                      <a:pt x="643" y="775"/>
                    </a:lnTo>
                    <a:lnTo>
                      <a:pt x="653" y="749"/>
                    </a:lnTo>
                    <a:lnTo>
                      <a:pt x="643" y="711"/>
                    </a:lnTo>
                    <a:lnTo>
                      <a:pt x="628" y="699"/>
                    </a:lnTo>
                    <a:lnTo>
                      <a:pt x="614" y="692"/>
                    </a:lnTo>
                    <a:lnTo>
                      <a:pt x="599" y="688"/>
                    </a:lnTo>
                    <a:lnTo>
                      <a:pt x="584" y="688"/>
                    </a:lnTo>
                    <a:lnTo>
                      <a:pt x="567" y="688"/>
                    </a:lnTo>
                    <a:lnTo>
                      <a:pt x="552" y="691"/>
                    </a:lnTo>
                    <a:lnTo>
                      <a:pt x="535" y="694"/>
                    </a:lnTo>
                    <a:lnTo>
                      <a:pt x="521" y="698"/>
                    </a:lnTo>
                    <a:lnTo>
                      <a:pt x="519" y="689"/>
                    </a:lnTo>
                    <a:lnTo>
                      <a:pt x="520" y="681"/>
                    </a:lnTo>
                    <a:lnTo>
                      <a:pt x="520" y="673"/>
                    </a:lnTo>
                    <a:lnTo>
                      <a:pt x="523" y="662"/>
                    </a:lnTo>
                    <a:lnTo>
                      <a:pt x="525" y="646"/>
                    </a:lnTo>
                    <a:lnTo>
                      <a:pt x="530" y="627"/>
                    </a:lnTo>
                    <a:lnTo>
                      <a:pt x="525" y="588"/>
                    </a:lnTo>
                    <a:lnTo>
                      <a:pt x="519" y="555"/>
                    </a:lnTo>
                    <a:lnTo>
                      <a:pt x="510" y="523"/>
                    </a:lnTo>
                    <a:lnTo>
                      <a:pt x="499" y="496"/>
                    </a:lnTo>
                    <a:lnTo>
                      <a:pt x="483" y="468"/>
                    </a:lnTo>
                    <a:lnTo>
                      <a:pt x="466" y="443"/>
                    </a:lnTo>
                    <a:lnTo>
                      <a:pt x="445" y="418"/>
                    </a:lnTo>
                    <a:lnTo>
                      <a:pt x="425" y="395"/>
                    </a:lnTo>
                    <a:lnTo>
                      <a:pt x="409" y="377"/>
                    </a:lnTo>
                    <a:lnTo>
                      <a:pt x="395" y="358"/>
                    </a:lnTo>
                    <a:lnTo>
                      <a:pt x="379" y="337"/>
                    </a:lnTo>
                    <a:lnTo>
                      <a:pt x="364" y="317"/>
                    </a:lnTo>
                    <a:lnTo>
                      <a:pt x="347" y="297"/>
                    </a:lnTo>
                    <a:lnTo>
                      <a:pt x="336" y="277"/>
                    </a:lnTo>
                    <a:lnTo>
                      <a:pt x="325" y="258"/>
                    </a:lnTo>
                    <a:lnTo>
                      <a:pt x="321" y="243"/>
                    </a:lnTo>
                    <a:lnTo>
                      <a:pt x="340" y="247"/>
                    </a:lnTo>
                    <a:lnTo>
                      <a:pt x="361" y="255"/>
                    </a:lnTo>
                    <a:lnTo>
                      <a:pt x="383" y="264"/>
                    </a:lnTo>
                    <a:lnTo>
                      <a:pt x="407" y="273"/>
                    </a:lnTo>
                    <a:lnTo>
                      <a:pt x="429" y="282"/>
                    </a:lnTo>
                    <a:lnTo>
                      <a:pt x="452" y="290"/>
                    </a:lnTo>
                    <a:lnTo>
                      <a:pt x="474" y="295"/>
                    </a:lnTo>
                    <a:lnTo>
                      <a:pt x="498" y="300"/>
                    </a:lnTo>
                    <a:lnTo>
                      <a:pt x="538" y="311"/>
                    </a:lnTo>
                    <a:lnTo>
                      <a:pt x="579" y="323"/>
                    </a:lnTo>
                    <a:lnTo>
                      <a:pt x="621" y="334"/>
                    </a:lnTo>
                    <a:lnTo>
                      <a:pt x="662" y="345"/>
                    </a:lnTo>
                    <a:lnTo>
                      <a:pt x="704" y="355"/>
                    </a:lnTo>
                    <a:lnTo>
                      <a:pt x="748" y="367"/>
                    </a:lnTo>
                    <a:lnTo>
                      <a:pt x="791" y="380"/>
                    </a:lnTo>
                    <a:lnTo>
                      <a:pt x="835" y="395"/>
                    </a:lnTo>
                    <a:lnTo>
                      <a:pt x="837" y="399"/>
                    </a:lnTo>
                    <a:lnTo>
                      <a:pt x="838" y="406"/>
                    </a:lnTo>
                    <a:lnTo>
                      <a:pt x="867" y="388"/>
                    </a:lnTo>
                    <a:lnTo>
                      <a:pt x="896" y="358"/>
                    </a:lnTo>
                    <a:lnTo>
                      <a:pt x="921" y="316"/>
                    </a:lnTo>
                    <a:lnTo>
                      <a:pt x="946" y="272"/>
                    </a:lnTo>
                    <a:lnTo>
                      <a:pt x="965" y="223"/>
                    </a:lnTo>
                    <a:lnTo>
                      <a:pt x="983" y="176"/>
                    </a:lnTo>
                    <a:lnTo>
                      <a:pt x="998" y="134"/>
                    </a:lnTo>
                    <a:lnTo>
                      <a:pt x="1012" y="100"/>
                    </a:lnTo>
                    <a:lnTo>
                      <a:pt x="1016" y="91"/>
                    </a:lnTo>
                    <a:lnTo>
                      <a:pt x="1023" y="77"/>
                    </a:lnTo>
                    <a:lnTo>
                      <a:pt x="1030" y="60"/>
                    </a:lnTo>
                    <a:lnTo>
                      <a:pt x="1039" y="44"/>
                    </a:lnTo>
                    <a:lnTo>
                      <a:pt x="1045" y="26"/>
                    </a:lnTo>
                    <a:lnTo>
                      <a:pt x="1052" y="12"/>
                    </a:lnTo>
                    <a:lnTo>
                      <a:pt x="1058" y="2"/>
                    </a:lnTo>
                    <a:lnTo>
                      <a:pt x="1062" y="0"/>
                    </a:lnTo>
                    <a:lnTo>
                      <a:pt x="1063" y="78"/>
                    </a:lnTo>
                    <a:lnTo>
                      <a:pt x="1061" y="158"/>
                    </a:lnTo>
                    <a:lnTo>
                      <a:pt x="1052" y="236"/>
                    </a:lnTo>
                    <a:lnTo>
                      <a:pt x="1041" y="313"/>
                    </a:lnTo>
                    <a:lnTo>
                      <a:pt x="1023" y="389"/>
                    </a:lnTo>
                    <a:lnTo>
                      <a:pt x="1003" y="468"/>
                    </a:lnTo>
                    <a:lnTo>
                      <a:pt x="979" y="546"/>
                    </a:lnTo>
                    <a:lnTo>
                      <a:pt x="954" y="624"/>
                    </a:lnTo>
                    <a:lnTo>
                      <a:pt x="951" y="635"/>
                    </a:lnTo>
                    <a:lnTo>
                      <a:pt x="951" y="649"/>
                    </a:lnTo>
                    <a:lnTo>
                      <a:pt x="951" y="663"/>
                    </a:lnTo>
                    <a:lnTo>
                      <a:pt x="951" y="680"/>
                    </a:lnTo>
                    <a:lnTo>
                      <a:pt x="950" y="694"/>
                    </a:lnTo>
                    <a:lnTo>
                      <a:pt x="949" y="709"/>
                    </a:lnTo>
                    <a:lnTo>
                      <a:pt x="944" y="720"/>
                    </a:lnTo>
                    <a:lnTo>
                      <a:pt x="940" y="732"/>
                    </a:lnTo>
                    <a:lnTo>
                      <a:pt x="936" y="729"/>
                    </a:lnTo>
                    <a:lnTo>
                      <a:pt x="935" y="727"/>
                    </a:lnTo>
                    <a:lnTo>
                      <a:pt x="933" y="728"/>
                    </a:lnTo>
                    <a:lnTo>
                      <a:pt x="933" y="729"/>
                    </a:lnTo>
                    <a:lnTo>
                      <a:pt x="929" y="725"/>
                    </a:lnTo>
                    <a:lnTo>
                      <a:pt x="925" y="724"/>
                    </a:lnTo>
                    <a:lnTo>
                      <a:pt x="913" y="723"/>
                    </a:lnTo>
                    <a:lnTo>
                      <a:pt x="902" y="723"/>
                    </a:lnTo>
                    <a:lnTo>
                      <a:pt x="889" y="721"/>
                    </a:lnTo>
                    <a:lnTo>
                      <a:pt x="878" y="720"/>
                    </a:lnTo>
                    <a:lnTo>
                      <a:pt x="866" y="717"/>
                    </a:lnTo>
                    <a:lnTo>
                      <a:pt x="855" y="716"/>
                    </a:lnTo>
                    <a:lnTo>
                      <a:pt x="842" y="714"/>
                    </a:lnTo>
                    <a:lnTo>
                      <a:pt x="832" y="714"/>
                    </a:lnTo>
                    <a:lnTo>
                      <a:pt x="823" y="723"/>
                    </a:lnTo>
                    <a:lnTo>
                      <a:pt x="814" y="734"/>
                    </a:lnTo>
                    <a:lnTo>
                      <a:pt x="808" y="746"/>
                    </a:lnTo>
                    <a:lnTo>
                      <a:pt x="803" y="758"/>
                    </a:lnTo>
                    <a:lnTo>
                      <a:pt x="798" y="771"/>
                    </a:lnTo>
                    <a:lnTo>
                      <a:pt x="797" y="785"/>
                    </a:lnTo>
                    <a:lnTo>
                      <a:pt x="798" y="799"/>
                    </a:lnTo>
                    <a:lnTo>
                      <a:pt x="803" y="814"/>
                    </a:lnTo>
                    <a:lnTo>
                      <a:pt x="810" y="815"/>
                    </a:lnTo>
                    <a:lnTo>
                      <a:pt x="821" y="818"/>
                    </a:lnTo>
                    <a:lnTo>
                      <a:pt x="834" y="819"/>
                    </a:lnTo>
                    <a:lnTo>
                      <a:pt x="846" y="823"/>
                    </a:lnTo>
                    <a:lnTo>
                      <a:pt x="857" y="826"/>
                    </a:lnTo>
                    <a:lnTo>
                      <a:pt x="870" y="830"/>
                    </a:lnTo>
                    <a:lnTo>
                      <a:pt x="881" y="835"/>
                    </a:lnTo>
                    <a:lnTo>
                      <a:pt x="891" y="840"/>
                    </a:lnTo>
                    <a:lnTo>
                      <a:pt x="841" y="877"/>
                    </a:lnTo>
                    <a:lnTo>
                      <a:pt x="803" y="917"/>
                    </a:lnTo>
                    <a:lnTo>
                      <a:pt x="774" y="959"/>
                    </a:lnTo>
                    <a:lnTo>
                      <a:pt x="755" y="1006"/>
                    </a:lnTo>
                    <a:lnTo>
                      <a:pt x="741" y="1053"/>
                    </a:lnTo>
                    <a:lnTo>
                      <a:pt x="734" y="1107"/>
                    </a:lnTo>
                    <a:lnTo>
                      <a:pt x="733" y="1164"/>
                    </a:lnTo>
                    <a:lnTo>
                      <a:pt x="736" y="1227"/>
                    </a:lnTo>
                    <a:lnTo>
                      <a:pt x="732" y="1235"/>
                    </a:lnTo>
                    <a:lnTo>
                      <a:pt x="727" y="1248"/>
                    </a:lnTo>
                    <a:lnTo>
                      <a:pt x="720" y="1260"/>
                    </a:lnTo>
                    <a:lnTo>
                      <a:pt x="714" y="1276"/>
                    </a:lnTo>
                    <a:lnTo>
                      <a:pt x="705" y="1287"/>
                    </a:lnTo>
                    <a:lnTo>
                      <a:pt x="697" y="1299"/>
                    </a:lnTo>
                    <a:lnTo>
                      <a:pt x="689" y="1306"/>
                    </a:lnTo>
                    <a:lnTo>
                      <a:pt x="680" y="1311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Freeform 14"/>
              <p:cNvSpPr/>
              <p:nvPr/>
            </p:nvSpPr>
            <p:spPr>
              <a:xfrm>
                <a:off x="7137000" y="437832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92" h="76">
                    <a:moveTo>
                      <a:pt x="37" y="76"/>
                    </a:moveTo>
                    <a:lnTo>
                      <a:pt x="29" y="69"/>
                    </a:lnTo>
                    <a:lnTo>
                      <a:pt x="20" y="64"/>
                    </a:lnTo>
                    <a:lnTo>
                      <a:pt x="13" y="57"/>
                    </a:lnTo>
                    <a:lnTo>
                      <a:pt x="8" y="51"/>
                    </a:lnTo>
                    <a:lnTo>
                      <a:pt x="0" y="38"/>
                    </a:lnTo>
                    <a:lnTo>
                      <a:pt x="1" y="24"/>
                    </a:lnTo>
                    <a:lnTo>
                      <a:pt x="9" y="17"/>
                    </a:lnTo>
                    <a:lnTo>
                      <a:pt x="20" y="13"/>
                    </a:lnTo>
                    <a:lnTo>
                      <a:pt x="31" y="9"/>
                    </a:lnTo>
                    <a:lnTo>
                      <a:pt x="44" y="6"/>
                    </a:lnTo>
                    <a:lnTo>
                      <a:pt x="55" y="3"/>
                    </a:lnTo>
                    <a:lnTo>
                      <a:pt x="67" y="2"/>
                    </a:lnTo>
                    <a:lnTo>
                      <a:pt x="80" y="0"/>
                    </a:lnTo>
                    <a:lnTo>
                      <a:pt x="92" y="0"/>
                    </a:lnTo>
                    <a:lnTo>
                      <a:pt x="87" y="7"/>
                    </a:lnTo>
                    <a:lnTo>
                      <a:pt x="81" y="18"/>
                    </a:lnTo>
                    <a:lnTo>
                      <a:pt x="74" y="29"/>
                    </a:lnTo>
                    <a:lnTo>
                      <a:pt x="69" y="42"/>
                    </a:lnTo>
                    <a:lnTo>
                      <a:pt x="60" y="53"/>
                    </a:lnTo>
                    <a:lnTo>
                      <a:pt x="54" y="64"/>
                    </a:lnTo>
                    <a:lnTo>
                      <a:pt x="45" y="71"/>
                    </a:lnTo>
                    <a:lnTo>
                      <a:pt x="37" y="76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Freeform 15"/>
              <p:cNvSpPr/>
              <p:nvPr/>
            </p:nvSpPr>
            <p:spPr>
              <a:xfrm>
                <a:off x="7850160" y="3946680"/>
                <a:ext cx="219960" cy="270360"/>
              </a:xfrm>
              <a:custGeom>
                <a:avLst/>
                <a:gdLst>
                  <a:gd name="textAreaLeft" fmla="*/ 0 w 219960"/>
                  <a:gd name="textAreaRight" fmla="*/ 220320 w 219960"/>
                  <a:gd name="textAreaTop" fmla="*/ 0 h 270360"/>
                  <a:gd name="textAreaBottom" fmla="*/ 270720 h 270360"/>
                </a:gdLst>
                <a:ahLst/>
                <a:rect l="textAreaLeft" t="textAreaTop" r="textAreaRight" b="textAreaBottom"/>
                <a:pathLst>
                  <a:path w="545" h="543">
                    <a:moveTo>
                      <a:pt x="259" y="543"/>
                    </a:moveTo>
                    <a:lnTo>
                      <a:pt x="230" y="524"/>
                    </a:lnTo>
                    <a:lnTo>
                      <a:pt x="203" y="503"/>
                    </a:lnTo>
                    <a:lnTo>
                      <a:pt x="177" y="478"/>
                    </a:lnTo>
                    <a:lnTo>
                      <a:pt x="153" y="455"/>
                    </a:lnTo>
                    <a:lnTo>
                      <a:pt x="129" y="428"/>
                    </a:lnTo>
                    <a:lnTo>
                      <a:pt x="108" y="405"/>
                    </a:lnTo>
                    <a:lnTo>
                      <a:pt x="87" y="380"/>
                    </a:lnTo>
                    <a:lnTo>
                      <a:pt x="66" y="359"/>
                    </a:lnTo>
                    <a:lnTo>
                      <a:pt x="55" y="351"/>
                    </a:lnTo>
                    <a:lnTo>
                      <a:pt x="46" y="344"/>
                    </a:lnTo>
                    <a:lnTo>
                      <a:pt x="35" y="337"/>
                    </a:lnTo>
                    <a:lnTo>
                      <a:pt x="25" y="330"/>
                    </a:lnTo>
                    <a:lnTo>
                      <a:pt x="15" y="322"/>
                    </a:lnTo>
                    <a:lnTo>
                      <a:pt x="8" y="314"/>
                    </a:lnTo>
                    <a:lnTo>
                      <a:pt x="3" y="305"/>
                    </a:lnTo>
                    <a:lnTo>
                      <a:pt x="0" y="298"/>
                    </a:lnTo>
                    <a:lnTo>
                      <a:pt x="10" y="294"/>
                    </a:lnTo>
                    <a:lnTo>
                      <a:pt x="22" y="290"/>
                    </a:lnTo>
                    <a:lnTo>
                      <a:pt x="35" y="282"/>
                    </a:lnTo>
                    <a:lnTo>
                      <a:pt x="48" y="275"/>
                    </a:lnTo>
                    <a:lnTo>
                      <a:pt x="59" y="265"/>
                    </a:lnTo>
                    <a:lnTo>
                      <a:pt x="70" y="254"/>
                    </a:lnTo>
                    <a:lnTo>
                      <a:pt x="77" y="243"/>
                    </a:lnTo>
                    <a:lnTo>
                      <a:pt x="84" y="232"/>
                    </a:lnTo>
                    <a:lnTo>
                      <a:pt x="73" y="231"/>
                    </a:lnTo>
                    <a:lnTo>
                      <a:pt x="70" y="228"/>
                    </a:lnTo>
                    <a:lnTo>
                      <a:pt x="69" y="224"/>
                    </a:lnTo>
                    <a:lnTo>
                      <a:pt x="70" y="220"/>
                    </a:lnTo>
                    <a:lnTo>
                      <a:pt x="91" y="210"/>
                    </a:lnTo>
                    <a:lnTo>
                      <a:pt x="112" y="202"/>
                    </a:lnTo>
                    <a:lnTo>
                      <a:pt x="129" y="189"/>
                    </a:lnTo>
                    <a:lnTo>
                      <a:pt x="147" y="178"/>
                    </a:lnTo>
                    <a:lnTo>
                      <a:pt x="162" y="163"/>
                    </a:lnTo>
                    <a:lnTo>
                      <a:pt x="177" y="149"/>
                    </a:lnTo>
                    <a:lnTo>
                      <a:pt x="194" y="133"/>
                    </a:lnTo>
                    <a:lnTo>
                      <a:pt x="213" y="116"/>
                    </a:lnTo>
                    <a:lnTo>
                      <a:pt x="221" y="99"/>
                    </a:lnTo>
                    <a:lnTo>
                      <a:pt x="231" y="84"/>
                    </a:lnTo>
                    <a:lnTo>
                      <a:pt x="238" y="69"/>
                    </a:lnTo>
                    <a:lnTo>
                      <a:pt x="246" y="55"/>
                    </a:lnTo>
                    <a:lnTo>
                      <a:pt x="253" y="40"/>
                    </a:lnTo>
                    <a:lnTo>
                      <a:pt x="263" y="27"/>
                    </a:lnTo>
                    <a:lnTo>
                      <a:pt x="272" y="12"/>
                    </a:lnTo>
                    <a:lnTo>
                      <a:pt x="288" y="0"/>
                    </a:lnTo>
                    <a:lnTo>
                      <a:pt x="296" y="3"/>
                    </a:lnTo>
                    <a:lnTo>
                      <a:pt x="304" y="11"/>
                    </a:lnTo>
                    <a:lnTo>
                      <a:pt x="308" y="21"/>
                    </a:lnTo>
                    <a:lnTo>
                      <a:pt x="314" y="33"/>
                    </a:lnTo>
                    <a:lnTo>
                      <a:pt x="317" y="45"/>
                    </a:lnTo>
                    <a:lnTo>
                      <a:pt x="319" y="58"/>
                    </a:lnTo>
                    <a:lnTo>
                      <a:pt x="319" y="70"/>
                    </a:lnTo>
                    <a:lnTo>
                      <a:pt x="321" y="84"/>
                    </a:lnTo>
                    <a:lnTo>
                      <a:pt x="303" y="108"/>
                    </a:lnTo>
                    <a:lnTo>
                      <a:pt x="282" y="126"/>
                    </a:lnTo>
                    <a:lnTo>
                      <a:pt x="257" y="139"/>
                    </a:lnTo>
                    <a:lnTo>
                      <a:pt x="234" y="152"/>
                    </a:lnTo>
                    <a:lnTo>
                      <a:pt x="209" y="164"/>
                    </a:lnTo>
                    <a:lnTo>
                      <a:pt x="189" y="180"/>
                    </a:lnTo>
                    <a:lnTo>
                      <a:pt x="173" y="200"/>
                    </a:lnTo>
                    <a:lnTo>
                      <a:pt x="163" y="229"/>
                    </a:lnTo>
                    <a:lnTo>
                      <a:pt x="156" y="236"/>
                    </a:lnTo>
                    <a:lnTo>
                      <a:pt x="151" y="244"/>
                    </a:lnTo>
                    <a:lnTo>
                      <a:pt x="142" y="251"/>
                    </a:lnTo>
                    <a:lnTo>
                      <a:pt x="134" y="256"/>
                    </a:lnTo>
                    <a:lnTo>
                      <a:pt x="134" y="260"/>
                    </a:lnTo>
                    <a:lnTo>
                      <a:pt x="134" y="264"/>
                    </a:lnTo>
                    <a:lnTo>
                      <a:pt x="149" y="261"/>
                    </a:lnTo>
                    <a:lnTo>
                      <a:pt x="160" y="254"/>
                    </a:lnTo>
                    <a:lnTo>
                      <a:pt x="167" y="246"/>
                    </a:lnTo>
                    <a:lnTo>
                      <a:pt x="173" y="236"/>
                    </a:lnTo>
                    <a:lnTo>
                      <a:pt x="177" y="225"/>
                    </a:lnTo>
                    <a:lnTo>
                      <a:pt x="182" y="217"/>
                    </a:lnTo>
                    <a:lnTo>
                      <a:pt x="189" y="209"/>
                    </a:lnTo>
                    <a:lnTo>
                      <a:pt x="200" y="206"/>
                    </a:lnTo>
                    <a:lnTo>
                      <a:pt x="231" y="203"/>
                    </a:lnTo>
                    <a:lnTo>
                      <a:pt x="278" y="197"/>
                    </a:lnTo>
                    <a:lnTo>
                      <a:pt x="333" y="186"/>
                    </a:lnTo>
                    <a:lnTo>
                      <a:pt x="393" y="178"/>
                    </a:lnTo>
                    <a:lnTo>
                      <a:pt x="448" y="171"/>
                    </a:lnTo>
                    <a:lnTo>
                      <a:pt x="496" y="173"/>
                    </a:lnTo>
                    <a:lnTo>
                      <a:pt x="530" y="184"/>
                    </a:lnTo>
                    <a:lnTo>
                      <a:pt x="545" y="209"/>
                    </a:lnTo>
                    <a:lnTo>
                      <a:pt x="512" y="221"/>
                    </a:lnTo>
                    <a:lnTo>
                      <a:pt x="478" y="229"/>
                    </a:lnTo>
                    <a:lnTo>
                      <a:pt x="444" y="233"/>
                    </a:lnTo>
                    <a:lnTo>
                      <a:pt x="409" y="236"/>
                    </a:lnTo>
                    <a:lnTo>
                      <a:pt x="373" y="238"/>
                    </a:lnTo>
                    <a:lnTo>
                      <a:pt x="340" y="242"/>
                    </a:lnTo>
                    <a:lnTo>
                      <a:pt x="307" y="250"/>
                    </a:lnTo>
                    <a:lnTo>
                      <a:pt x="279" y="264"/>
                    </a:lnTo>
                    <a:lnTo>
                      <a:pt x="279" y="272"/>
                    </a:lnTo>
                    <a:lnTo>
                      <a:pt x="279" y="280"/>
                    </a:lnTo>
                    <a:lnTo>
                      <a:pt x="297" y="287"/>
                    </a:lnTo>
                    <a:lnTo>
                      <a:pt x="329" y="297"/>
                    </a:lnTo>
                    <a:lnTo>
                      <a:pt x="368" y="305"/>
                    </a:lnTo>
                    <a:lnTo>
                      <a:pt x="409" y="318"/>
                    </a:lnTo>
                    <a:lnTo>
                      <a:pt x="447" y="329"/>
                    </a:lnTo>
                    <a:lnTo>
                      <a:pt x="481" y="343"/>
                    </a:lnTo>
                    <a:lnTo>
                      <a:pt x="505" y="355"/>
                    </a:lnTo>
                    <a:lnTo>
                      <a:pt x="514" y="372"/>
                    </a:lnTo>
                    <a:lnTo>
                      <a:pt x="473" y="384"/>
                    </a:lnTo>
                    <a:lnTo>
                      <a:pt x="429" y="384"/>
                    </a:lnTo>
                    <a:lnTo>
                      <a:pt x="382" y="374"/>
                    </a:lnTo>
                    <a:lnTo>
                      <a:pt x="336" y="363"/>
                    </a:lnTo>
                    <a:lnTo>
                      <a:pt x="290" y="352"/>
                    </a:lnTo>
                    <a:lnTo>
                      <a:pt x="250" y="350"/>
                    </a:lnTo>
                    <a:lnTo>
                      <a:pt x="216" y="356"/>
                    </a:lnTo>
                    <a:lnTo>
                      <a:pt x="192" y="383"/>
                    </a:lnTo>
                    <a:lnTo>
                      <a:pt x="200" y="397"/>
                    </a:lnTo>
                    <a:lnTo>
                      <a:pt x="214" y="415"/>
                    </a:lnTo>
                    <a:lnTo>
                      <a:pt x="230" y="434"/>
                    </a:lnTo>
                    <a:lnTo>
                      <a:pt x="246" y="455"/>
                    </a:lnTo>
                    <a:lnTo>
                      <a:pt x="260" y="475"/>
                    </a:lnTo>
                    <a:lnTo>
                      <a:pt x="272" y="496"/>
                    </a:lnTo>
                    <a:lnTo>
                      <a:pt x="281" y="515"/>
                    </a:lnTo>
                    <a:lnTo>
                      <a:pt x="285" y="535"/>
                    </a:lnTo>
                    <a:lnTo>
                      <a:pt x="275" y="538"/>
                    </a:lnTo>
                    <a:lnTo>
                      <a:pt x="270" y="540"/>
                    </a:lnTo>
                    <a:lnTo>
                      <a:pt x="264" y="542"/>
                    </a:lnTo>
                    <a:lnTo>
                      <a:pt x="259" y="54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Freeform 16"/>
              <p:cNvSpPr/>
              <p:nvPr/>
            </p:nvSpPr>
            <p:spPr>
              <a:xfrm>
                <a:off x="7452000" y="4134960"/>
                <a:ext cx="51840" cy="4176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41760"/>
                  <a:gd name="textAreaBottom" fmla="*/ 42120 h 41760"/>
                </a:gdLst>
                <a:ahLst/>
                <a:rect l="textAreaLeft" t="textAreaTop" r="textAreaRight" b="textAreaBottom"/>
                <a:pathLst>
                  <a:path w="129" h="85">
                    <a:moveTo>
                      <a:pt x="82" y="85"/>
                    </a:moveTo>
                    <a:lnTo>
                      <a:pt x="69" y="82"/>
                    </a:lnTo>
                    <a:lnTo>
                      <a:pt x="59" y="80"/>
                    </a:lnTo>
                    <a:lnTo>
                      <a:pt x="48" y="78"/>
                    </a:lnTo>
                    <a:lnTo>
                      <a:pt x="39" y="76"/>
                    </a:lnTo>
                    <a:lnTo>
                      <a:pt x="28" y="72"/>
                    </a:lnTo>
                    <a:lnTo>
                      <a:pt x="18" y="69"/>
                    </a:lnTo>
                    <a:lnTo>
                      <a:pt x="8" y="67"/>
                    </a:lnTo>
                    <a:lnTo>
                      <a:pt x="0" y="64"/>
                    </a:lnTo>
                    <a:lnTo>
                      <a:pt x="1" y="49"/>
                    </a:lnTo>
                    <a:lnTo>
                      <a:pt x="4" y="39"/>
                    </a:lnTo>
                    <a:lnTo>
                      <a:pt x="5" y="31"/>
                    </a:lnTo>
                    <a:lnTo>
                      <a:pt x="7" y="26"/>
                    </a:lnTo>
                    <a:lnTo>
                      <a:pt x="8" y="17"/>
                    </a:lnTo>
                    <a:lnTo>
                      <a:pt x="12" y="9"/>
                    </a:lnTo>
                    <a:lnTo>
                      <a:pt x="22" y="2"/>
                    </a:lnTo>
                    <a:lnTo>
                      <a:pt x="36" y="0"/>
                    </a:lnTo>
                    <a:lnTo>
                      <a:pt x="51" y="0"/>
                    </a:lnTo>
                    <a:lnTo>
                      <a:pt x="68" y="3"/>
                    </a:lnTo>
                    <a:lnTo>
                      <a:pt x="82" y="4"/>
                    </a:lnTo>
                    <a:lnTo>
                      <a:pt x="94" y="7"/>
                    </a:lnTo>
                    <a:lnTo>
                      <a:pt x="104" y="7"/>
                    </a:lnTo>
                    <a:lnTo>
                      <a:pt x="111" y="6"/>
                    </a:lnTo>
                    <a:lnTo>
                      <a:pt x="115" y="6"/>
                    </a:lnTo>
                    <a:lnTo>
                      <a:pt x="116" y="10"/>
                    </a:lnTo>
                    <a:lnTo>
                      <a:pt x="116" y="11"/>
                    </a:lnTo>
                    <a:lnTo>
                      <a:pt x="118" y="14"/>
                    </a:lnTo>
                    <a:lnTo>
                      <a:pt x="120" y="17"/>
                    </a:lnTo>
                    <a:lnTo>
                      <a:pt x="129" y="21"/>
                    </a:lnTo>
                    <a:lnTo>
                      <a:pt x="127" y="28"/>
                    </a:lnTo>
                    <a:lnTo>
                      <a:pt x="126" y="36"/>
                    </a:lnTo>
                    <a:lnTo>
                      <a:pt x="123" y="44"/>
                    </a:lnTo>
                    <a:lnTo>
                      <a:pt x="120" y="53"/>
                    </a:lnTo>
                    <a:lnTo>
                      <a:pt x="116" y="60"/>
                    </a:lnTo>
                    <a:lnTo>
                      <a:pt x="113" y="68"/>
                    </a:lnTo>
                    <a:lnTo>
                      <a:pt x="111" y="76"/>
                    </a:lnTo>
                    <a:lnTo>
                      <a:pt x="108" y="85"/>
                    </a:lnTo>
                    <a:lnTo>
                      <a:pt x="94" y="85"/>
                    </a:lnTo>
                    <a:lnTo>
                      <a:pt x="82" y="85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Freeform 17"/>
              <p:cNvSpPr/>
              <p:nvPr/>
            </p:nvSpPr>
            <p:spPr>
              <a:xfrm>
                <a:off x="7308000" y="4121280"/>
                <a:ext cx="76320" cy="46080"/>
              </a:xfrm>
              <a:custGeom>
                <a:avLst/>
                <a:gdLst>
                  <a:gd name="textAreaLeft" fmla="*/ 0 w 76320"/>
                  <a:gd name="textAreaRight" fmla="*/ 76680 w 76320"/>
                  <a:gd name="textAreaTop" fmla="*/ 0 h 46080"/>
                  <a:gd name="textAreaBottom" fmla="*/ 46440 h 46080"/>
                </a:gdLst>
                <a:ahLst/>
                <a:rect l="textAreaLeft" t="textAreaTop" r="textAreaRight" b="textAreaBottom"/>
                <a:pathLst>
                  <a:path w="189" h="93">
                    <a:moveTo>
                      <a:pt x="0" y="93"/>
                    </a:moveTo>
                    <a:lnTo>
                      <a:pt x="3" y="80"/>
                    </a:lnTo>
                    <a:lnTo>
                      <a:pt x="7" y="70"/>
                    </a:lnTo>
                    <a:lnTo>
                      <a:pt x="12" y="62"/>
                    </a:lnTo>
                    <a:lnTo>
                      <a:pt x="19" y="55"/>
                    </a:lnTo>
                    <a:lnTo>
                      <a:pt x="25" y="47"/>
                    </a:lnTo>
                    <a:lnTo>
                      <a:pt x="32" y="39"/>
                    </a:lnTo>
                    <a:lnTo>
                      <a:pt x="36" y="29"/>
                    </a:lnTo>
                    <a:lnTo>
                      <a:pt x="41" y="21"/>
                    </a:lnTo>
                    <a:lnTo>
                      <a:pt x="61" y="14"/>
                    </a:lnTo>
                    <a:lnTo>
                      <a:pt x="84" y="8"/>
                    </a:lnTo>
                    <a:lnTo>
                      <a:pt x="109" y="1"/>
                    </a:lnTo>
                    <a:lnTo>
                      <a:pt x="134" y="0"/>
                    </a:lnTo>
                    <a:lnTo>
                      <a:pt x="155" y="0"/>
                    </a:lnTo>
                    <a:lnTo>
                      <a:pt x="173" y="10"/>
                    </a:lnTo>
                    <a:lnTo>
                      <a:pt x="184" y="26"/>
                    </a:lnTo>
                    <a:lnTo>
                      <a:pt x="189" y="55"/>
                    </a:lnTo>
                    <a:lnTo>
                      <a:pt x="177" y="64"/>
                    </a:lnTo>
                    <a:lnTo>
                      <a:pt x="156" y="72"/>
                    </a:lnTo>
                    <a:lnTo>
                      <a:pt x="128" y="79"/>
                    </a:lnTo>
                    <a:lnTo>
                      <a:pt x="99" y="84"/>
                    </a:lnTo>
                    <a:lnTo>
                      <a:pt x="68" y="87"/>
                    </a:lnTo>
                    <a:lnTo>
                      <a:pt x="39" y="90"/>
                    </a:lnTo>
                    <a:lnTo>
                      <a:pt x="15" y="91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Freeform 18"/>
              <p:cNvSpPr/>
              <p:nvPr/>
            </p:nvSpPr>
            <p:spPr>
              <a:xfrm>
                <a:off x="6437160" y="3787200"/>
                <a:ext cx="281880" cy="322200"/>
              </a:xfrm>
              <a:custGeom>
                <a:avLst/>
                <a:gdLst>
                  <a:gd name="textAreaLeft" fmla="*/ 0 w 281880"/>
                  <a:gd name="textAreaRight" fmla="*/ 282240 w 281880"/>
                  <a:gd name="textAreaTop" fmla="*/ 0 h 322200"/>
                  <a:gd name="textAreaBottom" fmla="*/ 322560 h 322200"/>
                </a:gdLst>
                <a:ahLst/>
                <a:rect l="textAreaLeft" t="textAreaTop" r="textAreaRight" b="textAreaBottom"/>
                <a:pathLst>
                  <a:path w="698" h="648">
                    <a:moveTo>
                      <a:pt x="159" y="648"/>
                    </a:moveTo>
                    <a:lnTo>
                      <a:pt x="168" y="612"/>
                    </a:lnTo>
                    <a:lnTo>
                      <a:pt x="196" y="579"/>
                    </a:lnTo>
                    <a:lnTo>
                      <a:pt x="235" y="545"/>
                    </a:lnTo>
                    <a:lnTo>
                      <a:pt x="279" y="513"/>
                    </a:lnTo>
                    <a:lnTo>
                      <a:pt x="319" y="480"/>
                    </a:lnTo>
                    <a:lnTo>
                      <a:pt x="351" y="451"/>
                    </a:lnTo>
                    <a:lnTo>
                      <a:pt x="366" y="422"/>
                    </a:lnTo>
                    <a:lnTo>
                      <a:pt x="362" y="398"/>
                    </a:lnTo>
                    <a:lnTo>
                      <a:pt x="316" y="394"/>
                    </a:lnTo>
                    <a:lnTo>
                      <a:pt x="271" y="394"/>
                    </a:lnTo>
                    <a:lnTo>
                      <a:pt x="225" y="397"/>
                    </a:lnTo>
                    <a:lnTo>
                      <a:pt x="181" y="400"/>
                    </a:lnTo>
                    <a:lnTo>
                      <a:pt x="135" y="401"/>
                    </a:lnTo>
                    <a:lnTo>
                      <a:pt x="89" y="401"/>
                    </a:lnTo>
                    <a:lnTo>
                      <a:pt x="44" y="395"/>
                    </a:lnTo>
                    <a:lnTo>
                      <a:pt x="0" y="387"/>
                    </a:lnTo>
                    <a:lnTo>
                      <a:pt x="8" y="375"/>
                    </a:lnTo>
                    <a:lnTo>
                      <a:pt x="35" y="362"/>
                    </a:lnTo>
                    <a:lnTo>
                      <a:pt x="74" y="350"/>
                    </a:lnTo>
                    <a:lnTo>
                      <a:pt x="123" y="340"/>
                    </a:lnTo>
                    <a:lnTo>
                      <a:pt x="172" y="329"/>
                    </a:lnTo>
                    <a:lnTo>
                      <a:pt x="221" y="322"/>
                    </a:lnTo>
                    <a:lnTo>
                      <a:pt x="262" y="317"/>
                    </a:lnTo>
                    <a:lnTo>
                      <a:pt x="293" y="317"/>
                    </a:lnTo>
                    <a:lnTo>
                      <a:pt x="294" y="318"/>
                    </a:lnTo>
                    <a:lnTo>
                      <a:pt x="298" y="321"/>
                    </a:lnTo>
                    <a:lnTo>
                      <a:pt x="307" y="317"/>
                    </a:lnTo>
                    <a:lnTo>
                      <a:pt x="315" y="317"/>
                    </a:lnTo>
                    <a:lnTo>
                      <a:pt x="318" y="315"/>
                    </a:lnTo>
                    <a:lnTo>
                      <a:pt x="323" y="315"/>
                    </a:lnTo>
                    <a:lnTo>
                      <a:pt x="330" y="314"/>
                    </a:lnTo>
                    <a:lnTo>
                      <a:pt x="340" y="314"/>
                    </a:lnTo>
                    <a:lnTo>
                      <a:pt x="340" y="310"/>
                    </a:lnTo>
                    <a:lnTo>
                      <a:pt x="340" y="306"/>
                    </a:lnTo>
                    <a:lnTo>
                      <a:pt x="318" y="296"/>
                    </a:lnTo>
                    <a:lnTo>
                      <a:pt x="295" y="282"/>
                    </a:lnTo>
                    <a:lnTo>
                      <a:pt x="272" y="266"/>
                    </a:lnTo>
                    <a:lnTo>
                      <a:pt x="250" y="248"/>
                    </a:lnTo>
                    <a:lnTo>
                      <a:pt x="228" y="228"/>
                    </a:lnTo>
                    <a:lnTo>
                      <a:pt x="207" y="209"/>
                    </a:lnTo>
                    <a:lnTo>
                      <a:pt x="189" y="192"/>
                    </a:lnTo>
                    <a:lnTo>
                      <a:pt x="174" y="180"/>
                    </a:lnTo>
                    <a:lnTo>
                      <a:pt x="164" y="173"/>
                    </a:lnTo>
                    <a:lnTo>
                      <a:pt x="149" y="162"/>
                    </a:lnTo>
                    <a:lnTo>
                      <a:pt x="131" y="148"/>
                    </a:lnTo>
                    <a:lnTo>
                      <a:pt x="114" y="134"/>
                    </a:lnTo>
                    <a:lnTo>
                      <a:pt x="102" y="120"/>
                    </a:lnTo>
                    <a:lnTo>
                      <a:pt x="100" y="109"/>
                    </a:lnTo>
                    <a:lnTo>
                      <a:pt x="112" y="102"/>
                    </a:lnTo>
                    <a:lnTo>
                      <a:pt x="139" y="102"/>
                    </a:lnTo>
                    <a:lnTo>
                      <a:pt x="177" y="123"/>
                    </a:lnTo>
                    <a:lnTo>
                      <a:pt x="212" y="144"/>
                    </a:lnTo>
                    <a:lnTo>
                      <a:pt x="246" y="162"/>
                    </a:lnTo>
                    <a:lnTo>
                      <a:pt x="280" y="177"/>
                    </a:lnTo>
                    <a:lnTo>
                      <a:pt x="313" y="187"/>
                    </a:lnTo>
                    <a:lnTo>
                      <a:pt x="351" y="194"/>
                    </a:lnTo>
                    <a:lnTo>
                      <a:pt x="391" y="194"/>
                    </a:lnTo>
                    <a:lnTo>
                      <a:pt x="438" y="187"/>
                    </a:lnTo>
                    <a:lnTo>
                      <a:pt x="442" y="189"/>
                    </a:lnTo>
                    <a:lnTo>
                      <a:pt x="448" y="192"/>
                    </a:lnTo>
                    <a:lnTo>
                      <a:pt x="434" y="207"/>
                    </a:lnTo>
                    <a:lnTo>
                      <a:pt x="423" y="224"/>
                    </a:lnTo>
                    <a:lnTo>
                      <a:pt x="413" y="241"/>
                    </a:lnTo>
                    <a:lnTo>
                      <a:pt x="409" y="257"/>
                    </a:lnTo>
                    <a:lnTo>
                      <a:pt x="406" y="274"/>
                    </a:lnTo>
                    <a:lnTo>
                      <a:pt x="409" y="292"/>
                    </a:lnTo>
                    <a:lnTo>
                      <a:pt x="414" y="311"/>
                    </a:lnTo>
                    <a:lnTo>
                      <a:pt x="427" y="332"/>
                    </a:lnTo>
                    <a:lnTo>
                      <a:pt x="434" y="333"/>
                    </a:lnTo>
                    <a:lnTo>
                      <a:pt x="441" y="335"/>
                    </a:lnTo>
                    <a:lnTo>
                      <a:pt x="435" y="300"/>
                    </a:lnTo>
                    <a:lnTo>
                      <a:pt x="434" y="274"/>
                    </a:lnTo>
                    <a:lnTo>
                      <a:pt x="434" y="252"/>
                    </a:lnTo>
                    <a:lnTo>
                      <a:pt x="439" y="234"/>
                    </a:lnTo>
                    <a:lnTo>
                      <a:pt x="449" y="216"/>
                    </a:lnTo>
                    <a:lnTo>
                      <a:pt x="466" y="199"/>
                    </a:lnTo>
                    <a:lnTo>
                      <a:pt x="489" y="180"/>
                    </a:lnTo>
                    <a:lnTo>
                      <a:pt x="522" y="158"/>
                    </a:lnTo>
                    <a:lnTo>
                      <a:pt x="535" y="133"/>
                    </a:lnTo>
                    <a:lnTo>
                      <a:pt x="544" y="109"/>
                    </a:lnTo>
                    <a:lnTo>
                      <a:pt x="553" y="86"/>
                    </a:lnTo>
                    <a:lnTo>
                      <a:pt x="564" y="66"/>
                    </a:lnTo>
                    <a:lnTo>
                      <a:pt x="575" y="46"/>
                    </a:lnTo>
                    <a:lnTo>
                      <a:pt x="593" y="28"/>
                    </a:lnTo>
                    <a:lnTo>
                      <a:pt x="616" y="11"/>
                    </a:lnTo>
                    <a:lnTo>
                      <a:pt x="651" y="0"/>
                    </a:lnTo>
                    <a:lnTo>
                      <a:pt x="658" y="0"/>
                    </a:lnTo>
                    <a:lnTo>
                      <a:pt x="667" y="1"/>
                    </a:lnTo>
                    <a:lnTo>
                      <a:pt x="676" y="3"/>
                    </a:lnTo>
                    <a:lnTo>
                      <a:pt x="685" y="7"/>
                    </a:lnTo>
                    <a:lnTo>
                      <a:pt x="692" y="11"/>
                    </a:lnTo>
                    <a:lnTo>
                      <a:pt x="696" y="21"/>
                    </a:lnTo>
                    <a:lnTo>
                      <a:pt x="698" y="30"/>
                    </a:lnTo>
                    <a:lnTo>
                      <a:pt x="696" y="44"/>
                    </a:lnTo>
                    <a:lnTo>
                      <a:pt x="665" y="73"/>
                    </a:lnTo>
                    <a:lnTo>
                      <a:pt x="641" y="101"/>
                    </a:lnTo>
                    <a:lnTo>
                      <a:pt x="622" y="126"/>
                    </a:lnTo>
                    <a:lnTo>
                      <a:pt x="609" y="152"/>
                    </a:lnTo>
                    <a:lnTo>
                      <a:pt x="598" y="180"/>
                    </a:lnTo>
                    <a:lnTo>
                      <a:pt x="593" y="212"/>
                    </a:lnTo>
                    <a:lnTo>
                      <a:pt x="590" y="249"/>
                    </a:lnTo>
                    <a:lnTo>
                      <a:pt x="590" y="295"/>
                    </a:lnTo>
                    <a:lnTo>
                      <a:pt x="582" y="306"/>
                    </a:lnTo>
                    <a:lnTo>
                      <a:pt x="573" y="318"/>
                    </a:lnTo>
                    <a:lnTo>
                      <a:pt x="565" y="329"/>
                    </a:lnTo>
                    <a:lnTo>
                      <a:pt x="558" y="342"/>
                    </a:lnTo>
                    <a:lnTo>
                      <a:pt x="550" y="353"/>
                    </a:lnTo>
                    <a:lnTo>
                      <a:pt x="546" y="365"/>
                    </a:lnTo>
                    <a:lnTo>
                      <a:pt x="543" y="379"/>
                    </a:lnTo>
                    <a:lnTo>
                      <a:pt x="543" y="395"/>
                    </a:lnTo>
                    <a:lnTo>
                      <a:pt x="496" y="418"/>
                    </a:lnTo>
                    <a:lnTo>
                      <a:pt x="445" y="452"/>
                    </a:lnTo>
                    <a:lnTo>
                      <a:pt x="391" y="494"/>
                    </a:lnTo>
                    <a:lnTo>
                      <a:pt x="338" y="539"/>
                    </a:lnTo>
                    <a:lnTo>
                      <a:pt x="286" y="581"/>
                    </a:lnTo>
                    <a:lnTo>
                      <a:pt x="237" y="617"/>
                    </a:lnTo>
                    <a:lnTo>
                      <a:pt x="193" y="640"/>
                    </a:lnTo>
                    <a:lnTo>
                      <a:pt x="159" y="648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Freeform 19"/>
              <p:cNvSpPr/>
              <p:nvPr/>
            </p:nvSpPr>
            <p:spPr>
              <a:xfrm>
                <a:off x="7823520" y="4055760"/>
                <a:ext cx="48240" cy="35640"/>
              </a:xfrm>
              <a:custGeom>
                <a:avLst/>
                <a:gdLst>
                  <a:gd name="textAreaLeft" fmla="*/ 0 w 48240"/>
                  <a:gd name="textAreaRight" fmla="*/ 48600 w 48240"/>
                  <a:gd name="textAreaTop" fmla="*/ 0 h 35640"/>
                  <a:gd name="textAreaBottom" fmla="*/ 36000 h 35640"/>
                </a:gdLst>
                <a:ahLst/>
                <a:rect l="textAreaLeft" t="textAreaTop" r="textAreaRight" b="textAreaBottom"/>
                <a:pathLst>
                  <a:path w="121" h="73">
                    <a:moveTo>
                      <a:pt x="23" y="73"/>
                    </a:moveTo>
                    <a:lnTo>
                      <a:pt x="11" y="61"/>
                    </a:lnTo>
                    <a:lnTo>
                      <a:pt x="0" y="52"/>
                    </a:lnTo>
                    <a:lnTo>
                      <a:pt x="0" y="43"/>
                    </a:lnTo>
                    <a:lnTo>
                      <a:pt x="0" y="34"/>
                    </a:lnTo>
                    <a:lnTo>
                      <a:pt x="0" y="25"/>
                    </a:lnTo>
                    <a:lnTo>
                      <a:pt x="0" y="15"/>
                    </a:lnTo>
                    <a:lnTo>
                      <a:pt x="18" y="19"/>
                    </a:lnTo>
                    <a:lnTo>
                      <a:pt x="33" y="21"/>
                    </a:lnTo>
                    <a:lnTo>
                      <a:pt x="44" y="19"/>
                    </a:lnTo>
                    <a:lnTo>
                      <a:pt x="55" y="16"/>
                    </a:lnTo>
                    <a:lnTo>
                      <a:pt x="63" y="12"/>
                    </a:lnTo>
                    <a:lnTo>
                      <a:pt x="74" y="8"/>
                    </a:lnTo>
                    <a:lnTo>
                      <a:pt x="88" y="3"/>
                    </a:lnTo>
                    <a:lnTo>
                      <a:pt x="107" y="0"/>
                    </a:lnTo>
                    <a:lnTo>
                      <a:pt x="118" y="18"/>
                    </a:lnTo>
                    <a:lnTo>
                      <a:pt x="121" y="34"/>
                    </a:lnTo>
                    <a:lnTo>
                      <a:pt x="114" y="45"/>
                    </a:lnTo>
                    <a:lnTo>
                      <a:pt x="103" y="55"/>
                    </a:lnTo>
                    <a:lnTo>
                      <a:pt x="84" y="61"/>
                    </a:lnTo>
                    <a:lnTo>
                      <a:pt x="65" y="66"/>
                    </a:lnTo>
                    <a:lnTo>
                      <a:pt x="42" y="69"/>
                    </a:lnTo>
                    <a:lnTo>
                      <a:pt x="23" y="73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20"/>
              <p:cNvSpPr/>
              <p:nvPr/>
            </p:nvSpPr>
            <p:spPr>
              <a:xfrm>
                <a:off x="7754400" y="3949920"/>
                <a:ext cx="96840" cy="10764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107640"/>
                  <a:gd name="textAreaBottom" fmla="*/ 108000 h 107640"/>
                </a:gdLst>
                <a:ahLst/>
                <a:rect l="textAreaLeft" t="textAreaTop" r="textAreaRight" b="textAreaBottom"/>
                <a:pathLst>
                  <a:path w="241" h="217">
                    <a:moveTo>
                      <a:pt x="206" y="217"/>
                    </a:moveTo>
                    <a:lnTo>
                      <a:pt x="173" y="204"/>
                    </a:lnTo>
                    <a:lnTo>
                      <a:pt x="145" y="186"/>
                    </a:lnTo>
                    <a:lnTo>
                      <a:pt x="119" y="165"/>
                    </a:lnTo>
                    <a:lnTo>
                      <a:pt x="98" y="141"/>
                    </a:lnTo>
                    <a:lnTo>
                      <a:pt x="75" y="116"/>
                    </a:lnTo>
                    <a:lnTo>
                      <a:pt x="53" y="93"/>
                    </a:lnTo>
                    <a:lnTo>
                      <a:pt x="26" y="71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6"/>
                    </a:lnTo>
                    <a:lnTo>
                      <a:pt x="22" y="27"/>
                    </a:lnTo>
                    <a:lnTo>
                      <a:pt x="39" y="13"/>
                    </a:lnTo>
                    <a:lnTo>
                      <a:pt x="51" y="3"/>
                    </a:lnTo>
                    <a:lnTo>
                      <a:pt x="62" y="0"/>
                    </a:lnTo>
                    <a:lnTo>
                      <a:pt x="72" y="3"/>
                    </a:lnTo>
                    <a:lnTo>
                      <a:pt x="86" y="13"/>
                    </a:lnTo>
                    <a:lnTo>
                      <a:pt x="104" y="29"/>
                    </a:lnTo>
                    <a:lnTo>
                      <a:pt x="130" y="56"/>
                    </a:lnTo>
                    <a:lnTo>
                      <a:pt x="134" y="61"/>
                    </a:lnTo>
                    <a:lnTo>
                      <a:pt x="148" y="76"/>
                    </a:lnTo>
                    <a:lnTo>
                      <a:pt x="165" y="97"/>
                    </a:lnTo>
                    <a:lnTo>
                      <a:pt x="185" y="123"/>
                    </a:lnTo>
                    <a:lnTo>
                      <a:pt x="205" y="148"/>
                    </a:lnTo>
                    <a:lnTo>
                      <a:pt x="223" y="173"/>
                    </a:lnTo>
                    <a:lnTo>
                      <a:pt x="235" y="192"/>
                    </a:lnTo>
                    <a:lnTo>
                      <a:pt x="241" y="206"/>
                    </a:lnTo>
                    <a:lnTo>
                      <a:pt x="230" y="210"/>
                    </a:lnTo>
                    <a:lnTo>
                      <a:pt x="221" y="215"/>
                    </a:lnTo>
                    <a:lnTo>
                      <a:pt x="213" y="216"/>
                    </a:lnTo>
                    <a:lnTo>
                      <a:pt x="206" y="217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21"/>
              <p:cNvSpPr/>
              <p:nvPr/>
            </p:nvSpPr>
            <p:spPr>
              <a:xfrm>
                <a:off x="6696360" y="3537720"/>
                <a:ext cx="445320" cy="461160"/>
              </a:xfrm>
              <a:custGeom>
                <a:avLst/>
                <a:gdLst>
                  <a:gd name="textAreaLeft" fmla="*/ 0 w 445320"/>
                  <a:gd name="textAreaRight" fmla="*/ 445680 w 445320"/>
                  <a:gd name="textAreaTop" fmla="*/ 0 h 461160"/>
                  <a:gd name="textAreaBottom" fmla="*/ 461520 h 461160"/>
                </a:gdLst>
                <a:ahLst/>
                <a:rect l="textAreaLeft" t="textAreaTop" r="textAreaRight" b="textAreaBottom"/>
                <a:pathLst>
                  <a:path w="1104" h="927">
                    <a:moveTo>
                      <a:pt x="29" y="927"/>
                    </a:moveTo>
                    <a:lnTo>
                      <a:pt x="16" y="918"/>
                    </a:lnTo>
                    <a:lnTo>
                      <a:pt x="8" y="908"/>
                    </a:lnTo>
                    <a:lnTo>
                      <a:pt x="2" y="894"/>
                    </a:lnTo>
                    <a:lnTo>
                      <a:pt x="1" y="882"/>
                    </a:lnTo>
                    <a:lnTo>
                      <a:pt x="0" y="867"/>
                    </a:lnTo>
                    <a:lnTo>
                      <a:pt x="1" y="853"/>
                    </a:lnTo>
                    <a:lnTo>
                      <a:pt x="2" y="839"/>
                    </a:lnTo>
                    <a:lnTo>
                      <a:pt x="5" y="827"/>
                    </a:lnTo>
                    <a:lnTo>
                      <a:pt x="80" y="803"/>
                    </a:lnTo>
                    <a:lnTo>
                      <a:pt x="149" y="778"/>
                    </a:lnTo>
                    <a:lnTo>
                      <a:pt x="213" y="749"/>
                    </a:lnTo>
                    <a:lnTo>
                      <a:pt x="273" y="716"/>
                    </a:lnTo>
                    <a:lnTo>
                      <a:pt x="330" y="679"/>
                    </a:lnTo>
                    <a:lnTo>
                      <a:pt x="388" y="639"/>
                    </a:lnTo>
                    <a:lnTo>
                      <a:pt x="445" y="593"/>
                    </a:lnTo>
                    <a:lnTo>
                      <a:pt x="504" y="543"/>
                    </a:lnTo>
                    <a:lnTo>
                      <a:pt x="507" y="539"/>
                    </a:lnTo>
                    <a:lnTo>
                      <a:pt x="514" y="532"/>
                    </a:lnTo>
                    <a:lnTo>
                      <a:pt x="525" y="522"/>
                    </a:lnTo>
                    <a:lnTo>
                      <a:pt x="540" y="510"/>
                    </a:lnTo>
                    <a:lnTo>
                      <a:pt x="557" y="493"/>
                    </a:lnTo>
                    <a:lnTo>
                      <a:pt x="579" y="474"/>
                    </a:lnTo>
                    <a:lnTo>
                      <a:pt x="604" y="452"/>
                    </a:lnTo>
                    <a:lnTo>
                      <a:pt x="633" y="427"/>
                    </a:lnTo>
                    <a:lnTo>
                      <a:pt x="667" y="387"/>
                    </a:lnTo>
                    <a:lnTo>
                      <a:pt x="703" y="348"/>
                    </a:lnTo>
                    <a:lnTo>
                      <a:pt x="738" y="310"/>
                    </a:lnTo>
                    <a:lnTo>
                      <a:pt x="774" y="271"/>
                    </a:lnTo>
                    <a:lnTo>
                      <a:pt x="807" y="231"/>
                    </a:lnTo>
                    <a:lnTo>
                      <a:pt x="842" y="191"/>
                    </a:lnTo>
                    <a:lnTo>
                      <a:pt x="875" y="151"/>
                    </a:lnTo>
                    <a:lnTo>
                      <a:pt x="909" y="110"/>
                    </a:lnTo>
                    <a:lnTo>
                      <a:pt x="932" y="73"/>
                    </a:lnTo>
                    <a:lnTo>
                      <a:pt x="951" y="45"/>
                    </a:lnTo>
                    <a:lnTo>
                      <a:pt x="969" y="25"/>
                    </a:lnTo>
                    <a:lnTo>
                      <a:pt x="987" y="11"/>
                    </a:lnTo>
                    <a:lnTo>
                      <a:pt x="1006" y="1"/>
                    </a:lnTo>
                    <a:lnTo>
                      <a:pt x="1031" y="0"/>
                    </a:lnTo>
                    <a:lnTo>
                      <a:pt x="1063" y="4"/>
                    </a:lnTo>
                    <a:lnTo>
                      <a:pt x="1104" y="15"/>
                    </a:lnTo>
                    <a:lnTo>
                      <a:pt x="1100" y="22"/>
                    </a:lnTo>
                    <a:lnTo>
                      <a:pt x="1099" y="30"/>
                    </a:lnTo>
                    <a:lnTo>
                      <a:pt x="1095" y="37"/>
                    </a:lnTo>
                    <a:lnTo>
                      <a:pt x="1093" y="45"/>
                    </a:lnTo>
                    <a:lnTo>
                      <a:pt x="1091" y="52"/>
                    </a:lnTo>
                    <a:lnTo>
                      <a:pt x="1088" y="59"/>
                    </a:lnTo>
                    <a:lnTo>
                      <a:pt x="1085" y="68"/>
                    </a:lnTo>
                    <a:lnTo>
                      <a:pt x="1084" y="76"/>
                    </a:lnTo>
                    <a:lnTo>
                      <a:pt x="1077" y="117"/>
                    </a:lnTo>
                    <a:lnTo>
                      <a:pt x="1063" y="151"/>
                    </a:lnTo>
                    <a:lnTo>
                      <a:pt x="1041" y="177"/>
                    </a:lnTo>
                    <a:lnTo>
                      <a:pt x="1017" y="200"/>
                    </a:lnTo>
                    <a:lnTo>
                      <a:pt x="991" y="221"/>
                    </a:lnTo>
                    <a:lnTo>
                      <a:pt x="970" y="245"/>
                    </a:lnTo>
                    <a:lnTo>
                      <a:pt x="952" y="271"/>
                    </a:lnTo>
                    <a:lnTo>
                      <a:pt x="944" y="305"/>
                    </a:lnTo>
                    <a:lnTo>
                      <a:pt x="959" y="311"/>
                    </a:lnTo>
                    <a:lnTo>
                      <a:pt x="979" y="318"/>
                    </a:lnTo>
                    <a:lnTo>
                      <a:pt x="999" y="325"/>
                    </a:lnTo>
                    <a:lnTo>
                      <a:pt x="1022" y="333"/>
                    </a:lnTo>
                    <a:lnTo>
                      <a:pt x="1041" y="341"/>
                    </a:lnTo>
                    <a:lnTo>
                      <a:pt x="1060" y="351"/>
                    </a:lnTo>
                    <a:lnTo>
                      <a:pt x="1074" y="363"/>
                    </a:lnTo>
                    <a:lnTo>
                      <a:pt x="1084" y="379"/>
                    </a:lnTo>
                    <a:lnTo>
                      <a:pt x="1071" y="387"/>
                    </a:lnTo>
                    <a:lnTo>
                      <a:pt x="1062" y="395"/>
                    </a:lnTo>
                    <a:lnTo>
                      <a:pt x="1052" y="404"/>
                    </a:lnTo>
                    <a:lnTo>
                      <a:pt x="1044" y="412"/>
                    </a:lnTo>
                    <a:lnTo>
                      <a:pt x="1035" y="420"/>
                    </a:lnTo>
                    <a:lnTo>
                      <a:pt x="1027" y="430"/>
                    </a:lnTo>
                    <a:lnTo>
                      <a:pt x="1020" y="439"/>
                    </a:lnTo>
                    <a:lnTo>
                      <a:pt x="1013" y="453"/>
                    </a:lnTo>
                    <a:lnTo>
                      <a:pt x="915" y="524"/>
                    </a:lnTo>
                    <a:lnTo>
                      <a:pt x="804" y="601"/>
                    </a:lnTo>
                    <a:lnTo>
                      <a:pt x="681" y="679"/>
                    </a:lnTo>
                    <a:lnTo>
                      <a:pt x="551" y="755"/>
                    </a:lnTo>
                    <a:lnTo>
                      <a:pt x="416" y="821"/>
                    </a:lnTo>
                    <a:lnTo>
                      <a:pt x="282" y="875"/>
                    </a:lnTo>
                    <a:lnTo>
                      <a:pt x="150" y="911"/>
                    </a:lnTo>
                    <a:lnTo>
                      <a:pt x="29" y="927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22"/>
              <p:cNvSpPr/>
              <p:nvPr/>
            </p:nvSpPr>
            <p:spPr>
              <a:xfrm>
                <a:off x="6663960" y="3942360"/>
                <a:ext cx="29880" cy="5364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75" h="108">
                    <a:moveTo>
                      <a:pt x="66" y="108"/>
                    </a:moveTo>
                    <a:lnTo>
                      <a:pt x="33" y="101"/>
                    </a:lnTo>
                    <a:lnTo>
                      <a:pt x="12" y="94"/>
                    </a:lnTo>
                    <a:lnTo>
                      <a:pt x="1" y="86"/>
                    </a:lnTo>
                    <a:lnTo>
                      <a:pt x="0" y="76"/>
                    </a:lnTo>
                    <a:lnTo>
                      <a:pt x="3" y="61"/>
                    </a:lnTo>
                    <a:lnTo>
                      <a:pt x="11" y="44"/>
                    </a:lnTo>
                    <a:lnTo>
                      <a:pt x="22" y="24"/>
                    </a:lnTo>
                    <a:lnTo>
                      <a:pt x="35" y="0"/>
                    </a:lnTo>
                    <a:lnTo>
                      <a:pt x="39" y="0"/>
                    </a:lnTo>
                    <a:lnTo>
                      <a:pt x="46" y="0"/>
                    </a:lnTo>
                    <a:lnTo>
                      <a:pt x="50" y="8"/>
                    </a:lnTo>
                    <a:lnTo>
                      <a:pt x="54" y="18"/>
                    </a:lnTo>
                    <a:lnTo>
                      <a:pt x="61" y="18"/>
                    </a:lnTo>
                    <a:lnTo>
                      <a:pt x="69" y="18"/>
                    </a:lnTo>
                    <a:lnTo>
                      <a:pt x="68" y="24"/>
                    </a:lnTo>
                    <a:lnTo>
                      <a:pt x="68" y="31"/>
                    </a:lnTo>
                    <a:lnTo>
                      <a:pt x="68" y="37"/>
                    </a:lnTo>
                    <a:lnTo>
                      <a:pt x="69" y="47"/>
                    </a:lnTo>
                    <a:lnTo>
                      <a:pt x="69" y="57"/>
                    </a:lnTo>
                    <a:lnTo>
                      <a:pt x="72" y="71"/>
                    </a:lnTo>
                    <a:lnTo>
                      <a:pt x="72" y="87"/>
                    </a:lnTo>
                    <a:lnTo>
                      <a:pt x="75" y="108"/>
                    </a:lnTo>
                    <a:lnTo>
                      <a:pt x="71" y="108"/>
                    </a:lnTo>
                    <a:lnTo>
                      <a:pt x="66" y="108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23"/>
              <p:cNvSpPr/>
              <p:nvPr/>
            </p:nvSpPr>
            <p:spPr>
              <a:xfrm>
                <a:off x="7087320" y="3615480"/>
                <a:ext cx="384840" cy="343440"/>
              </a:xfrm>
              <a:custGeom>
                <a:avLst/>
                <a:gdLst>
                  <a:gd name="textAreaLeft" fmla="*/ 0 w 384840"/>
                  <a:gd name="textAreaRight" fmla="*/ 385200 w 384840"/>
                  <a:gd name="textAreaTop" fmla="*/ 0 h 343440"/>
                  <a:gd name="textAreaBottom" fmla="*/ 343800 h 343440"/>
                </a:gdLst>
                <a:ahLst/>
                <a:rect l="textAreaLeft" t="textAreaTop" r="textAreaRight" b="textAreaBottom"/>
                <a:pathLst>
                  <a:path w="955" h="689">
                    <a:moveTo>
                      <a:pt x="941" y="689"/>
                    </a:moveTo>
                    <a:lnTo>
                      <a:pt x="929" y="678"/>
                    </a:lnTo>
                    <a:lnTo>
                      <a:pt x="918" y="672"/>
                    </a:lnTo>
                    <a:lnTo>
                      <a:pt x="908" y="667"/>
                    </a:lnTo>
                    <a:lnTo>
                      <a:pt x="898" y="665"/>
                    </a:lnTo>
                    <a:lnTo>
                      <a:pt x="806" y="646"/>
                    </a:lnTo>
                    <a:lnTo>
                      <a:pt x="715" y="624"/>
                    </a:lnTo>
                    <a:lnTo>
                      <a:pt x="623" y="598"/>
                    </a:lnTo>
                    <a:lnTo>
                      <a:pt x="535" y="570"/>
                    </a:lnTo>
                    <a:lnTo>
                      <a:pt x="446" y="538"/>
                    </a:lnTo>
                    <a:lnTo>
                      <a:pt x="359" y="508"/>
                    </a:lnTo>
                    <a:lnTo>
                      <a:pt x="272" y="475"/>
                    </a:lnTo>
                    <a:lnTo>
                      <a:pt x="189" y="446"/>
                    </a:lnTo>
                    <a:lnTo>
                      <a:pt x="167" y="435"/>
                    </a:lnTo>
                    <a:lnTo>
                      <a:pt x="141" y="422"/>
                    </a:lnTo>
                    <a:lnTo>
                      <a:pt x="110" y="406"/>
                    </a:lnTo>
                    <a:lnTo>
                      <a:pt x="84" y="388"/>
                    </a:lnTo>
                    <a:lnTo>
                      <a:pt x="60" y="367"/>
                    </a:lnTo>
                    <a:lnTo>
                      <a:pt x="48" y="346"/>
                    </a:lnTo>
                    <a:lnTo>
                      <a:pt x="49" y="324"/>
                    </a:lnTo>
                    <a:lnTo>
                      <a:pt x="69" y="303"/>
                    </a:lnTo>
                    <a:lnTo>
                      <a:pt x="66" y="298"/>
                    </a:lnTo>
                    <a:lnTo>
                      <a:pt x="66" y="294"/>
                    </a:lnTo>
                    <a:lnTo>
                      <a:pt x="74" y="282"/>
                    </a:lnTo>
                    <a:lnTo>
                      <a:pt x="83" y="273"/>
                    </a:lnTo>
                    <a:lnTo>
                      <a:pt x="91" y="265"/>
                    </a:lnTo>
                    <a:lnTo>
                      <a:pt x="101" y="258"/>
                    </a:lnTo>
                    <a:lnTo>
                      <a:pt x="109" y="249"/>
                    </a:lnTo>
                    <a:lnTo>
                      <a:pt x="120" y="244"/>
                    </a:lnTo>
                    <a:lnTo>
                      <a:pt x="131" y="238"/>
                    </a:lnTo>
                    <a:lnTo>
                      <a:pt x="145" y="235"/>
                    </a:lnTo>
                    <a:lnTo>
                      <a:pt x="136" y="215"/>
                    </a:lnTo>
                    <a:lnTo>
                      <a:pt x="123" y="198"/>
                    </a:lnTo>
                    <a:lnTo>
                      <a:pt x="103" y="183"/>
                    </a:lnTo>
                    <a:lnTo>
                      <a:pt x="83" y="172"/>
                    </a:lnTo>
                    <a:lnTo>
                      <a:pt x="59" y="161"/>
                    </a:lnTo>
                    <a:lnTo>
                      <a:pt x="36" y="153"/>
                    </a:lnTo>
                    <a:lnTo>
                      <a:pt x="15" y="143"/>
                    </a:lnTo>
                    <a:lnTo>
                      <a:pt x="0" y="133"/>
                    </a:lnTo>
                    <a:lnTo>
                      <a:pt x="2" y="118"/>
                    </a:lnTo>
                    <a:lnTo>
                      <a:pt x="15" y="101"/>
                    </a:lnTo>
                    <a:lnTo>
                      <a:pt x="30" y="83"/>
                    </a:lnTo>
                    <a:lnTo>
                      <a:pt x="51" y="67"/>
                    </a:lnTo>
                    <a:lnTo>
                      <a:pt x="70" y="47"/>
                    </a:lnTo>
                    <a:lnTo>
                      <a:pt x="89" y="31"/>
                    </a:lnTo>
                    <a:lnTo>
                      <a:pt x="105" y="14"/>
                    </a:lnTo>
                    <a:lnTo>
                      <a:pt x="116" y="0"/>
                    </a:lnTo>
                    <a:lnTo>
                      <a:pt x="120" y="0"/>
                    </a:lnTo>
                    <a:lnTo>
                      <a:pt x="124" y="0"/>
                    </a:lnTo>
                    <a:lnTo>
                      <a:pt x="130" y="9"/>
                    </a:lnTo>
                    <a:lnTo>
                      <a:pt x="135" y="17"/>
                    </a:lnTo>
                    <a:lnTo>
                      <a:pt x="141" y="23"/>
                    </a:lnTo>
                    <a:lnTo>
                      <a:pt x="146" y="30"/>
                    </a:lnTo>
                    <a:lnTo>
                      <a:pt x="152" y="34"/>
                    </a:lnTo>
                    <a:lnTo>
                      <a:pt x="161" y="39"/>
                    </a:lnTo>
                    <a:lnTo>
                      <a:pt x="171" y="43"/>
                    </a:lnTo>
                    <a:lnTo>
                      <a:pt x="186" y="49"/>
                    </a:lnTo>
                    <a:lnTo>
                      <a:pt x="189" y="100"/>
                    </a:lnTo>
                    <a:lnTo>
                      <a:pt x="192" y="147"/>
                    </a:lnTo>
                    <a:lnTo>
                      <a:pt x="196" y="187"/>
                    </a:lnTo>
                    <a:lnTo>
                      <a:pt x="206" y="224"/>
                    </a:lnTo>
                    <a:lnTo>
                      <a:pt x="219" y="256"/>
                    </a:lnTo>
                    <a:lnTo>
                      <a:pt x="246" y="285"/>
                    </a:lnTo>
                    <a:lnTo>
                      <a:pt x="283" y="312"/>
                    </a:lnTo>
                    <a:lnTo>
                      <a:pt x="337" y="338"/>
                    </a:lnTo>
                    <a:lnTo>
                      <a:pt x="358" y="335"/>
                    </a:lnTo>
                    <a:lnTo>
                      <a:pt x="377" y="331"/>
                    </a:lnTo>
                    <a:lnTo>
                      <a:pt x="395" y="324"/>
                    </a:lnTo>
                    <a:lnTo>
                      <a:pt x="414" y="317"/>
                    </a:lnTo>
                    <a:lnTo>
                      <a:pt x="430" y="309"/>
                    </a:lnTo>
                    <a:lnTo>
                      <a:pt x="446" y="300"/>
                    </a:lnTo>
                    <a:lnTo>
                      <a:pt x="463" y="294"/>
                    </a:lnTo>
                    <a:lnTo>
                      <a:pt x="479" y="291"/>
                    </a:lnTo>
                    <a:lnTo>
                      <a:pt x="503" y="345"/>
                    </a:lnTo>
                    <a:lnTo>
                      <a:pt x="538" y="392"/>
                    </a:lnTo>
                    <a:lnTo>
                      <a:pt x="579" y="433"/>
                    </a:lnTo>
                    <a:lnTo>
                      <a:pt x="629" y="469"/>
                    </a:lnTo>
                    <a:lnTo>
                      <a:pt x="680" y="500"/>
                    </a:lnTo>
                    <a:lnTo>
                      <a:pt x="737" y="529"/>
                    </a:lnTo>
                    <a:lnTo>
                      <a:pt x="792" y="555"/>
                    </a:lnTo>
                    <a:lnTo>
                      <a:pt x="849" y="581"/>
                    </a:lnTo>
                    <a:lnTo>
                      <a:pt x="858" y="585"/>
                    </a:lnTo>
                    <a:lnTo>
                      <a:pt x="876" y="598"/>
                    </a:lnTo>
                    <a:lnTo>
                      <a:pt x="898" y="613"/>
                    </a:lnTo>
                    <a:lnTo>
                      <a:pt x="923" y="632"/>
                    </a:lnTo>
                    <a:lnTo>
                      <a:pt x="941" y="649"/>
                    </a:lnTo>
                    <a:lnTo>
                      <a:pt x="955" y="667"/>
                    </a:lnTo>
                    <a:lnTo>
                      <a:pt x="955" y="679"/>
                    </a:lnTo>
                    <a:lnTo>
                      <a:pt x="941" y="689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24"/>
              <p:cNvSpPr/>
              <p:nvPr/>
            </p:nvSpPr>
            <p:spPr>
              <a:xfrm>
                <a:off x="7408440" y="3460320"/>
                <a:ext cx="155880" cy="480600"/>
              </a:xfrm>
              <a:custGeom>
                <a:avLst/>
                <a:gdLst>
                  <a:gd name="textAreaLeft" fmla="*/ 0 w 155880"/>
                  <a:gd name="textAreaRight" fmla="*/ 156240 w 155880"/>
                  <a:gd name="textAreaTop" fmla="*/ 0 h 480600"/>
                  <a:gd name="textAreaBottom" fmla="*/ 480960 h 480600"/>
                </a:gdLst>
                <a:ahLst/>
                <a:rect l="textAreaLeft" t="textAreaTop" r="textAreaRight" b="textAreaBottom"/>
                <a:pathLst>
                  <a:path w="386" h="965">
                    <a:moveTo>
                      <a:pt x="182" y="965"/>
                    </a:moveTo>
                    <a:lnTo>
                      <a:pt x="182" y="935"/>
                    </a:lnTo>
                    <a:lnTo>
                      <a:pt x="182" y="911"/>
                    </a:lnTo>
                    <a:lnTo>
                      <a:pt x="182" y="892"/>
                    </a:lnTo>
                    <a:lnTo>
                      <a:pt x="184" y="874"/>
                    </a:lnTo>
                    <a:lnTo>
                      <a:pt x="184" y="853"/>
                    </a:lnTo>
                    <a:lnTo>
                      <a:pt x="184" y="831"/>
                    </a:lnTo>
                    <a:lnTo>
                      <a:pt x="184" y="801"/>
                    </a:lnTo>
                    <a:lnTo>
                      <a:pt x="185" y="765"/>
                    </a:lnTo>
                    <a:lnTo>
                      <a:pt x="178" y="708"/>
                    </a:lnTo>
                    <a:lnTo>
                      <a:pt x="171" y="656"/>
                    </a:lnTo>
                    <a:lnTo>
                      <a:pt x="160" y="603"/>
                    </a:lnTo>
                    <a:lnTo>
                      <a:pt x="146" y="553"/>
                    </a:lnTo>
                    <a:lnTo>
                      <a:pt x="127" y="505"/>
                    </a:lnTo>
                    <a:lnTo>
                      <a:pt x="103" y="461"/>
                    </a:lnTo>
                    <a:lnTo>
                      <a:pt x="73" y="418"/>
                    </a:lnTo>
                    <a:lnTo>
                      <a:pt x="37" y="381"/>
                    </a:lnTo>
                    <a:lnTo>
                      <a:pt x="36" y="376"/>
                    </a:lnTo>
                    <a:lnTo>
                      <a:pt x="36" y="372"/>
                    </a:lnTo>
                    <a:lnTo>
                      <a:pt x="65" y="363"/>
                    </a:lnTo>
                    <a:lnTo>
                      <a:pt x="84" y="345"/>
                    </a:lnTo>
                    <a:lnTo>
                      <a:pt x="92" y="321"/>
                    </a:lnTo>
                    <a:lnTo>
                      <a:pt x="94" y="295"/>
                    </a:lnTo>
                    <a:lnTo>
                      <a:pt x="85" y="266"/>
                    </a:lnTo>
                    <a:lnTo>
                      <a:pt x="73" y="238"/>
                    </a:lnTo>
                    <a:lnTo>
                      <a:pt x="56" y="215"/>
                    </a:lnTo>
                    <a:lnTo>
                      <a:pt x="37" y="198"/>
                    </a:lnTo>
                    <a:lnTo>
                      <a:pt x="14" y="186"/>
                    </a:lnTo>
                    <a:lnTo>
                      <a:pt x="2" y="172"/>
                    </a:lnTo>
                    <a:lnTo>
                      <a:pt x="0" y="154"/>
                    </a:lnTo>
                    <a:lnTo>
                      <a:pt x="5" y="135"/>
                    </a:lnTo>
                    <a:lnTo>
                      <a:pt x="14" y="112"/>
                    </a:lnTo>
                    <a:lnTo>
                      <a:pt x="25" y="90"/>
                    </a:lnTo>
                    <a:lnTo>
                      <a:pt x="36" y="70"/>
                    </a:lnTo>
                    <a:lnTo>
                      <a:pt x="45" y="50"/>
                    </a:lnTo>
                    <a:lnTo>
                      <a:pt x="45" y="38"/>
                    </a:lnTo>
                    <a:lnTo>
                      <a:pt x="45" y="27"/>
                    </a:lnTo>
                    <a:lnTo>
                      <a:pt x="45" y="14"/>
                    </a:lnTo>
                    <a:lnTo>
                      <a:pt x="45" y="3"/>
                    </a:lnTo>
                    <a:lnTo>
                      <a:pt x="72" y="0"/>
                    </a:lnTo>
                    <a:lnTo>
                      <a:pt x="103" y="0"/>
                    </a:lnTo>
                    <a:lnTo>
                      <a:pt x="135" y="0"/>
                    </a:lnTo>
                    <a:lnTo>
                      <a:pt x="171" y="3"/>
                    </a:lnTo>
                    <a:lnTo>
                      <a:pt x="204" y="6"/>
                    </a:lnTo>
                    <a:lnTo>
                      <a:pt x="239" y="14"/>
                    </a:lnTo>
                    <a:lnTo>
                      <a:pt x="268" y="27"/>
                    </a:lnTo>
                    <a:lnTo>
                      <a:pt x="296" y="43"/>
                    </a:lnTo>
                    <a:lnTo>
                      <a:pt x="293" y="50"/>
                    </a:lnTo>
                    <a:lnTo>
                      <a:pt x="287" y="63"/>
                    </a:lnTo>
                    <a:lnTo>
                      <a:pt x="279" y="76"/>
                    </a:lnTo>
                    <a:lnTo>
                      <a:pt x="271" y="92"/>
                    </a:lnTo>
                    <a:lnTo>
                      <a:pt x="260" y="105"/>
                    </a:lnTo>
                    <a:lnTo>
                      <a:pt x="250" y="118"/>
                    </a:lnTo>
                    <a:lnTo>
                      <a:pt x="239" y="128"/>
                    </a:lnTo>
                    <a:lnTo>
                      <a:pt x="231" y="133"/>
                    </a:lnTo>
                    <a:lnTo>
                      <a:pt x="231" y="141"/>
                    </a:lnTo>
                    <a:lnTo>
                      <a:pt x="232" y="151"/>
                    </a:lnTo>
                    <a:lnTo>
                      <a:pt x="231" y="159"/>
                    </a:lnTo>
                    <a:lnTo>
                      <a:pt x="231" y="170"/>
                    </a:lnTo>
                    <a:lnTo>
                      <a:pt x="229" y="180"/>
                    </a:lnTo>
                    <a:lnTo>
                      <a:pt x="232" y="191"/>
                    </a:lnTo>
                    <a:lnTo>
                      <a:pt x="239" y="201"/>
                    </a:lnTo>
                    <a:lnTo>
                      <a:pt x="251" y="212"/>
                    </a:lnTo>
                    <a:lnTo>
                      <a:pt x="267" y="216"/>
                    </a:lnTo>
                    <a:lnTo>
                      <a:pt x="283" y="220"/>
                    </a:lnTo>
                    <a:lnTo>
                      <a:pt x="297" y="224"/>
                    </a:lnTo>
                    <a:lnTo>
                      <a:pt x="312" y="229"/>
                    </a:lnTo>
                    <a:lnTo>
                      <a:pt x="326" y="233"/>
                    </a:lnTo>
                    <a:lnTo>
                      <a:pt x="340" y="241"/>
                    </a:lnTo>
                    <a:lnTo>
                      <a:pt x="354" y="251"/>
                    </a:lnTo>
                    <a:lnTo>
                      <a:pt x="370" y="267"/>
                    </a:lnTo>
                    <a:lnTo>
                      <a:pt x="383" y="313"/>
                    </a:lnTo>
                    <a:lnTo>
                      <a:pt x="386" y="370"/>
                    </a:lnTo>
                    <a:lnTo>
                      <a:pt x="377" y="433"/>
                    </a:lnTo>
                    <a:lnTo>
                      <a:pt x="365" y="502"/>
                    </a:lnTo>
                    <a:lnTo>
                      <a:pt x="345" y="569"/>
                    </a:lnTo>
                    <a:lnTo>
                      <a:pt x="325" y="632"/>
                    </a:lnTo>
                    <a:lnTo>
                      <a:pt x="301" y="687"/>
                    </a:lnTo>
                    <a:lnTo>
                      <a:pt x="280" y="733"/>
                    </a:lnTo>
                    <a:lnTo>
                      <a:pt x="271" y="754"/>
                    </a:lnTo>
                    <a:lnTo>
                      <a:pt x="261" y="784"/>
                    </a:lnTo>
                    <a:lnTo>
                      <a:pt x="249" y="819"/>
                    </a:lnTo>
                    <a:lnTo>
                      <a:pt x="236" y="859"/>
                    </a:lnTo>
                    <a:lnTo>
                      <a:pt x="221" y="895"/>
                    </a:lnTo>
                    <a:lnTo>
                      <a:pt x="207" y="928"/>
                    </a:lnTo>
                    <a:lnTo>
                      <a:pt x="193" y="952"/>
                    </a:lnTo>
                    <a:lnTo>
                      <a:pt x="182" y="965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25"/>
              <p:cNvSpPr/>
              <p:nvPr/>
            </p:nvSpPr>
            <p:spPr>
              <a:xfrm>
                <a:off x="7561080" y="3593160"/>
                <a:ext cx="178920" cy="337320"/>
              </a:xfrm>
              <a:custGeom>
                <a:avLst/>
                <a:gdLst>
                  <a:gd name="textAreaLeft" fmla="*/ 0 w 178920"/>
                  <a:gd name="textAreaRight" fmla="*/ 179280 w 178920"/>
                  <a:gd name="textAreaTop" fmla="*/ 0 h 337320"/>
                  <a:gd name="textAreaBottom" fmla="*/ 337680 h 337320"/>
                </a:gdLst>
                <a:ahLst/>
                <a:rect l="textAreaLeft" t="textAreaTop" r="textAreaRight" b="textAreaBottom"/>
                <a:pathLst>
                  <a:path w="444" h="678">
                    <a:moveTo>
                      <a:pt x="375" y="678"/>
                    </a:moveTo>
                    <a:lnTo>
                      <a:pt x="347" y="643"/>
                    </a:lnTo>
                    <a:lnTo>
                      <a:pt x="309" y="606"/>
                    </a:lnTo>
                    <a:lnTo>
                      <a:pt x="260" y="566"/>
                    </a:lnTo>
                    <a:lnTo>
                      <a:pt x="208" y="527"/>
                    </a:lnTo>
                    <a:lnTo>
                      <a:pt x="151" y="491"/>
                    </a:lnTo>
                    <a:lnTo>
                      <a:pt x="98" y="459"/>
                    </a:lnTo>
                    <a:lnTo>
                      <a:pt x="50" y="436"/>
                    </a:lnTo>
                    <a:lnTo>
                      <a:pt x="11" y="422"/>
                    </a:lnTo>
                    <a:lnTo>
                      <a:pt x="0" y="365"/>
                    </a:lnTo>
                    <a:lnTo>
                      <a:pt x="2" y="311"/>
                    </a:lnTo>
                    <a:lnTo>
                      <a:pt x="7" y="257"/>
                    </a:lnTo>
                    <a:lnTo>
                      <a:pt x="17" y="205"/>
                    </a:lnTo>
                    <a:lnTo>
                      <a:pt x="24" y="151"/>
                    </a:lnTo>
                    <a:lnTo>
                      <a:pt x="28" y="101"/>
                    </a:lnTo>
                    <a:lnTo>
                      <a:pt x="24" y="50"/>
                    </a:lnTo>
                    <a:lnTo>
                      <a:pt x="9" y="3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51" y="76"/>
                    </a:lnTo>
                    <a:lnTo>
                      <a:pt x="90" y="152"/>
                    </a:lnTo>
                    <a:lnTo>
                      <a:pt x="132" y="226"/>
                    </a:lnTo>
                    <a:lnTo>
                      <a:pt x="179" y="299"/>
                    </a:lnTo>
                    <a:lnTo>
                      <a:pt x="227" y="368"/>
                    </a:lnTo>
                    <a:lnTo>
                      <a:pt x="280" y="438"/>
                    </a:lnTo>
                    <a:lnTo>
                      <a:pt x="335" y="503"/>
                    </a:lnTo>
                    <a:lnTo>
                      <a:pt x="396" y="570"/>
                    </a:lnTo>
                    <a:lnTo>
                      <a:pt x="401" y="577"/>
                    </a:lnTo>
                    <a:lnTo>
                      <a:pt x="408" y="585"/>
                    </a:lnTo>
                    <a:lnTo>
                      <a:pt x="414" y="592"/>
                    </a:lnTo>
                    <a:lnTo>
                      <a:pt x="419" y="599"/>
                    </a:lnTo>
                    <a:lnTo>
                      <a:pt x="423" y="604"/>
                    </a:lnTo>
                    <a:lnTo>
                      <a:pt x="430" y="610"/>
                    </a:lnTo>
                    <a:lnTo>
                      <a:pt x="436" y="617"/>
                    </a:lnTo>
                    <a:lnTo>
                      <a:pt x="444" y="626"/>
                    </a:lnTo>
                    <a:lnTo>
                      <a:pt x="437" y="631"/>
                    </a:lnTo>
                    <a:lnTo>
                      <a:pt x="430" y="639"/>
                    </a:lnTo>
                    <a:lnTo>
                      <a:pt x="419" y="647"/>
                    </a:lnTo>
                    <a:lnTo>
                      <a:pt x="410" y="657"/>
                    </a:lnTo>
                    <a:lnTo>
                      <a:pt x="399" y="664"/>
                    </a:lnTo>
                    <a:lnTo>
                      <a:pt x="389" y="671"/>
                    </a:lnTo>
                    <a:lnTo>
                      <a:pt x="381" y="675"/>
                    </a:lnTo>
                    <a:lnTo>
                      <a:pt x="375" y="678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6"/>
              <p:cNvSpPr/>
              <p:nvPr/>
            </p:nvSpPr>
            <p:spPr>
              <a:xfrm>
                <a:off x="7284960" y="3638160"/>
                <a:ext cx="191160" cy="29088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290880"/>
                  <a:gd name="textAreaBottom" fmla="*/ 291240 h 290880"/>
                </a:gdLst>
                <a:ahLst/>
                <a:rect l="textAreaLeft" t="textAreaTop" r="textAreaRight" b="textAreaBottom"/>
                <a:pathLst>
                  <a:path w="474" h="585">
                    <a:moveTo>
                      <a:pt x="469" y="585"/>
                    </a:moveTo>
                    <a:lnTo>
                      <a:pt x="423" y="542"/>
                    </a:lnTo>
                    <a:lnTo>
                      <a:pt x="370" y="507"/>
                    </a:lnTo>
                    <a:lnTo>
                      <a:pt x="314" y="478"/>
                    </a:lnTo>
                    <a:lnTo>
                      <a:pt x="256" y="454"/>
                    </a:lnTo>
                    <a:lnTo>
                      <a:pt x="196" y="427"/>
                    </a:lnTo>
                    <a:lnTo>
                      <a:pt x="141" y="397"/>
                    </a:lnTo>
                    <a:lnTo>
                      <a:pt x="90" y="361"/>
                    </a:lnTo>
                    <a:lnTo>
                      <a:pt x="47" y="315"/>
                    </a:lnTo>
                    <a:lnTo>
                      <a:pt x="25" y="279"/>
                    </a:lnTo>
                    <a:lnTo>
                      <a:pt x="11" y="257"/>
                    </a:lnTo>
                    <a:lnTo>
                      <a:pt x="2" y="243"/>
                    </a:lnTo>
                    <a:lnTo>
                      <a:pt x="0" y="234"/>
                    </a:lnTo>
                    <a:lnTo>
                      <a:pt x="0" y="224"/>
                    </a:lnTo>
                    <a:lnTo>
                      <a:pt x="5" y="216"/>
                    </a:lnTo>
                    <a:lnTo>
                      <a:pt x="15" y="201"/>
                    </a:lnTo>
                    <a:lnTo>
                      <a:pt x="29" y="178"/>
                    </a:lnTo>
                    <a:lnTo>
                      <a:pt x="33" y="134"/>
                    </a:lnTo>
                    <a:lnTo>
                      <a:pt x="37" y="107"/>
                    </a:lnTo>
                    <a:lnTo>
                      <a:pt x="41" y="90"/>
                    </a:lnTo>
                    <a:lnTo>
                      <a:pt x="50" y="82"/>
                    </a:lnTo>
                    <a:lnTo>
                      <a:pt x="61" y="76"/>
                    </a:lnTo>
                    <a:lnTo>
                      <a:pt x="79" y="73"/>
                    </a:lnTo>
                    <a:lnTo>
                      <a:pt x="105" y="66"/>
                    </a:lnTo>
                    <a:lnTo>
                      <a:pt x="139" y="55"/>
                    </a:lnTo>
                    <a:lnTo>
                      <a:pt x="144" y="47"/>
                    </a:lnTo>
                    <a:lnTo>
                      <a:pt x="149" y="42"/>
                    </a:lnTo>
                    <a:lnTo>
                      <a:pt x="153" y="36"/>
                    </a:lnTo>
                    <a:lnTo>
                      <a:pt x="157" y="32"/>
                    </a:lnTo>
                    <a:lnTo>
                      <a:pt x="160" y="25"/>
                    </a:lnTo>
                    <a:lnTo>
                      <a:pt x="164" y="19"/>
                    </a:lnTo>
                    <a:lnTo>
                      <a:pt x="170" y="10"/>
                    </a:lnTo>
                    <a:lnTo>
                      <a:pt x="178" y="0"/>
                    </a:lnTo>
                    <a:lnTo>
                      <a:pt x="181" y="0"/>
                    </a:lnTo>
                    <a:lnTo>
                      <a:pt x="188" y="3"/>
                    </a:lnTo>
                    <a:lnTo>
                      <a:pt x="195" y="6"/>
                    </a:lnTo>
                    <a:lnTo>
                      <a:pt x="204" y="10"/>
                    </a:lnTo>
                    <a:lnTo>
                      <a:pt x="213" y="13"/>
                    </a:lnTo>
                    <a:lnTo>
                      <a:pt x="222" y="17"/>
                    </a:lnTo>
                    <a:lnTo>
                      <a:pt x="231" y="19"/>
                    </a:lnTo>
                    <a:lnTo>
                      <a:pt x="239" y="24"/>
                    </a:lnTo>
                    <a:lnTo>
                      <a:pt x="249" y="24"/>
                    </a:lnTo>
                    <a:lnTo>
                      <a:pt x="260" y="24"/>
                    </a:lnTo>
                    <a:lnTo>
                      <a:pt x="271" y="24"/>
                    </a:lnTo>
                    <a:lnTo>
                      <a:pt x="282" y="24"/>
                    </a:lnTo>
                    <a:lnTo>
                      <a:pt x="292" y="24"/>
                    </a:lnTo>
                    <a:lnTo>
                      <a:pt x="304" y="24"/>
                    </a:lnTo>
                    <a:lnTo>
                      <a:pt x="314" y="25"/>
                    </a:lnTo>
                    <a:lnTo>
                      <a:pt x="326" y="26"/>
                    </a:lnTo>
                    <a:lnTo>
                      <a:pt x="373" y="84"/>
                    </a:lnTo>
                    <a:lnTo>
                      <a:pt x="410" y="148"/>
                    </a:lnTo>
                    <a:lnTo>
                      <a:pt x="437" y="213"/>
                    </a:lnTo>
                    <a:lnTo>
                      <a:pt x="456" y="283"/>
                    </a:lnTo>
                    <a:lnTo>
                      <a:pt x="467" y="354"/>
                    </a:lnTo>
                    <a:lnTo>
                      <a:pt x="473" y="429"/>
                    </a:lnTo>
                    <a:lnTo>
                      <a:pt x="474" y="505"/>
                    </a:lnTo>
                    <a:lnTo>
                      <a:pt x="471" y="585"/>
                    </a:lnTo>
                    <a:lnTo>
                      <a:pt x="470" y="585"/>
                    </a:lnTo>
                    <a:lnTo>
                      <a:pt x="469" y="585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7"/>
              <p:cNvSpPr/>
              <p:nvPr/>
            </p:nvSpPr>
            <p:spPr>
              <a:xfrm>
                <a:off x="7804080" y="3564720"/>
                <a:ext cx="287640" cy="34884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348840"/>
                  <a:gd name="textAreaBottom" fmla="*/ 348840 h 348840"/>
                </a:gdLst>
                <a:ahLst/>
                <a:rect l="textAreaLeft" t="textAreaTop" r="textAreaRight" b="textAreaBottom"/>
                <a:pathLst>
                  <a:path w="712" h="702">
                    <a:moveTo>
                      <a:pt x="148" y="702"/>
                    </a:moveTo>
                    <a:lnTo>
                      <a:pt x="134" y="698"/>
                    </a:lnTo>
                    <a:lnTo>
                      <a:pt x="123" y="695"/>
                    </a:lnTo>
                    <a:lnTo>
                      <a:pt x="113" y="691"/>
                    </a:lnTo>
                    <a:lnTo>
                      <a:pt x="105" y="688"/>
                    </a:lnTo>
                    <a:lnTo>
                      <a:pt x="96" y="683"/>
                    </a:lnTo>
                    <a:lnTo>
                      <a:pt x="88" y="679"/>
                    </a:lnTo>
                    <a:lnTo>
                      <a:pt x="80" y="674"/>
                    </a:lnTo>
                    <a:lnTo>
                      <a:pt x="73" y="670"/>
                    </a:lnTo>
                    <a:lnTo>
                      <a:pt x="73" y="654"/>
                    </a:lnTo>
                    <a:lnTo>
                      <a:pt x="73" y="641"/>
                    </a:lnTo>
                    <a:lnTo>
                      <a:pt x="73" y="629"/>
                    </a:lnTo>
                    <a:lnTo>
                      <a:pt x="76" y="616"/>
                    </a:lnTo>
                    <a:lnTo>
                      <a:pt x="76" y="604"/>
                    </a:lnTo>
                    <a:lnTo>
                      <a:pt x="78" y="591"/>
                    </a:lnTo>
                    <a:lnTo>
                      <a:pt x="83" y="579"/>
                    </a:lnTo>
                    <a:lnTo>
                      <a:pt x="87" y="568"/>
                    </a:lnTo>
                    <a:lnTo>
                      <a:pt x="128" y="488"/>
                    </a:lnTo>
                    <a:lnTo>
                      <a:pt x="182" y="405"/>
                    </a:lnTo>
                    <a:lnTo>
                      <a:pt x="247" y="325"/>
                    </a:lnTo>
                    <a:lnTo>
                      <a:pt x="323" y="254"/>
                    </a:lnTo>
                    <a:lnTo>
                      <a:pt x="405" y="193"/>
                    </a:lnTo>
                    <a:lnTo>
                      <a:pt x="493" y="152"/>
                    </a:lnTo>
                    <a:lnTo>
                      <a:pt x="585" y="131"/>
                    </a:lnTo>
                    <a:lnTo>
                      <a:pt x="680" y="141"/>
                    </a:lnTo>
                    <a:lnTo>
                      <a:pt x="667" y="123"/>
                    </a:lnTo>
                    <a:lnTo>
                      <a:pt x="647" y="113"/>
                    </a:lnTo>
                    <a:lnTo>
                      <a:pt x="619" y="109"/>
                    </a:lnTo>
                    <a:lnTo>
                      <a:pt x="589" y="110"/>
                    </a:lnTo>
                    <a:lnTo>
                      <a:pt x="557" y="113"/>
                    </a:lnTo>
                    <a:lnTo>
                      <a:pt x="528" y="120"/>
                    </a:lnTo>
                    <a:lnTo>
                      <a:pt x="504" y="126"/>
                    </a:lnTo>
                    <a:lnTo>
                      <a:pt x="489" y="130"/>
                    </a:lnTo>
                    <a:lnTo>
                      <a:pt x="416" y="166"/>
                    </a:lnTo>
                    <a:lnTo>
                      <a:pt x="347" y="211"/>
                    </a:lnTo>
                    <a:lnTo>
                      <a:pt x="279" y="264"/>
                    </a:lnTo>
                    <a:lnTo>
                      <a:pt x="218" y="326"/>
                    </a:lnTo>
                    <a:lnTo>
                      <a:pt x="161" y="391"/>
                    </a:lnTo>
                    <a:lnTo>
                      <a:pt x="114" y="462"/>
                    </a:lnTo>
                    <a:lnTo>
                      <a:pt x="77" y="536"/>
                    </a:lnTo>
                    <a:lnTo>
                      <a:pt x="52" y="615"/>
                    </a:lnTo>
                    <a:lnTo>
                      <a:pt x="8" y="535"/>
                    </a:lnTo>
                    <a:lnTo>
                      <a:pt x="0" y="453"/>
                    </a:lnTo>
                    <a:lnTo>
                      <a:pt x="20" y="369"/>
                    </a:lnTo>
                    <a:lnTo>
                      <a:pt x="65" y="289"/>
                    </a:lnTo>
                    <a:lnTo>
                      <a:pt x="123" y="211"/>
                    </a:lnTo>
                    <a:lnTo>
                      <a:pt x="189" y="144"/>
                    </a:lnTo>
                    <a:lnTo>
                      <a:pt x="258" y="86"/>
                    </a:lnTo>
                    <a:lnTo>
                      <a:pt x="323" y="45"/>
                    </a:lnTo>
                    <a:lnTo>
                      <a:pt x="381" y="23"/>
                    </a:lnTo>
                    <a:lnTo>
                      <a:pt x="448" y="8"/>
                    </a:lnTo>
                    <a:lnTo>
                      <a:pt x="514" y="0"/>
                    </a:lnTo>
                    <a:lnTo>
                      <a:pt x="578" y="5"/>
                    </a:lnTo>
                    <a:lnTo>
                      <a:pt x="633" y="23"/>
                    </a:lnTo>
                    <a:lnTo>
                      <a:pt x="676" y="58"/>
                    </a:lnTo>
                    <a:lnTo>
                      <a:pt x="703" y="113"/>
                    </a:lnTo>
                    <a:lnTo>
                      <a:pt x="712" y="191"/>
                    </a:lnTo>
                    <a:lnTo>
                      <a:pt x="676" y="256"/>
                    </a:lnTo>
                    <a:lnTo>
                      <a:pt x="636" y="319"/>
                    </a:lnTo>
                    <a:lnTo>
                      <a:pt x="587" y="380"/>
                    </a:lnTo>
                    <a:lnTo>
                      <a:pt x="536" y="438"/>
                    </a:lnTo>
                    <a:lnTo>
                      <a:pt x="479" y="492"/>
                    </a:lnTo>
                    <a:lnTo>
                      <a:pt x="423" y="543"/>
                    </a:lnTo>
                    <a:lnTo>
                      <a:pt x="363" y="590"/>
                    </a:lnTo>
                    <a:lnTo>
                      <a:pt x="305" y="636"/>
                    </a:lnTo>
                    <a:lnTo>
                      <a:pt x="287" y="643"/>
                    </a:lnTo>
                    <a:lnTo>
                      <a:pt x="268" y="654"/>
                    </a:lnTo>
                    <a:lnTo>
                      <a:pt x="247" y="665"/>
                    </a:lnTo>
                    <a:lnTo>
                      <a:pt x="226" y="676"/>
                    </a:lnTo>
                    <a:lnTo>
                      <a:pt x="204" y="684"/>
                    </a:lnTo>
                    <a:lnTo>
                      <a:pt x="183" y="694"/>
                    </a:lnTo>
                    <a:lnTo>
                      <a:pt x="163" y="699"/>
                    </a:lnTo>
                    <a:lnTo>
                      <a:pt x="148" y="702"/>
                    </a:lnTo>
                    <a:close/>
                  </a:path>
                </a:pathLst>
              </a:custGeom>
              <a:solidFill>
                <a:srgbClr val="b3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28"/>
              <p:cNvSpPr/>
              <p:nvPr/>
            </p:nvSpPr>
            <p:spPr>
              <a:xfrm>
                <a:off x="7890120" y="3681360"/>
                <a:ext cx="132840" cy="164160"/>
              </a:xfrm>
              <a:custGeom>
                <a:avLst/>
                <a:gdLst>
                  <a:gd name="textAreaLeft" fmla="*/ 0 w 132840"/>
                  <a:gd name="textAreaRight" fmla="*/ 132840 w 132840"/>
                  <a:gd name="textAreaTop" fmla="*/ 0 h 164160"/>
                  <a:gd name="textAreaBottom" fmla="*/ 164520 h 164160"/>
                </a:gdLst>
                <a:ahLst/>
                <a:rect l="textAreaLeft" t="textAreaTop" r="textAreaRight" b="textAreaBottom"/>
                <a:pathLst>
                  <a:path w="330" h="329">
                    <a:moveTo>
                      <a:pt x="51" y="329"/>
                    </a:moveTo>
                    <a:lnTo>
                      <a:pt x="5" y="299"/>
                    </a:lnTo>
                    <a:lnTo>
                      <a:pt x="0" y="243"/>
                    </a:lnTo>
                    <a:lnTo>
                      <a:pt x="24" y="172"/>
                    </a:lnTo>
                    <a:lnTo>
                      <a:pt x="74" y="101"/>
                    </a:lnTo>
                    <a:lnTo>
                      <a:pt x="135" y="39"/>
                    </a:lnTo>
                    <a:lnTo>
                      <a:pt x="204" y="2"/>
                    </a:lnTo>
                    <a:lnTo>
                      <a:pt x="272" y="0"/>
                    </a:lnTo>
                    <a:lnTo>
                      <a:pt x="330" y="50"/>
                    </a:lnTo>
                    <a:lnTo>
                      <a:pt x="322" y="93"/>
                    </a:lnTo>
                    <a:lnTo>
                      <a:pt x="301" y="140"/>
                    </a:lnTo>
                    <a:lnTo>
                      <a:pt x="271" y="185"/>
                    </a:lnTo>
                    <a:lnTo>
                      <a:pt x="232" y="230"/>
                    </a:lnTo>
                    <a:lnTo>
                      <a:pt x="188" y="267"/>
                    </a:lnTo>
                    <a:lnTo>
                      <a:pt x="141" y="299"/>
                    </a:lnTo>
                    <a:lnTo>
                      <a:pt x="94" y="320"/>
                    </a:lnTo>
                    <a:lnTo>
                      <a:pt x="51" y="3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29"/>
              <p:cNvSpPr/>
              <p:nvPr/>
            </p:nvSpPr>
            <p:spPr>
              <a:xfrm>
                <a:off x="7893720" y="3688920"/>
                <a:ext cx="119880" cy="149040"/>
              </a:xfrm>
              <a:custGeom>
                <a:avLst/>
                <a:gdLst>
                  <a:gd name="textAreaLeft" fmla="*/ 0 w 119880"/>
                  <a:gd name="textAreaRight" fmla="*/ 120240 w 119880"/>
                  <a:gd name="textAreaTop" fmla="*/ 0 h 149040"/>
                  <a:gd name="textAreaBottom" fmla="*/ 149400 h 149040"/>
                </a:gdLst>
                <a:ahLst/>
                <a:rect l="textAreaLeft" t="textAreaTop" r="textAreaRight" b="textAreaBottom"/>
                <a:pathLst>
                  <a:path w="295" h="301">
                    <a:moveTo>
                      <a:pt x="36" y="301"/>
                    </a:moveTo>
                    <a:lnTo>
                      <a:pt x="4" y="281"/>
                    </a:lnTo>
                    <a:lnTo>
                      <a:pt x="0" y="247"/>
                    </a:lnTo>
                    <a:lnTo>
                      <a:pt x="15" y="205"/>
                    </a:lnTo>
                    <a:lnTo>
                      <a:pt x="44" y="158"/>
                    </a:lnTo>
                    <a:lnTo>
                      <a:pt x="79" y="109"/>
                    </a:lnTo>
                    <a:lnTo>
                      <a:pt x="115" y="68"/>
                    </a:lnTo>
                    <a:lnTo>
                      <a:pt x="143" y="36"/>
                    </a:lnTo>
                    <a:lnTo>
                      <a:pt x="159" y="22"/>
                    </a:lnTo>
                    <a:lnTo>
                      <a:pt x="202" y="4"/>
                    </a:lnTo>
                    <a:lnTo>
                      <a:pt x="239" y="0"/>
                    </a:lnTo>
                    <a:lnTo>
                      <a:pt x="267" y="4"/>
                    </a:lnTo>
                    <a:lnTo>
                      <a:pt x="288" y="19"/>
                    </a:lnTo>
                    <a:lnTo>
                      <a:pt x="295" y="41"/>
                    </a:lnTo>
                    <a:lnTo>
                      <a:pt x="291" y="72"/>
                    </a:lnTo>
                    <a:lnTo>
                      <a:pt x="271" y="108"/>
                    </a:lnTo>
                    <a:lnTo>
                      <a:pt x="237" y="149"/>
                    </a:lnTo>
                    <a:lnTo>
                      <a:pt x="231" y="170"/>
                    </a:lnTo>
                    <a:lnTo>
                      <a:pt x="215" y="195"/>
                    </a:lnTo>
                    <a:lnTo>
                      <a:pt x="190" y="220"/>
                    </a:lnTo>
                    <a:lnTo>
                      <a:pt x="159" y="246"/>
                    </a:lnTo>
                    <a:lnTo>
                      <a:pt x="125" y="267"/>
                    </a:lnTo>
                    <a:lnTo>
                      <a:pt x="91" y="285"/>
                    </a:lnTo>
                    <a:lnTo>
                      <a:pt x="60" y="296"/>
                    </a:lnTo>
                    <a:lnTo>
                      <a:pt x="36" y="301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30"/>
              <p:cNvSpPr/>
              <p:nvPr/>
            </p:nvSpPr>
            <p:spPr>
              <a:xfrm>
                <a:off x="7140600" y="3531960"/>
                <a:ext cx="210600" cy="241560"/>
              </a:xfrm>
              <a:custGeom>
                <a:avLst/>
                <a:gdLst>
                  <a:gd name="textAreaLeft" fmla="*/ 0 w 210600"/>
                  <a:gd name="textAreaRight" fmla="*/ 210960 w 210600"/>
                  <a:gd name="textAreaTop" fmla="*/ 0 h 241560"/>
                  <a:gd name="textAreaBottom" fmla="*/ 241920 h 241560"/>
                </a:gdLst>
                <a:ahLst/>
                <a:rect l="textAreaLeft" t="textAreaTop" r="textAreaRight" b="textAreaBottom"/>
                <a:pathLst>
                  <a:path w="524" h="485">
                    <a:moveTo>
                      <a:pt x="217" y="485"/>
                    </a:moveTo>
                    <a:lnTo>
                      <a:pt x="171" y="466"/>
                    </a:lnTo>
                    <a:lnTo>
                      <a:pt x="138" y="442"/>
                    </a:lnTo>
                    <a:lnTo>
                      <a:pt x="113" y="415"/>
                    </a:lnTo>
                    <a:lnTo>
                      <a:pt x="98" y="384"/>
                    </a:lnTo>
                    <a:lnTo>
                      <a:pt x="87" y="348"/>
                    </a:lnTo>
                    <a:lnTo>
                      <a:pt x="82" y="311"/>
                    </a:lnTo>
                    <a:lnTo>
                      <a:pt x="80" y="271"/>
                    </a:lnTo>
                    <a:lnTo>
                      <a:pt x="80" y="229"/>
                    </a:lnTo>
                    <a:lnTo>
                      <a:pt x="83" y="227"/>
                    </a:lnTo>
                    <a:lnTo>
                      <a:pt x="94" y="224"/>
                    </a:lnTo>
                    <a:lnTo>
                      <a:pt x="108" y="218"/>
                    </a:lnTo>
                    <a:lnTo>
                      <a:pt x="127" y="214"/>
                    </a:lnTo>
                    <a:lnTo>
                      <a:pt x="145" y="207"/>
                    </a:lnTo>
                    <a:lnTo>
                      <a:pt x="163" y="203"/>
                    </a:lnTo>
                    <a:lnTo>
                      <a:pt x="177" y="198"/>
                    </a:lnTo>
                    <a:lnTo>
                      <a:pt x="188" y="195"/>
                    </a:lnTo>
                    <a:lnTo>
                      <a:pt x="189" y="193"/>
                    </a:lnTo>
                    <a:lnTo>
                      <a:pt x="191" y="192"/>
                    </a:lnTo>
                    <a:lnTo>
                      <a:pt x="182" y="191"/>
                    </a:lnTo>
                    <a:lnTo>
                      <a:pt x="171" y="191"/>
                    </a:lnTo>
                    <a:lnTo>
                      <a:pt x="155" y="192"/>
                    </a:lnTo>
                    <a:lnTo>
                      <a:pt x="140" y="195"/>
                    </a:lnTo>
                    <a:lnTo>
                      <a:pt x="122" y="196"/>
                    </a:lnTo>
                    <a:lnTo>
                      <a:pt x="106" y="199"/>
                    </a:lnTo>
                    <a:lnTo>
                      <a:pt x="94" y="200"/>
                    </a:lnTo>
                    <a:lnTo>
                      <a:pt x="87" y="203"/>
                    </a:lnTo>
                    <a:lnTo>
                      <a:pt x="40" y="185"/>
                    </a:lnTo>
                    <a:lnTo>
                      <a:pt x="12" y="159"/>
                    </a:lnTo>
                    <a:lnTo>
                      <a:pt x="0" y="126"/>
                    </a:lnTo>
                    <a:lnTo>
                      <a:pt x="3" y="91"/>
                    </a:lnTo>
                    <a:lnTo>
                      <a:pt x="17" y="56"/>
                    </a:lnTo>
                    <a:lnTo>
                      <a:pt x="41" y="27"/>
                    </a:lnTo>
                    <a:lnTo>
                      <a:pt x="75" y="7"/>
                    </a:lnTo>
                    <a:lnTo>
                      <a:pt x="116" y="0"/>
                    </a:lnTo>
                    <a:lnTo>
                      <a:pt x="129" y="15"/>
                    </a:lnTo>
                    <a:lnTo>
                      <a:pt x="145" y="33"/>
                    </a:lnTo>
                    <a:lnTo>
                      <a:pt x="162" y="52"/>
                    </a:lnTo>
                    <a:lnTo>
                      <a:pt x="180" y="72"/>
                    </a:lnTo>
                    <a:lnTo>
                      <a:pt x="198" y="88"/>
                    </a:lnTo>
                    <a:lnTo>
                      <a:pt x="218" y="106"/>
                    </a:lnTo>
                    <a:lnTo>
                      <a:pt x="239" y="121"/>
                    </a:lnTo>
                    <a:lnTo>
                      <a:pt x="261" y="134"/>
                    </a:lnTo>
                    <a:lnTo>
                      <a:pt x="282" y="127"/>
                    </a:lnTo>
                    <a:lnTo>
                      <a:pt x="307" y="131"/>
                    </a:lnTo>
                    <a:lnTo>
                      <a:pt x="333" y="139"/>
                    </a:lnTo>
                    <a:lnTo>
                      <a:pt x="364" y="149"/>
                    </a:lnTo>
                    <a:lnTo>
                      <a:pt x="394" y="153"/>
                    </a:lnTo>
                    <a:lnTo>
                      <a:pt x="426" y="148"/>
                    </a:lnTo>
                    <a:lnTo>
                      <a:pt x="456" y="127"/>
                    </a:lnTo>
                    <a:lnTo>
                      <a:pt x="488" y="87"/>
                    </a:lnTo>
                    <a:lnTo>
                      <a:pt x="492" y="84"/>
                    </a:lnTo>
                    <a:lnTo>
                      <a:pt x="499" y="84"/>
                    </a:lnTo>
                    <a:lnTo>
                      <a:pt x="512" y="99"/>
                    </a:lnTo>
                    <a:lnTo>
                      <a:pt x="520" y="120"/>
                    </a:lnTo>
                    <a:lnTo>
                      <a:pt x="524" y="141"/>
                    </a:lnTo>
                    <a:lnTo>
                      <a:pt x="524" y="163"/>
                    </a:lnTo>
                    <a:lnTo>
                      <a:pt x="520" y="185"/>
                    </a:lnTo>
                    <a:lnTo>
                      <a:pt x="513" y="207"/>
                    </a:lnTo>
                    <a:lnTo>
                      <a:pt x="501" y="227"/>
                    </a:lnTo>
                    <a:lnTo>
                      <a:pt x="488" y="247"/>
                    </a:lnTo>
                    <a:lnTo>
                      <a:pt x="477" y="250"/>
                    </a:lnTo>
                    <a:lnTo>
                      <a:pt x="467" y="253"/>
                    </a:lnTo>
                    <a:lnTo>
                      <a:pt x="456" y="256"/>
                    </a:lnTo>
                    <a:lnTo>
                      <a:pt x="447" y="260"/>
                    </a:lnTo>
                    <a:lnTo>
                      <a:pt x="434" y="262"/>
                    </a:lnTo>
                    <a:lnTo>
                      <a:pt x="424" y="265"/>
                    </a:lnTo>
                    <a:lnTo>
                      <a:pt x="416" y="269"/>
                    </a:lnTo>
                    <a:lnTo>
                      <a:pt x="409" y="274"/>
                    </a:lnTo>
                    <a:lnTo>
                      <a:pt x="409" y="257"/>
                    </a:lnTo>
                    <a:lnTo>
                      <a:pt x="412" y="243"/>
                    </a:lnTo>
                    <a:lnTo>
                      <a:pt x="415" y="231"/>
                    </a:lnTo>
                    <a:lnTo>
                      <a:pt x="420" y="220"/>
                    </a:lnTo>
                    <a:lnTo>
                      <a:pt x="424" y="207"/>
                    </a:lnTo>
                    <a:lnTo>
                      <a:pt x="429" y="196"/>
                    </a:lnTo>
                    <a:lnTo>
                      <a:pt x="431" y="184"/>
                    </a:lnTo>
                    <a:lnTo>
                      <a:pt x="436" y="171"/>
                    </a:lnTo>
                    <a:lnTo>
                      <a:pt x="401" y="193"/>
                    </a:lnTo>
                    <a:lnTo>
                      <a:pt x="382" y="233"/>
                    </a:lnTo>
                    <a:lnTo>
                      <a:pt x="369" y="285"/>
                    </a:lnTo>
                    <a:lnTo>
                      <a:pt x="361" y="340"/>
                    </a:lnTo>
                    <a:lnTo>
                      <a:pt x="346" y="394"/>
                    </a:lnTo>
                    <a:lnTo>
                      <a:pt x="322" y="439"/>
                    </a:lnTo>
                    <a:lnTo>
                      <a:pt x="281" y="473"/>
                    </a:lnTo>
                    <a:lnTo>
                      <a:pt x="217" y="48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31"/>
              <p:cNvSpPr/>
              <p:nvPr/>
            </p:nvSpPr>
            <p:spPr>
              <a:xfrm>
                <a:off x="7337880" y="3434760"/>
                <a:ext cx="101520" cy="207360"/>
              </a:xfrm>
              <a:custGeom>
                <a:avLst/>
                <a:gdLst>
                  <a:gd name="textAreaLeft" fmla="*/ 0 w 101520"/>
                  <a:gd name="textAreaRight" fmla="*/ 101880 w 101520"/>
                  <a:gd name="textAreaTop" fmla="*/ 0 h 207360"/>
                  <a:gd name="textAreaBottom" fmla="*/ 207720 h 207360"/>
                </a:gdLst>
                <a:ahLst/>
                <a:rect l="textAreaLeft" t="textAreaTop" r="textAreaRight" b="textAreaBottom"/>
                <a:pathLst>
                  <a:path w="250" h="415">
                    <a:moveTo>
                      <a:pt x="116" y="415"/>
                    </a:moveTo>
                    <a:lnTo>
                      <a:pt x="106" y="412"/>
                    </a:lnTo>
                    <a:lnTo>
                      <a:pt x="98" y="411"/>
                    </a:lnTo>
                    <a:lnTo>
                      <a:pt x="90" y="408"/>
                    </a:lnTo>
                    <a:lnTo>
                      <a:pt x="81" y="407"/>
                    </a:lnTo>
                    <a:lnTo>
                      <a:pt x="73" y="403"/>
                    </a:lnTo>
                    <a:lnTo>
                      <a:pt x="65" y="400"/>
                    </a:lnTo>
                    <a:lnTo>
                      <a:pt x="58" y="397"/>
                    </a:lnTo>
                    <a:lnTo>
                      <a:pt x="52" y="394"/>
                    </a:lnTo>
                    <a:lnTo>
                      <a:pt x="51" y="374"/>
                    </a:lnTo>
                    <a:lnTo>
                      <a:pt x="50" y="354"/>
                    </a:lnTo>
                    <a:lnTo>
                      <a:pt x="47" y="335"/>
                    </a:lnTo>
                    <a:lnTo>
                      <a:pt x="44" y="318"/>
                    </a:lnTo>
                    <a:lnTo>
                      <a:pt x="37" y="302"/>
                    </a:lnTo>
                    <a:lnTo>
                      <a:pt x="29" y="288"/>
                    </a:lnTo>
                    <a:lnTo>
                      <a:pt x="16" y="274"/>
                    </a:lnTo>
                    <a:lnTo>
                      <a:pt x="3" y="266"/>
                    </a:lnTo>
                    <a:lnTo>
                      <a:pt x="0" y="241"/>
                    </a:lnTo>
                    <a:lnTo>
                      <a:pt x="3" y="210"/>
                    </a:lnTo>
                    <a:lnTo>
                      <a:pt x="7" y="177"/>
                    </a:lnTo>
                    <a:lnTo>
                      <a:pt x="15" y="143"/>
                    </a:lnTo>
                    <a:lnTo>
                      <a:pt x="22" y="105"/>
                    </a:lnTo>
                    <a:lnTo>
                      <a:pt x="30" y="72"/>
                    </a:lnTo>
                    <a:lnTo>
                      <a:pt x="36" y="43"/>
                    </a:lnTo>
                    <a:lnTo>
                      <a:pt x="41" y="20"/>
                    </a:lnTo>
                    <a:lnTo>
                      <a:pt x="62" y="14"/>
                    </a:lnTo>
                    <a:lnTo>
                      <a:pt x="80" y="9"/>
                    </a:lnTo>
                    <a:lnTo>
                      <a:pt x="94" y="4"/>
                    </a:lnTo>
                    <a:lnTo>
                      <a:pt x="109" y="2"/>
                    </a:lnTo>
                    <a:lnTo>
                      <a:pt x="122" y="0"/>
                    </a:lnTo>
                    <a:lnTo>
                      <a:pt x="140" y="4"/>
                    </a:lnTo>
                    <a:lnTo>
                      <a:pt x="160" y="13"/>
                    </a:lnTo>
                    <a:lnTo>
                      <a:pt x="189" y="28"/>
                    </a:lnTo>
                    <a:lnTo>
                      <a:pt x="202" y="56"/>
                    </a:lnTo>
                    <a:lnTo>
                      <a:pt x="202" y="85"/>
                    </a:lnTo>
                    <a:lnTo>
                      <a:pt x="192" y="114"/>
                    </a:lnTo>
                    <a:lnTo>
                      <a:pt x="178" y="144"/>
                    </a:lnTo>
                    <a:lnTo>
                      <a:pt x="164" y="172"/>
                    </a:lnTo>
                    <a:lnTo>
                      <a:pt x="156" y="201"/>
                    </a:lnTo>
                    <a:lnTo>
                      <a:pt x="159" y="228"/>
                    </a:lnTo>
                    <a:lnTo>
                      <a:pt x="177" y="255"/>
                    </a:lnTo>
                    <a:lnTo>
                      <a:pt x="202" y="264"/>
                    </a:lnTo>
                    <a:lnTo>
                      <a:pt x="223" y="280"/>
                    </a:lnTo>
                    <a:lnTo>
                      <a:pt x="238" y="297"/>
                    </a:lnTo>
                    <a:lnTo>
                      <a:pt x="249" y="321"/>
                    </a:lnTo>
                    <a:lnTo>
                      <a:pt x="250" y="343"/>
                    </a:lnTo>
                    <a:lnTo>
                      <a:pt x="245" y="367"/>
                    </a:lnTo>
                    <a:lnTo>
                      <a:pt x="231" y="389"/>
                    </a:lnTo>
                    <a:lnTo>
                      <a:pt x="210" y="411"/>
                    </a:lnTo>
                    <a:lnTo>
                      <a:pt x="202" y="411"/>
                    </a:lnTo>
                    <a:lnTo>
                      <a:pt x="196" y="412"/>
                    </a:lnTo>
                    <a:lnTo>
                      <a:pt x="189" y="412"/>
                    </a:lnTo>
                    <a:lnTo>
                      <a:pt x="182" y="414"/>
                    </a:lnTo>
                    <a:lnTo>
                      <a:pt x="171" y="414"/>
                    </a:lnTo>
                    <a:lnTo>
                      <a:pt x="158" y="414"/>
                    </a:lnTo>
                    <a:lnTo>
                      <a:pt x="138" y="414"/>
                    </a:lnTo>
                    <a:lnTo>
                      <a:pt x="116" y="415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32"/>
              <p:cNvSpPr/>
              <p:nvPr/>
            </p:nvSpPr>
            <p:spPr>
              <a:xfrm>
                <a:off x="7080120" y="2980800"/>
                <a:ext cx="378720" cy="619200"/>
              </a:xfrm>
              <a:custGeom>
                <a:avLst/>
                <a:gdLst>
                  <a:gd name="textAreaLeft" fmla="*/ 0 w 378720"/>
                  <a:gd name="textAreaRight" fmla="*/ 379080 w 378720"/>
                  <a:gd name="textAreaTop" fmla="*/ 0 h 619200"/>
                  <a:gd name="textAreaBottom" fmla="*/ 619560 h 619200"/>
                </a:gdLst>
                <a:ahLst/>
                <a:rect l="textAreaLeft" t="textAreaTop" r="textAreaRight" b="textAreaBottom"/>
                <a:pathLst>
                  <a:path w="940" h="1245">
                    <a:moveTo>
                      <a:pt x="540" y="1245"/>
                    </a:moveTo>
                    <a:lnTo>
                      <a:pt x="475" y="1223"/>
                    </a:lnTo>
                    <a:lnTo>
                      <a:pt x="421" y="1185"/>
                    </a:lnTo>
                    <a:lnTo>
                      <a:pt x="377" y="1132"/>
                    </a:lnTo>
                    <a:lnTo>
                      <a:pt x="341" y="1071"/>
                    </a:lnTo>
                    <a:lnTo>
                      <a:pt x="311" y="1004"/>
                    </a:lnTo>
                    <a:lnTo>
                      <a:pt x="289" y="936"/>
                    </a:lnTo>
                    <a:lnTo>
                      <a:pt x="272" y="869"/>
                    </a:lnTo>
                    <a:lnTo>
                      <a:pt x="262" y="811"/>
                    </a:lnTo>
                    <a:lnTo>
                      <a:pt x="257" y="799"/>
                    </a:lnTo>
                    <a:lnTo>
                      <a:pt x="254" y="792"/>
                    </a:lnTo>
                    <a:lnTo>
                      <a:pt x="250" y="786"/>
                    </a:lnTo>
                    <a:lnTo>
                      <a:pt x="244" y="782"/>
                    </a:lnTo>
                    <a:lnTo>
                      <a:pt x="242" y="822"/>
                    </a:lnTo>
                    <a:lnTo>
                      <a:pt x="249" y="868"/>
                    </a:lnTo>
                    <a:lnTo>
                      <a:pt x="260" y="916"/>
                    </a:lnTo>
                    <a:lnTo>
                      <a:pt x="276" y="966"/>
                    </a:lnTo>
                    <a:lnTo>
                      <a:pt x="294" y="1015"/>
                    </a:lnTo>
                    <a:lnTo>
                      <a:pt x="316" y="1062"/>
                    </a:lnTo>
                    <a:lnTo>
                      <a:pt x="338" y="1106"/>
                    </a:lnTo>
                    <a:lnTo>
                      <a:pt x="361" y="1146"/>
                    </a:lnTo>
                    <a:lnTo>
                      <a:pt x="372" y="1158"/>
                    </a:lnTo>
                    <a:lnTo>
                      <a:pt x="381" y="1169"/>
                    </a:lnTo>
                    <a:lnTo>
                      <a:pt x="387" y="1176"/>
                    </a:lnTo>
                    <a:lnTo>
                      <a:pt x="392" y="1183"/>
                    </a:lnTo>
                    <a:lnTo>
                      <a:pt x="398" y="1189"/>
                    </a:lnTo>
                    <a:lnTo>
                      <a:pt x="401" y="1196"/>
                    </a:lnTo>
                    <a:lnTo>
                      <a:pt x="396" y="1197"/>
                    </a:lnTo>
                    <a:lnTo>
                      <a:pt x="395" y="1201"/>
                    </a:lnTo>
                    <a:lnTo>
                      <a:pt x="323" y="1142"/>
                    </a:lnTo>
                    <a:lnTo>
                      <a:pt x="268" y="1078"/>
                    </a:lnTo>
                    <a:lnTo>
                      <a:pt x="224" y="1008"/>
                    </a:lnTo>
                    <a:lnTo>
                      <a:pt x="192" y="934"/>
                    </a:lnTo>
                    <a:lnTo>
                      <a:pt x="166" y="856"/>
                    </a:lnTo>
                    <a:lnTo>
                      <a:pt x="143" y="777"/>
                    </a:lnTo>
                    <a:lnTo>
                      <a:pt x="124" y="694"/>
                    </a:lnTo>
                    <a:lnTo>
                      <a:pt x="105" y="611"/>
                    </a:lnTo>
                    <a:lnTo>
                      <a:pt x="103" y="597"/>
                    </a:lnTo>
                    <a:lnTo>
                      <a:pt x="103" y="589"/>
                    </a:lnTo>
                    <a:lnTo>
                      <a:pt x="105" y="583"/>
                    </a:lnTo>
                    <a:lnTo>
                      <a:pt x="107" y="580"/>
                    </a:lnTo>
                    <a:lnTo>
                      <a:pt x="109" y="575"/>
                    </a:lnTo>
                    <a:lnTo>
                      <a:pt x="112" y="571"/>
                    </a:lnTo>
                    <a:lnTo>
                      <a:pt x="114" y="565"/>
                    </a:lnTo>
                    <a:lnTo>
                      <a:pt x="119" y="558"/>
                    </a:lnTo>
                    <a:lnTo>
                      <a:pt x="113" y="558"/>
                    </a:lnTo>
                    <a:lnTo>
                      <a:pt x="107" y="558"/>
                    </a:lnTo>
                    <a:lnTo>
                      <a:pt x="74" y="571"/>
                    </a:lnTo>
                    <a:lnTo>
                      <a:pt x="51" y="568"/>
                    </a:lnTo>
                    <a:lnTo>
                      <a:pt x="31" y="551"/>
                    </a:lnTo>
                    <a:lnTo>
                      <a:pt x="18" y="528"/>
                    </a:lnTo>
                    <a:lnTo>
                      <a:pt x="8" y="498"/>
                    </a:lnTo>
                    <a:lnTo>
                      <a:pt x="2" y="467"/>
                    </a:lnTo>
                    <a:lnTo>
                      <a:pt x="0" y="438"/>
                    </a:lnTo>
                    <a:lnTo>
                      <a:pt x="0" y="416"/>
                    </a:lnTo>
                    <a:lnTo>
                      <a:pt x="26" y="392"/>
                    </a:lnTo>
                    <a:lnTo>
                      <a:pt x="47" y="383"/>
                    </a:lnTo>
                    <a:lnTo>
                      <a:pt x="62" y="381"/>
                    </a:lnTo>
                    <a:lnTo>
                      <a:pt x="74" y="390"/>
                    </a:lnTo>
                    <a:lnTo>
                      <a:pt x="81" y="405"/>
                    </a:lnTo>
                    <a:lnTo>
                      <a:pt x="88" y="427"/>
                    </a:lnTo>
                    <a:lnTo>
                      <a:pt x="92" y="455"/>
                    </a:lnTo>
                    <a:lnTo>
                      <a:pt x="99" y="486"/>
                    </a:lnTo>
                    <a:lnTo>
                      <a:pt x="95" y="491"/>
                    </a:lnTo>
                    <a:lnTo>
                      <a:pt x="91" y="495"/>
                    </a:lnTo>
                    <a:lnTo>
                      <a:pt x="96" y="495"/>
                    </a:lnTo>
                    <a:lnTo>
                      <a:pt x="103" y="495"/>
                    </a:lnTo>
                    <a:lnTo>
                      <a:pt x="110" y="495"/>
                    </a:lnTo>
                    <a:lnTo>
                      <a:pt x="119" y="495"/>
                    </a:lnTo>
                    <a:lnTo>
                      <a:pt x="120" y="478"/>
                    </a:lnTo>
                    <a:lnTo>
                      <a:pt x="124" y="463"/>
                    </a:lnTo>
                    <a:lnTo>
                      <a:pt x="128" y="448"/>
                    </a:lnTo>
                    <a:lnTo>
                      <a:pt x="134" y="435"/>
                    </a:lnTo>
                    <a:lnTo>
                      <a:pt x="138" y="420"/>
                    </a:lnTo>
                    <a:lnTo>
                      <a:pt x="143" y="406"/>
                    </a:lnTo>
                    <a:lnTo>
                      <a:pt x="148" y="392"/>
                    </a:lnTo>
                    <a:lnTo>
                      <a:pt x="152" y="379"/>
                    </a:lnTo>
                    <a:lnTo>
                      <a:pt x="146" y="316"/>
                    </a:lnTo>
                    <a:lnTo>
                      <a:pt x="141" y="269"/>
                    </a:lnTo>
                    <a:lnTo>
                      <a:pt x="136" y="232"/>
                    </a:lnTo>
                    <a:lnTo>
                      <a:pt x="138" y="202"/>
                    </a:lnTo>
                    <a:lnTo>
                      <a:pt x="145" y="171"/>
                    </a:lnTo>
                    <a:lnTo>
                      <a:pt x="166" y="139"/>
                    </a:lnTo>
                    <a:lnTo>
                      <a:pt x="199" y="99"/>
                    </a:lnTo>
                    <a:lnTo>
                      <a:pt x="250" y="47"/>
                    </a:lnTo>
                    <a:lnTo>
                      <a:pt x="255" y="37"/>
                    </a:lnTo>
                    <a:lnTo>
                      <a:pt x="261" y="30"/>
                    </a:lnTo>
                    <a:lnTo>
                      <a:pt x="265" y="25"/>
                    </a:lnTo>
                    <a:lnTo>
                      <a:pt x="269" y="21"/>
                    </a:lnTo>
                    <a:lnTo>
                      <a:pt x="276" y="11"/>
                    </a:lnTo>
                    <a:lnTo>
                      <a:pt x="289" y="0"/>
                    </a:lnTo>
                    <a:lnTo>
                      <a:pt x="290" y="0"/>
                    </a:lnTo>
                    <a:lnTo>
                      <a:pt x="291" y="0"/>
                    </a:lnTo>
                    <a:lnTo>
                      <a:pt x="287" y="18"/>
                    </a:lnTo>
                    <a:lnTo>
                      <a:pt x="280" y="43"/>
                    </a:lnTo>
                    <a:lnTo>
                      <a:pt x="269" y="70"/>
                    </a:lnTo>
                    <a:lnTo>
                      <a:pt x="258" y="102"/>
                    </a:lnTo>
                    <a:lnTo>
                      <a:pt x="243" y="130"/>
                    </a:lnTo>
                    <a:lnTo>
                      <a:pt x="228" y="156"/>
                    </a:lnTo>
                    <a:lnTo>
                      <a:pt x="213" y="175"/>
                    </a:lnTo>
                    <a:lnTo>
                      <a:pt x="197" y="189"/>
                    </a:lnTo>
                    <a:lnTo>
                      <a:pt x="211" y="186"/>
                    </a:lnTo>
                    <a:lnTo>
                      <a:pt x="225" y="180"/>
                    </a:lnTo>
                    <a:lnTo>
                      <a:pt x="235" y="170"/>
                    </a:lnTo>
                    <a:lnTo>
                      <a:pt x="244" y="160"/>
                    </a:lnTo>
                    <a:lnTo>
                      <a:pt x="251" y="148"/>
                    </a:lnTo>
                    <a:lnTo>
                      <a:pt x="260" y="138"/>
                    </a:lnTo>
                    <a:lnTo>
                      <a:pt x="268" y="130"/>
                    </a:lnTo>
                    <a:lnTo>
                      <a:pt x="279" y="126"/>
                    </a:lnTo>
                    <a:lnTo>
                      <a:pt x="275" y="151"/>
                    </a:lnTo>
                    <a:lnTo>
                      <a:pt x="272" y="181"/>
                    </a:lnTo>
                    <a:lnTo>
                      <a:pt x="266" y="214"/>
                    </a:lnTo>
                    <a:lnTo>
                      <a:pt x="261" y="250"/>
                    </a:lnTo>
                    <a:lnTo>
                      <a:pt x="251" y="282"/>
                    </a:lnTo>
                    <a:lnTo>
                      <a:pt x="242" y="315"/>
                    </a:lnTo>
                    <a:lnTo>
                      <a:pt x="229" y="341"/>
                    </a:lnTo>
                    <a:lnTo>
                      <a:pt x="213" y="363"/>
                    </a:lnTo>
                    <a:lnTo>
                      <a:pt x="218" y="362"/>
                    </a:lnTo>
                    <a:lnTo>
                      <a:pt x="228" y="359"/>
                    </a:lnTo>
                    <a:lnTo>
                      <a:pt x="236" y="354"/>
                    </a:lnTo>
                    <a:lnTo>
                      <a:pt x="247" y="348"/>
                    </a:lnTo>
                    <a:lnTo>
                      <a:pt x="257" y="340"/>
                    </a:lnTo>
                    <a:lnTo>
                      <a:pt x="266" y="333"/>
                    </a:lnTo>
                    <a:lnTo>
                      <a:pt x="275" y="328"/>
                    </a:lnTo>
                    <a:lnTo>
                      <a:pt x="284" y="323"/>
                    </a:lnTo>
                    <a:lnTo>
                      <a:pt x="298" y="323"/>
                    </a:lnTo>
                    <a:lnTo>
                      <a:pt x="314" y="325"/>
                    </a:lnTo>
                    <a:lnTo>
                      <a:pt x="327" y="326"/>
                    </a:lnTo>
                    <a:lnTo>
                      <a:pt x="344" y="329"/>
                    </a:lnTo>
                    <a:lnTo>
                      <a:pt x="358" y="329"/>
                    </a:lnTo>
                    <a:lnTo>
                      <a:pt x="374" y="329"/>
                    </a:lnTo>
                    <a:lnTo>
                      <a:pt x="391" y="326"/>
                    </a:lnTo>
                    <a:lnTo>
                      <a:pt x="408" y="323"/>
                    </a:lnTo>
                    <a:lnTo>
                      <a:pt x="435" y="283"/>
                    </a:lnTo>
                    <a:lnTo>
                      <a:pt x="461" y="257"/>
                    </a:lnTo>
                    <a:lnTo>
                      <a:pt x="484" y="240"/>
                    </a:lnTo>
                    <a:lnTo>
                      <a:pt x="508" y="232"/>
                    </a:lnTo>
                    <a:lnTo>
                      <a:pt x="532" y="225"/>
                    </a:lnTo>
                    <a:lnTo>
                      <a:pt x="561" y="218"/>
                    </a:lnTo>
                    <a:lnTo>
                      <a:pt x="594" y="209"/>
                    </a:lnTo>
                    <a:lnTo>
                      <a:pt x="634" y="192"/>
                    </a:lnTo>
                    <a:lnTo>
                      <a:pt x="662" y="170"/>
                    </a:lnTo>
                    <a:lnTo>
                      <a:pt x="698" y="144"/>
                    </a:lnTo>
                    <a:lnTo>
                      <a:pt x="737" y="115"/>
                    </a:lnTo>
                    <a:lnTo>
                      <a:pt x="780" y="87"/>
                    </a:lnTo>
                    <a:lnTo>
                      <a:pt x="821" y="59"/>
                    </a:lnTo>
                    <a:lnTo>
                      <a:pt x="864" y="37"/>
                    </a:lnTo>
                    <a:lnTo>
                      <a:pt x="903" y="21"/>
                    </a:lnTo>
                    <a:lnTo>
                      <a:pt x="937" y="12"/>
                    </a:lnTo>
                    <a:lnTo>
                      <a:pt x="936" y="16"/>
                    </a:lnTo>
                    <a:lnTo>
                      <a:pt x="937" y="25"/>
                    </a:lnTo>
                    <a:lnTo>
                      <a:pt x="937" y="29"/>
                    </a:lnTo>
                    <a:lnTo>
                      <a:pt x="939" y="36"/>
                    </a:lnTo>
                    <a:lnTo>
                      <a:pt x="939" y="44"/>
                    </a:lnTo>
                    <a:lnTo>
                      <a:pt x="940" y="52"/>
                    </a:lnTo>
                    <a:lnTo>
                      <a:pt x="912" y="90"/>
                    </a:lnTo>
                    <a:lnTo>
                      <a:pt x="880" y="131"/>
                    </a:lnTo>
                    <a:lnTo>
                      <a:pt x="842" y="174"/>
                    </a:lnTo>
                    <a:lnTo>
                      <a:pt x="802" y="217"/>
                    </a:lnTo>
                    <a:lnTo>
                      <a:pt x="757" y="256"/>
                    </a:lnTo>
                    <a:lnTo>
                      <a:pt x="715" y="292"/>
                    </a:lnTo>
                    <a:lnTo>
                      <a:pt x="673" y="319"/>
                    </a:lnTo>
                    <a:lnTo>
                      <a:pt x="637" y="339"/>
                    </a:lnTo>
                    <a:lnTo>
                      <a:pt x="655" y="336"/>
                    </a:lnTo>
                    <a:lnTo>
                      <a:pt x="669" y="330"/>
                    </a:lnTo>
                    <a:lnTo>
                      <a:pt x="679" y="323"/>
                    </a:lnTo>
                    <a:lnTo>
                      <a:pt x="688" y="319"/>
                    </a:lnTo>
                    <a:lnTo>
                      <a:pt x="694" y="316"/>
                    </a:lnTo>
                    <a:lnTo>
                      <a:pt x="702" y="319"/>
                    </a:lnTo>
                    <a:lnTo>
                      <a:pt x="710" y="329"/>
                    </a:lnTo>
                    <a:lnTo>
                      <a:pt x="724" y="350"/>
                    </a:lnTo>
                    <a:lnTo>
                      <a:pt x="742" y="369"/>
                    </a:lnTo>
                    <a:lnTo>
                      <a:pt x="757" y="388"/>
                    </a:lnTo>
                    <a:lnTo>
                      <a:pt x="767" y="405"/>
                    </a:lnTo>
                    <a:lnTo>
                      <a:pt x="775" y="424"/>
                    </a:lnTo>
                    <a:lnTo>
                      <a:pt x="777" y="442"/>
                    </a:lnTo>
                    <a:lnTo>
                      <a:pt x="777" y="466"/>
                    </a:lnTo>
                    <a:lnTo>
                      <a:pt x="773" y="492"/>
                    </a:lnTo>
                    <a:lnTo>
                      <a:pt x="768" y="524"/>
                    </a:lnTo>
                    <a:lnTo>
                      <a:pt x="742" y="611"/>
                    </a:lnTo>
                    <a:lnTo>
                      <a:pt x="724" y="679"/>
                    </a:lnTo>
                    <a:lnTo>
                      <a:pt x="709" y="731"/>
                    </a:lnTo>
                    <a:lnTo>
                      <a:pt x="699" y="773"/>
                    </a:lnTo>
                    <a:lnTo>
                      <a:pt x="688" y="807"/>
                    </a:lnTo>
                    <a:lnTo>
                      <a:pt x="680" y="843"/>
                    </a:lnTo>
                    <a:lnTo>
                      <a:pt x="669" y="883"/>
                    </a:lnTo>
                    <a:lnTo>
                      <a:pt x="658" y="932"/>
                    </a:lnTo>
                    <a:lnTo>
                      <a:pt x="652" y="962"/>
                    </a:lnTo>
                    <a:lnTo>
                      <a:pt x="647" y="994"/>
                    </a:lnTo>
                    <a:lnTo>
                      <a:pt x="643" y="1026"/>
                    </a:lnTo>
                    <a:lnTo>
                      <a:pt x="638" y="1059"/>
                    </a:lnTo>
                    <a:lnTo>
                      <a:pt x="633" y="1091"/>
                    </a:lnTo>
                    <a:lnTo>
                      <a:pt x="627" y="1122"/>
                    </a:lnTo>
                    <a:lnTo>
                      <a:pt x="623" y="1154"/>
                    </a:lnTo>
                    <a:lnTo>
                      <a:pt x="619" y="1187"/>
                    </a:lnTo>
                    <a:lnTo>
                      <a:pt x="612" y="1197"/>
                    </a:lnTo>
                    <a:lnTo>
                      <a:pt x="605" y="1208"/>
                    </a:lnTo>
                    <a:lnTo>
                      <a:pt x="596" y="1216"/>
                    </a:lnTo>
                    <a:lnTo>
                      <a:pt x="586" y="1226"/>
                    </a:lnTo>
                    <a:lnTo>
                      <a:pt x="573" y="1233"/>
                    </a:lnTo>
                    <a:lnTo>
                      <a:pt x="562" y="1240"/>
                    </a:lnTo>
                    <a:lnTo>
                      <a:pt x="551" y="1243"/>
                    </a:lnTo>
                    <a:lnTo>
                      <a:pt x="540" y="1245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33"/>
              <p:cNvSpPr/>
              <p:nvPr/>
            </p:nvSpPr>
            <p:spPr>
              <a:xfrm>
                <a:off x="7508880" y="3529080"/>
                <a:ext cx="47160" cy="45720"/>
              </a:xfrm>
              <a:custGeom>
                <a:avLst/>
                <a:gdLst>
                  <a:gd name="textAreaLeft" fmla="*/ 0 w 47160"/>
                  <a:gd name="textAreaRight" fmla="*/ 47520 w 4716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116" h="93">
                    <a:moveTo>
                      <a:pt x="110" y="93"/>
                    </a:moveTo>
                    <a:lnTo>
                      <a:pt x="85" y="82"/>
                    </a:lnTo>
                    <a:lnTo>
                      <a:pt x="65" y="76"/>
                    </a:lnTo>
                    <a:lnTo>
                      <a:pt x="45" y="72"/>
                    </a:lnTo>
                    <a:lnTo>
                      <a:pt x="30" y="69"/>
                    </a:lnTo>
                    <a:lnTo>
                      <a:pt x="15" y="64"/>
                    </a:lnTo>
                    <a:lnTo>
                      <a:pt x="7" y="54"/>
                    </a:lnTo>
                    <a:lnTo>
                      <a:pt x="0" y="39"/>
                    </a:lnTo>
                    <a:lnTo>
                      <a:pt x="0" y="17"/>
                    </a:lnTo>
                    <a:lnTo>
                      <a:pt x="7" y="17"/>
                    </a:lnTo>
                    <a:lnTo>
                      <a:pt x="13" y="20"/>
                    </a:lnTo>
                    <a:lnTo>
                      <a:pt x="16" y="11"/>
                    </a:lnTo>
                    <a:lnTo>
                      <a:pt x="19" y="6"/>
                    </a:lnTo>
                    <a:lnTo>
                      <a:pt x="22" y="0"/>
                    </a:lnTo>
                    <a:lnTo>
                      <a:pt x="31" y="0"/>
                    </a:lnTo>
                    <a:lnTo>
                      <a:pt x="43" y="9"/>
                    </a:lnTo>
                    <a:lnTo>
                      <a:pt x="55" y="18"/>
                    </a:lnTo>
                    <a:lnTo>
                      <a:pt x="65" y="28"/>
                    </a:lnTo>
                    <a:lnTo>
                      <a:pt x="76" y="39"/>
                    </a:lnTo>
                    <a:lnTo>
                      <a:pt x="85" y="49"/>
                    </a:lnTo>
                    <a:lnTo>
                      <a:pt x="95" y="61"/>
                    </a:lnTo>
                    <a:lnTo>
                      <a:pt x="105" y="74"/>
                    </a:lnTo>
                    <a:lnTo>
                      <a:pt x="116" y="90"/>
                    </a:lnTo>
                    <a:lnTo>
                      <a:pt x="113" y="92"/>
                    </a:lnTo>
                    <a:lnTo>
                      <a:pt x="110" y="93"/>
                    </a:lnTo>
                    <a:close/>
                  </a:path>
                </a:pathLst>
              </a:custGeom>
              <a:solidFill>
                <a:srgbClr val="66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34"/>
              <p:cNvSpPr/>
              <p:nvPr/>
            </p:nvSpPr>
            <p:spPr>
              <a:xfrm>
                <a:off x="7230600" y="3184200"/>
                <a:ext cx="136440" cy="37440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374400"/>
                  <a:gd name="textAreaBottom" fmla="*/ 374760 h 374400"/>
                </a:gdLst>
                <a:ahLst/>
                <a:rect l="textAreaLeft" t="textAreaTop" r="textAreaRight" b="textAreaBottom"/>
                <a:pathLst>
                  <a:path w="337" h="755">
                    <a:moveTo>
                      <a:pt x="151" y="755"/>
                    </a:moveTo>
                    <a:lnTo>
                      <a:pt x="147" y="748"/>
                    </a:lnTo>
                    <a:lnTo>
                      <a:pt x="142" y="745"/>
                    </a:lnTo>
                    <a:lnTo>
                      <a:pt x="65" y="692"/>
                    </a:lnTo>
                    <a:lnTo>
                      <a:pt x="21" y="625"/>
                    </a:lnTo>
                    <a:lnTo>
                      <a:pt x="0" y="548"/>
                    </a:lnTo>
                    <a:lnTo>
                      <a:pt x="3" y="465"/>
                    </a:lnTo>
                    <a:lnTo>
                      <a:pt x="19" y="376"/>
                    </a:lnTo>
                    <a:lnTo>
                      <a:pt x="47" y="292"/>
                    </a:lnTo>
                    <a:lnTo>
                      <a:pt x="82" y="210"/>
                    </a:lnTo>
                    <a:lnTo>
                      <a:pt x="116" y="139"/>
                    </a:lnTo>
                    <a:lnTo>
                      <a:pt x="133" y="114"/>
                    </a:lnTo>
                    <a:lnTo>
                      <a:pt x="158" y="85"/>
                    </a:lnTo>
                    <a:lnTo>
                      <a:pt x="185" y="54"/>
                    </a:lnTo>
                    <a:lnTo>
                      <a:pt x="218" y="28"/>
                    </a:lnTo>
                    <a:lnTo>
                      <a:pt x="250" y="7"/>
                    </a:lnTo>
                    <a:lnTo>
                      <a:pt x="282" y="0"/>
                    </a:lnTo>
                    <a:lnTo>
                      <a:pt x="311" y="9"/>
                    </a:lnTo>
                    <a:lnTo>
                      <a:pt x="336" y="39"/>
                    </a:lnTo>
                    <a:lnTo>
                      <a:pt x="337" y="107"/>
                    </a:lnTo>
                    <a:lnTo>
                      <a:pt x="330" y="177"/>
                    </a:lnTo>
                    <a:lnTo>
                      <a:pt x="315" y="251"/>
                    </a:lnTo>
                    <a:lnTo>
                      <a:pt x="297" y="325"/>
                    </a:lnTo>
                    <a:lnTo>
                      <a:pt x="277" y="400"/>
                    </a:lnTo>
                    <a:lnTo>
                      <a:pt x="259" y="474"/>
                    </a:lnTo>
                    <a:lnTo>
                      <a:pt x="245" y="551"/>
                    </a:lnTo>
                    <a:lnTo>
                      <a:pt x="241" y="627"/>
                    </a:lnTo>
                    <a:lnTo>
                      <a:pt x="235" y="661"/>
                    </a:lnTo>
                    <a:lnTo>
                      <a:pt x="232" y="687"/>
                    </a:lnTo>
                    <a:lnTo>
                      <a:pt x="228" y="705"/>
                    </a:lnTo>
                    <a:lnTo>
                      <a:pt x="224" y="719"/>
                    </a:lnTo>
                    <a:lnTo>
                      <a:pt x="213" y="727"/>
                    </a:lnTo>
                    <a:lnTo>
                      <a:pt x="199" y="734"/>
                    </a:lnTo>
                    <a:lnTo>
                      <a:pt x="178" y="743"/>
                    </a:lnTo>
                    <a:lnTo>
                      <a:pt x="151" y="7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35"/>
              <p:cNvSpPr/>
              <p:nvPr/>
            </p:nvSpPr>
            <p:spPr>
              <a:xfrm>
                <a:off x="7242480" y="3408120"/>
                <a:ext cx="80640" cy="14148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202" h="285">
                    <a:moveTo>
                      <a:pt x="134" y="285"/>
                    </a:moveTo>
                    <a:lnTo>
                      <a:pt x="88" y="257"/>
                    </a:lnTo>
                    <a:lnTo>
                      <a:pt x="55" y="230"/>
                    </a:lnTo>
                    <a:lnTo>
                      <a:pt x="31" y="199"/>
                    </a:lnTo>
                    <a:lnTo>
                      <a:pt x="16" y="169"/>
                    </a:lnTo>
                    <a:lnTo>
                      <a:pt x="7" y="133"/>
                    </a:lnTo>
                    <a:lnTo>
                      <a:pt x="1" y="96"/>
                    </a:lnTo>
                    <a:lnTo>
                      <a:pt x="0" y="53"/>
                    </a:lnTo>
                    <a:lnTo>
                      <a:pt x="1" y="6"/>
                    </a:lnTo>
                    <a:lnTo>
                      <a:pt x="8" y="2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6" y="0"/>
                    </a:lnTo>
                    <a:lnTo>
                      <a:pt x="33" y="0"/>
                    </a:lnTo>
                    <a:lnTo>
                      <a:pt x="41" y="0"/>
                    </a:lnTo>
                    <a:lnTo>
                      <a:pt x="45" y="24"/>
                    </a:lnTo>
                    <a:lnTo>
                      <a:pt x="51" y="45"/>
                    </a:lnTo>
                    <a:lnTo>
                      <a:pt x="58" y="61"/>
                    </a:lnTo>
                    <a:lnTo>
                      <a:pt x="70" y="78"/>
                    </a:lnTo>
                    <a:lnTo>
                      <a:pt x="84" y="89"/>
                    </a:lnTo>
                    <a:lnTo>
                      <a:pt x="102" y="99"/>
                    </a:lnTo>
                    <a:lnTo>
                      <a:pt x="123" y="104"/>
                    </a:lnTo>
                    <a:lnTo>
                      <a:pt x="152" y="108"/>
                    </a:lnTo>
                    <a:lnTo>
                      <a:pt x="155" y="103"/>
                    </a:lnTo>
                    <a:lnTo>
                      <a:pt x="160" y="97"/>
                    </a:lnTo>
                    <a:lnTo>
                      <a:pt x="166" y="89"/>
                    </a:lnTo>
                    <a:lnTo>
                      <a:pt x="174" y="82"/>
                    </a:lnTo>
                    <a:lnTo>
                      <a:pt x="188" y="68"/>
                    </a:lnTo>
                    <a:lnTo>
                      <a:pt x="202" y="64"/>
                    </a:lnTo>
                    <a:lnTo>
                      <a:pt x="197" y="89"/>
                    </a:lnTo>
                    <a:lnTo>
                      <a:pt x="196" y="116"/>
                    </a:lnTo>
                    <a:lnTo>
                      <a:pt x="195" y="144"/>
                    </a:lnTo>
                    <a:lnTo>
                      <a:pt x="195" y="173"/>
                    </a:lnTo>
                    <a:lnTo>
                      <a:pt x="190" y="201"/>
                    </a:lnTo>
                    <a:lnTo>
                      <a:pt x="186" y="228"/>
                    </a:lnTo>
                    <a:lnTo>
                      <a:pt x="179" y="253"/>
                    </a:lnTo>
                    <a:lnTo>
                      <a:pt x="170" y="280"/>
                    </a:lnTo>
                    <a:lnTo>
                      <a:pt x="166" y="280"/>
                    </a:lnTo>
                    <a:lnTo>
                      <a:pt x="163" y="280"/>
                    </a:lnTo>
                    <a:lnTo>
                      <a:pt x="160" y="277"/>
                    </a:lnTo>
                    <a:lnTo>
                      <a:pt x="157" y="274"/>
                    </a:lnTo>
                    <a:lnTo>
                      <a:pt x="145" y="280"/>
                    </a:lnTo>
                    <a:lnTo>
                      <a:pt x="134" y="285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36"/>
              <p:cNvSpPr/>
              <p:nvPr/>
            </p:nvSpPr>
            <p:spPr>
              <a:xfrm>
                <a:off x="7243560" y="3360240"/>
                <a:ext cx="83520" cy="95760"/>
              </a:xfrm>
              <a:custGeom>
                <a:avLst/>
                <a:gdLst>
                  <a:gd name="textAreaLeft" fmla="*/ 0 w 83520"/>
                  <a:gd name="textAreaRight" fmla="*/ 83520 w 8352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205" h="194">
                    <a:moveTo>
                      <a:pt x="129" y="194"/>
                    </a:moveTo>
                    <a:lnTo>
                      <a:pt x="115" y="190"/>
                    </a:lnTo>
                    <a:lnTo>
                      <a:pt x="105" y="185"/>
                    </a:lnTo>
                    <a:lnTo>
                      <a:pt x="97" y="181"/>
                    </a:lnTo>
                    <a:lnTo>
                      <a:pt x="90" y="177"/>
                    </a:lnTo>
                    <a:lnTo>
                      <a:pt x="78" y="166"/>
                    </a:lnTo>
                    <a:lnTo>
                      <a:pt x="68" y="154"/>
                    </a:lnTo>
                    <a:lnTo>
                      <a:pt x="64" y="136"/>
                    </a:lnTo>
                    <a:lnTo>
                      <a:pt x="61" y="119"/>
                    </a:lnTo>
                    <a:lnTo>
                      <a:pt x="55" y="105"/>
                    </a:lnTo>
                    <a:lnTo>
                      <a:pt x="51" y="94"/>
                    </a:lnTo>
                    <a:lnTo>
                      <a:pt x="42" y="86"/>
                    </a:lnTo>
                    <a:lnTo>
                      <a:pt x="32" y="82"/>
                    </a:lnTo>
                    <a:lnTo>
                      <a:pt x="18" y="83"/>
                    </a:lnTo>
                    <a:lnTo>
                      <a:pt x="2" y="90"/>
                    </a:lnTo>
                    <a:lnTo>
                      <a:pt x="0" y="68"/>
                    </a:lnTo>
                    <a:lnTo>
                      <a:pt x="3" y="50"/>
                    </a:lnTo>
                    <a:lnTo>
                      <a:pt x="8" y="33"/>
                    </a:lnTo>
                    <a:lnTo>
                      <a:pt x="18" y="22"/>
                    </a:lnTo>
                    <a:lnTo>
                      <a:pt x="28" y="11"/>
                    </a:lnTo>
                    <a:lnTo>
                      <a:pt x="43" y="4"/>
                    </a:lnTo>
                    <a:lnTo>
                      <a:pt x="60" y="0"/>
                    </a:lnTo>
                    <a:lnTo>
                      <a:pt x="80" y="0"/>
                    </a:lnTo>
                    <a:lnTo>
                      <a:pt x="83" y="11"/>
                    </a:lnTo>
                    <a:lnTo>
                      <a:pt x="87" y="24"/>
                    </a:lnTo>
                    <a:lnTo>
                      <a:pt x="91" y="36"/>
                    </a:lnTo>
                    <a:lnTo>
                      <a:pt x="96" y="49"/>
                    </a:lnTo>
                    <a:lnTo>
                      <a:pt x="100" y="60"/>
                    </a:lnTo>
                    <a:lnTo>
                      <a:pt x="108" y="72"/>
                    </a:lnTo>
                    <a:lnTo>
                      <a:pt x="116" y="82"/>
                    </a:lnTo>
                    <a:lnTo>
                      <a:pt x="129" y="93"/>
                    </a:lnTo>
                    <a:lnTo>
                      <a:pt x="127" y="80"/>
                    </a:lnTo>
                    <a:lnTo>
                      <a:pt x="125" y="69"/>
                    </a:lnTo>
                    <a:lnTo>
                      <a:pt x="120" y="58"/>
                    </a:lnTo>
                    <a:lnTo>
                      <a:pt x="118" y="49"/>
                    </a:lnTo>
                    <a:lnTo>
                      <a:pt x="114" y="38"/>
                    </a:lnTo>
                    <a:lnTo>
                      <a:pt x="109" y="28"/>
                    </a:lnTo>
                    <a:lnTo>
                      <a:pt x="107" y="18"/>
                    </a:lnTo>
                    <a:lnTo>
                      <a:pt x="107" y="9"/>
                    </a:lnTo>
                    <a:lnTo>
                      <a:pt x="109" y="6"/>
                    </a:lnTo>
                    <a:lnTo>
                      <a:pt x="114" y="6"/>
                    </a:lnTo>
                    <a:lnTo>
                      <a:pt x="119" y="6"/>
                    </a:lnTo>
                    <a:lnTo>
                      <a:pt x="129" y="6"/>
                    </a:lnTo>
                    <a:lnTo>
                      <a:pt x="134" y="15"/>
                    </a:lnTo>
                    <a:lnTo>
                      <a:pt x="140" y="28"/>
                    </a:lnTo>
                    <a:lnTo>
                      <a:pt x="145" y="40"/>
                    </a:lnTo>
                    <a:lnTo>
                      <a:pt x="152" y="56"/>
                    </a:lnTo>
                    <a:lnTo>
                      <a:pt x="156" y="69"/>
                    </a:lnTo>
                    <a:lnTo>
                      <a:pt x="163" y="83"/>
                    </a:lnTo>
                    <a:lnTo>
                      <a:pt x="170" y="94"/>
                    </a:lnTo>
                    <a:lnTo>
                      <a:pt x="179" y="107"/>
                    </a:lnTo>
                    <a:lnTo>
                      <a:pt x="183" y="103"/>
                    </a:lnTo>
                    <a:lnTo>
                      <a:pt x="188" y="104"/>
                    </a:lnTo>
                    <a:lnTo>
                      <a:pt x="194" y="107"/>
                    </a:lnTo>
                    <a:lnTo>
                      <a:pt x="205" y="112"/>
                    </a:lnTo>
                    <a:lnTo>
                      <a:pt x="201" y="120"/>
                    </a:lnTo>
                    <a:lnTo>
                      <a:pt x="197" y="129"/>
                    </a:lnTo>
                    <a:lnTo>
                      <a:pt x="191" y="136"/>
                    </a:lnTo>
                    <a:lnTo>
                      <a:pt x="187" y="145"/>
                    </a:lnTo>
                    <a:lnTo>
                      <a:pt x="184" y="143"/>
                    </a:lnTo>
                    <a:lnTo>
                      <a:pt x="181" y="143"/>
                    </a:lnTo>
                    <a:lnTo>
                      <a:pt x="177" y="148"/>
                    </a:lnTo>
                    <a:lnTo>
                      <a:pt x="172" y="156"/>
                    </a:lnTo>
                    <a:lnTo>
                      <a:pt x="163" y="165"/>
                    </a:lnTo>
                    <a:lnTo>
                      <a:pt x="156" y="174"/>
                    </a:lnTo>
                    <a:lnTo>
                      <a:pt x="147" y="181"/>
                    </a:lnTo>
                    <a:lnTo>
                      <a:pt x="140" y="188"/>
                    </a:lnTo>
                    <a:lnTo>
                      <a:pt x="132" y="192"/>
                    </a:lnTo>
                    <a:lnTo>
                      <a:pt x="129" y="194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37"/>
              <p:cNvSpPr/>
              <p:nvPr/>
            </p:nvSpPr>
            <p:spPr>
              <a:xfrm>
                <a:off x="7253640" y="3233520"/>
                <a:ext cx="107280" cy="175680"/>
              </a:xfrm>
              <a:custGeom>
                <a:avLst/>
                <a:gdLst>
                  <a:gd name="textAreaLeft" fmla="*/ 0 w 107280"/>
                  <a:gd name="textAreaRight" fmla="*/ 107640 w 107280"/>
                  <a:gd name="textAreaTop" fmla="*/ 0 h 175680"/>
                  <a:gd name="textAreaBottom" fmla="*/ 176040 h 175680"/>
                </a:gdLst>
                <a:ahLst/>
                <a:rect l="textAreaLeft" t="textAreaTop" r="textAreaRight" b="textAreaBottom"/>
                <a:pathLst>
                  <a:path w="267" h="354">
                    <a:moveTo>
                      <a:pt x="180" y="354"/>
                    </a:moveTo>
                    <a:lnTo>
                      <a:pt x="172" y="347"/>
                    </a:lnTo>
                    <a:lnTo>
                      <a:pt x="168" y="344"/>
                    </a:lnTo>
                    <a:lnTo>
                      <a:pt x="163" y="343"/>
                    </a:lnTo>
                    <a:lnTo>
                      <a:pt x="159" y="343"/>
                    </a:lnTo>
                    <a:lnTo>
                      <a:pt x="150" y="310"/>
                    </a:lnTo>
                    <a:lnTo>
                      <a:pt x="141" y="286"/>
                    </a:lnTo>
                    <a:lnTo>
                      <a:pt x="130" y="268"/>
                    </a:lnTo>
                    <a:lnTo>
                      <a:pt x="119" y="257"/>
                    </a:lnTo>
                    <a:lnTo>
                      <a:pt x="104" y="249"/>
                    </a:lnTo>
                    <a:lnTo>
                      <a:pt x="87" y="245"/>
                    </a:lnTo>
                    <a:lnTo>
                      <a:pt x="67" y="242"/>
                    </a:lnTo>
                    <a:lnTo>
                      <a:pt x="43" y="241"/>
                    </a:lnTo>
                    <a:lnTo>
                      <a:pt x="29" y="245"/>
                    </a:lnTo>
                    <a:lnTo>
                      <a:pt x="20" y="249"/>
                    </a:lnTo>
                    <a:lnTo>
                      <a:pt x="10" y="253"/>
                    </a:lnTo>
                    <a:lnTo>
                      <a:pt x="0" y="259"/>
                    </a:lnTo>
                    <a:lnTo>
                      <a:pt x="0" y="238"/>
                    </a:lnTo>
                    <a:lnTo>
                      <a:pt x="9" y="208"/>
                    </a:lnTo>
                    <a:lnTo>
                      <a:pt x="21" y="167"/>
                    </a:lnTo>
                    <a:lnTo>
                      <a:pt x="38" y="127"/>
                    </a:lnTo>
                    <a:lnTo>
                      <a:pt x="56" y="86"/>
                    </a:lnTo>
                    <a:lnTo>
                      <a:pt x="75" y="51"/>
                    </a:lnTo>
                    <a:lnTo>
                      <a:pt x="93" y="25"/>
                    </a:lnTo>
                    <a:lnTo>
                      <a:pt x="112" y="14"/>
                    </a:lnTo>
                    <a:lnTo>
                      <a:pt x="121" y="18"/>
                    </a:lnTo>
                    <a:lnTo>
                      <a:pt x="129" y="18"/>
                    </a:lnTo>
                    <a:lnTo>
                      <a:pt x="136" y="15"/>
                    </a:lnTo>
                    <a:lnTo>
                      <a:pt x="143" y="13"/>
                    </a:lnTo>
                    <a:lnTo>
                      <a:pt x="148" y="7"/>
                    </a:lnTo>
                    <a:lnTo>
                      <a:pt x="154" y="4"/>
                    </a:lnTo>
                    <a:lnTo>
                      <a:pt x="161" y="0"/>
                    </a:lnTo>
                    <a:lnTo>
                      <a:pt x="169" y="0"/>
                    </a:lnTo>
                    <a:lnTo>
                      <a:pt x="177" y="4"/>
                    </a:lnTo>
                    <a:lnTo>
                      <a:pt x="190" y="7"/>
                    </a:lnTo>
                    <a:lnTo>
                      <a:pt x="202" y="7"/>
                    </a:lnTo>
                    <a:lnTo>
                      <a:pt x="215" y="7"/>
                    </a:lnTo>
                    <a:lnTo>
                      <a:pt x="227" y="4"/>
                    </a:lnTo>
                    <a:lnTo>
                      <a:pt x="241" y="2"/>
                    </a:lnTo>
                    <a:lnTo>
                      <a:pt x="253" y="0"/>
                    </a:lnTo>
                    <a:lnTo>
                      <a:pt x="267" y="0"/>
                    </a:lnTo>
                    <a:lnTo>
                      <a:pt x="260" y="35"/>
                    </a:lnTo>
                    <a:lnTo>
                      <a:pt x="249" y="85"/>
                    </a:lnTo>
                    <a:lnTo>
                      <a:pt x="235" y="143"/>
                    </a:lnTo>
                    <a:lnTo>
                      <a:pt x="222" y="205"/>
                    </a:lnTo>
                    <a:lnTo>
                      <a:pt x="206" y="262"/>
                    </a:lnTo>
                    <a:lnTo>
                      <a:pt x="194" y="310"/>
                    </a:lnTo>
                    <a:lnTo>
                      <a:pt x="184" y="342"/>
                    </a:lnTo>
                    <a:lnTo>
                      <a:pt x="180" y="354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38"/>
              <p:cNvSpPr/>
              <p:nvPr/>
            </p:nvSpPr>
            <p:spPr>
              <a:xfrm>
                <a:off x="7299360" y="3191400"/>
                <a:ext cx="62640" cy="44640"/>
              </a:xfrm>
              <a:custGeom>
                <a:avLst/>
                <a:gdLst>
                  <a:gd name="textAreaLeft" fmla="*/ 0 w 62640"/>
                  <a:gd name="textAreaRight" fmla="*/ 63000 w 62640"/>
                  <a:gd name="textAreaTop" fmla="*/ 0 h 44640"/>
                  <a:gd name="textAreaBottom" fmla="*/ 45000 h 44640"/>
                </a:gdLst>
                <a:ahLst/>
                <a:rect l="textAreaLeft" t="textAreaTop" r="textAreaRight" b="textAreaBottom"/>
                <a:pathLst>
                  <a:path w="154" h="90">
                    <a:moveTo>
                      <a:pt x="9" y="90"/>
                    </a:moveTo>
                    <a:lnTo>
                      <a:pt x="5" y="88"/>
                    </a:lnTo>
                    <a:lnTo>
                      <a:pt x="0" y="87"/>
                    </a:lnTo>
                    <a:lnTo>
                      <a:pt x="3" y="65"/>
                    </a:lnTo>
                    <a:lnTo>
                      <a:pt x="14" y="48"/>
                    </a:lnTo>
                    <a:lnTo>
                      <a:pt x="31" y="32"/>
                    </a:lnTo>
                    <a:lnTo>
                      <a:pt x="52" y="21"/>
                    </a:lnTo>
                    <a:lnTo>
                      <a:pt x="74" y="11"/>
                    </a:lnTo>
                    <a:lnTo>
                      <a:pt x="96" y="4"/>
                    </a:lnTo>
                    <a:lnTo>
                      <a:pt x="118" y="0"/>
                    </a:lnTo>
                    <a:lnTo>
                      <a:pt x="137" y="0"/>
                    </a:lnTo>
                    <a:lnTo>
                      <a:pt x="140" y="5"/>
                    </a:lnTo>
                    <a:lnTo>
                      <a:pt x="143" y="12"/>
                    </a:lnTo>
                    <a:lnTo>
                      <a:pt x="144" y="21"/>
                    </a:lnTo>
                    <a:lnTo>
                      <a:pt x="147" y="29"/>
                    </a:lnTo>
                    <a:lnTo>
                      <a:pt x="148" y="37"/>
                    </a:lnTo>
                    <a:lnTo>
                      <a:pt x="150" y="46"/>
                    </a:lnTo>
                    <a:lnTo>
                      <a:pt x="151" y="54"/>
                    </a:lnTo>
                    <a:lnTo>
                      <a:pt x="154" y="63"/>
                    </a:lnTo>
                    <a:lnTo>
                      <a:pt x="141" y="68"/>
                    </a:lnTo>
                    <a:lnTo>
                      <a:pt x="130" y="72"/>
                    </a:lnTo>
                    <a:lnTo>
                      <a:pt x="119" y="75"/>
                    </a:lnTo>
                    <a:lnTo>
                      <a:pt x="108" y="77"/>
                    </a:lnTo>
                    <a:lnTo>
                      <a:pt x="97" y="79"/>
                    </a:lnTo>
                    <a:lnTo>
                      <a:pt x="86" y="81"/>
                    </a:lnTo>
                    <a:lnTo>
                      <a:pt x="75" y="81"/>
                    </a:lnTo>
                    <a:lnTo>
                      <a:pt x="67" y="83"/>
                    </a:lnTo>
                    <a:lnTo>
                      <a:pt x="64" y="77"/>
                    </a:lnTo>
                    <a:lnTo>
                      <a:pt x="61" y="72"/>
                    </a:lnTo>
                    <a:lnTo>
                      <a:pt x="52" y="72"/>
                    </a:lnTo>
                    <a:lnTo>
                      <a:pt x="43" y="73"/>
                    </a:lnTo>
                    <a:lnTo>
                      <a:pt x="36" y="76"/>
                    </a:lnTo>
                    <a:lnTo>
                      <a:pt x="31" y="80"/>
                    </a:lnTo>
                    <a:lnTo>
                      <a:pt x="20" y="86"/>
                    </a:lnTo>
                    <a:lnTo>
                      <a:pt x="9" y="9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39"/>
              <p:cNvSpPr/>
              <p:nvPr/>
            </p:nvSpPr>
            <p:spPr>
              <a:xfrm>
                <a:off x="7080120" y="2654280"/>
                <a:ext cx="191160" cy="549000"/>
              </a:xfrm>
              <a:custGeom>
                <a:avLst/>
                <a:gdLst>
                  <a:gd name="textAreaLeft" fmla="*/ 0 w 191160"/>
                  <a:gd name="textAreaRight" fmla="*/ 191520 w 191160"/>
                  <a:gd name="textAreaTop" fmla="*/ 0 h 549000"/>
                  <a:gd name="textAreaBottom" fmla="*/ 549360 h 549000"/>
                </a:gdLst>
                <a:ahLst/>
                <a:rect l="textAreaLeft" t="textAreaTop" r="textAreaRight" b="textAreaBottom"/>
                <a:pathLst>
                  <a:path w="474" h="1102">
                    <a:moveTo>
                      <a:pt x="113" y="1102"/>
                    </a:moveTo>
                    <a:lnTo>
                      <a:pt x="103" y="1073"/>
                    </a:lnTo>
                    <a:lnTo>
                      <a:pt x="95" y="1052"/>
                    </a:lnTo>
                    <a:lnTo>
                      <a:pt x="84" y="1036"/>
                    </a:lnTo>
                    <a:lnTo>
                      <a:pt x="73" y="1027"/>
                    </a:lnTo>
                    <a:lnTo>
                      <a:pt x="58" y="1023"/>
                    </a:lnTo>
                    <a:lnTo>
                      <a:pt x="41" y="1027"/>
                    </a:lnTo>
                    <a:lnTo>
                      <a:pt x="20" y="1037"/>
                    </a:lnTo>
                    <a:lnTo>
                      <a:pt x="0" y="1056"/>
                    </a:lnTo>
                    <a:lnTo>
                      <a:pt x="2" y="1022"/>
                    </a:lnTo>
                    <a:lnTo>
                      <a:pt x="9" y="989"/>
                    </a:lnTo>
                    <a:lnTo>
                      <a:pt x="20" y="955"/>
                    </a:lnTo>
                    <a:lnTo>
                      <a:pt x="36" y="922"/>
                    </a:lnTo>
                    <a:lnTo>
                      <a:pt x="48" y="888"/>
                    </a:lnTo>
                    <a:lnTo>
                      <a:pt x="62" y="853"/>
                    </a:lnTo>
                    <a:lnTo>
                      <a:pt x="72" y="816"/>
                    </a:lnTo>
                    <a:lnTo>
                      <a:pt x="78" y="780"/>
                    </a:lnTo>
                    <a:lnTo>
                      <a:pt x="73" y="718"/>
                    </a:lnTo>
                    <a:lnTo>
                      <a:pt x="72" y="668"/>
                    </a:lnTo>
                    <a:lnTo>
                      <a:pt x="76" y="625"/>
                    </a:lnTo>
                    <a:lnTo>
                      <a:pt x="85" y="588"/>
                    </a:lnTo>
                    <a:lnTo>
                      <a:pt x="98" y="550"/>
                    </a:lnTo>
                    <a:lnTo>
                      <a:pt x="120" y="513"/>
                    </a:lnTo>
                    <a:lnTo>
                      <a:pt x="146" y="470"/>
                    </a:lnTo>
                    <a:lnTo>
                      <a:pt x="181" y="422"/>
                    </a:lnTo>
                    <a:lnTo>
                      <a:pt x="200" y="379"/>
                    </a:lnTo>
                    <a:lnTo>
                      <a:pt x="228" y="321"/>
                    </a:lnTo>
                    <a:lnTo>
                      <a:pt x="258" y="250"/>
                    </a:lnTo>
                    <a:lnTo>
                      <a:pt x="294" y="180"/>
                    </a:lnTo>
                    <a:lnTo>
                      <a:pt x="329" y="111"/>
                    </a:lnTo>
                    <a:lnTo>
                      <a:pt x="366" y="54"/>
                    </a:lnTo>
                    <a:lnTo>
                      <a:pt x="401" y="14"/>
                    </a:lnTo>
                    <a:lnTo>
                      <a:pt x="437" y="0"/>
                    </a:lnTo>
                    <a:lnTo>
                      <a:pt x="441" y="17"/>
                    </a:lnTo>
                    <a:lnTo>
                      <a:pt x="441" y="44"/>
                    </a:lnTo>
                    <a:lnTo>
                      <a:pt x="435" y="78"/>
                    </a:lnTo>
                    <a:lnTo>
                      <a:pt x="428" y="115"/>
                    </a:lnTo>
                    <a:lnTo>
                      <a:pt x="416" y="151"/>
                    </a:lnTo>
                    <a:lnTo>
                      <a:pt x="402" y="184"/>
                    </a:lnTo>
                    <a:lnTo>
                      <a:pt x="387" y="209"/>
                    </a:lnTo>
                    <a:lnTo>
                      <a:pt x="372" y="227"/>
                    </a:lnTo>
                    <a:lnTo>
                      <a:pt x="372" y="231"/>
                    </a:lnTo>
                    <a:lnTo>
                      <a:pt x="372" y="237"/>
                    </a:lnTo>
                    <a:lnTo>
                      <a:pt x="373" y="238"/>
                    </a:lnTo>
                    <a:lnTo>
                      <a:pt x="377" y="239"/>
                    </a:lnTo>
                    <a:lnTo>
                      <a:pt x="381" y="239"/>
                    </a:lnTo>
                    <a:lnTo>
                      <a:pt x="390" y="239"/>
                    </a:lnTo>
                    <a:lnTo>
                      <a:pt x="396" y="227"/>
                    </a:lnTo>
                    <a:lnTo>
                      <a:pt x="403" y="219"/>
                    </a:lnTo>
                    <a:lnTo>
                      <a:pt x="408" y="214"/>
                    </a:lnTo>
                    <a:lnTo>
                      <a:pt x="412" y="212"/>
                    </a:lnTo>
                    <a:lnTo>
                      <a:pt x="417" y="209"/>
                    </a:lnTo>
                    <a:lnTo>
                      <a:pt x="427" y="209"/>
                    </a:lnTo>
                    <a:lnTo>
                      <a:pt x="431" y="219"/>
                    </a:lnTo>
                    <a:lnTo>
                      <a:pt x="432" y="232"/>
                    </a:lnTo>
                    <a:lnTo>
                      <a:pt x="430" y="249"/>
                    </a:lnTo>
                    <a:lnTo>
                      <a:pt x="426" y="267"/>
                    </a:lnTo>
                    <a:lnTo>
                      <a:pt x="419" y="285"/>
                    </a:lnTo>
                    <a:lnTo>
                      <a:pt x="413" y="304"/>
                    </a:lnTo>
                    <a:lnTo>
                      <a:pt x="408" y="321"/>
                    </a:lnTo>
                    <a:lnTo>
                      <a:pt x="408" y="338"/>
                    </a:lnTo>
                    <a:lnTo>
                      <a:pt x="416" y="342"/>
                    </a:lnTo>
                    <a:lnTo>
                      <a:pt x="424" y="343"/>
                    </a:lnTo>
                    <a:lnTo>
                      <a:pt x="426" y="339"/>
                    </a:lnTo>
                    <a:lnTo>
                      <a:pt x="428" y="338"/>
                    </a:lnTo>
                    <a:lnTo>
                      <a:pt x="432" y="336"/>
                    </a:lnTo>
                    <a:lnTo>
                      <a:pt x="442" y="335"/>
                    </a:lnTo>
                    <a:lnTo>
                      <a:pt x="437" y="368"/>
                    </a:lnTo>
                    <a:lnTo>
                      <a:pt x="432" y="398"/>
                    </a:lnTo>
                    <a:lnTo>
                      <a:pt x="431" y="427"/>
                    </a:lnTo>
                    <a:lnTo>
                      <a:pt x="432" y="456"/>
                    </a:lnTo>
                    <a:lnTo>
                      <a:pt x="434" y="484"/>
                    </a:lnTo>
                    <a:lnTo>
                      <a:pt x="439" y="514"/>
                    </a:lnTo>
                    <a:lnTo>
                      <a:pt x="448" y="546"/>
                    </a:lnTo>
                    <a:lnTo>
                      <a:pt x="460" y="582"/>
                    </a:lnTo>
                    <a:lnTo>
                      <a:pt x="460" y="599"/>
                    </a:lnTo>
                    <a:lnTo>
                      <a:pt x="460" y="618"/>
                    </a:lnTo>
                    <a:lnTo>
                      <a:pt x="461" y="636"/>
                    </a:lnTo>
                    <a:lnTo>
                      <a:pt x="464" y="657"/>
                    </a:lnTo>
                    <a:lnTo>
                      <a:pt x="466" y="676"/>
                    </a:lnTo>
                    <a:lnTo>
                      <a:pt x="468" y="696"/>
                    </a:lnTo>
                    <a:lnTo>
                      <a:pt x="471" y="715"/>
                    </a:lnTo>
                    <a:lnTo>
                      <a:pt x="474" y="736"/>
                    </a:lnTo>
                    <a:lnTo>
                      <a:pt x="471" y="736"/>
                    </a:lnTo>
                    <a:lnTo>
                      <a:pt x="468" y="738"/>
                    </a:lnTo>
                    <a:lnTo>
                      <a:pt x="449" y="711"/>
                    </a:lnTo>
                    <a:lnTo>
                      <a:pt x="435" y="689"/>
                    </a:lnTo>
                    <a:lnTo>
                      <a:pt x="423" y="669"/>
                    </a:lnTo>
                    <a:lnTo>
                      <a:pt x="412" y="653"/>
                    </a:lnTo>
                    <a:lnTo>
                      <a:pt x="398" y="636"/>
                    </a:lnTo>
                    <a:lnTo>
                      <a:pt x="384" y="621"/>
                    </a:lnTo>
                    <a:lnTo>
                      <a:pt x="365" y="606"/>
                    </a:lnTo>
                    <a:lnTo>
                      <a:pt x="340" y="591"/>
                    </a:lnTo>
                    <a:lnTo>
                      <a:pt x="340" y="579"/>
                    </a:lnTo>
                    <a:lnTo>
                      <a:pt x="341" y="570"/>
                    </a:lnTo>
                    <a:lnTo>
                      <a:pt x="341" y="557"/>
                    </a:lnTo>
                    <a:lnTo>
                      <a:pt x="344" y="546"/>
                    </a:lnTo>
                    <a:lnTo>
                      <a:pt x="343" y="534"/>
                    </a:lnTo>
                    <a:lnTo>
                      <a:pt x="341" y="527"/>
                    </a:lnTo>
                    <a:lnTo>
                      <a:pt x="337" y="521"/>
                    </a:lnTo>
                    <a:lnTo>
                      <a:pt x="331" y="521"/>
                    </a:lnTo>
                    <a:lnTo>
                      <a:pt x="330" y="531"/>
                    </a:lnTo>
                    <a:lnTo>
                      <a:pt x="330" y="546"/>
                    </a:lnTo>
                    <a:lnTo>
                      <a:pt x="327" y="553"/>
                    </a:lnTo>
                    <a:lnTo>
                      <a:pt x="326" y="561"/>
                    </a:lnTo>
                    <a:lnTo>
                      <a:pt x="323" y="567"/>
                    </a:lnTo>
                    <a:lnTo>
                      <a:pt x="320" y="574"/>
                    </a:lnTo>
                    <a:lnTo>
                      <a:pt x="315" y="570"/>
                    </a:lnTo>
                    <a:lnTo>
                      <a:pt x="314" y="567"/>
                    </a:lnTo>
                    <a:lnTo>
                      <a:pt x="305" y="579"/>
                    </a:lnTo>
                    <a:lnTo>
                      <a:pt x="297" y="595"/>
                    </a:lnTo>
                    <a:lnTo>
                      <a:pt x="293" y="602"/>
                    </a:lnTo>
                    <a:lnTo>
                      <a:pt x="289" y="610"/>
                    </a:lnTo>
                    <a:lnTo>
                      <a:pt x="286" y="617"/>
                    </a:lnTo>
                    <a:lnTo>
                      <a:pt x="284" y="625"/>
                    </a:lnTo>
                    <a:lnTo>
                      <a:pt x="262" y="651"/>
                    </a:lnTo>
                    <a:lnTo>
                      <a:pt x="237" y="680"/>
                    </a:lnTo>
                    <a:lnTo>
                      <a:pt x="213" y="709"/>
                    </a:lnTo>
                    <a:lnTo>
                      <a:pt x="188" y="743"/>
                    </a:lnTo>
                    <a:lnTo>
                      <a:pt x="163" y="773"/>
                    </a:lnTo>
                    <a:lnTo>
                      <a:pt x="142" y="806"/>
                    </a:lnTo>
                    <a:lnTo>
                      <a:pt x="124" y="839"/>
                    </a:lnTo>
                    <a:lnTo>
                      <a:pt x="113" y="873"/>
                    </a:lnTo>
                    <a:lnTo>
                      <a:pt x="116" y="896"/>
                    </a:lnTo>
                    <a:lnTo>
                      <a:pt x="120" y="921"/>
                    </a:lnTo>
                    <a:lnTo>
                      <a:pt x="124" y="947"/>
                    </a:lnTo>
                    <a:lnTo>
                      <a:pt x="130" y="975"/>
                    </a:lnTo>
                    <a:lnTo>
                      <a:pt x="132" y="1001"/>
                    </a:lnTo>
                    <a:lnTo>
                      <a:pt x="134" y="1027"/>
                    </a:lnTo>
                    <a:lnTo>
                      <a:pt x="132" y="1054"/>
                    </a:lnTo>
                    <a:lnTo>
                      <a:pt x="128" y="1080"/>
                    </a:lnTo>
                    <a:lnTo>
                      <a:pt x="123" y="1081"/>
                    </a:lnTo>
                    <a:lnTo>
                      <a:pt x="120" y="1083"/>
                    </a:lnTo>
                    <a:lnTo>
                      <a:pt x="119" y="1090"/>
                    </a:lnTo>
                    <a:lnTo>
                      <a:pt x="119" y="1096"/>
                    </a:lnTo>
                    <a:lnTo>
                      <a:pt x="116" y="1099"/>
                    </a:lnTo>
                    <a:lnTo>
                      <a:pt x="113" y="1102"/>
                    </a:lnTo>
                    <a:close/>
                  </a:path>
                </a:pathLst>
              </a:cu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40"/>
              <p:cNvSpPr/>
              <p:nvPr/>
            </p:nvSpPr>
            <p:spPr>
              <a:xfrm>
                <a:off x="7247520" y="3128760"/>
                <a:ext cx="44640" cy="31320"/>
              </a:xfrm>
              <a:custGeom>
                <a:avLst/>
                <a:gdLst>
                  <a:gd name="textAreaLeft" fmla="*/ 0 w 44640"/>
                  <a:gd name="textAreaRight" fmla="*/ 45000 w 44640"/>
                  <a:gd name="textAreaTop" fmla="*/ 0 h 31320"/>
                  <a:gd name="textAreaBottom" fmla="*/ 31680 h 31320"/>
                </a:gdLst>
                <a:ahLst/>
                <a:rect l="textAreaLeft" t="textAreaTop" r="textAreaRight" b="textAreaBottom"/>
                <a:pathLst>
                  <a:path w="111" h="62">
                    <a:moveTo>
                      <a:pt x="35" y="62"/>
                    </a:moveTo>
                    <a:lnTo>
                      <a:pt x="19" y="58"/>
                    </a:lnTo>
                    <a:lnTo>
                      <a:pt x="10" y="51"/>
                    </a:lnTo>
                    <a:lnTo>
                      <a:pt x="1" y="41"/>
                    </a:lnTo>
                    <a:lnTo>
                      <a:pt x="0" y="33"/>
                    </a:lnTo>
                    <a:lnTo>
                      <a:pt x="22" y="40"/>
                    </a:lnTo>
                    <a:lnTo>
                      <a:pt x="42" y="40"/>
                    </a:lnTo>
                    <a:lnTo>
                      <a:pt x="55" y="33"/>
                    </a:lnTo>
                    <a:lnTo>
                      <a:pt x="69" y="25"/>
                    </a:lnTo>
                    <a:lnTo>
                      <a:pt x="79" y="14"/>
                    </a:lnTo>
                    <a:lnTo>
                      <a:pt x="89" y="5"/>
                    </a:lnTo>
                    <a:lnTo>
                      <a:pt x="98" y="0"/>
                    </a:lnTo>
                    <a:lnTo>
                      <a:pt x="111" y="1"/>
                    </a:lnTo>
                    <a:lnTo>
                      <a:pt x="101" y="9"/>
                    </a:lnTo>
                    <a:lnTo>
                      <a:pt x="93" y="19"/>
                    </a:lnTo>
                    <a:lnTo>
                      <a:pt x="84" y="29"/>
                    </a:lnTo>
                    <a:lnTo>
                      <a:pt x="76" y="38"/>
                    </a:lnTo>
                    <a:lnTo>
                      <a:pt x="65" y="45"/>
                    </a:lnTo>
                    <a:lnTo>
                      <a:pt x="55" y="54"/>
                    </a:lnTo>
                    <a:lnTo>
                      <a:pt x="44" y="58"/>
                    </a:lnTo>
                    <a:lnTo>
                      <a:pt x="35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41"/>
              <p:cNvSpPr/>
              <p:nvPr/>
            </p:nvSpPr>
            <p:spPr>
              <a:xfrm>
                <a:off x="7185600" y="2954160"/>
                <a:ext cx="84240" cy="185040"/>
              </a:xfrm>
              <a:custGeom>
                <a:avLst/>
                <a:gdLst>
                  <a:gd name="textAreaLeft" fmla="*/ 0 w 84240"/>
                  <a:gd name="textAreaRight" fmla="*/ 84600 w 84240"/>
                  <a:gd name="textAreaTop" fmla="*/ 0 h 185040"/>
                  <a:gd name="textAreaBottom" fmla="*/ 185400 h 185040"/>
                </a:gdLst>
                <a:ahLst/>
                <a:rect l="textAreaLeft" t="textAreaTop" r="textAreaRight" b="textAreaBottom"/>
                <a:pathLst>
                  <a:path w="209" h="372">
                    <a:moveTo>
                      <a:pt x="0" y="372"/>
                    </a:moveTo>
                    <a:lnTo>
                      <a:pt x="2" y="352"/>
                    </a:lnTo>
                    <a:lnTo>
                      <a:pt x="6" y="335"/>
                    </a:lnTo>
                    <a:lnTo>
                      <a:pt x="10" y="315"/>
                    </a:lnTo>
                    <a:lnTo>
                      <a:pt x="14" y="297"/>
                    </a:lnTo>
                    <a:lnTo>
                      <a:pt x="18" y="278"/>
                    </a:lnTo>
                    <a:lnTo>
                      <a:pt x="22" y="260"/>
                    </a:lnTo>
                    <a:lnTo>
                      <a:pt x="25" y="240"/>
                    </a:lnTo>
                    <a:lnTo>
                      <a:pt x="29" y="224"/>
                    </a:lnTo>
                    <a:lnTo>
                      <a:pt x="28" y="192"/>
                    </a:lnTo>
                    <a:lnTo>
                      <a:pt x="31" y="163"/>
                    </a:lnTo>
                    <a:lnTo>
                      <a:pt x="34" y="134"/>
                    </a:lnTo>
                    <a:lnTo>
                      <a:pt x="40" y="108"/>
                    </a:lnTo>
                    <a:lnTo>
                      <a:pt x="46" y="80"/>
                    </a:lnTo>
                    <a:lnTo>
                      <a:pt x="54" y="54"/>
                    </a:lnTo>
                    <a:lnTo>
                      <a:pt x="63" y="26"/>
                    </a:lnTo>
                    <a:lnTo>
                      <a:pt x="72" y="0"/>
                    </a:lnTo>
                    <a:lnTo>
                      <a:pt x="101" y="8"/>
                    </a:lnTo>
                    <a:lnTo>
                      <a:pt x="128" y="33"/>
                    </a:lnTo>
                    <a:lnTo>
                      <a:pt x="150" y="69"/>
                    </a:lnTo>
                    <a:lnTo>
                      <a:pt x="169" y="113"/>
                    </a:lnTo>
                    <a:lnTo>
                      <a:pt x="184" y="159"/>
                    </a:lnTo>
                    <a:lnTo>
                      <a:pt x="195" y="206"/>
                    </a:lnTo>
                    <a:lnTo>
                      <a:pt x="204" y="247"/>
                    </a:lnTo>
                    <a:lnTo>
                      <a:pt x="209" y="281"/>
                    </a:lnTo>
                    <a:lnTo>
                      <a:pt x="195" y="287"/>
                    </a:lnTo>
                    <a:lnTo>
                      <a:pt x="183" y="297"/>
                    </a:lnTo>
                    <a:lnTo>
                      <a:pt x="172" y="307"/>
                    </a:lnTo>
                    <a:lnTo>
                      <a:pt x="162" y="319"/>
                    </a:lnTo>
                    <a:lnTo>
                      <a:pt x="151" y="330"/>
                    </a:lnTo>
                    <a:lnTo>
                      <a:pt x="141" y="341"/>
                    </a:lnTo>
                    <a:lnTo>
                      <a:pt x="132" y="352"/>
                    </a:lnTo>
                    <a:lnTo>
                      <a:pt x="122" y="365"/>
                    </a:lnTo>
                    <a:lnTo>
                      <a:pt x="104" y="365"/>
                    </a:lnTo>
                    <a:lnTo>
                      <a:pt x="87" y="365"/>
                    </a:lnTo>
                    <a:lnTo>
                      <a:pt x="72" y="364"/>
                    </a:lnTo>
                    <a:lnTo>
                      <a:pt x="58" y="364"/>
                    </a:lnTo>
                    <a:lnTo>
                      <a:pt x="43" y="362"/>
                    </a:lnTo>
                    <a:lnTo>
                      <a:pt x="29" y="364"/>
                    </a:lnTo>
                    <a:lnTo>
                      <a:pt x="14" y="365"/>
                    </a:lnTo>
                    <a:lnTo>
                      <a:pt x="0" y="372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42"/>
              <p:cNvSpPr/>
              <p:nvPr/>
            </p:nvSpPr>
            <p:spPr>
              <a:xfrm>
                <a:off x="7278840" y="3070800"/>
                <a:ext cx="8280" cy="20880"/>
              </a:xfrm>
              <a:custGeom>
                <a:avLst/>
                <a:gdLst>
                  <a:gd name="textAreaLeft" fmla="*/ 0 w 8280"/>
                  <a:gd name="textAreaRight" fmla="*/ 8640 w 8280"/>
                  <a:gd name="textAreaTop" fmla="*/ 0 h 20880"/>
                  <a:gd name="textAreaBottom" fmla="*/ 21240 h 20880"/>
                </a:gdLst>
                <a:ahLst/>
                <a:rect l="textAreaLeft" t="textAreaTop" r="textAreaRight" b="textAreaBottom"/>
                <a:pathLst>
                  <a:path w="21" h="43">
                    <a:moveTo>
                      <a:pt x="0" y="43"/>
                    </a:moveTo>
                    <a:lnTo>
                      <a:pt x="0" y="32"/>
                    </a:lnTo>
                    <a:lnTo>
                      <a:pt x="0" y="22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14" y="15"/>
                    </a:lnTo>
                    <a:lnTo>
                      <a:pt x="16" y="26"/>
                    </a:lnTo>
                    <a:lnTo>
                      <a:pt x="21" y="40"/>
                    </a:lnTo>
                    <a:lnTo>
                      <a:pt x="11" y="42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43"/>
              <p:cNvSpPr/>
              <p:nvPr/>
            </p:nvSpPr>
            <p:spPr>
              <a:xfrm>
                <a:off x="7270200" y="2955600"/>
                <a:ext cx="65160" cy="131040"/>
              </a:xfrm>
              <a:custGeom>
                <a:avLst/>
                <a:gdLst>
                  <a:gd name="textAreaLeft" fmla="*/ 0 w 65160"/>
                  <a:gd name="textAreaRight" fmla="*/ 65520 w 65160"/>
                  <a:gd name="textAreaTop" fmla="*/ 0 h 131040"/>
                  <a:gd name="textAreaBottom" fmla="*/ 131400 h 131040"/>
                </a:gdLst>
                <a:ahLst/>
                <a:rect l="textAreaLeft" t="textAreaTop" r="textAreaRight" b="textAreaBottom"/>
                <a:pathLst>
                  <a:path w="161" h="264">
                    <a:moveTo>
                      <a:pt x="61" y="264"/>
                    </a:moveTo>
                    <a:lnTo>
                      <a:pt x="53" y="228"/>
                    </a:lnTo>
                    <a:lnTo>
                      <a:pt x="44" y="195"/>
                    </a:lnTo>
                    <a:lnTo>
                      <a:pt x="36" y="161"/>
                    </a:lnTo>
                    <a:lnTo>
                      <a:pt x="28" y="130"/>
                    </a:lnTo>
                    <a:lnTo>
                      <a:pt x="20" y="96"/>
                    </a:lnTo>
                    <a:lnTo>
                      <a:pt x="13" y="63"/>
                    </a:lnTo>
                    <a:lnTo>
                      <a:pt x="4" y="32"/>
                    </a:lnTo>
                    <a:lnTo>
                      <a:pt x="0" y="0"/>
                    </a:lnTo>
                    <a:lnTo>
                      <a:pt x="10" y="2"/>
                    </a:lnTo>
                    <a:lnTo>
                      <a:pt x="22" y="9"/>
                    </a:lnTo>
                    <a:lnTo>
                      <a:pt x="35" y="18"/>
                    </a:lnTo>
                    <a:lnTo>
                      <a:pt x="47" y="30"/>
                    </a:lnTo>
                    <a:lnTo>
                      <a:pt x="60" y="40"/>
                    </a:lnTo>
                    <a:lnTo>
                      <a:pt x="75" y="51"/>
                    </a:lnTo>
                    <a:lnTo>
                      <a:pt x="89" y="61"/>
                    </a:lnTo>
                    <a:lnTo>
                      <a:pt x="105" y="69"/>
                    </a:lnTo>
                    <a:lnTo>
                      <a:pt x="111" y="85"/>
                    </a:lnTo>
                    <a:lnTo>
                      <a:pt x="116" y="102"/>
                    </a:lnTo>
                    <a:lnTo>
                      <a:pt x="120" y="120"/>
                    </a:lnTo>
                    <a:lnTo>
                      <a:pt x="125" y="138"/>
                    </a:lnTo>
                    <a:lnTo>
                      <a:pt x="129" y="155"/>
                    </a:lnTo>
                    <a:lnTo>
                      <a:pt x="137" y="173"/>
                    </a:lnTo>
                    <a:lnTo>
                      <a:pt x="145" y="190"/>
                    </a:lnTo>
                    <a:lnTo>
                      <a:pt x="158" y="208"/>
                    </a:lnTo>
                    <a:lnTo>
                      <a:pt x="159" y="214"/>
                    </a:lnTo>
                    <a:lnTo>
                      <a:pt x="161" y="221"/>
                    </a:lnTo>
                    <a:lnTo>
                      <a:pt x="147" y="226"/>
                    </a:lnTo>
                    <a:lnTo>
                      <a:pt x="134" y="233"/>
                    </a:lnTo>
                    <a:lnTo>
                      <a:pt x="122" y="239"/>
                    </a:lnTo>
                    <a:lnTo>
                      <a:pt x="111" y="244"/>
                    </a:lnTo>
                    <a:lnTo>
                      <a:pt x="98" y="249"/>
                    </a:lnTo>
                    <a:lnTo>
                      <a:pt x="86" y="254"/>
                    </a:lnTo>
                    <a:lnTo>
                      <a:pt x="73" y="258"/>
                    </a:lnTo>
                    <a:lnTo>
                      <a:pt x="61" y="264"/>
                    </a:lnTo>
                    <a:close/>
                  </a:path>
                </a:pathLst>
              </a:custGeom>
              <a:solidFill>
                <a:srgbClr val="ff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Rectangle 45"/>
          <p:cNvSpPr/>
          <p:nvPr/>
        </p:nvSpPr>
        <p:spPr>
          <a:xfrm>
            <a:off x="0" y="1371600"/>
            <a:ext cx="3276720" cy="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7" descr="MCj04347130000[1]"/>
          <p:cNvPicPr/>
          <p:nvPr/>
        </p:nvPicPr>
        <p:blipFill>
          <a:blip r:embed="rId2"/>
          <a:stretch/>
        </p:blipFill>
        <p:spPr>
          <a:xfrm rot="21477600">
            <a:off x="3995640" y="3396960"/>
            <a:ext cx="854280" cy="8953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8"/>
          <p:cNvSpPr/>
          <p:nvPr/>
        </p:nvSpPr>
        <p:spPr>
          <a:xfrm>
            <a:off x="8553600" y="604368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49"/>
          <p:cNvSpPr/>
          <p:nvPr/>
        </p:nvSpPr>
        <p:spPr>
          <a:xfrm>
            <a:off x="347400" y="293760"/>
            <a:ext cx="49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as the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a singer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he hall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50"/>
          <p:cNvSpPr/>
          <p:nvPr/>
        </p:nvSpPr>
        <p:spPr>
          <a:xfrm>
            <a:off x="1726200" y="4251240"/>
            <a:ext cx="157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51" descr="MCj03972560000[1]"/>
          <p:cNvPicPr/>
          <p:nvPr/>
        </p:nvPicPr>
        <p:blipFill>
          <a:blip r:embed="rId3"/>
          <a:stretch/>
        </p:blipFill>
        <p:spPr>
          <a:xfrm>
            <a:off x="5796000" y="3789360"/>
            <a:ext cx="133344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6" descr="MCj01549380000[1]"/>
          <p:cNvPicPr/>
          <p:nvPr/>
        </p:nvPicPr>
        <p:blipFill>
          <a:blip r:embed="rId1"/>
          <a:stretch/>
        </p:blipFill>
        <p:spPr>
          <a:xfrm>
            <a:off x="1403280" y="620640"/>
            <a:ext cx="6264360" cy="50119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9"/>
          <p:cNvSpPr/>
          <p:nvPr/>
        </p:nvSpPr>
        <p:spPr>
          <a:xfrm>
            <a:off x="8447040" y="582768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539640" y="2205000"/>
            <a:ext cx="2519640" cy="2243160"/>
            <a:chOff x="539640" y="2205000"/>
            <a:chExt cx="2519640" cy="2243160"/>
          </a:xfrm>
        </p:grpSpPr>
        <p:pic>
          <p:nvPicPr>
            <p:cNvPr id="195" name="Picture 3" descr="MCj04375070000[1]"/>
            <p:cNvPicPr/>
            <p:nvPr/>
          </p:nvPicPr>
          <p:blipFill>
            <a:blip r:embed="rId1"/>
            <a:stretch/>
          </p:blipFill>
          <p:spPr>
            <a:xfrm>
              <a:off x="1184760" y="2386080"/>
              <a:ext cx="1735920" cy="1810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4" descr="MCj03380940000[1]"/>
            <p:cNvPicPr/>
            <p:nvPr/>
          </p:nvPicPr>
          <p:blipFill>
            <a:blip r:embed="rId2"/>
            <a:stretch/>
          </p:blipFill>
          <p:spPr>
            <a:xfrm>
              <a:off x="539640" y="2205000"/>
              <a:ext cx="2519640" cy="224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AutoShape 7"/>
          <p:cNvSpPr/>
          <p:nvPr/>
        </p:nvSpPr>
        <p:spPr>
          <a:xfrm>
            <a:off x="3203640" y="1700280"/>
            <a:ext cx="4753080" cy="2592360"/>
          </a:xfrm>
          <a:prstGeom prst="wedgeRoundRectCallout">
            <a:avLst>
              <a:gd name="adj1" fmla="val -68037"/>
              <a:gd name="adj2" fmla="val -333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ere there some young boys watching televis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8447040" y="582768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0" descr="MCj04325790000[1]"/>
          <p:cNvPicPr/>
          <p:nvPr/>
        </p:nvPicPr>
        <p:blipFill>
          <a:blip r:embed="rId3"/>
          <a:stretch/>
        </p:blipFill>
        <p:spPr>
          <a:xfrm>
            <a:off x="7451640" y="260280"/>
            <a:ext cx="936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5"/>
          <p:cNvSpPr/>
          <p:nvPr/>
        </p:nvSpPr>
        <p:spPr>
          <a:xfrm>
            <a:off x="302400" y="5157720"/>
            <a:ext cx="41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, 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here weren’t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MCj01549380000[1]"/>
          <p:cNvPicPr/>
          <p:nvPr/>
        </p:nvPicPr>
        <p:blipFill>
          <a:blip r:embed="rId1"/>
          <a:stretch/>
        </p:blipFill>
        <p:spPr>
          <a:xfrm>
            <a:off x="5076720" y="2062080"/>
            <a:ext cx="3598920" cy="28796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9"/>
          <p:cNvSpPr/>
          <p:nvPr/>
        </p:nvSpPr>
        <p:spPr>
          <a:xfrm>
            <a:off x="1726200" y="2852640"/>
            <a:ext cx="157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8518680" y="597204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1"/>
          <p:cNvSpPr/>
          <p:nvPr/>
        </p:nvSpPr>
        <p:spPr>
          <a:xfrm>
            <a:off x="402840" y="355680"/>
            <a:ext cx="6770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Were the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some young boy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atching television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12" descr="MCj04347130000[1]"/>
          <p:cNvPicPr/>
          <p:nvPr/>
        </p:nvPicPr>
        <p:blipFill>
          <a:blip r:embed="rId2"/>
          <a:stretch/>
        </p:blipFill>
        <p:spPr>
          <a:xfrm rot="21477600">
            <a:off x="4732200" y="4884480"/>
            <a:ext cx="8542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2:29:31Z</dcterms:created>
  <dc:creator>DianaBurman</dc:creator>
  <dc:description/>
  <dc:language>en-US</dc:language>
  <cp:lastModifiedBy>Rossana Barros</cp:lastModifiedBy>
  <dcterms:modified xsi:type="dcterms:W3CDTF">2013-02-08T15:50:03Z</dcterms:modified>
  <cp:revision>17</cp:revision>
  <dc:subject/>
  <dc:title>Slide 1</dc:title>
</cp:coreProperties>
</file>