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3.png" ContentType="image/png"/>
  <Override PartName="/ppt/media/image1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6.png" ContentType="image/png"/>
  <Override PartName="/ppt/media/image32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33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F66-0046-4698-B3BD-E84E2B38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600-D9BA-45DA-8BE3-AE744B0D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8CB-48AD-41BA-8E65-3035E9C2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88F-3652-43D1-9912-65A921CD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34B-E74F-451B-A858-1C17F2C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77E-16CA-49FC-9813-0FFFCA74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9E9-9055-42AC-A27A-3495971D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6B2-D8D7-4CC5-A02F-6556283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64F-9A53-41AD-AC82-CFB7870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7B8-FA54-429A-BDD0-750C852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BBE-A5FC-44C8-8C3C-57205D0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9EC-6C25-4841-8389-A6E51A7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3E88-B446-4DAD-8983-533C48FB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8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8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8.wmf"/><Relationship Id="rId8" Type="http://schemas.openxmlformats.org/officeDocument/2006/relationships/image" Target="../media/image7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38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eek 2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T 3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et the verb righ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572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981000"/>
            <a:ext cx="3600360" cy="9471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…………….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5805360"/>
            <a:ext cx="395928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………….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98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k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1798920" cy="1771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2251080" cy="1533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48360" y="907920"/>
            <a:ext cx="38163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 ……….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83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k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5280" y="58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k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32200" y="189000"/>
            <a:ext cx="10429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995640" y="3645000"/>
            <a:ext cx="1314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1873440" cy="1473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871640" cy="1521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1046160" cy="1727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92280" y="884160"/>
            <a:ext cx="3859560" cy="520560"/>
          </a:xfrm>
          <a:prstGeom prst="rect">
            <a:avLst/>
          </a:prstGeom>
          <a:solidFill>
            <a:srgbClr val="f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h …………… happ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72560" y="981000"/>
            <a:ext cx="3695040" cy="520560"/>
          </a:xfrm>
          <a:prstGeom prst="rect">
            <a:avLst/>
          </a:prstGeom>
          <a:solidFill>
            <a:srgbClr val="f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……. happ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16840" y="5565600"/>
            <a:ext cx="3708720" cy="520560"/>
          </a:xfrm>
          <a:prstGeom prst="rect">
            <a:avLst/>
          </a:prstGeom>
          <a:solidFill>
            <a:srgbClr val="f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by …………. happ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58040" y="189000"/>
            <a:ext cx="1069200" cy="642600"/>
          </a:xfrm>
          <a:prstGeom prst="rect">
            <a:avLst/>
          </a:prstGeom>
          <a:solidFill>
            <a:srgbClr val="f6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836640"/>
            <a:ext cx="10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907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5516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259000" cy="183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2071800" cy="216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2147760" cy="2235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15560" y="884160"/>
            <a:ext cx="3129840" cy="520560"/>
          </a:xfrm>
          <a:prstGeom prst="rect">
            <a:avLst/>
          </a:prstGeom>
          <a:solidFill>
            <a:srgbClr val="f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……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94840" y="836640"/>
            <a:ext cx="3320280" cy="520560"/>
          </a:xfrm>
          <a:prstGeom prst="rect">
            <a:avLst/>
          </a:prstGeom>
          <a:solidFill>
            <a:srgbClr val="f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…………….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5827680"/>
            <a:ext cx="3024000" cy="947160"/>
          </a:xfrm>
          <a:prstGeom prst="rect">
            <a:avLst/>
          </a:prstGeom>
          <a:solidFill>
            <a:srgbClr val="f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………………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46080" y="68400"/>
            <a:ext cx="1290240" cy="642600"/>
          </a:xfrm>
          <a:prstGeom prst="rect">
            <a:avLst/>
          </a:prstGeom>
          <a:solidFill>
            <a:srgbClr val="f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83664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j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836640"/>
            <a:ext cx="11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805360"/>
            <a:ext cx="15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04000" y="4365720"/>
            <a:ext cx="1800000" cy="1799640"/>
            <a:chOff x="6804000" y="4365720"/>
            <a:chExt cx="1800000" cy="1799640"/>
          </a:xfrm>
        </p:grpSpPr>
        <p:sp>
          <p:nvSpPr>
            <p:cNvPr id="171" name=""/>
            <p:cNvSpPr/>
            <p:nvPr/>
          </p:nvSpPr>
          <p:spPr>
            <a:xfrm>
              <a:off x="6804000" y="4365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7092720" y="5024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84360" y="479736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376360" cy="2230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765000"/>
            <a:ext cx="33847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………… a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419640" y="4076640"/>
            <a:ext cx="1817640" cy="1765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435640" y="1687680"/>
            <a:ext cx="2595600" cy="1881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59280" y="6021360"/>
            <a:ext cx="3078000" cy="947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………… a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836640"/>
            <a:ext cx="2957400" cy="947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.. a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189000"/>
            <a:ext cx="113688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76500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5950080"/>
            <a:ext cx="11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826920" y="5157720"/>
            <a:ext cx="11512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6732720" y="3860640"/>
            <a:ext cx="1800000" cy="1800360"/>
            <a:chOff x="6732720" y="3860640"/>
            <a:chExt cx="1800000" cy="1800360"/>
          </a:xfrm>
        </p:grpSpPr>
        <p:sp>
          <p:nvSpPr>
            <p:cNvPr id="186" name=""/>
            <p:cNvSpPr/>
            <p:nvPr/>
          </p:nvSpPr>
          <p:spPr>
            <a:xfrm>
              <a:off x="6732720" y="3860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7021440" y="451944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1280" y="1316160"/>
            <a:ext cx="3097080" cy="947160"/>
          </a:xfrm>
          <a:prstGeom prst="rect">
            <a:avLst/>
          </a:prstGeom>
          <a:solidFill>
            <a:srgbClr val="fda1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.………….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95880" y="1173240"/>
            <a:ext cx="3445200" cy="520560"/>
          </a:xfrm>
          <a:prstGeom prst="rect">
            <a:avLst/>
          </a:prstGeom>
          <a:solidFill>
            <a:srgbClr val="fda1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..………..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5516640"/>
            <a:ext cx="3097080" cy="947160"/>
          </a:xfrm>
          <a:prstGeom prst="rect">
            <a:avLst/>
          </a:prstGeom>
          <a:solidFill>
            <a:srgbClr val="fda1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..….………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1289160" cy="175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1181160" cy="1857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084720" y="1989000"/>
            <a:ext cx="1818000" cy="1797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732120" y="68400"/>
            <a:ext cx="1157760" cy="642600"/>
          </a:xfrm>
          <a:prstGeom prst="rect">
            <a:avLst/>
          </a:prstGeom>
          <a:solidFill>
            <a:srgbClr val="fda1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268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w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11253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53737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w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32720" y="4221000"/>
            <a:ext cx="1800000" cy="1800360"/>
            <a:chOff x="6732720" y="4221000"/>
            <a:chExt cx="1800000" cy="1800360"/>
          </a:xfrm>
        </p:grpSpPr>
        <p:sp>
          <p:nvSpPr>
            <p:cNvPr id="199" name=""/>
            <p:cNvSpPr/>
            <p:nvPr/>
          </p:nvSpPr>
          <p:spPr>
            <a:xfrm>
              <a:off x="6732720" y="4221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7021440" y="4879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1151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635280" y="4221000"/>
            <a:ext cx="1857600" cy="1454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124000" y="1125360"/>
            <a:ext cx="511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Goodby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447920"/>
            <a:ext cx="84582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ollowing slides aim to introduce verb correspondence with nouns in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person (He……, She …….., They ……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required verb appears on each slide; the child’s task is to write the verb in 3rd person that corresponds with the given noun or prono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slide is an answer sheet for each child to complete as they watch the IT presentation. These should be printed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pencil appears on each slide. This is the cue for the children to complete their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then receive feedback on the screen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0360" y="30960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2  I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t the verb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55200" y="11592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2 IT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Get the verb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1314000"/>
            <a:ext cx="770580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. He ……….……… pictures.        She ……………….. pictures.  They …………….. pict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. He …………….…… food .          She …………………… food .    They ………..………… food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He ………………... a tree.         She ……..………... a ladder.  They …………... a mountain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They ……………… a mat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 ………………..…. a mat.      She …………..……. a mat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. Lisa …………..…… well .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orge ………………… well.     They …………….……. well.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 He ………….…. the ball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y …………….…. the ball.   She ……………….… the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Beth ………….…… happily.      They …………….…. happily.    Toby ………………. happ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They ……………… high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he……………..…… high.          He………………..……. high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9. He ………………… a bike 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y ……………..… a bike.       She …………..……. a bik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. She ………….…… home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y …………….... home.          He …………….……home.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70488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56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956720" y="83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120" y="22860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1890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7200" y="1268280"/>
            <a:ext cx="85752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li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k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38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eek 2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T 1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et the verb righ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57240" cy="1454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67280" y="5589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be viewed as 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749160"/>
            <a:ext cx="36734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  ………… 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42920" y="1484280"/>
            <a:ext cx="2233800" cy="2016000"/>
            <a:chOff x="1042920" y="1484280"/>
            <a:chExt cx="2233800" cy="20160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2233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254680" y="2477160"/>
              <a:ext cx="27900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566440" y="2056680"/>
              <a:ext cx="311400" cy="2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2254680" y="2171160"/>
              <a:ext cx="35460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2610360" y="2286000"/>
              <a:ext cx="222120" cy="3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2477160" y="2591640"/>
              <a:ext cx="266400" cy="1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4067280" y="189000"/>
            <a:ext cx="1296720" cy="6426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692280"/>
            <a:ext cx="35640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  ……… 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5877000"/>
            <a:ext cx="3600720" cy="947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…..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1628640"/>
            <a:ext cx="2160360" cy="183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4788000" y="4005360"/>
            <a:ext cx="1163520" cy="1573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 flipH="1">
            <a:off x="3419640" y="4076640"/>
            <a:ext cx="1134720" cy="1424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30072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5877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59640" y="4005360"/>
            <a:ext cx="1800000" cy="1799640"/>
            <a:chOff x="6659640" y="4005360"/>
            <a:chExt cx="1800000" cy="1799640"/>
          </a:xfrm>
        </p:grpSpPr>
        <p:sp>
          <p:nvSpPr>
            <p:cNvPr id="74" name=""/>
            <p:cNvSpPr/>
            <p:nvPr/>
          </p:nvSpPr>
          <p:spPr>
            <a:xfrm>
              <a:off x="6659640" y="4005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6948360" y="4663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684360" y="479736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43480" y="5830920"/>
            <a:ext cx="333360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………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07920"/>
            <a:ext cx="3527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  …………….  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5805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907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1009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1736640" cy="1854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1460520" cy="161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35640" y="928800"/>
            <a:ext cx="34574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………………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907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659640" y="3860640"/>
            <a:ext cx="1800000" cy="1800360"/>
            <a:chOff x="6659640" y="3860640"/>
            <a:chExt cx="1800000" cy="1800360"/>
          </a:xfrm>
        </p:grpSpPr>
        <p:sp>
          <p:nvSpPr>
            <p:cNvPr id="87" name=""/>
            <p:cNvSpPr/>
            <p:nvPr/>
          </p:nvSpPr>
          <p:spPr>
            <a:xfrm>
              <a:off x="6659640" y="3860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6948360" y="451944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732840" y="68400"/>
            <a:ext cx="1198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84360" y="479736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657440" cy="162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981000"/>
            <a:ext cx="3457440" cy="947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  ………….   a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60280"/>
            <a:ext cx="1439640" cy="642600"/>
          </a:xfrm>
          <a:prstGeom prst="rect">
            <a:avLst/>
          </a:prstGeom>
          <a:solidFill>
            <a:srgbClr val="66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li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981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1388880" cy="151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720" y="1073160"/>
            <a:ext cx="3816360" cy="947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……………. a lad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15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708360" y="3500280"/>
            <a:ext cx="1824120" cy="183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86320" y="5827680"/>
            <a:ext cx="467352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………. a m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5805360"/>
            <a:ext cx="105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04000" y="4005360"/>
            <a:ext cx="1800000" cy="1799640"/>
            <a:chOff x="6804000" y="4005360"/>
            <a:chExt cx="1800000" cy="1799640"/>
          </a:xfrm>
        </p:grpSpPr>
        <p:sp>
          <p:nvSpPr>
            <p:cNvPr id="102" name=""/>
            <p:cNvSpPr/>
            <p:nvPr/>
          </p:nvSpPr>
          <p:spPr>
            <a:xfrm>
              <a:off x="6804000" y="4005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7092720" y="4663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84360" y="479736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1319400" cy="165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720720" cy="115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5734080"/>
            <a:ext cx="4044960" cy="520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  …………   a 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089440" cy="122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3816360" cy="520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……….  a 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566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12000" y="1550880"/>
            <a:ext cx="1611000" cy="150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51640" y="836640"/>
            <a:ext cx="3132000" cy="52056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…………. a 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83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0" y="1844640"/>
            <a:ext cx="4643280" cy="2243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900000" y="1484280"/>
            <a:ext cx="13194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1835280" y="1628640"/>
            <a:ext cx="1611360" cy="1508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83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189000"/>
            <a:ext cx="1368360" cy="642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04000" y="4508640"/>
            <a:ext cx="1800000" cy="1799640"/>
            <a:chOff x="6804000" y="4508640"/>
            <a:chExt cx="1800000" cy="1799640"/>
          </a:xfrm>
        </p:grpSpPr>
        <p:sp>
          <p:nvSpPr>
            <p:cNvPr id="120" name=""/>
            <p:cNvSpPr/>
            <p:nvPr/>
          </p:nvSpPr>
          <p:spPr>
            <a:xfrm>
              <a:off x="6804000" y="4508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8"/>
            <a:stretch/>
          </p:blipFill>
          <p:spPr>
            <a:xfrm>
              <a:off x="7092720" y="5167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5148360" y="508464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981000"/>
            <a:ext cx="3456000" cy="947160"/>
          </a:xfrm>
          <a:prstGeom prst="rect">
            <a:avLst/>
          </a:prstGeom>
          <a:solidFill>
            <a:srgbClr val="ee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sa ……………….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6021360"/>
            <a:ext cx="3816360" cy="520560"/>
          </a:xfrm>
          <a:prstGeom prst="rect">
            <a:avLst/>
          </a:prstGeom>
          <a:solidFill>
            <a:srgbClr val="ee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……………..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le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907920"/>
            <a:ext cx="3745080" cy="947160"/>
          </a:xfrm>
          <a:prstGeom prst="rect">
            <a:avLst/>
          </a:prstGeom>
          <a:solidFill>
            <a:srgbClr val="ee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orge ……………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9500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948360" y="3789360"/>
            <a:ext cx="1800000" cy="1800360"/>
            <a:chOff x="6948360" y="3789360"/>
            <a:chExt cx="1800000" cy="1800360"/>
          </a:xfrm>
        </p:grpSpPr>
        <p:sp>
          <p:nvSpPr>
            <p:cNvPr id="129" name=""/>
            <p:cNvSpPr/>
            <p:nvPr/>
          </p:nvSpPr>
          <p:spPr>
            <a:xfrm>
              <a:off x="6948360" y="3789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237080" y="444816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3635280" y="189000"/>
            <a:ext cx="1441440" cy="642600"/>
          </a:xfrm>
          <a:prstGeom prst="rect">
            <a:avLst/>
          </a:prstGeom>
          <a:solidFill>
            <a:srgbClr val="ee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83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le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851120" cy="1382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56360" y="1989000"/>
            <a:ext cx="1817640" cy="154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56000" y="4149720"/>
            <a:ext cx="2612880" cy="1359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427640" y="3357720"/>
            <a:ext cx="1800000" cy="1955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84360" y="479736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7:39:10Z</dcterms:created>
  <dc:creator>DianaBurman</dc:creator>
  <dc:description/>
  <dc:language>en-US</dc:language>
  <cp:lastModifiedBy>DianaBurman</cp:lastModifiedBy>
  <dcterms:modified xsi:type="dcterms:W3CDTF">2009-04-08T07:50:42Z</dcterms:modified>
  <cp:revision>25</cp:revision>
  <dc:subject/>
  <dc:title>Slide 1</dc:title>
</cp:coreProperties>
</file>