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8.wmf" ContentType="image/x-wmf"/>
  <Override PartName="/ppt/media/image17.png" ContentType="image/png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6.wmf" ContentType="image/x-wmf"/>
  <Override PartName="/ppt/media/image5.gif" ContentType="image/gif"/>
  <Override PartName="/ppt/media/image8.wmf" ContentType="image/x-wmf"/>
  <Override PartName="/ppt/media/image13.wmf" ContentType="image/x-wmf"/>
  <Override PartName="/ppt/media/image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B14C-3B99-4317-92A8-162D1FAF0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E695-AE94-4516-8361-DD7A83413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5212-7F5F-45E8-A3A0-25BC40C2B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5991-28E0-4031-A5EB-522B0A9F8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572D-1A32-4BF2-BDED-61EFD59CB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218B-3B4E-421E-970A-9019A7FDE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BD9A0-11DC-45FD-A644-6B7CF1F5C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E98D-2827-4A6D-BF21-8704323FF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AAC4-25A0-4CF9-B644-692F2D851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EB49-3921-4914-82A2-10AB1829E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EA29-7F76-487C-91E0-0C578C3EE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9F46-2F7B-42C9-8F9E-E6811B330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567AB-4A9B-471D-A26D-47101B0015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gi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5.gif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Week 3 IT5</a:t>
            </a:r>
            <a:br>
              <a:rPr sz="5400"/>
            </a:b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Describing ‘does’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114800" y="3429000"/>
            <a:ext cx="1400040" cy="17906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671920" y="5257800"/>
            <a:ext cx="3720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with ‘how’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41560" y="714240"/>
            <a:ext cx="165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Wh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162240" y="728640"/>
            <a:ext cx="1733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do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549400" y="750960"/>
            <a:ext cx="155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3300"/>
                </a:solidFill>
                <a:latin typeface="Comic Sans MS"/>
              </a:rPr>
              <a:t>how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2819520" y="1600200"/>
            <a:ext cx="3027240" cy="37339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914400" y="5562000"/>
            <a:ext cx="685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Grandma reads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________ .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94400" y="5567400"/>
            <a:ext cx="151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3300"/>
                </a:solidFill>
                <a:latin typeface="Comic Sans MS"/>
              </a:rPr>
              <a:t>wal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7441920" y="4546080"/>
            <a:ext cx="1270800" cy="1270800"/>
            <a:chOff x="7441920" y="4546080"/>
            <a:chExt cx="1270800" cy="1270800"/>
          </a:xfrm>
        </p:grpSpPr>
        <p:sp>
          <p:nvSpPr>
            <p:cNvPr id="142" name=""/>
            <p:cNvSpPr/>
            <p:nvPr/>
          </p:nvSpPr>
          <p:spPr>
            <a:xfrm>
              <a:off x="7441920" y="4589280"/>
              <a:ext cx="1270800" cy="1184760"/>
            </a:xfrm>
            <a:prstGeom prst="line">
              <a:avLst/>
            </a:prstGeom>
            <a:ln w="889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7484760" y="4546080"/>
              <a:ext cx="1185120" cy="1270800"/>
            </a:xfrm>
            <a:prstGeom prst="line">
              <a:avLst/>
            </a:prstGeom>
            <a:ln w="889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7868160" y="5816520"/>
            <a:ext cx="119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8305920" y="0"/>
            <a:ext cx="8380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3" dur="500" fill="hold"/>
                                        <p:tgtEl>
                                          <p:spTgt spid="13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" dur="250" autoRev="1" fill="hold"/>
                                        <p:tgtEl>
                                          <p:spTgt spid="13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141560" y="714240"/>
            <a:ext cx="165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Wh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162240" y="728640"/>
            <a:ext cx="1733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do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549400" y="750960"/>
            <a:ext cx="155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3300"/>
                </a:solidFill>
                <a:latin typeface="Comic Sans MS"/>
              </a:rPr>
              <a:t>how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819520" y="1600200"/>
            <a:ext cx="3027240" cy="373392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1447920" y="5622120"/>
            <a:ext cx="685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Grandma reads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________ .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598000" y="5567400"/>
            <a:ext cx="1843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3300"/>
                </a:solidFill>
                <a:latin typeface="Comic Sans MS"/>
              </a:rPr>
              <a:t>quick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315200" y="3809880"/>
            <a:ext cx="1359000" cy="1257480"/>
          </a:xfrm>
          <a:custGeom>
            <a:avLst/>
            <a:gdLst/>
            <a:ahLst/>
            <a:rect l="l" t="t" r="r" b="b"/>
            <a:pathLst>
              <a:path w="856" h="792">
                <a:moveTo>
                  <a:pt x="856" y="0"/>
                </a:moveTo>
                <a:cubicBezTo>
                  <a:pt x="564" y="324"/>
                  <a:pt x="272" y="648"/>
                  <a:pt x="136" y="720"/>
                </a:cubicBezTo>
                <a:cubicBezTo>
                  <a:pt x="0" y="792"/>
                  <a:pt x="20" y="612"/>
                  <a:pt x="40" y="432"/>
                </a:cubicBezTo>
              </a:path>
            </a:pathLst>
          </a:custGeom>
          <a:noFill/>
          <a:ln w="889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944480" y="4978440"/>
            <a:ext cx="119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8305920" y="0"/>
            <a:ext cx="8380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2" dur="500" fill="hold"/>
                                        <p:tgtEl>
                                          <p:spTgt spid="14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7" dur="250" autoRev="1" fill="hold"/>
                                        <p:tgtEl>
                                          <p:spTgt spid="14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914400" y="1981080"/>
            <a:ext cx="7480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Let’s do some examples of ‘Who does how’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578960" y="974880"/>
            <a:ext cx="5942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Sam looks _____________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89760" y="919080"/>
            <a:ext cx="221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3300"/>
                </a:solidFill>
                <a:latin typeface="Comic Sans MS"/>
              </a:rPr>
              <a:t>careful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828800" y="4305240"/>
            <a:ext cx="1359000" cy="1257480"/>
          </a:xfrm>
          <a:custGeom>
            <a:avLst/>
            <a:gdLst/>
            <a:ahLst/>
            <a:rect l="l" t="t" r="r" b="b"/>
            <a:pathLst>
              <a:path w="856" h="792">
                <a:moveTo>
                  <a:pt x="856" y="0"/>
                </a:moveTo>
                <a:cubicBezTo>
                  <a:pt x="564" y="324"/>
                  <a:pt x="272" y="648"/>
                  <a:pt x="136" y="720"/>
                </a:cubicBezTo>
                <a:cubicBezTo>
                  <a:pt x="0" y="792"/>
                  <a:pt x="20" y="612"/>
                  <a:pt x="40" y="432"/>
                </a:cubicBezTo>
              </a:path>
            </a:pathLst>
          </a:custGeom>
          <a:noFill/>
          <a:ln w="889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410080" y="3124080"/>
            <a:ext cx="2765520" cy="26686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2458080" y="5435640"/>
            <a:ext cx="119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8305920" y="0"/>
            <a:ext cx="8380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5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578960" y="974880"/>
            <a:ext cx="5942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Sam looks _____________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225320" y="919080"/>
            <a:ext cx="155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3300"/>
                </a:solidFill>
                <a:latin typeface="Comic Sans MS"/>
              </a:rPr>
              <a:t>coo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410080" y="3124080"/>
            <a:ext cx="2765520" cy="2668680"/>
          </a:xfrm>
          <a:prstGeom prst="rect">
            <a:avLst/>
          </a:prstGeom>
          <a:ln w="0">
            <a:noFill/>
          </a:ln>
        </p:spPr>
      </p:pic>
      <p:grpSp>
        <p:nvGrpSpPr>
          <p:cNvPr id="165" name=""/>
          <p:cNvGrpSpPr/>
          <p:nvPr/>
        </p:nvGrpSpPr>
        <p:grpSpPr>
          <a:xfrm>
            <a:off x="1269720" y="3936600"/>
            <a:ext cx="1270800" cy="1270800"/>
            <a:chOff x="1269720" y="3936600"/>
            <a:chExt cx="1270800" cy="1270800"/>
          </a:xfrm>
        </p:grpSpPr>
        <p:sp>
          <p:nvSpPr>
            <p:cNvPr id="166" name=""/>
            <p:cNvSpPr/>
            <p:nvPr/>
          </p:nvSpPr>
          <p:spPr>
            <a:xfrm>
              <a:off x="1269720" y="3979800"/>
              <a:ext cx="1270800" cy="1184760"/>
            </a:xfrm>
            <a:prstGeom prst="line">
              <a:avLst/>
            </a:prstGeom>
            <a:ln w="889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1312560" y="3936600"/>
              <a:ext cx="1185120" cy="1270800"/>
            </a:xfrm>
            <a:prstGeom prst="line">
              <a:avLst/>
            </a:prstGeom>
            <a:ln w="889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2762640" y="5207040"/>
            <a:ext cx="119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8305920" y="0"/>
            <a:ext cx="8380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578960" y="974880"/>
            <a:ext cx="5942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Sam looks _____________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250880" y="919080"/>
            <a:ext cx="178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3300"/>
                </a:solidFill>
                <a:latin typeface="Comic Sans MS"/>
              </a:rPr>
              <a:t>close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828800" y="4305240"/>
            <a:ext cx="1359000" cy="1257480"/>
          </a:xfrm>
          <a:custGeom>
            <a:avLst/>
            <a:gdLst/>
            <a:ahLst/>
            <a:rect l="l" t="t" r="r" b="b"/>
            <a:pathLst>
              <a:path w="856" h="792">
                <a:moveTo>
                  <a:pt x="856" y="0"/>
                </a:moveTo>
                <a:cubicBezTo>
                  <a:pt x="564" y="324"/>
                  <a:pt x="272" y="648"/>
                  <a:pt x="136" y="720"/>
                </a:cubicBezTo>
                <a:cubicBezTo>
                  <a:pt x="0" y="792"/>
                  <a:pt x="20" y="612"/>
                  <a:pt x="40" y="432"/>
                </a:cubicBezTo>
              </a:path>
            </a:pathLst>
          </a:custGeom>
          <a:noFill/>
          <a:ln w="889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5410080" y="3124080"/>
            <a:ext cx="2765520" cy="266868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2702520" y="5322960"/>
            <a:ext cx="119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8305920" y="0"/>
            <a:ext cx="8380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69080" y="843120"/>
            <a:ext cx="69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Hannah washes ____________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888800" y="766800"/>
            <a:ext cx="192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3300"/>
                </a:solidFill>
                <a:latin typeface="Comic Sans MS"/>
              </a:rPr>
              <a:t>happi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2971800"/>
            <a:ext cx="2971800" cy="231624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1828800" y="4305240"/>
            <a:ext cx="1359000" cy="1257480"/>
          </a:xfrm>
          <a:custGeom>
            <a:avLst/>
            <a:gdLst/>
            <a:ahLst/>
            <a:rect l="l" t="t" r="r" b="b"/>
            <a:pathLst>
              <a:path w="856" h="792">
                <a:moveTo>
                  <a:pt x="856" y="0"/>
                </a:moveTo>
                <a:cubicBezTo>
                  <a:pt x="564" y="324"/>
                  <a:pt x="272" y="648"/>
                  <a:pt x="136" y="720"/>
                </a:cubicBezTo>
                <a:cubicBezTo>
                  <a:pt x="0" y="792"/>
                  <a:pt x="20" y="612"/>
                  <a:pt x="40" y="432"/>
                </a:cubicBezTo>
              </a:path>
            </a:pathLst>
          </a:custGeom>
          <a:noFill/>
          <a:ln w="889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702520" y="5322960"/>
            <a:ext cx="119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8305920" y="0"/>
            <a:ext cx="8380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0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69080" y="843120"/>
            <a:ext cx="69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Hannah washes ____________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921560" y="766800"/>
            <a:ext cx="1480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3300"/>
                </a:solidFill>
                <a:latin typeface="Comic Sans MS"/>
              </a:rPr>
              <a:t>bad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5029200" y="2971800"/>
            <a:ext cx="2971800" cy="231624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1828800" y="4305240"/>
            <a:ext cx="1359000" cy="1257480"/>
          </a:xfrm>
          <a:custGeom>
            <a:avLst/>
            <a:gdLst/>
            <a:ahLst/>
            <a:rect l="l" t="t" r="r" b="b"/>
            <a:pathLst>
              <a:path w="856" h="792">
                <a:moveTo>
                  <a:pt x="856" y="0"/>
                </a:moveTo>
                <a:cubicBezTo>
                  <a:pt x="564" y="324"/>
                  <a:pt x="272" y="648"/>
                  <a:pt x="136" y="720"/>
                </a:cubicBezTo>
                <a:cubicBezTo>
                  <a:pt x="0" y="792"/>
                  <a:pt x="20" y="612"/>
                  <a:pt x="40" y="432"/>
                </a:cubicBezTo>
              </a:path>
            </a:pathLst>
          </a:custGeom>
          <a:noFill/>
          <a:ln w="889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854800" y="5398920"/>
            <a:ext cx="119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8305920" y="0"/>
            <a:ext cx="8380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5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69080" y="843120"/>
            <a:ext cx="694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Hannah washes ____________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18320" y="822240"/>
            <a:ext cx="151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3300"/>
                </a:solidFill>
                <a:latin typeface="Comic Sans MS"/>
              </a:rPr>
              <a:t>wal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5029200" y="2971800"/>
            <a:ext cx="2971800" cy="2316240"/>
          </a:xfrm>
          <a:prstGeom prst="rect">
            <a:avLst/>
          </a:prstGeom>
          <a:ln w="0">
            <a:noFill/>
          </a:ln>
        </p:spPr>
      </p:pic>
      <p:grpSp>
        <p:nvGrpSpPr>
          <p:cNvPr id="191" name=""/>
          <p:cNvGrpSpPr/>
          <p:nvPr/>
        </p:nvGrpSpPr>
        <p:grpSpPr>
          <a:xfrm>
            <a:off x="1269720" y="3936600"/>
            <a:ext cx="1270800" cy="1270800"/>
            <a:chOff x="1269720" y="3936600"/>
            <a:chExt cx="1270800" cy="1270800"/>
          </a:xfrm>
        </p:grpSpPr>
        <p:sp>
          <p:nvSpPr>
            <p:cNvPr id="192" name=""/>
            <p:cNvSpPr/>
            <p:nvPr/>
          </p:nvSpPr>
          <p:spPr>
            <a:xfrm>
              <a:off x="1269720" y="3979800"/>
              <a:ext cx="1270800" cy="1184760"/>
            </a:xfrm>
            <a:prstGeom prst="line">
              <a:avLst/>
            </a:prstGeom>
            <a:ln w="889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1312560" y="3936600"/>
              <a:ext cx="1185120" cy="1270800"/>
            </a:xfrm>
            <a:prstGeom prst="line">
              <a:avLst/>
            </a:prstGeom>
            <a:ln w="889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2931120" y="5246640"/>
            <a:ext cx="119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8305920" y="0"/>
            <a:ext cx="8380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2009520" y="838080"/>
            <a:ext cx="532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Matt paints _________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624200" y="843120"/>
            <a:ext cx="168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3300"/>
                </a:solidFill>
                <a:latin typeface="Comic Sans MS"/>
              </a:rPr>
              <a:t>clea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5334120" y="2362320"/>
            <a:ext cx="2411280" cy="3863880"/>
          </a:xfrm>
          <a:prstGeom prst="rect">
            <a:avLst/>
          </a:prstGeom>
          <a:ln w="0">
            <a:noFill/>
          </a:ln>
        </p:spPr>
      </p:pic>
      <p:grpSp>
        <p:nvGrpSpPr>
          <p:cNvPr id="199" name=""/>
          <p:cNvGrpSpPr/>
          <p:nvPr/>
        </p:nvGrpSpPr>
        <p:grpSpPr>
          <a:xfrm>
            <a:off x="1269720" y="3936600"/>
            <a:ext cx="1270800" cy="1270800"/>
            <a:chOff x="1269720" y="3936600"/>
            <a:chExt cx="1270800" cy="1270800"/>
          </a:xfrm>
        </p:grpSpPr>
        <p:sp>
          <p:nvSpPr>
            <p:cNvPr id="200" name=""/>
            <p:cNvSpPr/>
            <p:nvPr/>
          </p:nvSpPr>
          <p:spPr>
            <a:xfrm>
              <a:off x="1269720" y="3979800"/>
              <a:ext cx="1270800" cy="1184760"/>
            </a:xfrm>
            <a:prstGeom prst="line">
              <a:avLst/>
            </a:prstGeom>
            <a:ln w="889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flipV="1">
              <a:off x="1312560" y="3936600"/>
              <a:ext cx="1185120" cy="1270800"/>
            </a:xfrm>
            <a:prstGeom prst="line">
              <a:avLst/>
            </a:prstGeom>
            <a:ln w="889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2931120" y="5246640"/>
            <a:ext cx="119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8305920" y="0"/>
            <a:ext cx="8380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889280" y="569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1273320"/>
            <a:ext cx="8686800" cy="59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his teacher led activity aims to show how children can describe verbs more fully by adding a ‘How’  word (adverb) to the ‘Does’ (verb) wor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The children are shown that the ‘How’ word can fit in the senten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Jack                 cooks            perfec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                      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(Who)               (Does)            (How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As each of these titles come in, a picture appears to illustrate th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Examples of 2 sentences, where the ‘How’ is missing, are then displayed in the presentation and the teacher discusses with the children which type of word fits where, and wh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Children have an answer sheet containing the 2 examples and the task sentences (see next slide) which need to be printed off prior to the lesson and distrib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Children have a choice of three words to either tick or cross on their sheet. They fill this in after each question on the slide show and a pencil appears in the slide to remind them to write before the next sli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For each question, after the children have made their answer and discussion has taken place, prompted by the ‘why?’, they receive feedback on screen with the tick/cross form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962360" y="-15840"/>
            <a:ext cx="5439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eek 3  IT5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Describing ‘Does’ with ‘how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2009520" y="838080"/>
            <a:ext cx="532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Matt paints _________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663440" y="843120"/>
            <a:ext cx="117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3300"/>
                </a:solidFill>
                <a:latin typeface="Comic Sans MS"/>
              </a:rPr>
              <a:t>ea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5334120" y="2362320"/>
            <a:ext cx="2411280" cy="3863880"/>
          </a:xfrm>
          <a:prstGeom prst="rect">
            <a:avLst/>
          </a:prstGeom>
          <a:ln w="0">
            <a:noFill/>
          </a:ln>
        </p:spPr>
      </p:pic>
      <p:grpSp>
        <p:nvGrpSpPr>
          <p:cNvPr id="207" name=""/>
          <p:cNvGrpSpPr/>
          <p:nvPr/>
        </p:nvGrpSpPr>
        <p:grpSpPr>
          <a:xfrm>
            <a:off x="1269720" y="3936600"/>
            <a:ext cx="1270800" cy="1270800"/>
            <a:chOff x="1269720" y="3936600"/>
            <a:chExt cx="1270800" cy="1270800"/>
          </a:xfrm>
        </p:grpSpPr>
        <p:sp>
          <p:nvSpPr>
            <p:cNvPr id="208" name=""/>
            <p:cNvSpPr/>
            <p:nvPr/>
          </p:nvSpPr>
          <p:spPr>
            <a:xfrm>
              <a:off x="1269720" y="3979800"/>
              <a:ext cx="1270800" cy="1184760"/>
            </a:xfrm>
            <a:prstGeom prst="line">
              <a:avLst/>
            </a:prstGeom>
            <a:ln w="889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V="1">
              <a:off x="1312560" y="3936600"/>
              <a:ext cx="1185120" cy="1270800"/>
            </a:xfrm>
            <a:prstGeom prst="line">
              <a:avLst/>
            </a:prstGeom>
            <a:ln w="889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007440" y="5246640"/>
            <a:ext cx="119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8305920" y="0"/>
            <a:ext cx="8380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0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2009520" y="838080"/>
            <a:ext cx="532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Matt paints _________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723560" y="843120"/>
            <a:ext cx="226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3300"/>
                </a:solidFill>
                <a:latin typeface="Comic Sans MS"/>
              </a:rPr>
              <a:t>perfect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828800" y="4305240"/>
            <a:ext cx="1359000" cy="1257480"/>
          </a:xfrm>
          <a:custGeom>
            <a:avLst/>
            <a:gdLst/>
            <a:ahLst/>
            <a:rect l="l" t="t" r="r" b="b"/>
            <a:pathLst>
              <a:path w="856" h="792">
                <a:moveTo>
                  <a:pt x="856" y="0"/>
                </a:moveTo>
                <a:cubicBezTo>
                  <a:pt x="564" y="324"/>
                  <a:pt x="272" y="648"/>
                  <a:pt x="136" y="720"/>
                </a:cubicBezTo>
                <a:cubicBezTo>
                  <a:pt x="0" y="792"/>
                  <a:pt x="20" y="612"/>
                  <a:pt x="40" y="432"/>
                </a:cubicBezTo>
              </a:path>
            </a:pathLst>
          </a:custGeom>
          <a:noFill/>
          <a:ln w="889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5334120" y="2362320"/>
            <a:ext cx="2411280" cy="386388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007440" y="5170320"/>
            <a:ext cx="119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8305920" y="0"/>
            <a:ext cx="8380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409040" y="919080"/>
            <a:ext cx="6771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Mary dances ______________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68160" y="843120"/>
            <a:ext cx="2702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3300"/>
                </a:solidFill>
                <a:latin typeface="Comic Sans MS"/>
              </a:rPr>
              <a:t>beautiful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354640" y="2209680"/>
            <a:ext cx="2855880" cy="413388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1828800" y="4305240"/>
            <a:ext cx="1359000" cy="1257480"/>
          </a:xfrm>
          <a:custGeom>
            <a:avLst/>
            <a:gdLst/>
            <a:ahLst/>
            <a:rect l="l" t="t" r="r" b="b"/>
            <a:pathLst>
              <a:path w="856" h="792">
                <a:moveTo>
                  <a:pt x="856" y="0"/>
                </a:moveTo>
                <a:cubicBezTo>
                  <a:pt x="564" y="324"/>
                  <a:pt x="272" y="648"/>
                  <a:pt x="136" y="720"/>
                </a:cubicBezTo>
                <a:cubicBezTo>
                  <a:pt x="0" y="792"/>
                  <a:pt x="20" y="612"/>
                  <a:pt x="40" y="432"/>
                </a:cubicBezTo>
              </a:path>
            </a:pathLst>
          </a:custGeom>
          <a:noFill/>
          <a:ln w="889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007440" y="5246640"/>
            <a:ext cx="119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8305920" y="0"/>
            <a:ext cx="8380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5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409040" y="919080"/>
            <a:ext cx="6771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Mary dances ______________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276080" y="843120"/>
            <a:ext cx="1634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3300"/>
                </a:solidFill>
                <a:latin typeface="Comic Sans MS"/>
              </a:rPr>
              <a:t>wri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54640" y="2209680"/>
            <a:ext cx="2855880" cy="4133880"/>
          </a:xfrm>
          <a:prstGeom prst="rect">
            <a:avLst/>
          </a:prstGeom>
          <a:ln w="0">
            <a:noFill/>
          </a:ln>
        </p:spPr>
      </p:pic>
      <p:grpSp>
        <p:nvGrpSpPr>
          <p:cNvPr id="227" name=""/>
          <p:cNvGrpSpPr/>
          <p:nvPr/>
        </p:nvGrpSpPr>
        <p:grpSpPr>
          <a:xfrm>
            <a:off x="1269720" y="3936600"/>
            <a:ext cx="1270800" cy="1270800"/>
            <a:chOff x="1269720" y="3936600"/>
            <a:chExt cx="1270800" cy="1270800"/>
          </a:xfrm>
        </p:grpSpPr>
        <p:sp>
          <p:nvSpPr>
            <p:cNvPr id="228" name=""/>
            <p:cNvSpPr/>
            <p:nvPr/>
          </p:nvSpPr>
          <p:spPr>
            <a:xfrm>
              <a:off x="1269720" y="3979800"/>
              <a:ext cx="1270800" cy="1184760"/>
            </a:xfrm>
            <a:prstGeom prst="line">
              <a:avLst/>
            </a:prstGeom>
            <a:ln w="889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flipV="1">
              <a:off x="1312560" y="3936600"/>
              <a:ext cx="1185120" cy="1270800"/>
            </a:xfrm>
            <a:prstGeom prst="line">
              <a:avLst/>
            </a:prstGeom>
            <a:ln w="889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3236040" y="4941720"/>
            <a:ext cx="119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8305920" y="0"/>
            <a:ext cx="8380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0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1409040" y="919080"/>
            <a:ext cx="6771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Mary dances ______________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227120" y="843120"/>
            <a:ext cx="236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3300"/>
                </a:solidFill>
                <a:latin typeface="Comic Sans MS"/>
              </a:rPr>
              <a:t>elegant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5354640" y="2209680"/>
            <a:ext cx="2855880" cy="413388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1828800" y="4305240"/>
            <a:ext cx="1359000" cy="1257480"/>
          </a:xfrm>
          <a:custGeom>
            <a:avLst/>
            <a:gdLst/>
            <a:ahLst/>
            <a:rect l="l" t="t" r="r" b="b"/>
            <a:pathLst>
              <a:path w="856" h="792">
                <a:moveTo>
                  <a:pt x="856" y="0"/>
                </a:moveTo>
                <a:cubicBezTo>
                  <a:pt x="564" y="324"/>
                  <a:pt x="272" y="648"/>
                  <a:pt x="136" y="720"/>
                </a:cubicBezTo>
                <a:cubicBezTo>
                  <a:pt x="0" y="792"/>
                  <a:pt x="20" y="612"/>
                  <a:pt x="40" y="432"/>
                </a:cubicBezTo>
              </a:path>
            </a:pathLst>
          </a:custGeom>
          <a:noFill/>
          <a:ln w="889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769200" y="4941720"/>
            <a:ext cx="119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8305920" y="0"/>
            <a:ext cx="8380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5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1923840" y="843120"/>
            <a:ext cx="5241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Jim cuts _____________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114800" y="762120"/>
            <a:ext cx="142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3300"/>
                </a:solidFill>
                <a:latin typeface="Comic Sans MS"/>
              </a:rPr>
              <a:t>wai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5257800" y="2971800"/>
            <a:ext cx="2927520" cy="3240000"/>
          </a:xfrm>
          <a:prstGeom prst="rect">
            <a:avLst/>
          </a:prstGeom>
          <a:ln w="0">
            <a:noFill/>
          </a:ln>
        </p:spPr>
      </p:pic>
      <p:grpSp>
        <p:nvGrpSpPr>
          <p:cNvPr id="241" name=""/>
          <p:cNvGrpSpPr/>
          <p:nvPr/>
        </p:nvGrpSpPr>
        <p:grpSpPr>
          <a:xfrm>
            <a:off x="1802880" y="3784320"/>
            <a:ext cx="1270800" cy="1270800"/>
            <a:chOff x="1802880" y="3784320"/>
            <a:chExt cx="1270800" cy="1270800"/>
          </a:xfrm>
        </p:grpSpPr>
        <p:sp>
          <p:nvSpPr>
            <p:cNvPr id="242" name=""/>
            <p:cNvSpPr/>
            <p:nvPr/>
          </p:nvSpPr>
          <p:spPr>
            <a:xfrm>
              <a:off x="1802880" y="3827520"/>
              <a:ext cx="1270800" cy="1184760"/>
            </a:xfrm>
            <a:prstGeom prst="line">
              <a:avLst/>
            </a:prstGeom>
            <a:ln w="889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>
              <a:off x="1845720" y="3784320"/>
              <a:ext cx="1185120" cy="1270800"/>
            </a:xfrm>
            <a:prstGeom prst="line">
              <a:avLst/>
            </a:prstGeom>
            <a:ln w="889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3540600" y="4941720"/>
            <a:ext cx="119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8305920" y="0"/>
            <a:ext cx="8380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0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1923840" y="843120"/>
            <a:ext cx="5241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Jim cuts _____________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096440" y="762120"/>
            <a:ext cx="164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3300"/>
                </a:solidFill>
                <a:latin typeface="Comic Sans MS"/>
              </a:rPr>
              <a:t>pai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5257800" y="2971800"/>
            <a:ext cx="2927520" cy="3240000"/>
          </a:xfrm>
          <a:prstGeom prst="rect">
            <a:avLst/>
          </a:prstGeom>
          <a:ln w="0">
            <a:noFill/>
          </a:ln>
        </p:spPr>
      </p:pic>
      <p:grpSp>
        <p:nvGrpSpPr>
          <p:cNvPr id="249" name=""/>
          <p:cNvGrpSpPr/>
          <p:nvPr/>
        </p:nvGrpSpPr>
        <p:grpSpPr>
          <a:xfrm>
            <a:off x="1269720" y="3936600"/>
            <a:ext cx="1270800" cy="1270800"/>
            <a:chOff x="1269720" y="3936600"/>
            <a:chExt cx="1270800" cy="1270800"/>
          </a:xfrm>
        </p:grpSpPr>
        <p:sp>
          <p:nvSpPr>
            <p:cNvPr id="250" name=""/>
            <p:cNvSpPr/>
            <p:nvPr/>
          </p:nvSpPr>
          <p:spPr>
            <a:xfrm>
              <a:off x="1269720" y="3979800"/>
              <a:ext cx="1270800" cy="1184760"/>
            </a:xfrm>
            <a:prstGeom prst="line">
              <a:avLst/>
            </a:prstGeom>
            <a:ln w="889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1312560" y="3936600"/>
              <a:ext cx="1185120" cy="1270800"/>
            </a:xfrm>
            <a:prstGeom prst="line">
              <a:avLst/>
            </a:prstGeom>
            <a:ln w="889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3236040" y="4941720"/>
            <a:ext cx="119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8305920" y="0"/>
            <a:ext cx="8380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5" dur="5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1923840" y="843120"/>
            <a:ext cx="5241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Jim cuts _____________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136400" y="762120"/>
            <a:ext cx="250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3300"/>
                </a:solidFill>
                <a:latin typeface="Comic Sans MS"/>
              </a:rPr>
              <a:t>careless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5257800" y="2971800"/>
            <a:ext cx="2927520" cy="324000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1828800" y="4305240"/>
            <a:ext cx="1359000" cy="1257480"/>
          </a:xfrm>
          <a:custGeom>
            <a:avLst/>
            <a:gdLst/>
            <a:ahLst/>
            <a:rect l="l" t="t" r="r" b="b"/>
            <a:pathLst>
              <a:path w="856" h="792">
                <a:moveTo>
                  <a:pt x="856" y="0"/>
                </a:moveTo>
                <a:cubicBezTo>
                  <a:pt x="564" y="324"/>
                  <a:pt x="272" y="648"/>
                  <a:pt x="136" y="720"/>
                </a:cubicBezTo>
                <a:cubicBezTo>
                  <a:pt x="0" y="792"/>
                  <a:pt x="20" y="612"/>
                  <a:pt x="40" y="432"/>
                </a:cubicBezTo>
              </a:path>
            </a:pathLst>
          </a:custGeom>
          <a:noFill/>
          <a:ln w="889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236040" y="5094360"/>
            <a:ext cx="119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8305920" y="0"/>
            <a:ext cx="8380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0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605960" y="843120"/>
            <a:ext cx="6168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Maria dresses __________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97720" y="822240"/>
            <a:ext cx="151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3300"/>
                </a:solidFill>
                <a:latin typeface="Comic Sans MS"/>
              </a:rPr>
              <a:t>rea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4724280" y="2666880"/>
            <a:ext cx="3505320" cy="3505320"/>
          </a:xfrm>
          <a:prstGeom prst="rect">
            <a:avLst/>
          </a:prstGeom>
          <a:ln w="0">
            <a:noFill/>
          </a:ln>
        </p:spPr>
      </p:pic>
      <p:grpSp>
        <p:nvGrpSpPr>
          <p:cNvPr id="263" name=""/>
          <p:cNvGrpSpPr/>
          <p:nvPr/>
        </p:nvGrpSpPr>
        <p:grpSpPr>
          <a:xfrm>
            <a:off x="1269720" y="3936600"/>
            <a:ext cx="1270800" cy="1270800"/>
            <a:chOff x="1269720" y="3936600"/>
            <a:chExt cx="1270800" cy="1270800"/>
          </a:xfrm>
        </p:grpSpPr>
        <p:sp>
          <p:nvSpPr>
            <p:cNvPr id="264" name=""/>
            <p:cNvSpPr/>
            <p:nvPr/>
          </p:nvSpPr>
          <p:spPr>
            <a:xfrm>
              <a:off x="1269720" y="3979800"/>
              <a:ext cx="1270800" cy="1184760"/>
            </a:xfrm>
            <a:prstGeom prst="line">
              <a:avLst/>
            </a:prstGeom>
            <a:ln w="889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>
              <a:off x="1312560" y="3936600"/>
              <a:ext cx="1185120" cy="1270800"/>
            </a:xfrm>
            <a:prstGeom prst="line">
              <a:avLst/>
            </a:prstGeom>
            <a:ln w="889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6" name=""/>
          <p:cNvSpPr/>
          <p:nvPr/>
        </p:nvSpPr>
        <p:spPr>
          <a:xfrm>
            <a:off x="3159720" y="4865760"/>
            <a:ext cx="119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8305920" y="0"/>
            <a:ext cx="8380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5" dur="5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1605960" y="843120"/>
            <a:ext cx="6168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Maria dresses __________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795560" y="822240"/>
            <a:ext cx="2702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3300"/>
                </a:solidFill>
                <a:latin typeface="Comic Sans MS"/>
              </a:rPr>
              <a:t>colourful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4724280" y="2666880"/>
            <a:ext cx="3505320" cy="350532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1828800" y="4305240"/>
            <a:ext cx="1359000" cy="1257480"/>
          </a:xfrm>
          <a:custGeom>
            <a:avLst/>
            <a:gdLst/>
            <a:ahLst/>
            <a:rect l="l" t="t" r="r" b="b"/>
            <a:pathLst>
              <a:path w="856" h="792">
                <a:moveTo>
                  <a:pt x="856" y="0"/>
                </a:moveTo>
                <a:cubicBezTo>
                  <a:pt x="564" y="324"/>
                  <a:pt x="272" y="648"/>
                  <a:pt x="136" y="720"/>
                </a:cubicBezTo>
                <a:cubicBezTo>
                  <a:pt x="0" y="792"/>
                  <a:pt x="20" y="612"/>
                  <a:pt x="40" y="432"/>
                </a:cubicBezTo>
              </a:path>
            </a:pathLst>
          </a:custGeom>
          <a:noFill/>
          <a:ln w="889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236040" y="4941720"/>
            <a:ext cx="119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8305920" y="0"/>
            <a:ext cx="8380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0" dur="5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30560" y="3733920"/>
            <a:ext cx="152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1. Sam loo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943600" y="3276720"/>
            <a:ext cx="1089000" cy="807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13280" y="4724280"/>
            <a:ext cx="21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2. Hannah was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943600" y="4191120"/>
            <a:ext cx="1295280" cy="7538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77720" y="579132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3. Matt pa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6400800" y="5257800"/>
            <a:ext cx="838080" cy="10112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665080" y="5791320"/>
            <a:ext cx="256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omic Sans MS"/>
              </a:rPr>
              <a:t>cleans / eats / perfect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46000" y="4724280"/>
            <a:ext cx="25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omic Sans MS"/>
              </a:rPr>
              <a:t>happily / badly / wal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643480" y="3733920"/>
            <a:ext cx="275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omic Sans MS"/>
              </a:rPr>
              <a:t>carefully / cooks / close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894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3657600" y="1066680"/>
            <a:ext cx="581040" cy="3524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726080" y="9907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268880" y="114300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6172200" y="1295280"/>
            <a:ext cx="990720" cy="747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6"/>
          <a:stretch/>
        </p:blipFill>
        <p:spPr>
          <a:xfrm>
            <a:off x="6172200" y="2209680"/>
            <a:ext cx="741240" cy="9144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19480" y="1681200"/>
            <a:ext cx="5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e.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130040" y="168120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Dad ir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1676520"/>
            <a:ext cx="321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i="1" lang="en-GB" sz="1800" spc="-1" strike="noStrike">
                <a:solidFill>
                  <a:srgbClr val="000000"/>
                </a:solidFill>
                <a:latin typeface="Comic Sans MS"/>
              </a:rPr>
              <a:t>gently /  clim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43520" y="2443320"/>
            <a:ext cx="5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e.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107360" y="2519280"/>
            <a:ext cx="185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Grandma rea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36840" y="17892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625920" y="2590920"/>
            <a:ext cx="171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omic Sans MS"/>
              </a:rPr>
              <a:t>walks / quickl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09880" y="228600"/>
            <a:ext cx="1905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Answer sheet for IT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Page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942640" y="228600"/>
            <a:ext cx="311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Week 3 IT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ff0000"/>
                </a:solidFill>
                <a:uFillTx/>
                <a:latin typeface="Comic Sans MS"/>
              </a:rPr>
              <a:t>Describing ‘does’ with ‘how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664320" y="228600"/>
            <a:ext cx="232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Name…………………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Date …………………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1605960" y="843120"/>
            <a:ext cx="6168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Maria dresses __________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770360" y="822240"/>
            <a:ext cx="165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3300"/>
                </a:solidFill>
                <a:latin typeface="Comic Sans MS"/>
              </a:rPr>
              <a:t>slow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4724280" y="2666880"/>
            <a:ext cx="3505320" cy="350532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1828800" y="4305240"/>
            <a:ext cx="1359000" cy="1257480"/>
          </a:xfrm>
          <a:custGeom>
            <a:avLst/>
            <a:gdLst/>
            <a:ahLst/>
            <a:rect l="l" t="t" r="r" b="b"/>
            <a:pathLst>
              <a:path w="856" h="792">
                <a:moveTo>
                  <a:pt x="856" y="0"/>
                </a:moveTo>
                <a:cubicBezTo>
                  <a:pt x="564" y="324"/>
                  <a:pt x="272" y="648"/>
                  <a:pt x="136" y="720"/>
                </a:cubicBezTo>
                <a:cubicBezTo>
                  <a:pt x="0" y="792"/>
                  <a:pt x="20" y="612"/>
                  <a:pt x="40" y="432"/>
                </a:cubicBezTo>
              </a:path>
            </a:pathLst>
          </a:custGeom>
          <a:noFill/>
          <a:ln w="889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236040" y="4941720"/>
            <a:ext cx="119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2"/>
          <a:stretch/>
        </p:blipFill>
        <p:spPr>
          <a:xfrm>
            <a:off x="8305920" y="0"/>
            <a:ext cx="8380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5" dur="5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1433160" y="843120"/>
            <a:ext cx="594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Chris drives ____________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089680" y="1027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36240" y="766800"/>
            <a:ext cx="1843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3300"/>
                </a:solidFill>
                <a:latin typeface="Comic Sans MS"/>
              </a:rPr>
              <a:t>quick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828800" y="4305240"/>
            <a:ext cx="1359000" cy="1257480"/>
          </a:xfrm>
          <a:custGeom>
            <a:avLst/>
            <a:gdLst/>
            <a:ahLst/>
            <a:rect l="l" t="t" r="r" b="b"/>
            <a:pathLst>
              <a:path w="856" h="792">
                <a:moveTo>
                  <a:pt x="856" y="0"/>
                </a:moveTo>
                <a:cubicBezTo>
                  <a:pt x="564" y="324"/>
                  <a:pt x="272" y="648"/>
                  <a:pt x="136" y="720"/>
                </a:cubicBezTo>
                <a:cubicBezTo>
                  <a:pt x="0" y="792"/>
                  <a:pt x="20" y="612"/>
                  <a:pt x="40" y="432"/>
                </a:cubicBezTo>
              </a:path>
            </a:pathLst>
          </a:custGeom>
          <a:noFill/>
          <a:ln w="889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4876920" y="3094200"/>
            <a:ext cx="3233520" cy="283176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3312000" y="4941720"/>
            <a:ext cx="119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2"/>
          <a:stretch/>
        </p:blipFill>
        <p:spPr>
          <a:xfrm>
            <a:off x="8305920" y="0"/>
            <a:ext cx="8380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0" dur="5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1433160" y="843120"/>
            <a:ext cx="594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Chris drives ____________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089680" y="1027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816440" y="766800"/>
            <a:ext cx="16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3300"/>
                </a:solidFill>
                <a:latin typeface="Comic Sans MS"/>
              </a:rPr>
              <a:t>jum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1269720" y="3936600"/>
            <a:ext cx="1270800" cy="1270800"/>
            <a:chOff x="1269720" y="3936600"/>
            <a:chExt cx="1270800" cy="1270800"/>
          </a:xfrm>
        </p:grpSpPr>
        <p:sp>
          <p:nvSpPr>
            <p:cNvPr id="291" name=""/>
            <p:cNvSpPr/>
            <p:nvPr/>
          </p:nvSpPr>
          <p:spPr>
            <a:xfrm>
              <a:off x="1269720" y="3979800"/>
              <a:ext cx="1270800" cy="1184760"/>
            </a:xfrm>
            <a:prstGeom prst="line">
              <a:avLst/>
            </a:prstGeom>
            <a:ln w="889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flipV="1">
              <a:off x="1312560" y="3936600"/>
              <a:ext cx="1185120" cy="1270800"/>
            </a:xfrm>
            <a:prstGeom prst="line">
              <a:avLst/>
            </a:prstGeom>
            <a:ln w="889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4876920" y="3094200"/>
            <a:ext cx="3233520" cy="283176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3236040" y="4941720"/>
            <a:ext cx="119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2"/>
          <a:stretch/>
        </p:blipFill>
        <p:spPr>
          <a:xfrm>
            <a:off x="8305920" y="0"/>
            <a:ext cx="8380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5" dur="5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1433160" y="843120"/>
            <a:ext cx="594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Chris drives ____________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089680" y="1027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811400" y="766800"/>
            <a:ext cx="164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3300"/>
                </a:solidFill>
                <a:latin typeface="Comic Sans MS"/>
              </a:rPr>
              <a:t>mad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828800" y="4305240"/>
            <a:ext cx="1359000" cy="1257480"/>
          </a:xfrm>
          <a:custGeom>
            <a:avLst/>
            <a:gdLst/>
            <a:ahLst/>
            <a:rect l="l" t="t" r="r" b="b"/>
            <a:pathLst>
              <a:path w="856" h="792">
                <a:moveTo>
                  <a:pt x="856" y="0"/>
                </a:moveTo>
                <a:cubicBezTo>
                  <a:pt x="564" y="324"/>
                  <a:pt x="272" y="648"/>
                  <a:pt x="136" y="720"/>
                </a:cubicBezTo>
                <a:cubicBezTo>
                  <a:pt x="0" y="792"/>
                  <a:pt x="20" y="612"/>
                  <a:pt x="40" y="432"/>
                </a:cubicBezTo>
              </a:path>
            </a:pathLst>
          </a:custGeom>
          <a:noFill/>
          <a:ln w="889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4876920" y="3094200"/>
            <a:ext cx="3233520" cy="283176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3236040" y="4941720"/>
            <a:ext cx="119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8305920" y="0"/>
            <a:ext cx="8380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0" dur="5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1951200" y="1071720"/>
            <a:ext cx="518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Tim thinks __________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733280" y="995400"/>
            <a:ext cx="1986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3300"/>
                </a:solidFill>
                <a:latin typeface="Comic Sans MS"/>
              </a:rPr>
              <a:t>clever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4952880" y="2438280"/>
            <a:ext cx="3089520" cy="359748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/>
          <p:nvPr/>
        </p:nvSpPr>
        <p:spPr>
          <a:xfrm>
            <a:off x="1828800" y="4305240"/>
            <a:ext cx="1359000" cy="1257480"/>
          </a:xfrm>
          <a:custGeom>
            <a:avLst/>
            <a:gdLst/>
            <a:ahLst/>
            <a:rect l="l" t="t" r="r" b="b"/>
            <a:pathLst>
              <a:path w="856" h="792">
                <a:moveTo>
                  <a:pt x="856" y="0"/>
                </a:moveTo>
                <a:cubicBezTo>
                  <a:pt x="564" y="324"/>
                  <a:pt x="272" y="648"/>
                  <a:pt x="136" y="720"/>
                </a:cubicBezTo>
                <a:cubicBezTo>
                  <a:pt x="0" y="792"/>
                  <a:pt x="20" y="612"/>
                  <a:pt x="40" y="432"/>
                </a:cubicBezTo>
              </a:path>
            </a:pathLst>
          </a:custGeom>
          <a:noFill/>
          <a:ln w="889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236040" y="4941720"/>
            <a:ext cx="119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8305920" y="0"/>
            <a:ext cx="8380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5" dur="5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951200" y="1071720"/>
            <a:ext cx="518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Tim thinks __________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706280" y="995400"/>
            <a:ext cx="1663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3300"/>
                </a:solidFill>
                <a:latin typeface="Comic Sans MS"/>
              </a:rPr>
              <a:t>drink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4952880" y="2438280"/>
            <a:ext cx="3089520" cy="3597480"/>
          </a:xfrm>
          <a:prstGeom prst="rect">
            <a:avLst/>
          </a:prstGeom>
          <a:ln w="0">
            <a:noFill/>
          </a:ln>
        </p:spPr>
      </p:pic>
      <p:grpSp>
        <p:nvGrpSpPr>
          <p:cNvPr id="312" name=""/>
          <p:cNvGrpSpPr/>
          <p:nvPr/>
        </p:nvGrpSpPr>
        <p:grpSpPr>
          <a:xfrm>
            <a:off x="1269720" y="3936600"/>
            <a:ext cx="1270800" cy="1270800"/>
            <a:chOff x="1269720" y="3936600"/>
            <a:chExt cx="1270800" cy="1270800"/>
          </a:xfrm>
        </p:grpSpPr>
        <p:sp>
          <p:nvSpPr>
            <p:cNvPr id="313" name=""/>
            <p:cNvSpPr/>
            <p:nvPr/>
          </p:nvSpPr>
          <p:spPr>
            <a:xfrm>
              <a:off x="1269720" y="3979800"/>
              <a:ext cx="1270800" cy="1184760"/>
            </a:xfrm>
            <a:prstGeom prst="line">
              <a:avLst/>
            </a:prstGeom>
            <a:ln w="889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1312560" y="3936600"/>
              <a:ext cx="1185120" cy="1270800"/>
            </a:xfrm>
            <a:prstGeom prst="line">
              <a:avLst/>
            </a:prstGeom>
            <a:ln w="889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3236040" y="4865760"/>
            <a:ext cx="119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2"/>
          <a:stretch/>
        </p:blipFill>
        <p:spPr>
          <a:xfrm>
            <a:off x="8305920" y="0"/>
            <a:ext cx="8380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6" dur="indefinite" restart="never" nodeType="tmRoot">
          <p:childTnLst>
            <p:seq>
              <p:cTn id="717" dur="indefinite" nodeType="mainSeq">
                <p:childTnLst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0" dur="5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1951200" y="1071720"/>
            <a:ext cx="518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Tim thinks __________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644000" y="995400"/>
            <a:ext cx="1643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3300"/>
                </a:solidFill>
                <a:latin typeface="Comic Sans MS"/>
              </a:rPr>
              <a:t>ope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4952880" y="2438280"/>
            <a:ext cx="3089520" cy="3597480"/>
          </a:xfrm>
          <a:prstGeom prst="rect">
            <a:avLst/>
          </a:prstGeom>
          <a:ln w="0">
            <a:noFill/>
          </a:ln>
        </p:spPr>
      </p:pic>
      <p:grpSp>
        <p:nvGrpSpPr>
          <p:cNvPr id="320" name=""/>
          <p:cNvGrpSpPr/>
          <p:nvPr/>
        </p:nvGrpSpPr>
        <p:grpSpPr>
          <a:xfrm>
            <a:off x="1269720" y="3936600"/>
            <a:ext cx="1270800" cy="1270800"/>
            <a:chOff x="1269720" y="3936600"/>
            <a:chExt cx="1270800" cy="1270800"/>
          </a:xfrm>
        </p:grpSpPr>
        <p:sp>
          <p:nvSpPr>
            <p:cNvPr id="321" name=""/>
            <p:cNvSpPr/>
            <p:nvPr/>
          </p:nvSpPr>
          <p:spPr>
            <a:xfrm>
              <a:off x="1269720" y="3979800"/>
              <a:ext cx="1270800" cy="1184760"/>
            </a:xfrm>
            <a:prstGeom prst="line">
              <a:avLst/>
            </a:prstGeom>
            <a:ln w="889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 flipV="1">
              <a:off x="1312560" y="3936600"/>
              <a:ext cx="1185120" cy="1270800"/>
            </a:xfrm>
            <a:prstGeom prst="line">
              <a:avLst/>
            </a:prstGeom>
            <a:ln w="889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"/>
          <p:cNvSpPr/>
          <p:nvPr/>
        </p:nvSpPr>
        <p:spPr>
          <a:xfrm>
            <a:off x="3236040" y="4865760"/>
            <a:ext cx="119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2"/>
          <a:stretch/>
        </p:blipFill>
        <p:spPr>
          <a:xfrm>
            <a:off x="8305920" y="0"/>
            <a:ext cx="8380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5" dur="5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1773720" y="919080"/>
            <a:ext cx="554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Jade plays ____________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593960" y="919080"/>
            <a:ext cx="1634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3300"/>
                </a:solidFill>
                <a:latin typeface="Comic Sans MS"/>
              </a:rPr>
              <a:t>loud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4510080" y="2590920"/>
            <a:ext cx="3243240" cy="327492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/>
          <p:nvPr/>
        </p:nvSpPr>
        <p:spPr>
          <a:xfrm>
            <a:off x="1828800" y="4305240"/>
            <a:ext cx="1359000" cy="1257480"/>
          </a:xfrm>
          <a:custGeom>
            <a:avLst/>
            <a:gdLst/>
            <a:ahLst/>
            <a:rect l="l" t="t" r="r" b="b"/>
            <a:pathLst>
              <a:path w="856" h="792">
                <a:moveTo>
                  <a:pt x="856" y="0"/>
                </a:moveTo>
                <a:cubicBezTo>
                  <a:pt x="564" y="324"/>
                  <a:pt x="272" y="648"/>
                  <a:pt x="136" y="720"/>
                </a:cubicBezTo>
                <a:cubicBezTo>
                  <a:pt x="0" y="792"/>
                  <a:pt x="20" y="612"/>
                  <a:pt x="40" y="432"/>
                </a:cubicBezTo>
              </a:path>
            </a:pathLst>
          </a:custGeom>
          <a:noFill/>
          <a:ln w="889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312000" y="4941720"/>
            <a:ext cx="119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2"/>
          <a:stretch/>
        </p:blipFill>
        <p:spPr>
          <a:xfrm>
            <a:off x="8305920" y="0"/>
            <a:ext cx="8380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0" dur="5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1773720" y="919080"/>
            <a:ext cx="554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Jade plays ____________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621680" y="919080"/>
            <a:ext cx="1797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3300"/>
                </a:solidFill>
                <a:latin typeface="Comic Sans MS"/>
              </a:rPr>
              <a:t>quiet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4510080" y="2590920"/>
            <a:ext cx="3243240" cy="327492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1828800" y="4305240"/>
            <a:ext cx="1359000" cy="1257480"/>
          </a:xfrm>
          <a:custGeom>
            <a:avLst/>
            <a:gdLst/>
            <a:ahLst/>
            <a:rect l="l" t="t" r="r" b="b"/>
            <a:pathLst>
              <a:path w="856" h="792">
                <a:moveTo>
                  <a:pt x="856" y="0"/>
                </a:moveTo>
                <a:cubicBezTo>
                  <a:pt x="564" y="324"/>
                  <a:pt x="272" y="648"/>
                  <a:pt x="136" y="720"/>
                </a:cubicBezTo>
                <a:cubicBezTo>
                  <a:pt x="0" y="792"/>
                  <a:pt x="20" y="612"/>
                  <a:pt x="40" y="432"/>
                </a:cubicBezTo>
              </a:path>
            </a:pathLst>
          </a:custGeom>
          <a:noFill/>
          <a:ln w="889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312000" y="4941720"/>
            <a:ext cx="119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2"/>
          <a:stretch/>
        </p:blipFill>
        <p:spPr>
          <a:xfrm>
            <a:off x="8305920" y="0"/>
            <a:ext cx="8380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1" dur="indefinite" restart="never" nodeType="tmRoot">
          <p:childTnLst>
            <p:seq>
              <p:cTn id="792" dur="indefinite" nodeType="mainSeq">
                <p:childTnLst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5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1773720" y="919080"/>
            <a:ext cx="554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Jade plays ____________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599000" y="919080"/>
            <a:ext cx="1425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3300"/>
                </a:solidFill>
                <a:latin typeface="Comic Sans MS"/>
              </a:rPr>
              <a:t>sing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4510080" y="2590920"/>
            <a:ext cx="3243240" cy="3274920"/>
          </a:xfrm>
          <a:prstGeom prst="rect">
            <a:avLst/>
          </a:prstGeom>
          <a:ln w="0">
            <a:noFill/>
          </a:ln>
        </p:spPr>
      </p:pic>
      <p:grpSp>
        <p:nvGrpSpPr>
          <p:cNvPr id="340" name=""/>
          <p:cNvGrpSpPr/>
          <p:nvPr/>
        </p:nvGrpSpPr>
        <p:grpSpPr>
          <a:xfrm>
            <a:off x="1269720" y="3936600"/>
            <a:ext cx="1270800" cy="1270800"/>
            <a:chOff x="1269720" y="3936600"/>
            <a:chExt cx="1270800" cy="1270800"/>
          </a:xfrm>
        </p:grpSpPr>
        <p:sp>
          <p:nvSpPr>
            <p:cNvPr id="341" name=""/>
            <p:cNvSpPr/>
            <p:nvPr/>
          </p:nvSpPr>
          <p:spPr>
            <a:xfrm>
              <a:off x="1269720" y="3979800"/>
              <a:ext cx="1270800" cy="1184760"/>
            </a:xfrm>
            <a:prstGeom prst="line">
              <a:avLst/>
            </a:prstGeom>
            <a:ln w="889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 flipV="1">
              <a:off x="1312560" y="3936600"/>
              <a:ext cx="1185120" cy="1270800"/>
            </a:xfrm>
            <a:prstGeom prst="line">
              <a:avLst/>
            </a:prstGeom>
            <a:ln w="889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3" name=""/>
          <p:cNvSpPr/>
          <p:nvPr/>
        </p:nvSpPr>
        <p:spPr>
          <a:xfrm>
            <a:off x="3236040" y="4941720"/>
            <a:ext cx="119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2"/>
          <a:stretch/>
        </p:blipFill>
        <p:spPr>
          <a:xfrm>
            <a:off x="8305920" y="0"/>
            <a:ext cx="8380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6" dur="indefinite" restart="never" nodeType="tmRoot">
          <p:childTnLst>
            <p:seq>
              <p:cTn id="817" dur="indefinite" nodeType="mainSeq">
                <p:childTnLst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0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581400" y="236232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5. Jim c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7467480" y="2057400"/>
            <a:ext cx="1219320" cy="9907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469080" y="3124080"/>
            <a:ext cx="193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6. Maria dr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6324480" y="2971800"/>
            <a:ext cx="990720" cy="9907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475200" y="4114800"/>
            <a:ext cx="16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7. Chris dr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7391520" y="4038480"/>
            <a:ext cx="990360" cy="7621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69080" y="4876920"/>
            <a:ext cx="15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8. Tim th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6324480" y="4800600"/>
            <a:ext cx="831960" cy="7351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493560" y="5791320"/>
            <a:ext cx="150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9. Jade pl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5"/>
          <a:stretch/>
        </p:blipFill>
        <p:spPr>
          <a:xfrm>
            <a:off x="6781680" y="5715000"/>
            <a:ext cx="990720" cy="8906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2588400" y="5791320"/>
            <a:ext cx="246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omic Sans MS"/>
              </a:rPr>
              <a:t>loudly / quietly / sing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621160" y="4876920"/>
            <a:ext cx="26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omic Sans MS"/>
              </a:rPr>
              <a:t>cleverly / drinks / ope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569680" y="4114800"/>
            <a:ext cx="259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omic Sans MS"/>
              </a:rPr>
              <a:t>quickly / jumps / mad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539800" y="3200400"/>
            <a:ext cx="305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reads / colourfully / slow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31960" y="2362320"/>
            <a:ext cx="27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omic Sans MS"/>
              </a:rPr>
              <a:t>waits / paints / careless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4894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6"/>
          <a:stretch/>
        </p:blipFill>
        <p:spPr>
          <a:xfrm>
            <a:off x="3673440" y="878040"/>
            <a:ext cx="58104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4589640" y="8017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91440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7"/>
          <a:stretch/>
        </p:blipFill>
        <p:spPr>
          <a:xfrm>
            <a:off x="6629400" y="1066680"/>
            <a:ext cx="1076400" cy="12193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2657160" y="1376280"/>
            <a:ext cx="324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omic Sans MS"/>
              </a:rPr>
              <a:t>beautifully / writes / elegant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53600" y="1376280"/>
            <a:ext cx="179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4. Mary da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09880" y="228600"/>
            <a:ext cx="1905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Answer sheet for IT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Page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63080" y="152280"/>
            <a:ext cx="311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Week 3 IT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ff0000"/>
                </a:solidFill>
                <a:uFillTx/>
                <a:latin typeface="Comic Sans MS"/>
              </a:rPr>
              <a:t>Describing ‘does’ with ‘how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4320" y="228600"/>
            <a:ext cx="232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Name…………………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Date …………………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You finished quickly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971800" y="23320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Great work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3581280" y="2286000"/>
            <a:ext cx="2438640" cy="212724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/>
          <p:nvPr/>
        </p:nvSpPr>
        <p:spPr>
          <a:xfrm flipV="1" rot="20980200">
            <a:off x="3692160" y="2367360"/>
            <a:ext cx="1160640" cy="3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rot="21276000">
            <a:off x="3652560" y="2361960"/>
            <a:ext cx="1217520" cy="99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Well d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Week 3 IT5</a:t>
            </a:r>
            <a:br>
              <a:rPr sz="5400"/>
            </a:b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Describing ‘does’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114800" y="3429000"/>
            <a:ext cx="1400040" cy="17906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2671920" y="5257800"/>
            <a:ext cx="3720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Comic Sans MS"/>
              </a:rPr>
              <a:t>with ‘how’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533520" y="5409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Jack cooks _______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228600" y="1143000"/>
            <a:ext cx="2286000" cy="3505320"/>
            <a:chOff x="228600" y="1143000"/>
            <a:chExt cx="2286000" cy="350532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766080" y="2246400"/>
              <a:ext cx="1209960" cy="240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8600" y="1143000"/>
              <a:ext cx="2286000" cy="49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400" spc="-1" strike="noStrike">
                  <a:solidFill>
                    <a:srgbClr val="000000"/>
                  </a:solidFill>
                  <a:latin typeface="Comic Sans MS"/>
                </a:rPr>
                <a:t>Who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3733920" y="1066680"/>
            <a:ext cx="1752480" cy="3276360"/>
            <a:chOff x="3733920" y="1066680"/>
            <a:chExt cx="1752480" cy="3276360"/>
          </a:xfrm>
        </p:grpSpPr>
        <p:pic>
          <p:nvPicPr>
            <p:cNvPr id="106" name="" descr=""/>
            <p:cNvPicPr/>
            <p:nvPr/>
          </p:nvPicPr>
          <p:blipFill>
            <a:blip r:embed="rId2"/>
            <a:stretch/>
          </p:blipFill>
          <p:spPr>
            <a:xfrm>
              <a:off x="3733920" y="2506320"/>
              <a:ext cx="1609560" cy="183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3733920" y="1066680"/>
              <a:ext cx="1752480" cy="52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400" spc="-1" strike="noStrike">
                  <a:solidFill>
                    <a:srgbClr val="000000"/>
                  </a:solidFill>
                  <a:latin typeface="Comic Sans MS"/>
                </a:rPr>
                <a:t>does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6172200" y="1020600"/>
            <a:ext cx="2590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0000"/>
                </a:solidFill>
                <a:latin typeface="Comic Sans MS"/>
              </a:rPr>
              <a:t>how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99520" y="5486400"/>
            <a:ext cx="226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3300"/>
                </a:solidFill>
                <a:latin typeface="Comic Sans MS"/>
              </a:rPr>
              <a:t>perfect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rot="721200">
            <a:off x="6248160" y="2514600"/>
            <a:ext cx="1371600" cy="2438280"/>
          </a:xfrm>
          <a:prstGeom prst="downArrow">
            <a:avLst>
              <a:gd name="adj1" fmla="val 50000"/>
              <a:gd name="adj2" fmla="val 44442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11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Here are 2 examples,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are you read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276720" y="2209680"/>
            <a:ext cx="2744640" cy="22496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518040" y="5470560"/>
            <a:ext cx="421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(To be viewed as slide sh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447920" y="5166720"/>
            <a:ext cx="685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Dad irons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_________ .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620600" y="5089680"/>
            <a:ext cx="166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Comic Sans MS"/>
              </a:rPr>
              <a:t>gent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141560" y="714240"/>
            <a:ext cx="165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Wh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162240" y="728640"/>
            <a:ext cx="1733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do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49400" y="750960"/>
            <a:ext cx="155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3300"/>
                </a:solidFill>
                <a:latin typeface="Comic Sans MS"/>
              </a:rPr>
              <a:t>how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209680" y="1828800"/>
            <a:ext cx="4343400" cy="32749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7086600" y="4572000"/>
            <a:ext cx="1359000" cy="1257480"/>
          </a:xfrm>
          <a:custGeom>
            <a:avLst/>
            <a:gdLst/>
            <a:ahLst/>
            <a:rect l="l" t="t" r="r" b="b"/>
            <a:pathLst>
              <a:path w="856" h="792">
                <a:moveTo>
                  <a:pt x="856" y="0"/>
                </a:moveTo>
                <a:cubicBezTo>
                  <a:pt x="564" y="324"/>
                  <a:pt x="272" y="648"/>
                  <a:pt x="136" y="720"/>
                </a:cubicBezTo>
                <a:cubicBezTo>
                  <a:pt x="0" y="792"/>
                  <a:pt x="20" y="612"/>
                  <a:pt x="40" y="432"/>
                </a:cubicBezTo>
              </a:path>
            </a:pathLst>
          </a:custGeom>
          <a:noFill/>
          <a:ln w="8892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864560" y="5559480"/>
            <a:ext cx="106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8305920" y="0"/>
            <a:ext cx="8380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" dur="500" fill="hold"/>
                                        <p:tgtEl>
                                          <p:spTgt spid="11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" dur="250" autoRev="1" fill="hold"/>
                                        <p:tgtEl>
                                          <p:spTgt spid="11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447920" y="5166720"/>
            <a:ext cx="685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Dad irons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_________ .</a:t>
            </a: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632480" y="508968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141560" y="714240"/>
            <a:ext cx="165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Wh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162240" y="728640"/>
            <a:ext cx="1733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do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549400" y="750960"/>
            <a:ext cx="155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3300"/>
                </a:solidFill>
                <a:latin typeface="Comic Sans MS"/>
              </a:rPr>
              <a:t>how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209680" y="1828800"/>
            <a:ext cx="4343400" cy="32749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4320720" y="4952880"/>
            <a:ext cx="1716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3300"/>
                </a:solidFill>
                <a:latin typeface="Comic Sans MS"/>
              </a:rPr>
              <a:t>climb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7441920" y="4546080"/>
            <a:ext cx="1270800" cy="1270800"/>
            <a:chOff x="7441920" y="4546080"/>
            <a:chExt cx="1270800" cy="1270800"/>
          </a:xfrm>
        </p:grpSpPr>
        <p:sp>
          <p:nvSpPr>
            <p:cNvPr id="131" name=""/>
            <p:cNvSpPr/>
            <p:nvPr/>
          </p:nvSpPr>
          <p:spPr>
            <a:xfrm>
              <a:off x="7441920" y="4589280"/>
              <a:ext cx="1270800" cy="1184760"/>
            </a:xfrm>
            <a:prstGeom prst="line">
              <a:avLst/>
            </a:prstGeom>
            <a:ln w="889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7484760" y="4546080"/>
              <a:ext cx="1185120" cy="1270800"/>
            </a:xfrm>
            <a:prstGeom prst="line">
              <a:avLst/>
            </a:prstGeom>
            <a:ln w="889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7715880" y="5664240"/>
            <a:ext cx="119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h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8305920" y="0"/>
            <a:ext cx="83808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8" dur="500" fill="hold"/>
                                        <p:tgtEl>
                                          <p:spTgt spid="12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3" dur="250" autoRev="1" fill="hold"/>
                                        <p:tgtEl>
                                          <p:spTgt spid="12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3T15:22:19Z</dcterms:created>
  <dc:creator>Daniel Bell</dc:creator>
  <dc:description/>
  <dc:language>en-US</dc:language>
  <cp:lastModifiedBy>dannyb</cp:lastModifiedBy>
  <dcterms:modified xsi:type="dcterms:W3CDTF">2008-09-15T10:39:23Z</dcterms:modified>
  <cp:revision>42</cp:revision>
  <dc:subject/>
  <dc:title>Describing ‘does’</dc:title>
</cp:coreProperties>
</file>