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941-DC22-4181-889A-BE5EF42B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49D-DB26-41F9-AFA6-AD23670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AEA-0C72-4BE8-A7EF-C10B4BFE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8D9-7625-4DCD-9BB5-9D0BF4E7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00E-DBF6-44FC-BF2B-D656899A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3EA-8B74-4DAF-9D13-4CD701C8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6D3-E2C4-45EB-91C9-0606804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AFF-425F-4A43-AD64-7514B355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B81-4846-4F96-BD22-629E92B1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4B3-EDC3-49BC-A558-802F516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D6F-B25B-4E34-A366-39A8711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CB8-749E-4470-9E08-9B839D7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280E-27C8-49F5-A84C-64EEAF66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4 IT 7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183204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04920" y="1219320"/>
            <a:ext cx="4114800" cy="4741920"/>
            <a:chOff x="304920" y="1219320"/>
            <a:chExt cx="4114800" cy="4741920"/>
          </a:xfrm>
        </p:grpSpPr>
        <p:sp>
          <p:nvSpPr>
            <p:cNvPr id="124" name=""/>
            <p:cNvSpPr/>
            <p:nvPr/>
          </p:nvSpPr>
          <p:spPr>
            <a:xfrm>
              <a:off x="304920" y="1219320"/>
              <a:ext cx="4114800" cy="3733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4952880"/>
              <a:ext cx="4114800" cy="100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295280" y="2438280"/>
              <a:ext cx="1981440" cy="178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724280" y="1219320"/>
            <a:ext cx="4114800" cy="4741920"/>
            <a:chOff x="4724280" y="1219320"/>
            <a:chExt cx="4114800" cy="4741920"/>
          </a:xfrm>
        </p:grpSpPr>
        <p:sp>
          <p:nvSpPr>
            <p:cNvPr id="128" name=""/>
            <p:cNvSpPr/>
            <p:nvPr/>
          </p:nvSpPr>
          <p:spPr>
            <a:xfrm>
              <a:off x="4724280" y="1219320"/>
              <a:ext cx="4114800" cy="373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4280" y="4952880"/>
              <a:ext cx="4114800" cy="1008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5181480" y="1295280"/>
              <a:ext cx="14479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7162920" y="1295280"/>
              <a:ext cx="144756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7162920" y="1974960"/>
              <a:ext cx="144756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5181480" y="1981080"/>
              <a:ext cx="14479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5181480" y="2660760"/>
              <a:ext cx="14479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7162920" y="2660760"/>
              <a:ext cx="144756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7162920" y="3346560"/>
              <a:ext cx="144756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9"/>
            <a:stretch/>
          </p:blipFill>
          <p:spPr>
            <a:xfrm>
              <a:off x="5181480" y="3352680"/>
              <a:ext cx="14479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181480" y="4032360"/>
              <a:ext cx="14479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1"/>
            <a:stretch/>
          </p:blipFill>
          <p:spPr>
            <a:xfrm>
              <a:off x="7162920" y="4032360"/>
              <a:ext cx="1447560" cy="13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0 key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840" y="4941720"/>
            <a:ext cx="41148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ke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219320"/>
            <a:ext cx="411480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b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219320"/>
            <a:ext cx="41148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6 ball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1657440" cy="1757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300720" y="3789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300720" y="2565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7524720" y="378936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17"/>
            </a:gs>
            <a:gs pos="100000">
              <a:srgbClr val="99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1219320"/>
            <a:ext cx="41148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941720"/>
            <a:ext cx="411480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219320"/>
            <a:ext cx="4114800" cy="373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4941720"/>
            <a:ext cx="4114800" cy="100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 mat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456000" cy="297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521080" cy="2173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2521080" cy="2174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4941720"/>
            <a:ext cx="411480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219320"/>
            <a:ext cx="4114800" cy="373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b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1219320"/>
            <a:ext cx="4114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4941720"/>
            <a:ext cx="411480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 bed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81360" cy="235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1001880" cy="847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859280" y="2200320"/>
            <a:ext cx="1008000" cy="85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3067200"/>
            <a:ext cx="1008000" cy="85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859280" y="3933720"/>
            <a:ext cx="1008000" cy="854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227640" y="3933720"/>
            <a:ext cx="1008360" cy="85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084720" y="2997360"/>
            <a:ext cx="1008360" cy="853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084720" y="2133720"/>
            <a:ext cx="1008360" cy="853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7596360" y="3933720"/>
            <a:ext cx="100800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219320"/>
            <a:ext cx="4114800" cy="373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1219320"/>
            <a:ext cx="4114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4941720"/>
            <a:ext cx="411480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 whale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428920" cy="1675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84720" y="1413000"/>
            <a:ext cx="1297080" cy="100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84720" y="2637000"/>
            <a:ext cx="1297080" cy="100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084720" y="3860640"/>
            <a:ext cx="1297080" cy="1008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4941720"/>
            <a:ext cx="4114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wh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1219320"/>
            <a:ext cx="4114800" cy="373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952880"/>
            <a:ext cx="4114800" cy="85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1 football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219320"/>
            <a:ext cx="4114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4114800" cy="85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4952880"/>
            <a:ext cx="4122720" cy="85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9 footballer</a:t>
            </a: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552760" cy="2687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005440" y="1341360"/>
            <a:ext cx="75096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750960" cy="79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308720" y="1341360"/>
            <a:ext cx="752760" cy="79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970520" y="2565360"/>
            <a:ext cx="819000" cy="86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084720" y="2565360"/>
            <a:ext cx="82080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308720" y="2563920"/>
            <a:ext cx="820800" cy="865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933800" y="3860640"/>
            <a:ext cx="890640" cy="936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6156360" y="3932280"/>
            <a:ext cx="822240" cy="865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7380360" y="3860640"/>
            <a:ext cx="890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287964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0200" y="8100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4  I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e or more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792000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s teacher led activity aims to highlight the addition of ‘s’ to denote plur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e form of the noun (singular/plural) is always given; the child is sometimes asked for the singular and sometimes the plur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ext slide is the answer sheet for each child to complete as they watch the IT presentation. This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encil appears on some initial slides. This is the cue for the children to write their answ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ildren should record their answer on the worksheet (next slide) prior to receiving the feedback given by the 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11840" y="525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914040"/>
            <a:ext cx="842472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Complete these sent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bun ; 6 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cat; 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……………………………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..; 3 fl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tree; 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dog; ………………………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………………………………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; 10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ball; ………………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………………………………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..; 2 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bed; ………………………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………………………………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..; 3 wh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 footballer; 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120" y="22860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11600" y="2286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4 IT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8445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86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8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One or m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6160" y="3287880"/>
            <a:ext cx="18316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4920" y="1219320"/>
            <a:ext cx="4114800" cy="4749840"/>
            <a:chOff x="304920" y="1219320"/>
            <a:chExt cx="4114800" cy="4749840"/>
          </a:xfrm>
        </p:grpSpPr>
        <p:sp>
          <p:nvSpPr>
            <p:cNvPr id="56" name=""/>
            <p:cNvSpPr/>
            <p:nvPr/>
          </p:nvSpPr>
          <p:spPr>
            <a:xfrm>
              <a:off x="304920" y="1219320"/>
              <a:ext cx="4114800" cy="3733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4952880"/>
              <a:ext cx="4114800" cy="1016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66680" y="2362320"/>
              <a:ext cx="254484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4724280" y="1219320"/>
            <a:ext cx="4114800" cy="4741920"/>
            <a:chOff x="4724280" y="1219320"/>
            <a:chExt cx="4114800" cy="4741920"/>
          </a:xfrm>
        </p:grpSpPr>
        <p:sp>
          <p:nvSpPr>
            <p:cNvPr id="60" name=""/>
            <p:cNvSpPr/>
            <p:nvPr/>
          </p:nvSpPr>
          <p:spPr>
            <a:xfrm>
              <a:off x="4724280" y="1219320"/>
              <a:ext cx="4114800" cy="3733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24280" y="4952880"/>
              <a:ext cx="4114800" cy="100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876920" y="1447920"/>
              <a:ext cx="3763800" cy="3338280"/>
              <a:chOff x="4876920" y="1447920"/>
              <a:chExt cx="3763800" cy="3338280"/>
            </a:xfrm>
          </p:grpSpPr>
          <p:pic>
            <p:nvPicPr>
              <p:cNvPr id="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447920"/>
                <a:ext cx="17827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514600"/>
                <a:ext cx="17827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6920" y="3657600"/>
                <a:ext cx="17827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58000" y="1447920"/>
                <a:ext cx="17827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58000" y="2514600"/>
                <a:ext cx="17827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3657600"/>
                <a:ext cx="1782720" cy="11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 bun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b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067280" y="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04920" y="1219320"/>
            <a:ext cx="4114800" cy="4749840"/>
            <a:chOff x="304920" y="1219320"/>
            <a:chExt cx="4114800" cy="4749840"/>
          </a:xfrm>
        </p:grpSpPr>
        <p:sp>
          <p:nvSpPr>
            <p:cNvPr id="73" name=""/>
            <p:cNvSpPr/>
            <p:nvPr/>
          </p:nvSpPr>
          <p:spPr>
            <a:xfrm>
              <a:off x="304920" y="1219320"/>
              <a:ext cx="4114800" cy="3733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920" y="4952880"/>
              <a:ext cx="4114800" cy="1016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990720" y="1752480"/>
              <a:ext cx="2892240" cy="25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4648320" y="1219320"/>
            <a:ext cx="4190760" cy="4741920"/>
            <a:chOff x="4648320" y="1219320"/>
            <a:chExt cx="4190760" cy="4741920"/>
          </a:xfrm>
        </p:grpSpPr>
        <p:sp>
          <p:nvSpPr>
            <p:cNvPr id="77" name=""/>
            <p:cNvSpPr/>
            <p:nvPr/>
          </p:nvSpPr>
          <p:spPr>
            <a:xfrm>
              <a:off x="4724280" y="1219320"/>
              <a:ext cx="4114800" cy="3733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4114800" cy="100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4648320" y="1279440"/>
              <a:ext cx="213048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6400800" y="2975040"/>
              <a:ext cx="2286000" cy="19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c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 cat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924360" y="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ff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04920" y="1219320"/>
            <a:ext cx="4114800" cy="4741920"/>
            <a:chOff x="304920" y="1219320"/>
            <a:chExt cx="4114800" cy="4741920"/>
          </a:xfrm>
        </p:grpSpPr>
        <p:sp>
          <p:nvSpPr>
            <p:cNvPr id="85" name=""/>
            <p:cNvSpPr/>
            <p:nvPr/>
          </p:nvSpPr>
          <p:spPr>
            <a:xfrm>
              <a:off x="304920" y="1219320"/>
              <a:ext cx="4114800" cy="3733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920" y="4952880"/>
              <a:ext cx="4114800" cy="1008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671480"/>
              <a:ext cx="1627200" cy="24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24000" y="4941720"/>
            <a:ext cx="4114800" cy="10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flow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724280" y="1219320"/>
            <a:ext cx="4114800" cy="4749840"/>
            <a:chOff x="4724280" y="1219320"/>
            <a:chExt cx="4114800" cy="4749840"/>
          </a:xfrm>
        </p:grpSpPr>
        <p:sp>
          <p:nvSpPr>
            <p:cNvPr id="90" name=""/>
            <p:cNvSpPr/>
            <p:nvPr/>
          </p:nvSpPr>
          <p:spPr>
            <a:xfrm>
              <a:off x="4724280" y="1219320"/>
              <a:ext cx="4114800" cy="3733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4952880"/>
              <a:ext cx="4114800" cy="1016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773600" y="2052720"/>
              <a:ext cx="1322280" cy="19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6095880" y="1981080"/>
              <a:ext cx="1322640" cy="19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7467480" y="2057400"/>
              <a:ext cx="1322640" cy="19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4716360" y="4941720"/>
            <a:ext cx="411480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 flower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7d7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4920" y="1219320"/>
            <a:ext cx="4114800" cy="4741920"/>
            <a:chOff x="304920" y="1219320"/>
            <a:chExt cx="4114800" cy="4741920"/>
          </a:xfrm>
        </p:grpSpPr>
        <p:sp>
          <p:nvSpPr>
            <p:cNvPr id="97" name=""/>
            <p:cNvSpPr/>
            <p:nvPr/>
          </p:nvSpPr>
          <p:spPr>
            <a:xfrm>
              <a:off x="304920" y="1219320"/>
              <a:ext cx="4114800" cy="3733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4952880"/>
              <a:ext cx="4114800" cy="1008360"/>
            </a:xfrm>
            <a:prstGeom prst="rect">
              <a:avLst/>
            </a:prstGeom>
            <a:solidFill>
              <a:srgbClr val="ff7d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09480" y="1752480"/>
              <a:ext cx="2799000" cy="250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724280" y="1219320"/>
            <a:ext cx="4114800" cy="4741920"/>
            <a:chOff x="4724280" y="1219320"/>
            <a:chExt cx="4114800" cy="4741920"/>
          </a:xfrm>
        </p:grpSpPr>
        <p:sp>
          <p:nvSpPr>
            <p:cNvPr id="101" name=""/>
            <p:cNvSpPr/>
            <p:nvPr/>
          </p:nvSpPr>
          <p:spPr>
            <a:xfrm>
              <a:off x="4724280" y="1219320"/>
              <a:ext cx="4114800" cy="3733560"/>
            </a:xfrm>
            <a:prstGeom prst="rect">
              <a:avLst/>
            </a:prstGeom>
            <a:solidFill>
              <a:srgbClr val="ff7d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4952880"/>
              <a:ext cx="4114800" cy="1008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620120" y="1295280"/>
              <a:ext cx="112212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6248520" y="1295280"/>
              <a:ext cx="112212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12212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7620120" y="3809880"/>
              <a:ext cx="112212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4876920" y="1295280"/>
              <a:ext cx="112212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6248520" y="2590920"/>
              <a:ext cx="112212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7620120" y="2590920"/>
              <a:ext cx="112212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7 tree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ff7d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tre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04920" y="1219320"/>
            <a:ext cx="4114800" cy="4741920"/>
            <a:chOff x="304920" y="1219320"/>
            <a:chExt cx="4114800" cy="4741920"/>
          </a:xfrm>
        </p:grpSpPr>
        <p:sp>
          <p:nvSpPr>
            <p:cNvPr id="113" name=""/>
            <p:cNvSpPr/>
            <p:nvPr/>
          </p:nvSpPr>
          <p:spPr>
            <a:xfrm>
              <a:off x="304920" y="1219320"/>
              <a:ext cx="4114800" cy="3733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4952880"/>
              <a:ext cx="4114800" cy="1008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66680" y="2286000"/>
              <a:ext cx="2438640" cy="197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724280" y="1219320"/>
            <a:ext cx="4114800" cy="4741920"/>
            <a:chOff x="4724280" y="1219320"/>
            <a:chExt cx="4114800" cy="4741920"/>
          </a:xfrm>
        </p:grpSpPr>
        <p:sp>
          <p:nvSpPr>
            <p:cNvPr id="117" name=""/>
            <p:cNvSpPr/>
            <p:nvPr/>
          </p:nvSpPr>
          <p:spPr>
            <a:xfrm>
              <a:off x="4724280" y="1219320"/>
              <a:ext cx="4114800" cy="37335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952880"/>
              <a:ext cx="4114800" cy="1008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867280" y="3276720"/>
              <a:ext cx="1981440" cy="16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5715000" y="1295280"/>
              <a:ext cx="1981080" cy="160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4724280" y="4952880"/>
            <a:ext cx="4114800" cy="100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 dog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952880"/>
            <a:ext cx="4114800" cy="1008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do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2:21:15Z</dcterms:created>
  <dc:creator>Ursula Pretzlik</dc:creator>
  <dc:description/>
  <dc:language>en-US</dc:language>
  <cp:lastModifiedBy>DianaBurman</cp:lastModifiedBy>
  <dcterms:modified xsi:type="dcterms:W3CDTF">2008-09-09T14:25:01Z</dcterms:modified>
  <cp:revision>39</cp:revision>
  <dc:subject/>
  <dc:title>PowerPoint Presentation</dc:title>
</cp:coreProperties>
</file>