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A53-83A8-4503-B506-014BA690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58E-BB80-42A6-980A-9730B565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9A4-79ED-4D2D-970A-C9B80993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394-D0A1-4897-922C-701F9C0C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78A-519C-4645-A01C-A8500485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C0F-0B05-4B68-B3C5-B6216DFB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F07-9C22-4752-9BC9-30354683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074-50B8-4DDA-849E-54AC9BA3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EBA-1132-4F8F-982E-491A8F50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919-BBF7-4353-B152-96934E4A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197-FDBD-4272-9993-067A0C08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B54-C02F-4240-935B-00AEA9FE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4BEC-5DFA-47C0-AC0A-AE8CD3215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0.wmf"/><Relationship Id="rId3" Type="http://schemas.openxmlformats.org/officeDocument/2006/relationships/slide" Target="slide13.xml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wmf"/><Relationship Id="rId3" Type="http://schemas.openxmlformats.org/officeDocument/2006/relationships/slide" Target="slide16.xml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3.wmf"/><Relationship Id="rId3" Type="http://schemas.openxmlformats.org/officeDocument/2006/relationships/slide" Target="slide22.xml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wmf"/><Relationship Id="rId3" Type="http://schemas.openxmlformats.org/officeDocument/2006/relationships/slide" Target="slide25.xml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4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7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8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" Target="slide7.xml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9.wmf"/><Relationship Id="rId3" Type="http://schemas.openxmlformats.org/officeDocument/2006/relationships/slide" Target="slide10.xml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476280"/>
            <a:ext cx="539928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ek 5 IT14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Past </a:t>
            </a:r>
            <a:br>
              <a:rPr sz="2800"/>
            </a:b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and Present</a:t>
            </a:r>
            <a:br>
              <a:rPr sz="2800"/>
            </a:b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Verbs Game 2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87640" y="3397320"/>
            <a:ext cx="3240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5508720" y="5373720"/>
            <a:ext cx="1942920" cy="682560"/>
          </a:xfrm>
          <a:custGeom>
            <a:avLst/>
            <a:gdLst>
              <a:gd name="textAreaLeft" fmla="*/ 43920 w 1942920"/>
              <a:gd name="textAreaRight" fmla="*/ 1899000 w 194292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61464" h="21600">
                <a:moveTo>
                  <a:pt x="0" y="0"/>
                </a:moveTo>
                <a:lnTo>
                  <a:pt x="61464" y="0"/>
                </a:lnTo>
                <a:lnTo>
                  <a:pt x="61464" y="21600"/>
                </a:lnTo>
                <a:lnTo>
                  <a:pt x="0" y="21600"/>
                </a:lnTo>
                <a:close/>
              </a:path>
              <a:path fill="lightenLess" w="61464" h="21600">
                <a:moveTo>
                  <a:pt x="0" y="0"/>
                </a:moveTo>
                <a:lnTo>
                  <a:pt x="61464" y="0"/>
                </a:lnTo>
                <a:lnTo>
                  <a:pt x="60064" y="1400"/>
                </a:lnTo>
                <a:lnTo>
                  <a:pt x="1400" y="1400"/>
                </a:lnTo>
                <a:close/>
              </a:path>
              <a:path fill="darken" w="61464" h="21600">
                <a:moveTo>
                  <a:pt x="61464" y="0"/>
                </a:moveTo>
                <a:lnTo>
                  <a:pt x="61464" y="21600"/>
                </a:lnTo>
                <a:lnTo>
                  <a:pt x="60064" y="20200"/>
                </a:lnTo>
                <a:lnTo>
                  <a:pt x="60064" y="1400"/>
                </a:lnTo>
                <a:close/>
              </a:path>
              <a:path fill="darkenLess" w="61464" h="21600">
                <a:moveTo>
                  <a:pt x="61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64" y="20200"/>
                </a:lnTo>
                <a:close/>
              </a:path>
              <a:path fill="lighten" w="61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464" h="21600">
                <a:moveTo>
                  <a:pt x="23725" y="3794"/>
                </a:moveTo>
                <a:lnTo>
                  <a:pt x="37738" y="10800"/>
                </a:lnTo>
                <a:lnTo>
                  <a:pt x="237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1692360" y="5373720"/>
            <a:ext cx="1977840" cy="682560"/>
          </a:xfrm>
          <a:custGeom>
            <a:avLst/>
            <a:gdLst>
              <a:gd name="textAreaLeft" fmla="*/ 43920 w 1977840"/>
              <a:gd name="textAreaRight" fmla="*/ 1933920 w 19778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62568" h="21600">
                <a:moveTo>
                  <a:pt x="0" y="0"/>
                </a:moveTo>
                <a:lnTo>
                  <a:pt x="62568" y="0"/>
                </a:lnTo>
                <a:lnTo>
                  <a:pt x="62568" y="21600"/>
                </a:lnTo>
                <a:lnTo>
                  <a:pt x="0" y="21600"/>
                </a:lnTo>
                <a:close/>
              </a:path>
              <a:path fill="lightenLess" w="62568" h="21600">
                <a:moveTo>
                  <a:pt x="0" y="0"/>
                </a:moveTo>
                <a:lnTo>
                  <a:pt x="62568" y="0"/>
                </a:lnTo>
                <a:lnTo>
                  <a:pt x="61168" y="1400"/>
                </a:lnTo>
                <a:lnTo>
                  <a:pt x="1400" y="1400"/>
                </a:lnTo>
                <a:close/>
              </a:path>
              <a:path fill="darken" w="62568" h="21600">
                <a:moveTo>
                  <a:pt x="62568" y="0"/>
                </a:moveTo>
                <a:lnTo>
                  <a:pt x="62568" y="21600"/>
                </a:lnTo>
                <a:lnTo>
                  <a:pt x="61168" y="20200"/>
                </a:lnTo>
                <a:lnTo>
                  <a:pt x="61168" y="1400"/>
                </a:lnTo>
                <a:close/>
              </a:path>
              <a:path fill="darkenLess" w="62568" h="21600">
                <a:moveTo>
                  <a:pt x="6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68" y="20200"/>
                </a:lnTo>
                <a:close/>
              </a:path>
              <a:path fill="lighten" w="6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568" h="21600">
                <a:moveTo>
                  <a:pt x="24278" y="3794"/>
                </a:moveTo>
                <a:lnTo>
                  <a:pt x="38291" y="10800"/>
                </a:lnTo>
                <a:lnTo>
                  <a:pt x="2427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 _____ a portra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50864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ai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4720" y="4508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059280" y="1773360"/>
            <a:ext cx="3097080" cy="2016720"/>
            <a:chOff x="3059280" y="1773360"/>
            <a:chExt cx="3097080" cy="201672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4716360" y="1797120"/>
              <a:ext cx="1193760" cy="134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3059280" y="1773360"/>
              <a:ext cx="3097080" cy="2016720"/>
              <a:chOff x="3059280" y="1773360"/>
              <a:chExt cx="3097080" cy="2016720"/>
            </a:xfrm>
          </p:grpSpPr>
          <p:sp>
            <p:nvSpPr>
              <p:cNvPr id="213" name=""/>
              <p:cNvSpPr/>
              <p:nvPr/>
            </p:nvSpPr>
            <p:spPr>
              <a:xfrm>
                <a:off x="3132360" y="249228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43640" y="177336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32360" y="177336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59280" y="342900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43640" y="34527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paint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a portra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84720" y="48690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aint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68360" y="4508640"/>
            <a:ext cx="3960720" cy="1046520"/>
            <a:chOff x="468360" y="4508640"/>
            <a:chExt cx="3960720" cy="1046520"/>
          </a:xfrm>
        </p:grpSpPr>
        <p:sp>
          <p:nvSpPr>
            <p:cNvPr id="221" name=""/>
            <p:cNvSpPr/>
            <p:nvPr/>
          </p:nvSpPr>
          <p:spPr>
            <a:xfrm>
              <a:off x="468360" y="515628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FANTASTIC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2052720" y="450864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"/>
          <p:cNvGrpSpPr/>
          <p:nvPr/>
        </p:nvGrpSpPr>
        <p:grpSpPr>
          <a:xfrm>
            <a:off x="3059280" y="1773360"/>
            <a:ext cx="3097080" cy="2016720"/>
            <a:chOff x="3059280" y="1773360"/>
            <a:chExt cx="3097080" cy="2016720"/>
          </a:xfrm>
        </p:grpSpPr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4716360" y="1797120"/>
              <a:ext cx="1193760" cy="134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3059280" y="1773360"/>
              <a:ext cx="3097080" cy="2016720"/>
              <a:chOff x="3059280" y="1773360"/>
              <a:chExt cx="3097080" cy="2016720"/>
            </a:xfrm>
          </p:grpSpPr>
          <p:sp>
            <p:nvSpPr>
              <p:cNvPr id="226" name=""/>
              <p:cNvSpPr/>
              <p:nvPr/>
            </p:nvSpPr>
            <p:spPr>
              <a:xfrm>
                <a:off x="3132360" y="249228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43640" y="177336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32360" y="177336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59280" y="342900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643640" y="34527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6300720" y="616572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8028000" y="6093000"/>
            <a:ext cx="574560" cy="537840"/>
          </a:xfrm>
          <a:custGeom>
            <a:avLst/>
            <a:gdLst>
              <a:gd name="textAreaLeft" fmla="*/ 34560 w 574560"/>
              <a:gd name="textAreaRight" fmla="*/ 540000 w 57456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3074" h="21600">
                <a:moveTo>
                  <a:pt x="0" y="0"/>
                </a:moveTo>
                <a:lnTo>
                  <a:pt x="23074" y="0"/>
                </a:lnTo>
                <a:lnTo>
                  <a:pt x="23074" y="21600"/>
                </a:lnTo>
                <a:lnTo>
                  <a:pt x="0" y="21600"/>
                </a:lnTo>
                <a:close/>
              </a:path>
              <a:path fill="lightenLess" w="23074" h="21600">
                <a:moveTo>
                  <a:pt x="0" y="0"/>
                </a:moveTo>
                <a:lnTo>
                  <a:pt x="23074" y="0"/>
                </a:lnTo>
                <a:lnTo>
                  <a:pt x="21674" y="1400"/>
                </a:lnTo>
                <a:lnTo>
                  <a:pt x="1400" y="1400"/>
                </a:lnTo>
                <a:close/>
              </a:path>
              <a:path fill="darken" w="23074" h="21600">
                <a:moveTo>
                  <a:pt x="23074" y="0"/>
                </a:moveTo>
                <a:lnTo>
                  <a:pt x="23074" y="21600"/>
                </a:lnTo>
                <a:lnTo>
                  <a:pt x="21674" y="20200"/>
                </a:lnTo>
                <a:lnTo>
                  <a:pt x="21674" y="1400"/>
                </a:lnTo>
                <a:close/>
              </a:path>
              <a:path fill="darkenLess" w="23074" h="21600">
                <a:moveTo>
                  <a:pt x="23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74" y="20200"/>
                </a:lnTo>
                <a:close/>
              </a:path>
              <a:path fill="lighten" w="23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74" h="21600">
                <a:moveTo>
                  <a:pt x="4530" y="3794"/>
                </a:moveTo>
                <a:lnTo>
                  <a:pt x="18543" y="10800"/>
                </a:lnTo>
                <a:lnTo>
                  <a:pt x="45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234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4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236000" y="404640"/>
            <a:ext cx="9223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paint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a portra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ai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aint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684360" cy="722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403280" y="537372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59280" y="1773360"/>
            <a:ext cx="3097080" cy="2016720"/>
            <a:chOff x="3059280" y="1773360"/>
            <a:chExt cx="3097080" cy="201672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4716360" y="1797120"/>
              <a:ext cx="1193760" cy="134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"/>
            <p:cNvGrpSpPr/>
            <p:nvPr/>
          </p:nvGrpSpPr>
          <p:grpSpPr>
            <a:xfrm>
              <a:off x="3059280" y="1773360"/>
              <a:ext cx="3097080" cy="2016720"/>
              <a:chOff x="3059280" y="1773360"/>
              <a:chExt cx="3097080" cy="2016720"/>
            </a:xfrm>
          </p:grpSpPr>
          <p:sp>
            <p:nvSpPr>
              <p:cNvPr id="245" name=""/>
              <p:cNvSpPr/>
              <p:nvPr/>
            </p:nvSpPr>
            <p:spPr>
              <a:xfrm>
                <a:off x="3132360" y="249228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43640" y="177336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32360" y="177336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59280" y="342900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43640" y="34527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659640" y="1989000"/>
            <a:ext cx="1800000" cy="1800360"/>
            <a:chOff x="6659640" y="1989000"/>
            <a:chExt cx="1800000" cy="1800360"/>
          </a:xfrm>
        </p:grpSpPr>
        <p:sp>
          <p:nvSpPr>
            <p:cNvPr id="251" name=""/>
            <p:cNvSpPr/>
            <p:nvPr/>
          </p:nvSpPr>
          <p:spPr>
            <a:xfrm>
              <a:off x="6659640" y="198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6948360" y="264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6300720" y="616572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574560" cy="537840"/>
          </a:xfrm>
          <a:custGeom>
            <a:avLst/>
            <a:gdLst>
              <a:gd name="textAreaLeft" fmla="*/ 34560 w 574560"/>
              <a:gd name="textAreaRight" fmla="*/ 540000 w 57456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3074" h="21600">
                <a:moveTo>
                  <a:pt x="0" y="0"/>
                </a:moveTo>
                <a:lnTo>
                  <a:pt x="23074" y="0"/>
                </a:lnTo>
                <a:lnTo>
                  <a:pt x="23074" y="21600"/>
                </a:lnTo>
                <a:lnTo>
                  <a:pt x="0" y="21600"/>
                </a:lnTo>
                <a:close/>
              </a:path>
              <a:path fill="lightenLess" w="23074" h="21600">
                <a:moveTo>
                  <a:pt x="0" y="0"/>
                </a:moveTo>
                <a:lnTo>
                  <a:pt x="23074" y="0"/>
                </a:lnTo>
                <a:lnTo>
                  <a:pt x="21674" y="1400"/>
                </a:lnTo>
                <a:lnTo>
                  <a:pt x="1400" y="1400"/>
                </a:lnTo>
                <a:close/>
              </a:path>
              <a:path fill="darken" w="23074" h="21600">
                <a:moveTo>
                  <a:pt x="23074" y="0"/>
                </a:moveTo>
                <a:lnTo>
                  <a:pt x="23074" y="21600"/>
                </a:lnTo>
                <a:lnTo>
                  <a:pt x="21674" y="20200"/>
                </a:lnTo>
                <a:lnTo>
                  <a:pt x="21674" y="1400"/>
                </a:lnTo>
                <a:close/>
              </a:path>
              <a:path fill="darkenLess" w="23074" h="21600">
                <a:moveTo>
                  <a:pt x="23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74" y="20200"/>
                </a:lnTo>
                <a:close/>
              </a:path>
              <a:path fill="lighten" w="23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74" h="21600">
                <a:moveTo>
                  <a:pt x="4530" y="3794"/>
                </a:moveTo>
                <a:lnTo>
                  <a:pt x="18543" y="10800"/>
                </a:lnTo>
                <a:lnTo>
                  <a:pt x="45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1116000" y="5300640"/>
            <a:ext cx="2376360" cy="649440"/>
          </a:xfrm>
          <a:custGeom>
            <a:avLst/>
            <a:gdLst>
              <a:gd name="textAreaLeft" fmla="*/ 41760 w 2376360"/>
              <a:gd name="textAreaRight" fmla="*/ 2334600 w 237636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79005" h="21600">
                <a:moveTo>
                  <a:pt x="0" y="0"/>
                </a:moveTo>
                <a:lnTo>
                  <a:pt x="79005" y="0"/>
                </a:lnTo>
                <a:lnTo>
                  <a:pt x="79005" y="21600"/>
                </a:lnTo>
                <a:lnTo>
                  <a:pt x="0" y="21600"/>
                </a:lnTo>
                <a:close/>
              </a:path>
              <a:path fill="lightenLess" w="79005" h="21600">
                <a:moveTo>
                  <a:pt x="0" y="0"/>
                </a:moveTo>
                <a:lnTo>
                  <a:pt x="79005" y="0"/>
                </a:lnTo>
                <a:lnTo>
                  <a:pt x="77605" y="1400"/>
                </a:lnTo>
                <a:lnTo>
                  <a:pt x="1400" y="1400"/>
                </a:lnTo>
                <a:close/>
              </a:path>
              <a:path fill="darken" w="79005" h="21600">
                <a:moveTo>
                  <a:pt x="79005" y="0"/>
                </a:moveTo>
                <a:lnTo>
                  <a:pt x="79005" y="21600"/>
                </a:lnTo>
                <a:lnTo>
                  <a:pt x="77605" y="20200"/>
                </a:lnTo>
                <a:lnTo>
                  <a:pt x="77605" y="1400"/>
                </a:lnTo>
                <a:close/>
              </a:path>
              <a:path fill="darkenLess" w="79005" h="21600">
                <a:moveTo>
                  <a:pt x="79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05" y="20200"/>
                </a:lnTo>
                <a:close/>
              </a:path>
              <a:path fill="lighten" w="79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05" h="21600">
                <a:moveTo>
                  <a:pt x="32496" y="3794"/>
                </a:moveTo>
                <a:lnTo>
                  <a:pt x="46509" y="10800"/>
                </a:lnTo>
                <a:lnTo>
                  <a:pt x="324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5651640" y="5300640"/>
            <a:ext cx="2338200" cy="684360"/>
          </a:xfrm>
          <a:custGeom>
            <a:avLst/>
            <a:gdLst>
              <a:gd name="textAreaLeft" fmla="*/ 44280 w 2338200"/>
              <a:gd name="textAreaRight" fmla="*/ 2293920 w 2338200"/>
              <a:gd name="textAreaTop" fmla="*/ 44280 h 684360"/>
              <a:gd name="textAreaBottom" fmla="*/ 640080 h 684360"/>
            </a:gdLst>
            <a:ahLst/>
            <a:rect l="textAreaLeft" t="textAreaTop" r="textAreaRight" b="textAreaBottom"/>
            <a:pathLst>
              <a:path w="73772" h="21600">
                <a:moveTo>
                  <a:pt x="0" y="0"/>
                </a:moveTo>
                <a:lnTo>
                  <a:pt x="73772" y="0"/>
                </a:lnTo>
                <a:lnTo>
                  <a:pt x="73772" y="21600"/>
                </a:lnTo>
                <a:lnTo>
                  <a:pt x="0" y="21600"/>
                </a:lnTo>
                <a:close/>
              </a:path>
              <a:path fill="lightenLess" w="73772" h="21600">
                <a:moveTo>
                  <a:pt x="0" y="0"/>
                </a:moveTo>
                <a:lnTo>
                  <a:pt x="73772" y="0"/>
                </a:lnTo>
                <a:lnTo>
                  <a:pt x="72372" y="1400"/>
                </a:lnTo>
                <a:lnTo>
                  <a:pt x="1400" y="1400"/>
                </a:lnTo>
                <a:close/>
              </a:path>
              <a:path fill="darken" w="73772" h="21600">
                <a:moveTo>
                  <a:pt x="73772" y="0"/>
                </a:moveTo>
                <a:lnTo>
                  <a:pt x="73772" y="21600"/>
                </a:lnTo>
                <a:lnTo>
                  <a:pt x="72372" y="20200"/>
                </a:lnTo>
                <a:lnTo>
                  <a:pt x="72372" y="1400"/>
                </a:lnTo>
                <a:close/>
              </a:path>
              <a:path fill="darkenLess" w="73772" h="21600">
                <a:moveTo>
                  <a:pt x="73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372" y="20200"/>
                </a:lnTo>
                <a:close/>
              </a:path>
              <a:path fill="lighten" w="73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772" h="21600">
                <a:moveTo>
                  <a:pt x="29879" y="3794"/>
                </a:moveTo>
                <a:lnTo>
                  <a:pt x="43892" y="10800"/>
                </a:lnTo>
                <a:lnTo>
                  <a:pt x="298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 _____ televi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88000" y="4653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t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000" y="46530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987640" y="1844640"/>
            <a:ext cx="3097080" cy="2016720"/>
            <a:chOff x="2987640" y="1844640"/>
            <a:chExt cx="3097080" cy="2016720"/>
          </a:xfrm>
        </p:grpSpPr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4572000" y="1916280"/>
              <a:ext cx="132552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"/>
            <p:cNvGrpSpPr/>
            <p:nvPr/>
          </p:nvGrpSpPr>
          <p:grpSpPr>
            <a:xfrm>
              <a:off x="2987640" y="1844640"/>
              <a:ext cx="3097080" cy="2016720"/>
              <a:chOff x="2987640" y="1844640"/>
              <a:chExt cx="3097080" cy="2016720"/>
            </a:xfrm>
          </p:grpSpPr>
          <p:sp>
            <p:nvSpPr>
              <p:cNvPr id="263" name=""/>
              <p:cNvSpPr/>
              <p:nvPr/>
            </p:nvSpPr>
            <p:spPr>
              <a:xfrm>
                <a:off x="3060720" y="256356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72000" y="184464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60720" y="184464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87640" y="35002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35240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watche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televi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tche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68360" y="4508640"/>
            <a:ext cx="3960720" cy="1046520"/>
            <a:chOff x="468360" y="4508640"/>
            <a:chExt cx="3960720" cy="1046520"/>
          </a:xfrm>
        </p:grpSpPr>
        <p:sp>
          <p:nvSpPr>
            <p:cNvPr id="271" name=""/>
            <p:cNvSpPr/>
            <p:nvPr/>
          </p:nvSpPr>
          <p:spPr>
            <a:xfrm>
              <a:off x="468360" y="515628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FANTASTIC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2052720" y="450864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2987640" y="1844640"/>
            <a:ext cx="3097080" cy="2016720"/>
            <a:chOff x="2987640" y="1844640"/>
            <a:chExt cx="3097080" cy="2016720"/>
          </a:xfrm>
        </p:grpSpPr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4572000" y="1916280"/>
              <a:ext cx="132552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5" name=""/>
            <p:cNvGrpSpPr/>
            <p:nvPr/>
          </p:nvGrpSpPr>
          <p:grpSpPr>
            <a:xfrm>
              <a:off x="2987640" y="1844640"/>
              <a:ext cx="3097080" cy="2016720"/>
              <a:chOff x="2987640" y="1844640"/>
              <a:chExt cx="3097080" cy="2016720"/>
            </a:xfrm>
          </p:grpSpPr>
          <p:sp>
            <p:nvSpPr>
              <p:cNvPr id="276" name=""/>
              <p:cNvSpPr/>
              <p:nvPr/>
            </p:nvSpPr>
            <p:spPr>
              <a:xfrm>
                <a:off x="3060720" y="256356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72000" y="184464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060720" y="184464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87640" y="35002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72000" y="35240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6659640" y="62611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8172360" y="6165720"/>
            <a:ext cx="574920" cy="549360"/>
          </a:xfrm>
          <a:custGeom>
            <a:avLst/>
            <a:gdLst>
              <a:gd name="textAreaLeft" fmla="*/ 35280 w 574920"/>
              <a:gd name="textAreaRight" fmla="*/ 539640 w 574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04" h="21600">
                <a:moveTo>
                  <a:pt x="0" y="0"/>
                </a:moveTo>
                <a:lnTo>
                  <a:pt x="22604" y="0"/>
                </a:lnTo>
                <a:lnTo>
                  <a:pt x="22604" y="21600"/>
                </a:lnTo>
                <a:lnTo>
                  <a:pt x="0" y="21600"/>
                </a:lnTo>
                <a:close/>
              </a:path>
              <a:path fill="lightenLess" w="22604" h="21600">
                <a:moveTo>
                  <a:pt x="0" y="0"/>
                </a:moveTo>
                <a:lnTo>
                  <a:pt x="22604" y="0"/>
                </a:lnTo>
                <a:lnTo>
                  <a:pt x="21204" y="1400"/>
                </a:lnTo>
                <a:lnTo>
                  <a:pt x="1400" y="1400"/>
                </a:lnTo>
                <a:close/>
              </a:path>
              <a:path fill="darken" w="22604" h="21600">
                <a:moveTo>
                  <a:pt x="22604" y="0"/>
                </a:moveTo>
                <a:lnTo>
                  <a:pt x="22604" y="21600"/>
                </a:lnTo>
                <a:lnTo>
                  <a:pt x="21204" y="20200"/>
                </a:lnTo>
                <a:lnTo>
                  <a:pt x="21204" y="1400"/>
                </a:lnTo>
                <a:close/>
              </a:path>
              <a:path fill="darkenLess" w="22604" h="21600">
                <a:moveTo>
                  <a:pt x="22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4" y="20200"/>
                </a:lnTo>
                <a:close/>
              </a:path>
              <a:path fill="lighten" w="22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4" h="21600">
                <a:moveTo>
                  <a:pt x="4296" y="3794"/>
                </a:moveTo>
                <a:lnTo>
                  <a:pt x="18309" y="10800"/>
                </a:lnTo>
                <a:lnTo>
                  <a:pt x="42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659640" y="1989000"/>
            <a:ext cx="1800000" cy="1800360"/>
            <a:chOff x="6659640" y="1989000"/>
            <a:chExt cx="1800000" cy="1800360"/>
          </a:xfrm>
        </p:grpSpPr>
        <p:sp>
          <p:nvSpPr>
            <p:cNvPr id="284" name=""/>
            <p:cNvSpPr/>
            <p:nvPr/>
          </p:nvSpPr>
          <p:spPr>
            <a:xfrm>
              <a:off x="6659640" y="198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6948360" y="264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7524720" y="404640"/>
            <a:ext cx="9907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watche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televi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t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tche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684360" cy="7221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403280" y="537372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987640" y="1844640"/>
            <a:ext cx="3097080" cy="2016720"/>
            <a:chOff x="2987640" y="1844640"/>
            <a:chExt cx="3097080" cy="2016720"/>
          </a:xfrm>
        </p:grpSpPr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4572000" y="1916280"/>
              <a:ext cx="132552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4" name=""/>
            <p:cNvGrpSpPr/>
            <p:nvPr/>
          </p:nvGrpSpPr>
          <p:grpSpPr>
            <a:xfrm>
              <a:off x="2987640" y="1844640"/>
              <a:ext cx="3097080" cy="2016720"/>
              <a:chOff x="2987640" y="1844640"/>
              <a:chExt cx="3097080" cy="2016720"/>
            </a:xfrm>
          </p:grpSpPr>
          <p:sp>
            <p:nvSpPr>
              <p:cNvPr id="295" name=""/>
              <p:cNvSpPr/>
              <p:nvPr/>
            </p:nvSpPr>
            <p:spPr>
              <a:xfrm>
                <a:off x="3060720" y="256356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72000" y="184464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60720" y="184464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87640" y="35002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35240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6659640" y="62611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574920" cy="549360"/>
          </a:xfrm>
          <a:custGeom>
            <a:avLst/>
            <a:gdLst>
              <a:gd name="textAreaLeft" fmla="*/ 35280 w 574920"/>
              <a:gd name="textAreaRight" fmla="*/ 539640 w 574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04" h="21600">
                <a:moveTo>
                  <a:pt x="0" y="0"/>
                </a:moveTo>
                <a:lnTo>
                  <a:pt x="22604" y="0"/>
                </a:lnTo>
                <a:lnTo>
                  <a:pt x="22604" y="21600"/>
                </a:lnTo>
                <a:lnTo>
                  <a:pt x="0" y="21600"/>
                </a:lnTo>
                <a:close/>
              </a:path>
              <a:path fill="lightenLess" w="22604" h="21600">
                <a:moveTo>
                  <a:pt x="0" y="0"/>
                </a:moveTo>
                <a:lnTo>
                  <a:pt x="22604" y="0"/>
                </a:lnTo>
                <a:lnTo>
                  <a:pt x="21204" y="1400"/>
                </a:lnTo>
                <a:lnTo>
                  <a:pt x="1400" y="1400"/>
                </a:lnTo>
                <a:close/>
              </a:path>
              <a:path fill="darken" w="22604" h="21600">
                <a:moveTo>
                  <a:pt x="22604" y="0"/>
                </a:moveTo>
                <a:lnTo>
                  <a:pt x="22604" y="21600"/>
                </a:lnTo>
                <a:lnTo>
                  <a:pt x="21204" y="20200"/>
                </a:lnTo>
                <a:lnTo>
                  <a:pt x="21204" y="1400"/>
                </a:lnTo>
                <a:close/>
              </a:path>
              <a:path fill="darkenLess" w="22604" h="21600">
                <a:moveTo>
                  <a:pt x="22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4" y="20200"/>
                </a:lnTo>
                <a:close/>
              </a:path>
              <a:path fill="lighten" w="22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4" h="21600">
                <a:moveTo>
                  <a:pt x="4296" y="3794"/>
                </a:moveTo>
                <a:lnTo>
                  <a:pt x="18309" y="10800"/>
                </a:lnTo>
                <a:lnTo>
                  <a:pt x="42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59640" y="1989000"/>
            <a:ext cx="1800000" cy="1800360"/>
            <a:chOff x="6659640" y="1989000"/>
            <a:chExt cx="1800000" cy="1800360"/>
          </a:xfrm>
        </p:grpSpPr>
        <p:sp>
          <p:nvSpPr>
            <p:cNvPr id="303" name=""/>
            <p:cNvSpPr/>
            <p:nvPr/>
          </p:nvSpPr>
          <p:spPr>
            <a:xfrm>
              <a:off x="6659640" y="1989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6948360" y="2647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1042920" y="5373720"/>
            <a:ext cx="2158920" cy="754200"/>
          </a:xfrm>
          <a:custGeom>
            <a:avLst/>
            <a:gdLst>
              <a:gd name="textAreaLeft" fmla="*/ 48600 w 2158920"/>
              <a:gd name="textAreaRight" fmla="*/ 2110320 w 2158920"/>
              <a:gd name="textAreaTop" fmla="*/ 48600 h 754200"/>
              <a:gd name="textAreaBottom" fmla="*/ 705600 h 754200"/>
            </a:gdLst>
            <a:ahLst/>
            <a:rect l="textAreaLeft" t="textAreaTop" r="textAreaRight" b="textAreaBottom"/>
            <a:pathLst>
              <a:path w="61811" h="21600">
                <a:moveTo>
                  <a:pt x="0" y="0"/>
                </a:moveTo>
                <a:lnTo>
                  <a:pt x="61811" y="0"/>
                </a:lnTo>
                <a:lnTo>
                  <a:pt x="61811" y="21600"/>
                </a:lnTo>
                <a:lnTo>
                  <a:pt x="0" y="21600"/>
                </a:lnTo>
                <a:close/>
              </a:path>
              <a:path fill="lightenLess" w="61811" h="21600">
                <a:moveTo>
                  <a:pt x="0" y="0"/>
                </a:moveTo>
                <a:lnTo>
                  <a:pt x="61811" y="0"/>
                </a:lnTo>
                <a:lnTo>
                  <a:pt x="60411" y="1400"/>
                </a:lnTo>
                <a:lnTo>
                  <a:pt x="1400" y="1400"/>
                </a:lnTo>
                <a:close/>
              </a:path>
              <a:path fill="darken" w="61811" h="21600">
                <a:moveTo>
                  <a:pt x="61811" y="0"/>
                </a:moveTo>
                <a:lnTo>
                  <a:pt x="61811" y="21600"/>
                </a:lnTo>
                <a:lnTo>
                  <a:pt x="60411" y="20200"/>
                </a:lnTo>
                <a:lnTo>
                  <a:pt x="60411" y="1400"/>
                </a:lnTo>
                <a:close/>
              </a:path>
              <a:path fill="darkenLess" w="61811" h="21600">
                <a:moveTo>
                  <a:pt x="61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411" y="20200"/>
                </a:lnTo>
                <a:close/>
              </a:path>
              <a:path fill="lighten" w="61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811" h="21600">
                <a:moveTo>
                  <a:pt x="23899" y="3794"/>
                </a:moveTo>
                <a:lnTo>
                  <a:pt x="37912" y="10800"/>
                </a:lnTo>
                <a:lnTo>
                  <a:pt x="238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5400720" y="5373720"/>
            <a:ext cx="2122560" cy="754200"/>
          </a:xfrm>
          <a:custGeom>
            <a:avLst/>
            <a:gdLst>
              <a:gd name="textAreaLeft" fmla="*/ 48600 w 2122560"/>
              <a:gd name="textAreaRight" fmla="*/ 2073960 w 2122560"/>
              <a:gd name="textAreaTop" fmla="*/ 48600 h 754200"/>
              <a:gd name="textAreaBottom" fmla="*/ 705600 h 754200"/>
            </a:gdLst>
            <a:ahLst/>
            <a:rect l="textAreaLeft" t="textAreaTop" r="textAreaRight" b="textAreaBottom"/>
            <a:pathLst>
              <a:path w="60771" h="21600">
                <a:moveTo>
                  <a:pt x="0" y="0"/>
                </a:moveTo>
                <a:lnTo>
                  <a:pt x="60771" y="0"/>
                </a:lnTo>
                <a:lnTo>
                  <a:pt x="60771" y="21600"/>
                </a:lnTo>
                <a:lnTo>
                  <a:pt x="0" y="21600"/>
                </a:lnTo>
                <a:close/>
              </a:path>
              <a:path fill="lightenLess" w="60771" h="21600">
                <a:moveTo>
                  <a:pt x="0" y="0"/>
                </a:moveTo>
                <a:lnTo>
                  <a:pt x="60771" y="0"/>
                </a:lnTo>
                <a:lnTo>
                  <a:pt x="59371" y="1400"/>
                </a:lnTo>
                <a:lnTo>
                  <a:pt x="1400" y="1400"/>
                </a:lnTo>
                <a:close/>
              </a:path>
              <a:path fill="darken" w="60771" h="21600">
                <a:moveTo>
                  <a:pt x="60771" y="0"/>
                </a:moveTo>
                <a:lnTo>
                  <a:pt x="60771" y="21600"/>
                </a:lnTo>
                <a:lnTo>
                  <a:pt x="59371" y="20200"/>
                </a:lnTo>
                <a:lnTo>
                  <a:pt x="59371" y="1400"/>
                </a:lnTo>
                <a:close/>
              </a:path>
              <a:path fill="darkenLess" w="60771" h="21600">
                <a:moveTo>
                  <a:pt x="60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371" y="20200"/>
                </a:lnTo>
                <a:close/>
              </a:path>
              <a:path fill="lighten" w="60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771" h="21600">
                <a:moveTo>
                  <a:pt x="23379" y="3794"/>
                </a:moveTo>
                <a:lnTo>
                  <a:pt x="37392" y="10800"/>
                </a:lnTo>
                <a:lnTo>
                  <a:pt x="233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Mark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s 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11640" y="4653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om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920" y="46530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o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203640" y="2038320"/>
            <a:ext cx="1368360" cy="151308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3059280" y="2060640"/>
            <a:ext cx="3025080" cy="1994400"/>
            <a:chOff x="3059280" y="2060640"/>
            <a:chExt cx="3025080" cy="1994400"/>
          </a:xfrm>
        </p:grpSpPr>
        <p:sp>
          <p:nvSpPr>
            <p:cNvPr id="312" name=""/>
            <p:cNvSpPr/>
            <p:nvPr/>
          </p:nvSpPr>
          <p:spPr>
            <a:xfrm>
              <a:off x="3203640" y="2062080"/>
              <a:ext cx="136800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3280" y="2062080"/>
              <a:ext cx="136800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59280" y="371772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3717720"/>
              <a:ext cx="151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3640" y="2060640"/>
              <a:ext cx="136800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3280" y="2060640"/>
              <a:ext cx="136800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59280" y="37162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72000" y="3716280"/>
              <a:ext cx="151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059280" y="2060640"/>
              <a:ext cx="3025080" cy="1994400"/>
              <a:chOff x="3059280" y="2060640"/>
              <a:chExt cx="3025080" cy="1994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203640" y="2062080"/>
                <a:ext cx="1368000" cy="151092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43280" y="2062080"/>
                <a:ext cx="1368000" cy="151092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9280" y="371772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72000" y="3717720"/>
                <a:ext cx="151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03640" y="2060640"/>
                <a:ext cx="1368000" cy="151092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43280" y="2060640"/>
                <a:ext cx="1368000" cy="151092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59280" y="37162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72000" y="3716280"/>
                <a:ext cx="151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3059280" y="2062080"/>
                <a:ext cx="3025080" cy="1992600"/>
                <a:chOff x="3059280" y="2062080"/>
                <a:chExt cx="3025080" cy="1992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203640" y="206208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643280" y="206208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059280" y="371736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572000" y="3717360"/>
                  <a:ext cx="151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643280" y="2781000"/>
                  <a:ext cx="1368000" cy="0"/>
                </a:xfrm>
                <a:prstGeom prst="line">
                  <a:avLst/>
                </a:prstGeom>
                <a:ln w="1523880">
                  <a:solidFill>
                    <a:srgbClr val="c0c0c0">
                      <a:alpha val="4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Mark comb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his hair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omb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338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3059280" y="2038320"/>
            <a:ext cx="3025080" cy="2016720"/>
            <a:chOff x="3059280" y="2038320"/>
            <a:chExt cx="3025080" cy="2016720"/>
          </a:xfrm>
        </p:grpSpPr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3203640" y="2038320"/>
              <a:ext cx="1368360" cy="151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2" name=""/>
            <p:cNvGrpSpPr/>
            <p:nvPr/>
          </p:nvGrpSpPr>
          <p:grpSpPr>
            <a:xfrm>
              <a:off x="3059280" y="2060640"/>
              <a:ext cx="3025080" cy="1994400"/>
              <a:chOff x="3059280" y="2060640"/>
              <a:chExt cx="3025080" cy="1994400"/>
            </a:xfrm>
          </p:grpSpPr>
          <p:sp>
            <p:nvSpPr>
              <p:cNvPr id="343" name=""/>
              <p:cNvSpPr/>
              <p:nvPr/>
            </p:nvSpPr>
            <p:spPr>
              <a:xfrm>
                <a:off x="3203640" y="206208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43280" y="206208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59280" y="371772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572000" y="3717720"/>
                <a:ext cx="151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03640" y="206064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643280" y="206064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59280" y="37162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572000" y="3716280"/>
                <a:ext cx="151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3059280" y="2060640"/>
                <a:ext cx="3025080" cy="1994400"/>
                <a:chOff x="3059280" y="2060640"/>
                <a:chExt cx="3025080" cy="19944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203640" y="206208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643280" y="206208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059280" y="371772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572000" y="3717720"/>
                  <a:ext cx="151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203640" y="206064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643280" y="206064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059280" y="371628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572000" y="3716280"/>
                  <a:ext cx="151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3059280" y="2062080"/>
                  <a:ext cx="3025080" cy="1992600"/>
                  <a:chOff x="3059280" y="2062080"/>
                  <a:chExt cx="3025080" cy="19926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3203640" y="2062080"/>
                    <a:ext cx="136800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643280" y="2062080"/>
                    <a:ext cx="136800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059280" y="371736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572000" y="3717360"/>
                    <a:ext cx="1512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643280" y="2781000"/>
                    <a:ext cx="136800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66" name=""/>
          <p:cNvSpPr/>
          <p:nvPr/>
        </p:nvSpPr>
        <p:spPr>
          <a:xfrm>
            <a:off x="6443640" y="618804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8028000" y="6093000"/>
            <a:ext cx="574560" cy="54900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605" h="21600">
                <a:moveTo>
                  <a:pt x="0" y="0"/>
                </a:moveTo>
                <a:lnTo>
                  <a:pt x="22605" y="0"/>
                </a:lnTo>
                <a:lnTo>
                  <a:pt x="22605" y="21600"/>
                </a:lnTo>
                <a:lnTo>
                  <a:pt x="0" y="21600"/>
                </a:lnTo>
                <a:close/>
              </a:path>
              <a:path fill="lightenLess" w="22605" h="21600">
                <a:moveTo>
                  <a:pt x="0" y="0"/>
                </a:moveTo>
                <a:lnTo>
                  <a:pt x="22605" y="0"/>
                </a:lnTo>
                <a:lnTo>
                  <a:pt x="21205" y="1400"/>
                </a:lnTo>
                <a:lnTo>
                  <a:pt x="1400" y="1400"/>
                </a:lnTo>
                <a:close/>
              </a:path>
              <a:path fill="darken" w="22605" h="21600">
                <a:moveTo>
                  <a:pt x="22605" y="0"/>
                </a:moveTo>
                <a:lnTo>
                  <a:pt x="22605" y="21600"/>
                </a:lnTo>
                <a:lnTo>
                  <a:pt x="21205" y="20200"/>
                </a:lnTo>
                <a:lnTo>
                  <a:pt x="21205" y="1400"/>
                </a:lnTo>
                <a:close/>
              </a:path>
              <a:path fill="darkenLess" w="22605" h="21600">
                <a:moveTo>
                  <a:pt x="22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5" y="20200"/>
                </a:lnTo>
                <a:close/>
              </a:path>
              <a:path fill="lighten" w="22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5" h="21600">
                <a:moveTo>
                  <a:pt x="4296" y="3794"/>
                </a:moveTo>
                <a:lnTo>
                  <a:pt x="18309" y="10800"/>
                </a:lnTo>
                <a:lnTo>
                  <a:pt x="42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369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4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8244000" y="1484280"/>
            <a:ext cx="57780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Mark </a:t>
            </a:r>
            <a:r>
              <a:rPr b="0" lang="en-GB" sz="4300" spc="-1" strike="noStrike" u="sng">
                <a:solidFill>
                  <a:srgbClr val="000000"/>
                </a:solidFill>
                <a:uFillTx/>
                <a:latin typeface="Comic Sans MS"/>
              </a:rPr>
              <a:t>comb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his hair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o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2200" y="497196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omb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059280" y="2038320"/>
            <a:ext cx="3025080" cy="2016720"/>
            <a:chOff x="3059280" y="2038320"/>
            <a:chExt cx="3025080" cy="2016720"/>
          </a:xfrm>
        </p:grpSpPr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3203640" y="2038320"/>
              <a:ext cx="1368360" cy="151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"/>
            <p:cNvGrpSpPr/>
            <p:nvPr/>
          </p:nvGrpSpPr>
          <p:grpSpPr>
            <a:xfrm>
              <a:off x="3059280" y="2060640"/>
              <a:ext cx="3025080" cy="1994400"/>
              <a:chOff x="3059280" y="2060640"/>
              <a:chExt cx="3025080" cy="1994400"/>
            </a:xfrm>
          </p:grpSpPr>
          <p:sp>
            <p:nvSpPr>
              <p:cNvPr id="380" name=""/>
              <p:cNvSpPr/>
              <p:nvPr/>
            </p:nvSpPr>
            <p:spPr>
              <a:xfrm>
                <a:off x="3203640" y="206208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43280" y="206208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59280" y="371772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3717720"/>
                <a:ext cx="151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203640" y="206064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643280" y="206064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59280" y="37162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72000" y="3716280"/>
                <a:ext cx="151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3059280" y="2060640"/>
                <a:ext cx="3025080" cy="1994400"/>
                <a:chOff x="3059280" y="2060640"/>
                <a:chExt cx="3025080" cy="19944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3203640" y="206208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643280" y="206208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059280" y="371772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572000" y="3717720"/>
                  <a:ext cx="151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203640" y="206064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643280" y="206064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59280" y="371628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572000" y="3716280"/>
                  <a:ext cx="151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059280" y="2062080"/>
                  <a:ext cx="3025080" cy="1992600"/>
                  <a:chOff x="3059280" y="2062080"/>
                  <a:chExt cx="3025080" cy="19926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203640" y="2062080"/>
                    <a:ext cx="136800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643280" y="2062080"/>
                    <a:ext cx="136800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059280" y="371736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572000" y="3717360"/>
                    <a:ext cx="1512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643280" y="2781000"/>
                    <a:ext cx="136800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03" name=""/>
          <p:cNvSpPr/>
          <p:nvPr/>
        </p:nvSpPr>
        <p:spPr>
          <a:xfrm>
            <a:off x="6443640" y="618804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574560" cy="54900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605" h="21600">
                <a:moveTo>
                  <a:pt x="0" y="0"/>
                </a:moveTo>
                <a:lnTo>
                  <a:pt x="22605" y="0"/>
                </a:lnTo>
                <a:lnTo>
                  <a:pt x="22605" y="21600"/>
                </a:lnTo>
                <a:lnTo>
                  <a:pt x="0" y="21600"/>
                </a:lnTo>
                <a:close/>
              </a:path>
              <a:path fill="lightenLess" w="22605" h="21600">
                <a:moveTo>
                  <a:pt x="0" y="0"/>
                </a:moveTo>
                <a:lnTo>
                  <a:pt x="22605" y="0"/>
                </a:lnTo>
                <a:lnTo>
                  <a:pt x="21205" y="1400"/>
                </a:lnTo>
                <a:lnTo>
                  <a:pt x="1400" y="1400"/>
                </a:lnTo>
                <a:close/>
              </a:path>
              <a:path fill="darken" w="22605" h="21600">
                <a:moveTo>
                  <a:pt x="22605" y="0"/>
                </a:moveTo>
                <a:lnTo>
                  <a:pt x="22605" y="21600"/>
                </a:lnTo>
                <a:lnTo>
                  <a:pt x="21205" y="20200"/>
                </a:lnTo>
                <a:lnTo>
                  <a:pt x="21205" y="1400"/>
                </a:lnTo>
                <a:close/>
              </a:path>
              <a:path fill="darkenLess" w="22605" h="21600">
                <a:moveTo>
                  <a:pt x="22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5" y="20200"/>
                </a:lnTo>
                <a:close/>
              </a:path>
              <a:path fill="lighten" w="22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5" h="21600">
                <a:moveTo>
                  <a:pt x="4296" y="3794"/>
                </a:moveTo>
                <a:lnTo>
                  <a:pt x="18309" y="10800"/>
                </a:lnTo>
                <a:lnTo>
                  <a:pt x="42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406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3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5435640" y="5300640"/>
            <a:ext cx="2089080" cy="649440"/>
          </a:xfrm>
          <a:custGeom>
            <a:avLst/>
            <a:gdLst>
              <a:gd name="textAreaLeft" fmla="*/ 41760 w 2089080"/>
              <a:gd name="textAreaRight" fmla="*/ 2047320 w 2089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69455" h="21600">
                <a:moveTo>
                  <a:pt x="0" y="0"/>
                </a:moveTo>
                <a:lnTo>
                  <a:pt x="69455" y="0"/>
                </a:lnTo>
                <a:lnTo>
                  <a:pt x="69455" y="21600"/>
                </a:lnTo>
                <a:lnTo>
                  <a:pt x="0" y="21600"/>
                </a:lnTo>
                <a:close/>
              </a:path>
              <a:path fill="lightenLess" w="69455" h="21600">
                <a:moveTo>
                  <a:pt x="0" y="0"/>
                </a:moveTo>
                <a:lnTo>
                  <a:pt x="69455" y="0"/>
                </a:lnTo>
                <a:lnTo>
                  <a:pt x="68055" y="1400"/>
                </a:lnTo>
                <a:lnTo>
                  <a:pt x="1400" y="1400"/>
                </a:lnTo>
                <a:close/>
              </a:path>
              <a:path fill="darken" w="69455" h="21600">
                <a:moveTo>
                  <a:pt x="69455" y="0"/>
                </a:moveTo>
                <a:lnTo>
                  <a:pt x="69455" y="21600"/>
                </a:lnTo>
                <a:lnTo>
                  <a:pt x="68055" y="20200"/>
                </a:lnTo>
                <a:lnTo>
                  <a:pt x="68055" y="1400"/>
                </a:lnTo>
                <a:close/>
              </a:path>
              <a:path fill="darkenLess" w="69455" h="21600">
                <a:moveTo>
                  <a:pt x="6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055" y="20200"/>
                </a:lnTo>
                <a:close/>
              </a:path>
              <a:path fill="lighten" w="6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455" h="21600">
                <a:moveTo>
                  <a:pt x="27721" y="3794"/>
                </a:moveTo>
                <a:lnTo>
                  <a:pt x="41734" y="10800"/>
                </a:lnTo>
                <a:lnTo>
                  <a:pt x="277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rId1" action="ppaction://hlinksldjump"/>
          </p:cNvPr>
          <p:cNvSpPr/>
          <p:nvPr/>
        </p:nvSpPr>
        <p:spPr>
          <a:xfrm>
            <a:off x="1547640" y="5300640"/>
            <a:ext cx="2051280" cy="649440"/>
          </a:xfrm>
          <a:custGeom>
            <a:avLst/>
            <a:gdLst>
              <a:gd name="textAreaLeft" fmla="*/ 41760 w 2051280"/>
              <a:gd name="textAreaRight" fmla="*/ 2009520 w 20512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68199" h="21600">
                <a:moveTo>
                  <a:pt x="0" y="0"/>
                </a:moveTo>
                <a:lnTo>
                  <a:pt x="68199" y="0"/>
                </a:lnTo>
                <a:lnTo>
                  <a:pt x="68199" y="21600"/>
                </a:lnTo>
                <a:lnTo>
                  <a:pt x="0" y="21600"/>
                </a:lnTo>
                <a:close/>
              </a:path>
              <a:path fill="lightenLess" w="68199" h="21600">
                <a:moveTo>
                  <a:pt x="0" y="0"/>
                </a:moveTo>
                <a:lnTo>
                  <a:pt x="68199" y="0"/>
                </a:lnTo>
                <a:lnTo>
                  <a:pt x="66799" y="1400"/>
                </a:lnTo>
                <a:lnTo>
                  <a:pt x="1400" y="1400"/>
                </a:lnTo>
                <a:close/>
              </a:path>
              <a:path fill="darken" w="68199" h="21600">
                <a:moveTo>
                  <a:pt x="68199" y="0"/>
                </a:moveTo>
                <a:lnTo>
                  <a:pt x="68199" y="21600"/>
                </a:lnTo>
                <a:lnTo>
                  <a:pt x="66799" y="20200"/>
                </a:lnTo>
                <a:lnTo>
                  <a:pt x="66799" y="1400"/>
                </a:lnTo>
                <a:close/>
              </a:path>
              <a:path fill="darkenLess" w="68199" h="21600">
                <a:moveTo>
                  <a:pt x="68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99" y="20200"/>
                </a:lnTo>
                <a:close/>
              </a:path>
              <a:path fill="lighten" w="68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199" h="21600">
                <a:moveTo>
                  <a:pt x="27093" y="3794"/>
                </a:moveTo>
                <a:lnTo>
                  <a:pt x="41106" y="10800"/>
                </a:lnTo>
                <a:lnTo>
                  <a:pt x="270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 _____ sandwic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4508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a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4508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059280" y="2060640"/>
            <a:ext cx="3097080" cy="2016720"/>
            <a:chOff x="3059280" y="2060640"/>
            <a:chExt cx="3097080" cy="201672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4716360" y="2133720"/>
              <a:ext cx="1224000" cy="129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" name=""/>
            <p:cNvGrpSpPr/>
            <p:nvPr/>
          </p:nvGrpSpPr>
          <p:grpSpPr>
            <a:xfrm>
              <a:off x="3059280" y="2060640"/>
              <a:ext cx="3097080" cy="2016720"/>
              <a:chOff x="3059280" y="2060640"/>
              <a:chExt cx="3097080" cy="2016720"/>
            </a:xfrm>
          </p:grpSpPr>
          <p:sp>
            <p:nvSpPr>
              <p:cNvPr id="416" name=""/>
              <p:cNvSpPr/>
              <p:nvPr/>
            </p:nvSpPr>
            <p:spPr>
              <a:xfrm>
                <a:off x="3132360" y="277956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43640" y="206064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32360" y="206064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59280" y="37162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43640" y="37400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00000" y="634680"/>
            <a:ext cx="3887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 and Pres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erbs Gam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1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5  IT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684440"/>
            <a:ext cx="8280360" cy="35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eacher led activity aims to help children differentiate between past and present ver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hild’s task is to choose between two written verbs: in present (3rd person singular) or past tense, and to decide whether they are written in the ‘past’ or in the ‘present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ext slide is the answer sheet for each child to complete during the IT presentation, and should be printed, and distributed to the children before you st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ldren should complete the sentences and tick the appropriate column, ‘past’ or ‘present’, on their answer sheet prior to receiving feed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pack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andwic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ack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68360" y="4508640"/>
            <a:ext cx="3960720" cy="1046520"/>
            <a:chOff x="468360" y="4508640"/>
            <a:chExt cx="3960720" cy="1046520"/>
          </a:xfrm>
        </p:grpSpPr>
        <p:sp>
          <p:nvSpPr>
            <p:cNvPr id="424" name=""/>
            <p:cNvSpPr/>
            <p:nvPr/>
          </p:nvSpPr>
          <p:spPr>
            <a:xfrm>
              <a:off x="468360" y="515628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FANTASTIC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>
              <a:off x="2052720" y="450864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6" name=""/>
          <p:cNvGrpSpPr/>
          <p:nvPr/>
        </p:nvGrpSpPr>
        <p:grpSpPr>
          <a:xfrm>
            <a:off x="3059280" y="2060640"/>
            <a:ext cx="3097080" cy="2016720"/>
            <a:chOff x="3059280" y="2060640"/>
            <a:chExt cx="3097080" cy="2016720"/>
          </a:xfrm>
        </p:grpSpPr>
        <p:pic>
          <p:nvPicPr>
            <p:cNvPr id="427" name="" descr=""/>
            <p:cNvPicPr/>
            <p:nvPr/>
          </p:nvPicPr>
          <p:blipFill>
            <a:blip r:embed="rId2"/>
            <a:stretch/>
          </p:blipFill>
          <p:spPr>
            <a:xfrm>
              <a:off x="4716360" y="2133720"/>
              <a:ext cx="1224000" cy="129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3059280" y="2060640"/>
              <a:ext cx="3097080" cy="2016720"/>
              <a:chOff x="3059280" y="2060640"/>
              <a:chExt cx="3097080" cy="2016720"/>
            </a:xfrm>
          </p:grpSpPr>
          <p:sp>
            <p:nvSpPr>
              <p:cNvPr id="429" name=""/>
              <p:cNvSpPr/>
              <p:nvPr/>
            </p:nvSpPr>
            <p:spPr>
              <a:xfrm>
                <a:off x="3132360" y="277956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643640" y="206064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32360" y="206064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59280" y="37162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43640" y="37400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"/>
          <p:cNvSpPr/>
          <p:nvPr/>
        </p:nvSpPr>
        <p:spPr>
          <a:xfrm>
            <a:off x="6588000" y="630864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rId3" action="ppaction://hlinksldjump"/>
          </p:cNvPr>
          <p:cNvSpPr/>
          <p:nvPr/>
        </p:nvSpPr>
        <p:spPr>
          <a:xfrm>
            <a:off x="8101080" y="616572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3794"/>
                </a:moveTo>
                <a:lnTo>
                  <a:pt x="18302" y="10800"/>
                </a:lnTo>
                <a:lnTo>
                  <a:pt x="4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437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4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7451640" y="549360"/>
            <a:ext cx="7844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pack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andwic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a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ack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684360" cy="7221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403280" y="537372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059280" y="2060640"/>
            <a:ext cx="3097080" cy="2016720"/>
            <a:chOff x="3059280" y="2060640"/>
            <a:chExt cx="3097080" cy="2016720"/>
          </a:xfrm>
        </p:grpSpPr>
        <p:pic>
          <p:nvPicPr>
            <p:cNvPr id="446" name="" descr=""/>
            <p:cNvPicPr/>
            <p:nvPr/>
          </p:nvPicPr>
          <p:blipFill>
            <a:blip r:embed="rId2"/>
            <a:stretch/>
          </p:blipFill>
          <p:spPr>
            <a:xfrm>
              <a:off x="4716360" y="2133720"/>
              <a:ext cx="1224000" cy="129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7" name=""/>
            <p:cNvGrpSpPr/>
            <p:nvPr/>
          </p:nvGrpSpPr>
          <p:grpSpPr>
            <a:xfrm>
              <a:off x="3059280" y="2060640"/>
              <a:ext cx="3097080" cy="2016720"/>
              <a:chOff x="3059280" y="2060640"/>
              <a:chExt cx="3097080" cy="2016720"/>
            </a:xfrm>
          </p:grpSpPr>
          <p:sp>
            <p:nvSpPr>
              <p:cNvPr id="448" name=""/>
              <p:cNvSpPr/>
              <p:nvPr/>
            </p:nvSpPr>
            <p:spPr>
              <a:xfrm>
                <a:off x="3132360" y="277956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43640" y="206064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32360" y="206064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59280" y="37162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643640" y="37400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6804000" y="2781360"/>
            <a:ext cx="1800000" cy="1799640"/>
            <a:chOff x="6804000" y="2781360"/>
            <a:chExt cx="1800000" cy="1799640"/>
          </a:xfrm>
        </p:grpSpPr>
        <p:sp>
          <p:nvSpPr>
            <p:cNvPr id="454" name=""/>
            <p:cNvSpPr/>
            <p:nvPr/>
          </p:nvSpPr>
          <p:spPr>
            <a:xfrm>
              <a:off x="6804000" y="2781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" descr=""/>
            <p:cNvPicPr/>
            <p:nvPr/>
          </p:nvPicPr>
          <p:blipFill>
            <a:blip r:embed="rId3"/>
            <a:stretch/>
          </p:blipFill>
          <p:spPr>
            <a:xfrm>
              <a:off x="7092720" y="343980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"/>
          <p:cNvSpPr/>
          <p:nvPr/>
        </p:nvSpPr>
        <p:spPr>
          <a:xfrm>
            <a:off x="6588000" y="630864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549360"/>
          </a:xfrm>
          <a:custGeom>
            <a:avLst/>
            <a:gdLst>
              <a:gd name="textAreaLeft" fmla="*/ 35280 w 574560"/>
              <a:gd name="textAreaRight" fmla="*/ 539280 w 574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590" h="21600">
                <a:moveTo>
                  <a:pt x="0" y="0"/>
                </a:moveTo>
                <a:lnTo>
                  <a:pt x="22590" y="0"/>
                </a:lnTo>
                <a:lnTo>
                  <a:pt x="22590" y="21600"/>
                </a:lnTo>
                <a:lnTo>
                  <a:pt x="0" y="21600"/>
                </a:lnTo>
                <a:close/>
              </a:path>
              <a:path fill="lightenLess" w="22590" h="21600">
                <a:moveTo>
                  <a:pt x="0" y="0"/>
                </a:moveTo>
                <a:lnTo>
                  <a:pt x="22590" y="0"/>
                </a:lnTo>
                <a:lnTo>
                  <a:pt x="21190" y="1400"/>
                </a:lnTo>
                <a:lnTo>
                  <a:pt x="1400" y="1400"/>
                </a:lnTo>
                <a:close/>
              </a:path>
              <a:path fill="darken" w="22590" h="21600">
                <a:moveTo>
                  <a:pt x="22590" y="0"/>
                </a:moveTo>
                <a:lnTo>
                  <a:pt x="22590" y="21600"/>
                </a:lnTo>
                <a:lnTo>
                  <a:pt x="21190" y="20200"/>
                </a:lnTo>
                <a:lnTo>
                  <a:pt x="21190" y="1400"/>
                </a:lnTo>
                <a:close/>
              </a:path>
              <a:path fill="darkenLess" w="22590" h="21600">
                <a:moveTo>
                  <a:pt x="22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0" y="20200"/>
                </a:lnTo>
                <a:close/>
              </a:path>
              <a:path fill="lighten" w="22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0" h="21600">
                <a:moveTo>
                  <a:pt x="4289" y="3794"/>
                </a:moveTo>
                <a:lnTo>
                  <a:pt x="18302" y="10800"/>
                </a:lnTo>
                <a:lnTo>
                  <a:pt x="4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>
            <a:hlinkClick r:id="rId1" action="ppaction://hlinksldjump"/>
          </p:cNvPr>
          <p:cNvSpPr/>
          <p:nvPr/>
        </p:nvSpPr>
        <p:spPr>
          <a:xfrm>
            <a:off x="5508720" y="5734080"/>
            <a:ext cx="1942920" cy="538200"/>
          </a:xfrm>
          <a:custGeom>
            <a:avLst/>
            <a:gdLst>
              <a:gd name="textAreaLeft" fmla="*/ 34560 w 1942920"/>
              <a:gd name="textAreaRight" fmla="*/ 1908360 w 19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77939" h="21600">
                <a:moveTo>
                  <a:pt x="0" y="0"/>
                </a:moveTo>
                <a:lnTo>
                  <a:pt x="77939" y="0"/>
                </a:lnTo>
                <a:lnTo>
                  <a:pt x="77939" y="21600"/>
                </a:lnTo>
                <a:lnTo>
                  <a:pt x="0" y="21600"/>
                </a:lnTo>
                <a:close/>
              </a:path>
              <a:path fill="lightenLess" w="77939" h="21600">
                <a:moveTo>
                  <a:pt x="0" y="0"/>
                </a:moveTo>
                <a:lnTo>
                  <a:pt x="77939" y="0"/>
                </a:lnTo>
                <a:lnTo>
                  <a:pt x="76539" y="1400"/>
                </a:lnTo>
                <a:lnTo>
                  <a:pt x="1400" y="1400"/>
                </a:lnTo>
                <a:close/>
              </a:path>
              <a:path fill="darken" w="77939" h="21600">
                <a:moveTo>
                  <a:pt x="77939" y="0"/>
                </a:moveTo>
                <a:lnTo>
                  <a:pt x="77939" y="21600"/>
                </a:lnTo>
                <a:lnTo>
                  <a:pt x="76539" y="20200"/>
                </a:lnTo>
                <a:lnTo>
                  <a:pt x="76539" y="1400"/>
                </a:lnTo>
                <a:close/>
              </a:path>
              <a:path fill="darkenLess" w="77939" h="21600">
                <a:moveTo>
                  <a:pt x="77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539" y="20200"/>
                </a:lnTo>
                <a:close/>
              </a:path>
              <a:path fill="lighten" w="77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939" h="21600">
                <a:moveTo>
                  <a:pt x="31963" y="3794"/>
                </a:moveTo>
                <a:lnTo>
                  <a:pt x="45976" y="10800"/>
                </a:lnTo>
                <a:lnTo>
                  <a:pt x="319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1692360" y="5734080"/>
            <a:ext cx="1977840" cy="538200"/>
          </a:xfrm>
          <a:custGeom>
            <a:avLst/>
            <a:gdLst>
              <a:gd name="textAreaLeft" fmla="*/ 34560 w 1977840"/>
              <a:gd name="textAreaRight" fmla="*/ 1943280 w 1977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79340" h="21600">
                <a:moveTo>
                  <a:pt x="0" y="0"/>
                </a:moveTo>
                <a:lnTo>
                  <a:pt x="79340" y="0"/>
                </a:lnTo>
                <a:lnTo>
                  <a:pt x="79340" y="21600"/>
                </a:lnTo>
                <a:lnTo>
                  <a:pt x="0" y="21600"/>
                </a:lnTo>
                <a:close/>
              </a:path>
              <a:path fill="lightenLess" w="79340" h="21600">
                <a:moveTo>
                  <a:pt x="0" y="0"/>
                </a:moveTo>
                <a:lnTo>
                  <a:pt x="79340" y="0"/>
                </a:lnTo>
                <a:lnTo>
                  <a:pt x="77940" y="1400"/>
                </a:lnTo>
                <a:lnTo>
                  <a:pt x="1400" y="1400"/>
                </a:lnTo>
                <a:close/>
              </a:path>
              <a:path fill="darken" w="79340" h="21600">
                <a:moveTo>
                  <a:pt x="79340" y="0"/>
                </a:moveTo>
                <a:lnTo>
                  <a:pt x="79340" y="21600"/>
                </a:lnTo>
                <a:lnTo>
                  <a:pt x="77940" y="20200"/>
                </a:lnTo>
                <a:lnTo>
                  <a:pt x="77940" y="1400"/>
                </a:lnTo>
                <a:close/>
              </a:path>
              <a:path fill="darkenLess" w="79340" h="21600">
                <a:moveTo>
                  <a:pt x="793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940" y="20200"/>
                </a:lnTo>
                <a:close/>
              </a:path>
              <a:path fill="lighten" w="793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340" h="21600">
                <a:moveTo>
                  <a:pt x="32663" y="3794"/>
                </a:moveTo>
                <a:lnTo>
                  <a:pt x="46676" y="10800"/>
                </a:lnTo>
                <a:lnTo>
                  <a:pt x="326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Chlo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r ice-cre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39640" y="501336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li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84720" y="497196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l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203640" y="2133720"/>
            <a:ext cx="1280880" cy="14396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2987640" y="2082960"/>
            <a:ext cx="3025800" cy="1994400"/>
            <a:chOff x="2987640" y="2082960"/>
            <a:chExt cx="3025800" cy="1994400"/>
          </a:xfrm>
        </p:grpSpPr>
        <p:sp>
          <p:nvSpPr>
            <p:cNvPr id="465" name=""/>
            <p:cNvSpPr/>
            <p:nvPr/>
          </p:nvSpPr>
          <p:spPr>
            <a:xfrm>
              <a:off x="3132360" y="208440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72000" y="2084400"/>
              <a:ext cx="136836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87640" y="374004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00720" y="37400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32360" y="208296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72000" y="2082960"/>
              <a:ext cx="136836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87640" y="373860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00720" y="373860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987640" y="2082960"/>
              <a:ext cx="3025800" cy="1994400"/>
              <a:chOff x="2987640" y="2082960"/>
              <a:chExt cx="3025800" cy="1994400"/>
            </a:xfrm>
          </p:grpSpPr>
          <p:sp>
            <p:nvSpPr>
              <p:cNvPr id="474" name=""/>
              <p:cNvSpPr/>
              <p:nvPr/>
            </p:nvSpPr>
            <p:spPr>
              <a:xfrm>
                <a:off x="3132360" y="2084400"/>
                <a:ext cx="1368360" cy="151092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72000" y="2084400"/>
                <a:ext cx="1368360" cy="151092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987640" y="37400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00720" y="37400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32360" y="2082960"/>
                <a:ext cx="1368360" cy="151092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72000" y="2082960"/>
                <a:ext cx="1368360" cy="151092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987640" y="373860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00720" y="37386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2987640" y="2084400"/>
                <a:ext cx="3025800" cy="1992600"/>
                <a:chOff x="2987640" y="2084400"/>
                <a:chExt cx="3025800" cy="199260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3132360" y="20844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572000" y="20844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987640" y="373968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500720" y="373968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572000" y="2803320"/>
                  <a:ext cx="1368360" cy="0"/>
                </a:xfrm>
                <a:prstGeom prst="line">
                  <a:avLst/>
                </a:prstGeom>
                <a:ln w="1523880">
                  <a:solidFill>
                    <a:srgbClr val="c0c0c0">
                      <a:alpha val="4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 Chloe lick</a:t>
            </a:r>
            <a:r>
              <a:rPr b="0" lang="en-GB" sz="39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her ice-cream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lick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491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"/>
          <p:cNvGrpSpPr/>
          <p:nvPr/>
        </p:nvGrpSpPr>
        <p:grpSpPr>
          <a:xfrm>
            <a:off x="2987640" y="2298600"/>
            <a:ext cx="3025800" cy="1994400"/>
            <a:chOff x="2987640" y="2298600"/>
            <a:chExt cx="3025800" cy="199440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3203640" y="2349360"/>
              <a:ext cx="1280880" cy="143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5" name=""/>
            <p:cNvGrpSpPr/>
            <p:nvPr/>
          </p:nvGrpSpPr>
          <p:grpSpPr>
            <a:xfrm>
              <a:off x="2987640" y="2298600"/>
              <a:ext cx="3025800" cy="1994400"/>
              <a:chOff x="2987640" y="2298600"/>
              <a:chExt cx="3025800" cy="1994400"/>
            </a:xfrm>
          </p:grpSpPr>
          <p:sp>
            <p:nvSpPr>
              <p:cNvPr id="496" name=""/>
              <p:cNvSpPr/>
              <p:nvPr/>
            </p:nvSpPr>
            <p:spPr>
              <a:xfrm>
                <a:off x="3132360" y="23000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0" y="23000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987640" y="39556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00720" y="39556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32360" y="22986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72000" y="22986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87640" y="39542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00720" y="39542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2987640" y="2298600"/>
                <a:ext cx="3025800" cy="1994400"/>
                <a:chOff x="2987640" y="2298600"/>
                <a:chExt cx="3025800" cy="19944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132360" y="23000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572000" y="23000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987640" y="395568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500720" y="395568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132360" y="22986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572000" y="22986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987640" y="395424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500720" y="395424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2987640" y="2300040"/>
                  <a:ext cx="3025800" cy="1992600"/>
                  <a:chOff x="2987640" y="2300040"/>
                  <a:chExt cx="3025800" cy="199260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3132360" y="230004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4572000" y="230004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987640" y="3955320"/>
                    <a:ext cx="1513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4500720" y="395532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4572000" y="3018960"/>
                    <a:ext cx="136836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19" name=""/>
          <p:cNvSpPr/>
          <p:nvPr/>
        </p:nvSpPr>
        <p:spPr>
          <a:xfrm>
            <a:off x="6372360" y="62611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7956720" y="6165720"/>
            <a:ext cx="576000" cy="465120"/>
          </a:xfrm>
          <a:custGeom>
            <a:avLst/>
            <a:gdLst>
              <a:gd name="textAreaLeft" fmla="*/ 29880 w 576000"/>
              <a:gd name="textAreaRight" fmla="*/ 546120 w 576000"/>
              <a:gd name="textAreaTop" fmla="*/ 29880 h 465120"/>
              <a:gd name="textAreaBottom" fmla="*/ 435240 h 465120"/>
            </a:gdLst>
            <a:ahLst/>
            <a:rect l="textAreaLeft" t="textAreaTop" r="textAreaRight" b="textAreaBottom"/>
            <a:pathLst>
              <a:path w="26745" h="21600">
                <a:moveTo>
                  <a:pt x="0" y="0"/>
                </a:moveTo>
                <a:lnTo>
                  <a:pt x="26745" y="0"/>
                </a:lnTo>
                <a:lnTo>
                  <a:pt x="26745" y="21600"/>
                </a:lnTo>
                <a:lnTo>
                  <a:pt x="0" y="21600"/>
                </a:lnTo>
                <a:close/>
              </a:path>
              <a:path fill="lightenLess" w="26745" h="21600">
                <a:moveTo>
                  <a:pt x="0" y="0"/>
                </a:moveTo>
                <a:lnTo>
                  <a:pt x="26745" y="0"/>
                </a:lnTo>
                <a:lnTo>
                  <a:pt x="25345" y="1400"/>
                </a:lnTo>
                <a:lnTo>
                  <a:pt x="1400" y="1400"/>
                </a:lnTo>
                <a:close/>
              </a:path>
              <a:path fill="darken" w="26745" h="21600">
                <a:moveTo>
                  <a:pt x="26745" y="0"/>
                </a:moveTo>
                <a:lnTo>
                  <a:pt x="26745" y="21600"/>
                </a:lnTo>
                <a:lnTo>
                  <a:pt x="25345" y="20200"/>
                </a:lnTo>
                <a:lnTo>
                  <a:pt x="25345" y="1400"/>
                </a:lnTo>
                <a:close/>
              </a:path>
              <a:path fill="darkenLess" w="26745" h="21600">
                <a:moveTo>
                  <a:pt x="2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5" y="20200"/>
                </a:lnTo>
                <a:close/>
              </a:path>
              <a:path fill="lighten" w="2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45" h="21600">
                <a:moveTo>
                  <a:pt x="6366" y="3794"/>
                </a:moveTo>
                <a:lnTo>
                  <a:pt x="20379" y="10800"/>
                </a:lnTo>
                <a:lnTo>
                  <a:pt x="63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804000" y="2781360"/>
            <a:ext cx="1800000" cy="1799640"/>
            <a:chOff x="6804000" y="2781360"/>
            <a:chExt cx="1800000" cy="1799640"/>
          </a:xfrm>
        </p:grpSpPr>
        <p:sp>
          <p:nvSpPr>
            <p:cNvPr id="522" name=""/>
            <p:cNvSpPr/>
            <p:nvPr/>
          </p:nvSpPr>
          <p:spPr>
            <a:xfrm>
              <a:off x="6804000" y="2781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3" name="" descr=""/>
            <p:cNvPicPr/>
            <p:nvPr/>
          </p:nvPicPr>
          <p:blipFill>
            <a:blip r:embed="rId4"/>
            <a:stretch/>
          </p:blipFill>
          <p:spPr>
            <a:xfrm>
              <a:off x="7092720" y="343980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6372360" y="1197000"/>
            <a:ext cx="9903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 Chloe </a:t>
            </a:r>
            <a:r>
              <a:rPr b="0" lang="en-GB" sz="3900" spc="-1" strike="noStrike" u="sng">
                <a:solidFill>
                  <a:srgbClr val="000000"/>
                </a:solidFill>
                <a:uFillTx/>
                <a:latin typeface="Comic Sans MS"/>
              </a:rPr>
              <a:t>lick</a:t>
            </a:r>
            <a:r>
              <a:rPr b="0" lang="en-GB" sz="39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her ice-cream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l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lick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987640" y="2082960"/>
            <a:ext cx="3025800" cy="1994400"/>
            <a:chOff x="2987640" y="2082960"/>
            <a:chExt cx="3025800" cy="1994400"/>
          </a:xfrm>
        </p:grpSpPr>
        <p:pic>
          <p:nvPicPr>
            <p:cNvPr id="531" name="" descr=""/>
            <p:cNvPicPr/>
            <p:nvPr/>
          </p:nvPicPr>
          <p:blipFill>
            <a:blip r:embed="rId2"/>
            <a:stretch/>
          </p:blipFill>
          <p:spPr>
            <a:xfrm>
              <a:off x="3203640" y="2133720"/>
              <a:ext cx="1280880" cy="143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"/>
            <p:cNvGrpSpPr/>
            <p:nvPr/>
          </p:nvGrpSpPr>
          <p:grpSpPr>
            <a:xfrm>
              <a:off x="2987640" y="2082960"/>
              <a:ext cx="3025800" cy="1994400"/>
              <a:chOff x="2987640" y="2082960"/>
              <a:chExt cx="3025800" cy="1994400"/>
            </a:xfrm>
          </p:grpSpPr>
          <p:sp>
            <p:nvSpPr>
              <p:cNvPr id="533" name=""/>
              <p:cNvSpPr/>
              <p:nvPr/>
            </p:nvSpPr>
            <p:spPr>
              <a:xfrm>
                <a:off x="3132360" y="20844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572000" y="20844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87640" y="37400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500720" y="37400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32360" y="208296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572000" y="208296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87640" y="373860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500720" y="37386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2987640" y="2082960"/>
                <a:ext cx="3025800" cy="1994400"/>
                <a:chOff x="2987640" y="2082960"/>
                <a:chExt cx="3025800" cy="19944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3132360" y="20844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572000" y="20844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987640" y="374004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500720" y="374004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132360" y="208296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572000" y="208296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987640" y="373860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500720" y="373860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2987640" y="2084400"/>
                  <a:ext cx="3025800" cy="1992600"/>
                  <a:chOff x="2987640" y="2084400"/>
                  <a:chExt cx="3025800" cy="199260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>
                    <a:off x="3132360" y="208440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4572000" y="208440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987640" y="3739680"/>
                    <a:ext cx="1513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500720" y="373968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572000" y="2803320"/>
                    <a:ext cx="136836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56" name=""/>
          <p:cNvSpPr/>
          <p:nvPr/>
        </p:nvSpPr>
        <p:spPr>
          <a:xfrm>
            <a:off x="6372360" y="62611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nextslide"/>
          </p:cNvPr>
          <p:cNvSpPr/>
          <p:nvPr/>
        </p:nvSpPr>
        <p:spPr>
          <a:xfrm>
            <a:off x="7956720" y="6165720"/>
            <a:ext cx="576000" cy="465120"/>
          </a:xfrm>
          <a:custGeom>
            <a:avLst/>
            <a:gdLst>
              <a:gd name="textAreaLeft" fmla="*/ 29880 w 576000"/>
              <a:gd name="textAreaRight" fmla="*/ 546120 w 576000"/>
              <a:gd name="textAreaTop" fmla="*/ 29880 h 465120"/>
              <a:gd name="textAreaBottom" fmla="*/ 435240 h 465120"/>
            </a:gdLst>
            <a:ahLst/>
            <a:rect l="textAreaLeft" t="textAreaTop" r="textAreaRight" b="textAreaBottom"/>
            <a:pathLst>
              <a:path w="26745" h="21600">
                <a:moveTo>
                  <a:pt x="0" y="0"/>
                </a:moveTo>
                <a:lnTo>
                  <a:pt x="26745" y="0"/>
                </a:lnTo>
                <a:lnTo>
                  <a:pt x="26745" y="21600"/>
                </a:lnTo>
                <a:lnTo>
                  <a:pt x="0" y="21600"/>
                </a:lnTo>
                <a:close/>
              </a:path>
              <a:path fill="lightenLess" w="26745" h="21600">
                <a:moveTo>
                  <a:pt x="0" y="0"/>
                </a:moveTo>
                <a:lnTo>
                  <a:pt x="26745" y="0"/>
                </a:lnTo>
                <a:lnTo>
                  <a:pt x="25345" y="1400"/>
                </a:lnTo>
                <a:lnTo>
                  <a:pt x="1400" y="1400"/>
                </a:lnTo>
                <a:close/>
              </a:path>
              <a:path fill="darken" w="26745" h="21600">
                <a:moveTo>
                  <a:pt x="26745" y="0"/>
                </a:moveTo>
                <a:lnTo>
                  <a:pt x="26745" y="21600"/>
                </a:lnTo>
                <a:lnTo>
                  <a:pt x="25345" y="20200"/>
                </a:lnTo>
                <a:lnTo>
                  <a:pt x="25345" y="1400"/>
                </a:lnTo>
                <a:close/>
              </a:path>
              <a:path fill="darkenLess" w="26745" h="21600">
                <a:moveTo>
                  <a:pt x="26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5" y="20200"/>
                </a:lnTo>
                <a:close/>
              </a:path>
              <a:path fill="lighten" w="26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45" h="21600">
                <a:moveTo>
                  <a:pt x="6366" y="3794"/>
                </a:moveTo>
                <a:lnTo>
                  <a:pt x="20379" y="10800"/>
                </a:lnTo>
                <a:lnTo>
                  <a:pt x="63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804000" y="2781360"/>
            <a:ext cx="1800000" cy="1799640"/>
            <a:chOff x="6804000" y="2781360"/>
            <a:chExt cx="1800000" cy="1799640"/>
          </a:xfrm>
        </p:grpSpPr>
        <p:sp>
          <p:nvSpPr>
            <p:cNvPr id="559" name=""/>
            <p:cNvSpPr/>
            <p:nvPr/>
          </p:nvSpPr>
          <p:spPr>
            <a:xfrm>
              <a:off x="6804000" y="2781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0" name="" descr=""/>
            <p:cNvPicPr/>
            <p:nvPr/>
          </p:nvPicPr>
          <p:blipFill>
            <a:blip r:embed="rId3"/>
            <a:stretch/>
          </p:blipFill>
          <p:spPr>
            <a:xfrm>
              <a:off x="7092720" y="343980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187280" y="5734080"/>
            <a:ext cx="2087640" cy="538200"/>
          </a:xfrm>
          <a:custGeom>
            <a:avLst/>
            <a:gdLst>
              <a:gd name="textAreaLeft" fmla="*/ 34560 w 2087640"/>
              <a:gd name="textAreaRight" fmla="*/ 2053080 w 208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83743" h="21600">
                <a:moveTo>
                  <a:pt x="0" y="0"/>
                </a:moveTo>
                <a:lnTo>
                  <a:pt x="83743" y="0"/>
                </a:lnTo>
                <a:lnTo>
                  <a:pt x="83743" y="21600"/>
                </a:lnTo>
                <a:lnTo>
                  <a:pt x="0" y="21600"/>
                </a:lnTo>
                <a:close/>
              </a:path>
              <a:path fill="lightenLess" w="83743" h="21600">
                <a:moveTo>
                  <a:pt x="0" y="0"/>
                </a:moveTo>
                <a:lnTo>
                  <a:pt x="83743" y="0"/>
                </a:lnTo>
                <a:lnTo>
                  <a:pt x="82343" y="1400"/>
                </a:lnTo>
                <a:lnTo>
                  <a:pt x="1400" y="1400"/>
                </a:lnTo>
                <a:close/>
              </a:path>
              <a:path fill="darken" w="83743" h="21600">
                <a:moveTo>
                  <a:pt x="83743" y="0"/>
                </a:moveTo>
                <a:lnTo>
                  <a:pt x="83743" y="21600"/>
                </a:lnTo>
                <a:lnTo>
                  <a:pt x="82343" y="20200"/>
                </a:lnTo>
                <a:lnTo>
                  <a:pt x="82343" y="1400"/>
                </a:lnTo>
                <a:close/>
              </a:path>
              <a:path fill="darkenLess" w="83743" h="21600">
                <a:moveTo>
                  <a:pt x="83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343" y="20200"/>
                </a:lnTo>
                <a:close/>
              </a:path>
              <a:path fill="lighten" w="83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743" h="21600">
                <a:moveTo>
                  <a:pt x="34865" y="3794"/>
                </a:moveTo>
                <a:lnTo>
                  <a:pt x="48878" y="10800"/>
                </a:lnTo>
                <a:lnTo>
                  <a:pt x="348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5651640" y="5734080"/>
            <a:ext cx="2122200" cy="538200"/>
          </a:xfrm>
          <a:custGeom>
            <a:avLst/>
            <a:gdLst>
              <a:gd name="textAreaLeft" fmla="*/ 34560 w 2122200"/>
              <a:gd name="textAreaRight" fmla="*/ 2087640 w 21222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85129" h="21600">
                <a:moveTo>
                  <a:pt x="0" y="0"/>
                </a:moveTo>
                <a:lnTo>
                  <a:pt x="85129" y="0"/>
                </a:lnTo>
                <a:lnTo>
                  <a:pt x="85129" y="21600"/>
                </a:lnTo>
                <a:lnTo>
                  <a:pt x="0" y="21600"/>
                </a:lnTo>
                <a:close/>
              </a:path>
              <a:path fill="lightenLess" w="85129" h="21600">
                <a:moveTo>
                  <a:pt x="0" y="0"/>
                </a:moveTo>
                <a:lnTo>
                  <a:pt x="85129" y="0"/>
                </a:lnTo>
                <a:lnTo>
                  <a:pt x="83729" y="1400"/>
                </a:lnTo>
                <a:lnTo>
                  <a:pt x="1400" y="1400"/>
                </a:lnTo>
                <a:close/>
              </a:path>
              <a:path fill="darken" w="85129" h="21600">
                <a:moveTo>
                  <a:pt x="85129" y="0"/>
                </a:moveTo>
                <a:lnTo>
                  <a:pt x="85129" y="21600"/>
                </a:lnTo>
                <a:lnTo>
                  <a:pt x="83729" y="20200"/>
                </a:lnTo>
                <a:lnTo>
                  <a:pt x="83729" y="1400"/>
                </a:lnTo>
                <a:close/>
              </a:path>
              <a:path fill="darkenLess" w="85129" h="21600">
                <a:moveTo>
                  <a:pt x="851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729" y="20200"/>
                </a:lnTo>
                <a:close/>
              </a:path>
              <a:path fill="lighten" w="851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129" h="21600">
                <a:moveTo>
                  <a:pt x="35558" y="3794"/>
                </a:moveTo>
                <a:lnTo>
                  <a:pt x="49571" y="10800"/>
                </a:lnTo>
                <a:lnTo>
                  <a:pt x="355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they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lay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869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enj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920" y="48276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enj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3059280" y="2227320"/>
            <a:ext cx="3025080" cy="1994400"/>
            <a:chOff x="3059280" y="2227320"/>
            <a:chExt cx="3025080" cy="1994400"/>
          </a:xfrm>
        </p:grpSpPr>
        <p:pic>
          <p:nvPicPr>
            <p:cNvPr id="567" name="" descr=""/>
            <p:cNvPicPr/>
            <p:nvPr/>
          </p:nvPicPr>
          <p:blipFill>
            <a:blip r:embed="rId1"/>
            <a:stretch/>
          </p:blipFill>
          <p:spPr>
            <a:xfrm>
              <a:off x="3274920" y="2349360"/>
              <a:ext cx="1223640" cy="12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8" name=""/>
            <p:cNvGrpSpPr/>
            <p:nvPr/>
          </p:nvGrpSpPr>
          <p:grpSpPr>
            <a:xfrm>
              <a:off x="3059280" y="2227320"/>
              <a:ext cx="3025080" cy="1994400"/>
              <a:chOff x="3059280" y="2227320"/>
              <a:chExt cx="3025080" cy="1994400"/>
            </a:xfrm>
          </p:grpSpPr>
          <p:sp>
            <p:nvSpPr>
              <p:cNvPr id="569" name=""/>
              <p:cNvSpPr/>
              <p:nvPr/>
            </p:nvSpPr>
            <p:spPr>
              <a:xfrm>
                <a:off x="3203640" y="222876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643280" y="222876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059280" y="38844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572000" y="3884400"/>
                <a:ext cx="151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203640" y="222732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643280" y="222732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59280" y="38829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572000" y="3882960"/>
                <a:ext cx="151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7" name=""/>
              <p:cNvGrpSpPr/>
              <p:nvPr/>
            </p:nvGrpSpPr>
            <p:grpSpPr>
              <a:xfrm>
                <a:off x="3059280" y="2227320"/>
                <a:ext cx="3025080" cy="1994400"/>
                <a:chOff x="3059280" y="2227320"/>
                <a:chExt cx="3025080" cy="199440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3203640" y="222876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643280" y="222876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059280" y="388440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572000" y="3884400"/>
                  <a:ext cx="151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03640" y="222732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643280" y="222732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59280" y="388296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572000" y="3882960"/>
                  <a:ext cx="151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" name=""/>
                <p:cNvGrpSpPr/>
                <p:nvPr/>
              </p:nvGrpSpPr>
              <p:grpSpPr>
                <a:xfrm>
                  <a:off x="3059280" y="2228760"/>
                  <a:ext cx="3025080" cy="1992600"/>
                  <a:chOff x="3059280" y="2228760"/>
                  <a:chExt cx="3025080" cy="199260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>
                    <a:off x="3203640" y="2228760"/>
                    <a:ext cx="136800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4643280" y="2228760"/>
                    <a:ext cx="136800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3059280" y="388404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4572000" y="3884040"/>
                    <a:ext cx="1512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643280" y="2947680"/>
                    <a:ext cx="136800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they enjoy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playing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24000" y="4941720"/>
            <a:ext cx="42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enjoy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932360" y="4005360"/>
            <a:ext cx="3960720" cy="1046520"/>
            <a:chOff x="4932360" y="4005360"/>
            <a:chExt cx="3960720" cy="1046520"/>
          </a:xfrm>
        </p:grpSpPr>
        <p:sp>
          <p:nvSpPr>
            <p:cNvPr id="595" name=""/>
            <p:cNvSpPr/>
            <p:nvPr/>
          </p:nvSpPr>
          <p:spPr>
            <a:xfrm>
              <a:off x="4932360" y="465300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1"/>
            <a:stretch/>
          </p:blipFill>
          <p:spPr>
            <a:xfrm>
              <a:off x="6516720" y="400536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059280" y="2227320"/>
            <a:ext cx="3025080" cy="1994400"/>
            <a:chOff x="3059280" y="2227320"/>
            <a:chExt cx="3025080" cy="1994400"/>
          </a:xfrm>
        </p:grpSpPr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3274920" y="2349360"/>
              <a:ext cx="1223640" cy="12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9" name=""/>
            <p:cNvGrpSpPr/>
            <p:nvPr/>
          </p:nvGrpSpPr>
          <p:grpSpPr>
            <a:xfrm>
              <a:off x="3059280" y="2227320"/>
              <a:ext cx="3025080" cy="1994400"/>
              <a:chOff x="3059280" y="2227320"/>
              <a:chExt cx="3025080" cy="1994400"/>
            </a:xfrm>
          </p:grpSpPr>
          <p:sp>
            <p:nvSpPr>
              <p:cNvPr id="600" name=""/>
              <p:cNvSpPr/>
              <p:nvPr/>
            </p:nvSpPr>
            <p:spPr>
              <a:xfrm>
                <a:off x="3203640" y="222876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43280" y="222876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9280" y="38844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72000" y="3884400"/>
                <a:ext cx="151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03640" y="222732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3280" y="2227320"/>
                <a:ext cx="136800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59280" y="38829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72000" y="3882960"/>
                <a:ext cx="151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3059280" y="2227320"/>
                <a:ext cx="3025080" cy="1994400"/>
                <a:chOff x="3059280" y="2227320"/>
                <a:chExt cx="3025080" cy="199440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3203640" y="222876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643280" y="222876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59280" y="388440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572000" y="3884400"/>
                  <a:ext cx="151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203640" y="222732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643280" y="2227320"/>
                  <a:ext cx="136800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059280" y="388296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572000" y="3882960"/>
                  <a:ext cx="151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059280" y="2228760"/>
                  <a:ext cx="3025080" cy="1992600"/>
                  <a:chOff x="3059280" y="2228760"/>
                  <a:chExt cx="3025080" cy="19926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203640" y="2228760"/>
                    <a:ext cx="136800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4643280" y="2228760"/>
                    <a:ext cx="136800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059280" y="388404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4572000" y="3884040"/>
                    <a:ext cx="1512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4643280" y="2947680"/>
                    <a:ext cx="136800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23" name=""/>
          <p:cNvSpPr/>
          <p:nvPr/>
        </p:nvSpPr>
        <p:spPr>
          <a:xfrm>
            <a:off x="6299280" y="62611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812000" y="6093000"/>
            <a:ext cx="576360" cy="537840"/>
          </a:xfrm>
          <a:custGeom>
            <a:avLst/>
            <a:gdLst>
              <a:gd name="textAreaLeft" fmla="*/ 34560 w 576360"/>
              <a:gd name="textAreaRight" fmla="*/ 541800 w 57636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3146" h="21600">
                <a:moveTo>
                  <a:pt x="0" y="0"/>
                </a:moveTo>
                <a:lnTo>
                  <a:pt x="23146" y="0"/>
                </a:lnTo>
                <a:lnTo>
                  <a:pt x="23146" y="21600"/>
                </a:lnTo>
                <a:lnTo>
                  <a:pt x="0" y="21600"/>
                </a:lnTo>
                <a:close/>
              </a:path>
              <a:path fill="lightenLess" w="23146" h="21600">
                <a:moveTo>
                  <a:pt x="0" y="0"/>
                </a:moveTo>
                <a:lnTo>
                  <a:pt x="23146" y="0"/>
                </a:lnTo>
                <a:lnTo>
                  <a:pt x="21746" y="1400"/>
                </a:lnTo>
                <a:lnTo>
                  <a:pt x="1400" y="1400"/>
                </a:lnTo>
                <a:close/>
              </a:path>
              <a:path fill="darken" w="23146" h="21600">
                <a:moveTo>
                  <a:pt x="23146" y="0"/>
                </a:moveTo>
                <a:lnTo>
                  <a:pt x="23146" y="21600"/>
                </a:lnTo>
                <a:lnTo>
                  <a:pt x="21746" y="20200"/>
                </a:lnTo>
                <a:lnTo>
                  <a:pt x="21746" y="1400"/>
                </a:lnTo>
                <a:close/>
              </a:path>
              <a:path fill="darkenLess" w="23146" h="21600">
                <a:moveTo>
                  <a:pt x="2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6" y="20200"/>
                </a:lnTo>
                <a:close/>
              </a:path>
              <a:path fill="lighten" w="2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6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626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3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8" name="" descr=""/>
          <p:cNvPicPr/>
          <p:nvPr/>
        </p:nvPicPr>
        <p:blipFill>
          <a:blip r:embed="rId4"/>
          <a:stretch/>
        </p:blipFill>
        <p:spPr>
          <a:xfrm>
            <a:off x="8459640" y="907920"/>
            <a:ext cx="57816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6528 C -0.00399 -0.07593 -0.01805 -0.08658 -0.02291 -0.08658 C -0.05399 -0.08658 -0.08593 0.08009 -0.08593 0.24675 C -0.08593 0.16273 -0.10191 0.08009 -0.11701 0.08009 C -0.13298 0.08009 -0.14809 0.16412 -0.14809 0.24675 C -0.14809 0.20532 -0.15607 0.16273 -0.16406 0.16273 C -0.17205 0.16273 -0.18003 0.20416 -0.18003 0.24675 C -0.18003 0.22546 -0.18402 0.20532 -0.18802 0.20532 C -0.19201 0.20532 -0.196 0.22662 -0.196 0.24675 C -0.196 0.23611 -0.19809 0.22546 -0.2 0.22546 C -0.20104 0.22546 -0.20399 0.23611 -0.20399 0.24675 C -0.20399 0.24143 -0.20503 0.23611 -0.20607 0.23611 C -0.20607 0.23472 -0.20816 0.24143 -0.20816 0.24675 C -0.20816 0.24398 -0.20816 0.24143 -0.2092 0.24143 C -0.2092 0.24282 -0.21024 0.24421 -0.21024 0.24675 C -0.21024 0.24537 -0.21024 0.24398 -0.21024 0.24282 C -0.21128 0.24282 -0.21128 0.24421 -0.21128 0.2456 C -0.21232 0.2456 -0.21232 0.24421 -0.21232 0.24282 C -0.21337 0.24282 -0.21337 0.24421 -0.21337 0.2456 E">
                                      <p:cBhvr>
                                        <p:cTn id="331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they </a:t>
            </a:r>
            <a:r>
              <a:rPr b="0" lang="en-GB" sz="4300" spc="-1" strike="noStrike" u="sng">
                <a:solidFill>
                  <a:srgbClr val="000000"/>
                </a:solidFill>
                <a:uFillTx/>
                <a:latin typeface="Comic Sans MS"/>
              </a:rPr>
              <a:t>enjoy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playing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572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enj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enjoy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2987640" y="2060640"/>
            <a:ext cx="3025800" cy="1994400"/>
            <a:chOff x="2987640" y="2060640"/>
            <a:chExt cx="3025800" cy="1994400"/>
          </a:xfrm>
        </p:grpSpPr>
        <p:pic>
          <p:nvPicPr>
            <p:cNvPr id="635" name="" descr=""/>
            <p:cNvPicPr/>
            <p:nvPr/>
          </p:nvPicPr>
          <p:blipFill>
            <a:blip r:embed="rId2"/>
            <a:stretch/>
          </p:blipFill>
          <p:spPr>
            <a:xfrm>
              <a:off x="3203640" y="2182680"/>
              <a:ext cx="1224000" cy="12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6" name=""/>
            <p:cNvGrpSpPr/>
            <p:nvPr/>
          </p:nvGrpSpPr>
          <p:grpSpPr>
            <a:xfrm>
              <a:off x="2987640" y="2060640"/>
              <a:ext cx="3025800" cy="1994400"/>
              <a:chOff x="2987640" y="2060640"/>
              <a:chExt cx="3025800" cy="1994400"/>
            </a:xfrm>
          </p:grpSpPr>
          <p:sp>
            <p:nvSpPr>
              <p:cNvPr id="637" name=""/>
              <p:cNvSpPr/>
              <p:nvPr/>
            </p:nvSpPr>
            <p:spPr>
              <a:xfrm>
                <a:off x="3132360" y="206208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572000" y="206208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987640" y="371772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500720" y="371772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132360" y="20606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572000" y="20606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987640" y="37162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00720" y="37162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2987640" y="2060640"/>
                <a:ext cx="3025800" cy="1994400"/>
                <a:chOff x="2987640" y="2060640"/>
                <a:chExt cx="3025800" cy="19944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3132360" y="206208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572000" y="206208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987640" y="371772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500720" y="371772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132360" y="20606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572000" y="20606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87640" y="371628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500720" y="371628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2987640" y="2062080"/>
                  <a:ext cx="3025800" cy="1992600"/>
                  <a:chOff x="2987640" y="2062080"/>
                  <a:chExt cx="3025800" cy="199260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3132360" y="206208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4572000" y="206208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987640" y="3717360"/>
                    <a:ext cx="1513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500720" y="371736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4572000" y="2781000"/>
                    <a:ext cx="136836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60" name=""/>
          <p:cNvSpPr/>
          <p:nvPr/>
        </p:nvSpPr>
        <p:spPr>
          <a:xfrm>
            <a:off x="6299280" y="62611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576360" cy="537840"/>
          </a:xfrm>
          <a:custGeom>
            <a:avLst/>
            <a:gdLst>
              <a:gd name="textAreaLeft" fmla="*/ 34560 w 576360"/>
              <a:gd name="textAreaRight" fmla="*/ 541800 w 57636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3146" h="21600">
                <a:moveTo>
                  <a:pt x="0" y="0"/>
                </a:moveTo>
                <a:lnTo>
                  <a:pt x="23146" y="0"/>
                </a:lnTo>
                <a:lnTo>
                  <a:pt x="23146" y="21600"/>
                </a:lnTo>
                <a:lnTo>
                  <a:pt x="0" y="21600"/>
                </a:lnTo>
                <a:close/>
              </a:path>
              <a:path fill="lightenLess" w="23146" h="21600">
                <a:moveTo>
                  <a:pt x="0" y="0"/>
                </a:moveTo>
                <a:lnTo>
                  <a:pt x="23146" y="0"/>
                </a:lnTo>
                <a:lnTo>
                  <a:pt x="21746" y="1400"/>
                </a:lnTo>
                <a:lnTo>
                  <a:pt x="1400" y="1400"/>
                </a:lnTo>
                <a:close/>
              </a:path>
              <a:path fill="darken" w="23146" h="21600">
                <a:moveTo>
                  <a:pt x="23146" y="0"/>
                </a:moveTo>
                <a:lnTo>
                  <a:pt x="23146" y="21600"/>
                </a:lnTo>
                <a:lnTo>
                  <a:pt x="21746" y="20200"/>
                </a:lnTo>
                <a:lnTo>
                  <a:pt x="21746" y="1400"/>
                </a:lnTo>
                <a:close/>
              </a:path>
              <a:path fill="darkenLess" w="23146" h="21600">
                <a:moveTo>
                  <a:pt x="2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6" y="20200"/>
                </a:lnTo>
                <a:close/>
              </a:path>
              <a:path fill="lighten" w="2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6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663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3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>
            <a:hlinkClick r:id="" action="ppaction://hlinkshowjump?jump=nextslide"/>
          </p:cNvPr>
          <p:cNvSpPr/>
          <p:nvPr/>
        </p:nvSpPr>
        <p:spPr>
          <a:xfrm>
            <a:off x="1260360" y="5661000"/>
            <a:ext cx="2016360" cy="609480"/>
          </a:xfrm>
          <a:custGeom>
            <a:avLst/>
            <a:gdLst>
              <a:gd name="textAreaLeft" fmla="*/ 39240 w 2016360"/>
              <a:gd name="textAreaRight" fmla="*/ 1977120 w 2016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1430" h="21600">
                <a:moveTo>
                  <a:pt x="0" y="0"/>
                </a:moveTo>
                <a:lnTo>
                  <a:pt x="71430" y="0"/>
                </a:lnTo>
                <a:lnTo>
                  <a:pt x="71430" y="21600"/>
                </a:lnTo>
                <a:lnTo>
                  <a:pt x="0" y="21600"/>
                </a:lnTo>
                <a:close/>
              </a:path>
              <a:path fill="lightenLess" w="71430" h="21600">
                <a:moveTo>
                  <a:pt x="0" y="0"/>
                </a:moveTo>
                <a:lnTo>
                  <a:pt x="71430" y="0"/>
                </a:lnTo>
                <a:lnTo>
                  <a:pt x="70030" y="1400"/>
                </a:lnTo>
                <a:lnTo>
                  <a:pt x="1400" y="1400"/>
                </a:lnTo>
                <a:close/>
              </a:path>
              <a:path fill="darken" w="71430" h="21600">
                <a:moveTo>
                  <a:pt x="71430" y="0"/>
                </a:moveTo>
                <a:lnTo>
                  <a:pt x="71430" y="21600"/>
                </a:lnTo>
                <a:lnTo>
                  <a:pt x="70030" y="20200"/>
                </a:lnTo>
                <a:lnTo>
                  <a:pt x="70030" y="1400"/>
                </a:lnTo>
                <a:close/>
              </a:path>
              <a:path fill="darkenLess" w="71430" h="21600">
                <a:moveTo>
                  <a:pt x="71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30" y="20200"/>
                </a:lnTo>
                <a:close/>
              </a:path>
              <a:path fill="lighten" w="71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430" h="21600">
                <a:moveTo>
                  <a:pt x="28709" y="3794"/>
                </a:moveTo>
                <a:lnTo>
                  <a:pt x="42722" y="10800"/>
                </a:lnTo>
                <a:lnTo>
                  <a:pt x="287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51640" y="5661000"/>
            <a:ext cx="1906560" cy="611280"/>
          </a:xfrm>
          <a:custGeom>
            <a:avLst/>
            <a:gdLst>
              <a:gd name="textAreaLeft" fmla="*/ 39600 w 1906560"/>
              <a:gd name="textAreaRight" fmla="*/ 1866960 w 1906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67343" h="21600">
                <a:moveTo>
                  <a:pt x="0" y="0"/>
                </a:moveTo>
                <a:lnTo>
                  <a:pt x="67343" y="0"/>
                </a:lnTo>
                <a:lnTo>
                  <a:pt x="67343" y="21600"/>
                </a:lnTo>
                <a:lnTo>
                  <a:pt x="0" y="21600"/>
                </a:lnTo>
                <a:close/>
              </a:path>
              <a:path fill="lightenLess" w="67343" h="21600">
                <a:moveTo>
                  <a:pt x="0" y="0"/>
                </a:moveTo>
                <a:lnTo>
                  <a:pt x="67343" y="0"/>
                </a:lnTo>
                <a:lnTo>
                  <a:pt x="65943" y="1400"/>
                </a:lnTo>
                <a:lnTo>
                  <a:pt x="1400" y="1400"/>
                </a:lnTo>
                <a:close/>
              </a:path>
              <a:path fill="darken" w="67343" h="21600">
                <a:moveTo>
                  <a:pt x="67343" y="0"/>
                </a:moveTo>
                <a:lnTo>
                  <a:pt x="67343" y="21600"/>
                </a:lnTo>
                <a:lnTo>
                  <a:pt x="65943" y="20200"/>
                </a:lnTo>
                <a:lnTo>
                  <a:pt x="65943" y="1400"/>
                </a:lnTo>
                <a:close/>
              </a:path>
              <a:path fill="darkenLess" w="67343" h="21600">
                <a:moveTo>
                  <a:pt x="67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943" y="20200"/>
                </a:lnTo>
                <a:close/>
              </a:path>
              <a:path fill="lighten" w="67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343" h="21600">
                <a:moveTo>
                  <a:pt x="26665" y="3794"/>
                </a:moveTo>
                <a:lnTo>
                  <a:pt x="40678" y="10800"/>
                </a:lnTo>
                <a:lnTo>
                  <a:pt x="266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6836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 _____ for her pic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loo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06200" y="497196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l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987640" y="1916280"/>
            <a:ext cx="3097080" cy="2016720"/>
            <a:chOff x="2987640" y="1916280"/>
            <a:chExt cx="3097080" cy="201672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619520" y="1989000"/>
              <a:ext cx="1247760" cy="13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2" name=""/>
            <p:cNvGrpSpPr/>
            <p:nvPr/>
          </p:nvGrpSpPr>
          <p:grpSpPr>
            <a:xfrm>
              <a:off x="2987640" y="1916280"/>
              <a:ext cx="3097080" cy="2016720"/>
              <a:chOff x="2987640" y="1916280"/>
              <a:chExt cx="3097080" cy="2016720"/>
            </a:xfrm>
          </p:grpSpPr>
          <p:sp>
            <p:nvSpPr>
              <p:cNvPr id="673" name=""/>
              <p:cNvSpPr/>
              <p:nvPr/>
            </p:nvSpPr>
            <p:spPr>
              <a:xfrm>
                <a:off x="3060720" y="263520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572000" y="191628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060720" y="191628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987640" y="357192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572000" y="35956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look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for her pic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look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68360" y="4508640"/>
            <a:ext cx="3960720" cy="1046520"/>
            <a:chOff x="468360" y="4508640"/>
            <a:chExt cx="3960720" cy="1046520"/>
          </a:xfrm>
        </p:grpSpPr>
        <p:sp>
          <p:nvSpPr>
            <p:cNvPr id="681" name=""/>
            <p:cNvSpPr/>
            <p:nvPr/>
          </p:nvSpPr>
          <p:spPr>
            <a:xfrm>
              <a:off x="468360" y="515628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FANTASTIC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2" name="" descr=""/>
            <p:cNvPicPr/>
            <p:nvPr/>
          </p:nvPicPr>
          <p:blipFill>
            <a:blip r:embed="rId1"/>
            <a:stretch/>
          </p:blipFill>
          <p:spPr>
            <a:xfrm>
              <a:off x="2052720" y="450864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4619520" y="1989000"/>
            <a:ext cx="1247760" cy="136872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2987640" y="1916280"/>
            <a:ext cx="3097080" cy="2016720"/>
            <a:chOff x="2987640" y="1916280"/>
            <a:chExt cx="3097080" cy="2016720"/>
          </a:xfrm>
        </p:grpSpPr>
        <p:sp>
          <p:nvSpPr>
            <p:cNvPr id="685" name=""/>
            <p:cNvSpPr/>
            <p:nvPr/>
          </p:nvSpPr>
          <p:spPr>
            <a:xfrm>
              <a:off x="3060720" y="2635200"/>
              <a:ext cx="144144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72000" y="1916280"/>
              <a:ext cx="1368360" cy="144144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060720" y="1916280"/>
              <a:ext cx="1368360" cy="144144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87640" y="357192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as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72000" y="35956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es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987640" y="1916280"/>
            <a:ext cx="3097080" cy="2016720"/>
            <a:chOff x="2987640" y="1916280"/>
            <a:chExt cx="3097080" cy="2016720"/>
          </a:xfrm>
        </p:grpSpPr>
        <p:pic>
          <p:nvPicPr>
            <p:cNvPr id="691" name="" descr=""/>
            <p:cNvPicPr/>
            <p:nvPr/>
          </p:nvPicPr>
          <p:blipFill>
            <a:blip r:embed="rId3"/>
            <a:stretch/>
          </p:blipFill>
          <p:spPr>
            <a:xfrm>
              <a:off x="4619520" y="1989000"/>
              <a:ext cx="1247760" cy="13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"/>
            <p:cNvGrpSpPr/>
            <p:nvPr/>
          </p:nvGrpSpPr>
          <p:grpSpPr>
            <a:xfrm>
              <a:off x="2987640" y="1916280"/>
              <a:ext cx="3097080" cy="2016720"/>
              <a:chOff x="2987640" y="1916280"/>
              <a:chExt cx="3097080" cy="2016720"/>
            </a:xfrm>
          </p:grpSpPr>
          <p:sp>
            <p:nvSpPr>
              <p:cNvPr id="693" name=""/>
              <p:cNvSpPr/>
              <p:nvPr/>
            </p:nvSpPr>
            <p:spPr>
              <a:xfrm>
                <a:off x="3060720" y="263520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572000" y="191628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060720" y="191628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987640" y="357192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572000" y="35956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6372360" y="61657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028000" y="6021360"/>
            <a:ext cx="503280" cy="5382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98">
                <a:moveTo>
                  <a:pt x="0" y="0"/>
                </a:moveTo>
                <a:lnTo>
                  <a:pt x="21600" y="0"/>
                </a:lnTo>
                <a:lnTo>
                  <a:pt x="21600" y="23098"/>
                </a:lnTo>
                <a:lnTo>
                  <a:pt x="0" y="23098"/>
                </a:lnTo>
                <a:close/>
              </a:path>
              <a:path fill="lightenLess" w="21600" h="23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8">
                <a:moveTo>
                  <a:pt x="21600" y="0"/>
                </a:moveTo>
                <a:lnTo>
                  <a:pt x="21600" y="23098"/>
                </a:lnTo>
                <a:lnTo>
                  <a:pt x="20200" y="21698"/>
                </a:lnTo>
                <a:lnTo>
                  <a:pt x="20200" y="1400"/>
                </a:lnTo>
                <a:close/>
              </a:path>
              <a:path fill="darkenLess" w="21600" h="23098">
                <a:moveTo>
                  <a:pt x="21600" y="23098"/>
                </a:moveTo>
                <a:lnTo>
                  <a:pt x="0" y="23098"/>
                </a:lnTo>
                <a:lnTo>
                  <a:pt x="1400" y="21698"/>
                </a:lnTo>
                <a:lnTo>
                  <a:pt x="20200" y="21698"/>
                </a:lnTo>
                <a:close/>
              </a:path>
              <a:path fill="lighten" w="21600" h="23098">
                <a:moveTo>
                  <a:pt x="0" y="23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8"/>
                </a:lnTo>
                <a:close/>
              </a:path>
              <a:path fill="darken" w="21600" h="23098">
                <a:moveTo>
                  <a:pt x="3794" y="4542"/>
                </a:moveTo>
                <a:lnTo>
                  <a:pt x="17806" y="11549"/>
                </a:lnTo>
                <a:lnTo>
                  <a:pt x="3794" y="1855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701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2" name="" descr=""/>
            <p:cNvPicPr/>
            <p:nvPr/>
          </p:nvPicPr>
          <p:blipFill>
            <a:blip r:embed="rId4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11286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3120" y="907920"/>
            <a:ext cx="8840880" cy="9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. Yesterday he ………………….… the bin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 Yesterday Mum …….………….…… the trousers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.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 He ……………………….. a portrait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. She ……………………. television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. Yesterday Mark …………………. his hair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. She ………………………… sandwiches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. Yesterday Chloe ………………….. her ice-cream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. Yesterday they ……………………… playing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. She ……………………….. for her picture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0. She …………………. her friend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1. Yesterday he ……………………… about the computer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907920"/>
            <a:ext cx="0" cy="595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28000" y="765000"/>
            <a:ext cx="0" cy="609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6560" y="62064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48520" y="62064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17236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39080" y="-2700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11592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689040" cy="398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st and Present 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1094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5 IT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look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for her pic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loo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look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684360" cy="7221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1403280" y="537372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2987640" y="1916280"/>
            <a:ext cx="3097080" cy="2016720"/>
            <a:chOff x="2987640" y="1916280"/>
            <a:chExt cx="3097080" cy="2016720"/>
          </a:xfrm>
        </p:grpSpPr>
        <p:pic>
          <p:nvPicPr>
            <p:cNvPr id="710" name="" descr=""/>
            <p:cNvPicPr/>
            <p:nvPr/>
          </p:nvPicPr>
          <p:blipFill>
            <a:blip r:embed="rId2"/>
            <a:stretch/>
          </p:blipFill>
          <p:spPr>
            <a:xfrm>
              <a:off x="4619520" y="1989000"/>
              <a:ext cx="1247760" cy="13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1" name=""/>
            <p:cNvGrpSpPr/>
            <p:nvPr/>
          </p:nvGrpSpPr>
          <p:grpSpPr>
            <a:xfrm>
              <a:off x="2987640" y="1916280"/>
              <a:ext cx="3097080" cy="2016720"/>
              <a:chOff x="2987640" y="1916280"/>
              <a:chExt cx="3097080" cy="2016720"/>
            </a:xfrm>
          </p:grpSpPr>
          <p:sp>
            <p:nvSpPr>
              <p:cNvPr id="712" name=""/>
              <p:cNvSpPr/>
              <p:nvPr/>
            </p:nvSpPr>
            <p:spPr>
              <a:xfrm>
                <a:off x="3060720" y="263520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572000" y="191628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060720" y="191628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987640" y="357192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72000" y="35956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6659640" y="2349360"/>
            <a:ext cx="1800000" cy="1800360"/>
            <a:chOff x="6659640" y="2349360"/>
            <a:chExt cx="1800000" cy="1800360"/>
          </a:xfrm>
        </p:grpSpPr>
        <p:sp>
          <p:nvSpPr>
            <p:cNvPr id="718" name=""/>
            <p:cNvSpPr/>
            <p:nvPr/>
          </p:nvSpPr>
          <p:spPr>
            <a:xfrm>
              <a:off x="6659640" y="2349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9" name="" descr=""/>
            <p:cNvPicPr/>
            <p:nvPr/>
          </p:nvPicPr>
          <p:blipFill>
            <a:blip r:embed="rId3"/>
            <a:stretch/>
          </p:blipFill>
          <p:spPr>
            <a:xfrm>
              <a:off x="6948360" y="300816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0" name=""/>
          <p:cNvSpPr/>
          <p:nvPr/>
        </p:nvSpPr>
        <p:spPr>
          <a:xfrm>
            <a:off x="6372360" y="61657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8028000" y="6021360"/>
            <a:ext cx="503280" cy="5382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38200"/>
              <a:gd name="textAreaBottom" fmla="*/ 505800 h 538200"/>
            </a:gdLst>
            <a:ahLst/>
            <a:rect l="textAreaLeft" t="textAreaTop" r="textAreaRight" b="textAreaBottom"/>
            <a:pathLst>
              <a:path w="21600" h="23098">
                <a:moveTo>
                  <a:pt x="0" y="0"/>
                </a:moveTo>
                <a:lnTo>
                  <a:pt x="21600" y="0"/>
                </a:lnTo>
                <a:lnTo>
                  <a:pt x="21600" y="23098"/>
                </a:lnTo>
                <a:lnTo>
                  <a:pt x="0" y="23098"/>
                </a:lnTo>
                <a:close/>
              </a:path>
              <a:path fill="lightenLess" w="21600" h="23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8">
                <a:moveTo>
                  <a:pt x="21600" y="0"/>
                </a:moveTo>
                <a:lnTo>
                  <a:pt x="21600" y="23098"/>
                </a:lnTo>
                <a:lnTo>
                  <a:pt x="20200" y="21698"/>
                </a:lnTo>
                <a:lnTo>
                  <a:pt x="20200" y="1400"/>
                </a:lnTo>
                <a:close/>
              </a:path>
              <a:path fill="darkenLess" w="21600" h="23098">
                <a:moveTo>
                  <a:pt x="21600" y="23098"/>
                </a:moveTo>
                <a:lnTo>
                  <a:pt x="0" y="23098"/>
                </a:lnTo>
                <a:lnTo>
                  <a:pt x="1400" y="21698"/>
                </a:lnTo>
                <a:lnTo>
                  <a:pt x="20200" y="21698"/>
                </a:lnTo>
                <a:close/>
              </a:path>
              <a:path fill="lighten" w="21600" h="23098">
                <a:moveTo>
                  <a:pt x="0" y="23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8"/>
                </a:lnTo>
                <a:close/>
              </a:path>
              <a:path fill="darken" w="21600" h="23098">
                <a:moveTo>
                  <a:pt x="3794" y="4542"/>
                </a:moveTo>
                <a:lnTo>
                  <a:pt x="17806" y="11549"/>
                </a:lnTo>
                <a:lnTo>
                  <a:pt x="3794" y="1855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>
            <a:hlinkClick r:id="" action="ppaction://hlinkshowjump?jump=nextslide"/>
          </p:cNvPr>
          <p:cNvSpPr/>
          <p:nvPr/>
        </p:nvSpPr>
        <p:spPr>
          <a:xfrm>
            <a:off x="1403280" y="5589720"/>
            <a:ext cx="1944720" cy="610920"/>
          </a:xfrm>
          <a:custGeom>
            <a:avLst/>
            <a:gdLst>
              <a:gd name="textAreaLeft" fmla="*/ 39600 w 1944720"/>
              <a:gd name="textAreaRight" fmla="*/ 1905120 w 194472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68731" h="21600">
                <a:moveTo>
                  <a:pt x="0" y="0"/>
                </a:moveTo>
                <a:lnTo>
                  <a:pt x="68731" y="0"/>
                </a:lnTo>
                <a:lnTo>
                  <a:pt x="68731" y="21600"/>
                </a:lnTo>
                <a:lnTo>
                  <a:pt x="0" y="21600"/>
                </a:lnTo>
                <a:close/>
              </a:path>
              <a:path fill="lightenLess" w="68731" h="21600">
                <a:moveTo>
                  <a:pt x="0" y="0"/>
                </a:moveTo>
                <a:lnTo>
                  <a:pt x="68731" y="0"/>
                </a:lnTo>
                <a:lnTo>
                  <a:pt x="67331" y="1400"/>
                </a:lnTo>
                <a:lnTo>
                  <a:pt x="1400" y="1400"/>
                </a:lnTo>
                <a:close/>
              </a:path>
              <a:path fill="darken" w="68731" h="21600">
                <a:moveTo>
                  <a:pt x="68731" y="0"/>
                </a:moveTo>
                <a:lnTo>
                  <a:pt x="68731" y="21600"/>
                </a:lnTo>
                <a:lnTo>
                  <a:pt x="67331" y="20200"/>
                </a:lnTo>
                <a:lnTo>
                  <a:pt x="67331" y="1400"/>
                </a:lnTo>
                <a:close/>
              </a:path>
              <a:path fill="darkenLess" w="68731" h="21600">
                <a:moveTo>
                  <a:pt x="68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331" y="20200"/>
                </a:lnTo>
                <a:close/>
              </a:path>
              <a:path fill="lighten" w="68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731" h="21600">
                <a:moveTo>
                  <a:pt x="27359" y="3794"/>
                </a:moveTo>
                <a:lnTo>
                  <a:pt x="41372" y="10800"/>
                </a:lnTo>
                <a:lnTo>
                  <a:pt x="273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24360" y="5589720"/>
            <a:ext cx="1906920" cy="610920"/>
          </a:xfrm>
          <a:custGeom>
            <a:avLst/>
            <a:gdLst>
              <a:gd name="textAreaLeft" fmla="*/ 39600 w 1906920"/>
              <a:gd name="textAreaRight" fmla="*/ 1867320 w 190692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67395" h="21600">
                <a:moveTo>
                  <a:pt x="0" y="0"/>
                </a:moveTo>
                <a:lnTo>
                  <a:pt x="67395" y="0"/>
                </a:lnTo>
                <a:lnTo>
                  <a:pt x="67395" y="21600"/>
                </a:lnTo>
                <a:lnTo>
                  <a:pt x="0" y="21600"/>
                </a:lnTo>
                <a:close/>
              </a:path>
              <a:path fill="lightenLess" w="67395" h="21600">
                <a:moveTo>
                  <a:pt x="0" y="0"/>
                </a:moveTo>
                <a:lnTo>
                  <a:pt x="67395" y="0"/>
                </a:lnTo>
                <a:lnTo>
                  <a:pt x="65995" y="1400"/>
                </a:lnTo>
                <a:lnTo>
                  <a:pt x="1400" y="1400"/>
                </a:lnTo>
                <a:close/>
              </a:path>
              <a:path fill="darken" w="67395" h="21600">
                <a:moveTo>
                  <a:pt x="67395" y="0"/>
                </a:moveTo>
                <a:lnTo>
                  <a:pt x="67395" y="21600"/>
                </a:lnTo>
                <a:lnTo>
                  <a:pt x="65995" y="20200"/>
                </a:lnTo>
                <a:lnTo>
                  <a:pt x="65995" y="1400"/>
                </a:lnTo>
                <a:close/>
              </a:path>
              <a:path fill="darkenLess" w="67395" h="21600">
                <a:moveTo>
                  <a:pt x="67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995" y="20200"/>
                </a:lnTo>
                <a:close/>
              </a:path>
              <a:path fill="lighten" w="67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395" h="21600">
                <a:moveTo>
                  <a:pt x="26691" y="3794"/>
                </a:moveTo>
                <a:lnTo>
                  <a:pt x="40704" y="10800"/>
                </a:lnTo>
                <a:lnTo>
                  <a:pt x="2669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 _____ her fri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500720" y="4869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tex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79280" y="486900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tex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2987640" y="2060640"/>
            <a:ext cx="3097080" cy="2016720"/>
            <a:chOff x="2987640" y="2060640"/>
            <a:chExt cx="3097080" cy="2016720"/>
          </a:xfrm>
        </p:grpSpPr>
        <p:sp>
          <p:nvSpPr>
            <p:cNvPr id="728" name=""/>
            <p:cNvSpPr/>
            <p:nvPr/>
          </p:nvSpPr>
          <p:spPr>
            <a:xfrm>
              <a:off x="3060720" y="2779560"/>
              <a:ext cx="144144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72000" y="2060640"/>
              <a:ext cx="1368360" cy="144144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60720" y="2060640"/>
              <a:ext cx="1368360" cy="144144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87640" y="371628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as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72000" y="37400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es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1179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text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er fri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text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68360" y="5624640"/>
            <a:ext cx="3960720" cy="1046520"/>
            <a:chOff x="468360" y="5624640"/>
            <a:chExt cx="3960720" cy="1046520"/>
          </a:xfrm>
        </p:grpSpPr>
        <p:sp>
          <p:nvSpPr>
            <p:cNvPr id="737" name=""/>
            <p:cNvSpPr/>
            <p:nvPr/>
          </p:nvSpPr>
          <p:spPr>
            <a:xfrm>
              <a:off x="468360" y="627228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FANTASTIC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2052720" y="562464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1179720" cy="142884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2987640" y="2060640"/>
            <a:ext cx="3097080" cy="2016720"/>
            <a:chOff x="2987640" y="2060640"/>
            <a:chExt cx="3097080" cy="2016720"/>
          </a:xfrm>
        </p:grpSpPr>
        <p:sp>
          <p:nvSpPr>
            <p:cNvPr id="741" name=""/>
            <p:cNvSpPr/>
            <p:nvPr/>
          </p:nvSpPr>
          <p:spPr>
            <a:xfrm>
              <a:off x="3060720" y="2779560"/>
              <a:ext cx="144144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572000" y="2060640"/>
              <a:ext cx="1368360" cy="144144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60720" y="2060640"/>
              <a:ext cx="1368360" cy="144144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987640" y="371628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as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572000" y="37400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es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6299280" y="62611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12000" y="6021360"/>
            <a:ext cx="576360" cy="6094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09480"/>
              <a:gd name="textAreaBottom" fmla="*/ 572400 h 609480"/>
            </a:gdLst>
            <a:ahLst/>
            <a:rect l="textAreaLeft" t="textAreaTop" r="textAreaRight" b="textAreaBottom"/>
            <a:pathLst>
              <a:path w="21600" h="22840">
                <a:moveTo>
                  <a:pt x="0" y="0"/>
                </a:moveTo>
                <a:lnTo>
                  <a:pt x="21600" y="0"/>
                </a:lnTo>
                <a:lnTo>
                  <a:pt x="21600" y="22840"/>
                </a:lnTo>
                <a:lnTo>
                  <a:pt x="0" y="22840"/>
                </a:lnTo>
                <a:close/>
              </a:path>
              <a:path fill="lightenLess" w="21600" h="228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40">
                <a:moveTo>
                  <a:pt x="21600" y="0"/>
                </a:moveTo>
                <a:lnTo>
                  <a:pt x="21600" y="22840"/>
                </a:lnTo>
                <a:lnTo>
                  <a:pt x="20200" y="21440"/>
                </a:lnTo>
                <a:lnTo>
                  <a:pt x="20200" y="1400"/>
                </a:lnTo>
                <a:close/>
              </a:path>
              <a:path fill="darkenLess" w="21600" h="22840">
                <a:moveTo>
                  <a:pt x="21600" y="22840"/>
                </a:moveTo>
                <a:lnTo>
                  <a:pt x="0" y="22840"/>
                </a:lnTo>
                <a:lnTo>
                  <a:pt x="1400" y="21440"/>
                </a:lnTo>
                <a:lnTo>
                  <a:pt x="20200" y="21440"/>
                </a:lnTo>
                <a:close/>
              </a:path>
              <a:path fill="lighten" w="21600" h="22840">
                <a:moveTo>
                  <a:pt x="0" y="228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40"/>
                </a:lnTo>
                <a:close/>
              </a:path>
              <a:path fill="darken" w="21600" h="22840">
                <a:moveTo>
                  <a:pt x="3794" y="4414"/>
                </a:moveTo>
                <a:lnTo>
                  <a:pt x="17806" y="11420"/>
                </a:lnTo>
                <a:lnTo>
                  <a:pt x="3794" y="1842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659640" y="2349360"/>
            <a:ext cx="1800000" cy="1800360"/>
            <a:chOff x="6659640" y="2349360"/>
            <a:chExt cx="1800000" cy="1800360"/>
          </a:xfrm>
        </p:grpSpPr>
        <p:sp>
          <p:nvSpPr>
            <p:cNvPr id="749" name=""/>
            <p:cNvSpPr/>
            <p:nvPr/>
          </p:nvSpPr>
          <p:spPr>
            <a:xfrm>
              <a:off x="6659640" y="2349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0" name="" descr=""/>
            <p:cNvPicPr/>
            <p:nvPr/>
          </p:nvPicPr>
          <p:blipFill>
            <a:blip r:embed="rId3"/>
            <a:stretch/>
          </p:blipFill>
          <p:spPr>
            <a:xfrm>
              <a:off x="6948360" y="300816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" descr=""/>
          <p:cNvPicPr/>
          <p:nvPr/>
        </p:nvPicPr>
        <p:blipFill>
          <a:blip r:embed="rId4"/>
          <a:stretch/>
        </p:blipFill>
        <p:spPr>
          <a:xfrm>
            <a:off x="7524720" y="549360"/>
            <a:ext cx="7840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24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text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er fri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tex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text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684360" cy="72216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1403280" y="537372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987640" y="1989000"/>
            <a:ext cx="3097080" cy="2016720"/>
            <a:chOff x="2987640" y="1989000"/>
            <a:chExt cx="3097080" cy="2016720"/>
          </a:xfrm>
        </p:grpSpPr>
        <p:pic>
          <p:nvPicPr>
            <p:cNvPr id="758" name="" descr=""/>
            <p:cNvPicPr/>
            <p:nvPr/>
          </p:nvPicPr>
          <p:blipFill>
            <a:blip r:embed="rId2"/>
            <a:stretch/>
          </p:blipFill>
          <p:spPr>
            <a:xfrm>
              <a:off x="4643280" y="1989000"/>
              <a:ext cx="1179720" cy="142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9" name=""/>
            <p:cNvGrpSpPr/>
            <p:nvPr/>
          </p:nvGrpSpPr>
          <p:grpSpPr>
            <a:xfrm>
              <a:off x="2987640" y="1989000"/>
              <a:ext cx="3097080" cy="2016720"/>
              <a:chOff x="2987640" y="1989000"/>
              <a:chExt cx="3097080" cy="2016720"/>
            </a:xfrm>
          </p:grpSpPr>
          <p:sp>
            <p:nvSpPr>
              <p:cNvPr id="760" name=""/>
              <p:cNvSpPr/>
              <p:nvPr/>
            </p:nvSpPr>
            <p:spPr>
              <a:xfrm>
                <a:off x="3060720" y="270792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572000" y="198900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060720" y="198900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987640" y="36446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572000" y="36684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5" name=""/>
          <p:cNvGrpSpPr/>
          <p:nvPr/>
        </p:nvGrpSpPr>
        <p:grpSpPr>
          <a:xfrm>
            <a:off x="6804000" y="2708280"/>
            <a:ext cx="1800000" cy="1800360"/>
            <a:chOff x="6804000" y="2708280"/>
            <a:chExt cx="1800000" cy="1800360"/>
          </a:xfrm>
        </p:grpSpPr>
        <p:sp>
          <p:nvSpPr>
            <p:cNvPr id="766" name=""/>
            <p:cNvSpPr/>
            <p:nvPr/>
          </p:nvSpPr>
          <p:spPr>
            <a:xfrm>
              <a:off x="6804000" y="270828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" descr=""/>
            <p:cNvPicPr/>
            <p:nvPr/>
          </p:nvPicPr>
          <p:blipFill>
            <a:blip r:embed="rId3"/>
            <a:stretch/>
          </p:blipFill>
          <p:spPr>
            <a:xfrm>
              <a:off x="7092720" y="336708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8" name=""/>
          <p:cNvSpPr/>
          <p:nvPr/>
        </p:nvSpPr>
        <p:spPr>
          <a:xfrm>
            <a:off x="6299280" y="62611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nextslide"/>
          </p:cNvPr>
          <p:cNvSpPr/>
          <p:nvPr/>
        </p:nvSpPr>
        <p:spPr>
          <a:xfrm>
            <a:off x="7812000" y="6021360"/>
            <a:ext cx="576360" cy="6094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09480"/>
              <a:gd name="textAreaBottom" fmla="*/ 572400 h 609480"/>
            </a:gdLst>
            <a:ahLst/>
            <a:rect l="textAreaLeft" t="textAreaTop" r="textAreaRight" b="textAreaBottom"/>
            <a:pathLst>
              <a:path w="21600" h="22840">
                <a:moveTo>
                  <a:pt x="0" y="0"/>
                </a:moveTo>
                <a:lnTo>
                  <a:pt x="21600" y="0"/>
                </a:lnTo>
                <a:lnTo>
                  <a:pt x="21600" y="22840"/>
                </a:lnTo>
                <a:lnTo>
                  <a:pt x="0" y="22840"/>
                </a:lnTo>
                <a:close/>
              </a:path>
              <a:path fill="lightenLess" w="21600" h="228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40">
                <a:moveTo>
                  <a:pt x="21600" y="0"/>
                </a:moveTo>
                <a:lnTo>
                  <a:pt x="21600" y="22840"/>
                </a:lnTo>
                <a:lnTo>
                  <a:pt x="20200" y="21440"/>
                </a:lnTo>
                <a:lnTo>
                  <a:pt x="20200" y="1400"/>
                </a:lnTo>
                <a:close/>
              </a:path>
              <a:path fill="darkenLess" w="21600" h="22840">
                <a:moveTo>
                  <a:pt x="21600" y="22840"/>
                </a:moveTo>
                <a:lnTo>
                  <a:pt x="0" y="22840"/>
                </a:lnTo>
                <a:lnTo>
                  <a:pt x="1400" y="21440"/>
                </a:lnTo>
                <a:lnTo>
                  <a:pt x="20200" y="21440"/>
                </a:lnTo>
                <a:close/>
              </a:path>
              <a:path fill="lighten" w="21600" h="22840">
                <a:moveTo>
                  <a:pt x="0" y="228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40"/>
                </a:lnTo>
                <a:close/>
              </a:path>
              <a:path fill="darken" w="21600" h="22840">
                <a:moveTo>
                  <a:pt x="3794" y="4414"/>
                </a:moveTo>
                <a:lnTo>
                  <a:pt x="17806" y="11420"/>
                </a:lnTo>
                <a:lnTo>
                  <a:pt x="3794" y="1842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5508720" y="5661000"/>
            <a:ext cx="2158920" cy="611280"/>
          </a:xfrm>
          <a:custGeom>
            <a:avLst/>
            <a:gdLst>
              <a:gd name="textAreaLeft" fmla="*/ 39600 w 2158920"/>
              <a:gd name="textAreaRight" fmla="*/ 2119320 w 2158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76255" h="21600">
                <a:moveTo>
                  <a:pt x="0" y="0"/>
                </a:moveTo>
                <a:lnTo>
                  <a:pt x="76255" y="0"/>
                </a:lnTo>
                <a:lnTo>
                  <a:pt x="76255" y="21600"/>
                </a:lnTo>
                <a:lnTo>
                  <a:pt x="0" y="21600"/>
                </a:lnTo>
                <a:close/>
              </a:path>
              <a:path fill="lightenLess" w="76255" h="21600">
                <a:moveTo>
                  <a:pt x="0" y="0"/>
                </a:moveTo>
                <a:lnTo>
                  <a:pt x="76255" y="0"/>
                </a:lnTo>
                <a:lnTo>
                  <a:pt x="74855" y="1400"/>
                </a:lnTo>
                <a:lnTo>
                  <a:pt x="1400" y="1400"/>
                </a:lnTo>
                <a:close/>
              </a:path>
              <a:path fill="darken" w="76255" h="21600">
                <a:moveTo>
                  <a:pt x="76255" y="0"/>
                </a:moveTo>
                <a:lnTo>
                  <a:pt x="76255" y="21600"/>
                </a:lnTo>
                <a:lnTo>
                  <a:pt x="74855" y="20200"/>
                </a:lnTo>
                <a:lnTo>
                  <a:pt x="74855" y="1400"/>
                </a:lnTo>
                <a:close/>
              </a:path>
              <a:path fill="darkenLess" w="76255" h="21600">
                <a:moveTo>
                  <a:pt x="76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855" y="20200"/>
                </a:lnTo>
                <a:close/>
              </a:path>
              <a:path fill="lighten" w="76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255" h="21600">
                <a:moveTo>
                  <a:pt x="31121" y="3794"/>
                </a:moveTo>
                <a:lnTo>
                  <a:pt x="45134" y="10800"/>
                </a:lnTo>
                <a:lnTo>
                  <a:pt x="311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nextslide"/>
          </p:cNvPr>
          <p:cNvSpPr/>
          <p:nvPr/>
        </p:nvSpPr>
        <p:spPr>
          <a:xfrm>
            <a:off x="1403280" y="5661000"/>
            <a:ext cx="2195640" cy="611280"/>
          </a:xfrm>
          <a:custGeom>
            <a:avLst/>
            <a:gdLst>
              <a:gd name="textAreaLeft" fmla="*/ 39600 w 2195640"/>
              <a:gd name="textAreaRight" fmla="*/ 2156040 w 219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77552" h="21600">
                <a:moveTo>
                  <a:pt x="0" y="0"/>
                </a:moveTo>
                <a:lnTo>
                  <a:pt x="77552" y="0"/>
                </a:lnTo>
                <a:lnTo>
                  <a:pt x="77552" y="21600"/>
                </a:lnTo>
                <a:lnTo>
                  <a:pt x="0" y="21600"/>
                </a:lnTo>
                <a:close/>
              </a:path>
              <a:path fill="lightenLess" w="77552" h="21600">
                <a:moveTo>
                  <a:pt x="0" y="0"/>
                </a:moveTo>
                <a:lnTo>
                  <a:pt x="77552" y="0"/>
                </a:lnTo>
                <a:lnTo>
                  <a:pt x="76152" y="1400"/>
                </a:lnTo>
                <a:lnTo>
                  <a:pt x="1400" y="1400"/>
                </a:lnTo>
                <a:close/>
              </a:path>
              <a:path fill="darken" w="77552" h="21600">
                <a:moveTo>
                  <a:pt x="77552" y="0"/>
                </a:moveTo>
                <a:lnTo>
                  <a:pt x="77552" y="21600"/>
                </a:lnTo>
                <a:lnTo>
                  <a:pt x="76152" y="20200"/>
                </a:lnTo>
                <a:lnTo>
                  <a:pt x="76152" y="1400"/>
                </a:lnTo>
                <a:close/>
              </a:path>
              <a:path fill="darkenLess" w="77552" h="21600">
                <a:moveTo>
                  <a:pt x="7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152" y="20200"/>
                </a:lnTo>
                <a:close/>
              </a:path>
              <a:path fill="lighten" w="7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552" h="21600">
                <a:moveTo>
                  <a:pt x="31769" y="3794"/>
                </a:moveTo>
                <a:lnTo>
                  <a:pt x="45782" y="10800"/>
                </a:lnTo>
                <a:lnTo>
                  <a:pt x="317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out the compu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9528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or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427640" y="489888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or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2987640" y="2276640"/>
            <a:ext cx="3025800" cy="1994400"/>
            <a:chOff x="2987640" y="2276640"/>
            <a:chExt cx="3025800" cy="1994400"/>
          </a:xfrm>
        </p:grpSpPr>
        <p:pic>
          <p:nvPicPr>
            <p:cNvPr id="776" name="" descr=""/>
            <p:cNvPicPr/>
            <p:nvPr/>
          </p:nvPicPr>
          <p:blipFill>
            <a:blip r:embed="rId1"/>
            <a:stretch/>
          </p:blipFill>
          <p:spPr>
            <a:xfrm>
              <a:off x="3203640" y="2349360"/>
              <a:ext cx="1244520" cy="131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7" name=""/>
            <p:cNvGrpSpPr/>
            <p:nvPr/>
          </p:nvGrpSpPr>
          <p:grpSpPr>
            <a:xfrm>
              <a:off x="2987640" y="2276640"/>
              <a:ext cx="3025800" cy="1994400"/>
              <a:chOff x="2987640" y="2276640"/>
              <a:chExt cx="3025800" cy="1994400"/>
            </a:xfrm>
          </p:grpSpPr>
          <p:sp>
            <p:nvSpPr>
              <p:cNvPr id="778" name=""/>
              <p:cNvSpPr/>
              <p:nvPr/>
            </p:nvSpPr>
            <p:spPr>
              <a:xfrm>
                <a:off x="3132360" y="227808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72000" y="227808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987640" y="393372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500720" y="393372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132360" y="22766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572000" y="22766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987640" y="39322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500720" y="39322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2987640" y="2276640"/>
                <a:ext cx="3025800" cy="1994400"/>
                <a:chOff x="2987640" y="2276640"/>
                <a:chExt cx="3025800" cy="199440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3132360" y="227808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4572000" y="227808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2987640" y="393372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500720" y="393372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132360" y="22766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572000" y="22766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987640" y="393228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500720" y="393228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5" name=""/>
                <p:cNvGrpSpPr/>
                <p:nvPr/>
              </p:nvGrpSpPr>
              <p:grpSpPr>
                <a:xfrm>
                  <a:off x="2987640" y="2278080"/>
                  <a:ext cx="3025800" cy="1992600"/>
                  <a:chOff x="2987640" y="2278080"/>
                  <a:chExt cx="3025800" cy="199260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>
                    <a:off x="3132360" y="227808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4572000" y="227808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987640" y="3933360"/>
                    <a:ext cx="1513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4500720" y="393336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4572000" y="2997000"/>
                    <a:ext cx="136836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 he worri</a:t>
            </a:r>
            <a:r>
              <a:rPr b="0" lang="en-GB" sz="39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about the compu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orri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219640" y="4581360"/>
            <a:ext cx="3960720" cy="1046880"/>
            <a:chOff x="5219640" y="4581360"/>
            <a:chExt cx="3960720" cy="1046880"/>
          </a:xfrm>
        </p:grpSpPr>
        <p:sp>
          <p:nvSpPr>
            <p:cNvPr id="804" name=""/>
            <p:cNvSpPr/>
            <p:nvPr/>
          </p:nvSpPr>
          <p:spPr>
            <a:xfrm>
              <a:off x="521964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5" name="" descr=""/>
            <p:cNvPicPr/>
            <p:nvPr/>
          </p:nvPicPr>
          <p:blipFill>
            <a:blip r:embed="rId1"/>
            <a:stretch/>
          </p:blipFill>
          <p:spPr>
            <a:xfrm>
              <a:off x="680400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2987640" y="2276640"/>
            <a:ext cx="3025800" cy="1994400"/>
            <a:chOff x="2987640" y="2276640"/>
            <a:chExt cx="3025800" cy="1994400"/>
          </a:xfrm>
        </p:grpSpPr>
        <p:pic>
          <p:nvPicPr>
            <p:cNvPr id="807" name="" descr=""/>
            <p:cNvPicPr/>
            <p:nvPr/>
          </p:nvPicPr>
          <p:blipFill>
            <a:blip r:embed="rId2"/>
            <a:stretch/>
          </p:blipFill>
          <p:spPr>
            <a:xfrm>
              <a:off x="3203640" y="2349360"/>
              <a:ext cx="1244520" cy="131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8" name=""/>
            <p:cNvGrpSpPr/>
            <p:nvPr/>
          </p:nvGrpSpPr>
          <p:grpSpPr>
            <a:xfrm>
              <a:off x="2987640" y="2276640"/>
              <a:ext cx="3025800" cy="1994400"/>
              <a:chOff x="2987640" y="2276640"/>
              <a:chExt cx="3025800" cy="1994400"/>
            </a:xfrm>
          </p:grpSpPr>
          <p:sp>
            <p:nvSpPr>
              <p:cNvPr id="809" name=""/>
              <p:cNvSpPr/>
              <p:nvPr/>
            </p:nvSpPr>
            <p:spPr>
              <a:xfrm>
                <a:off x="3132360" y="227808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572000" y="227808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987640" y="393372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500720" y="393372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132360" y="22766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572000" y="22766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987640" y="39322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500720" y="39322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2987640" y="2276640"/>
                <a:ext cx="3025800" cy="1994400"/>
                <a:chOff x="2987640" y="2276640"/>
                <a:chExt cx="3025800" cy="199440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3132360" y="227808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572000" y="227808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2987640" y="393372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500720" y="393372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132360" y="22766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4572000" y="22766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2987640" y="393228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500720" y="393228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2987640" y="2278080"/>
                  <a:ext cx="3025800" cy="1992600"/>
                  <a:chOff x="2987640" y="2278080"/>
                  <a:chExt cx="3025800" cy="199260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3132360" y="227808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4572000" y="227808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987640" y="3933360"/>
                    <a:ext cx="1513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4500720" y="393336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4572000" y="2997000"/>
                    <a:ext cx="136836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2" name=""/>
          <p:cNvSpPr/>
          <p:nvPr/>
        </p:nvSpPr>
        <p:spPr>
          <a:xfrm>
            <a:off x="6875640" y="62611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028000" y="609300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835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6" name="" descr=""/>
            <p:cNvPicPr/>
            <p:nvPr/>
          </p:nvPicPr>
          <p:blipFill>
            <a:blip r:embed="rId3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" descr=""/>
          <p:cNvPicPr/>
          <p:nvPr/>
        </p:nvPicPr>
        <p:blipFill>
          <a:blip r:embed="rId4"/>
          <a:stretch/>
        </p:blipFill>
        <p:spPr>
          <a:xfrm>
            <a:off x="5940360" y="1341360"/>
            <a:ext cx="7160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73" dur="2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 he worri</a:t>
            </a:r>
            <a:r>
              <a:rPr b="0" lang="en-GB" sz="39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about the compu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72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or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orri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987640" y="2276640"/>
            <a:ext cx="3025800" cy="1994400"/>
            <a:chOff x="2987640" y="2276640"/>
            <a:chExt cx="3025800" cy="1994400"/>
          </a:xfrm>
        </p:grpSpPr>
        <p:pic>
          <p:nvPicPr>
            <p:cNvPr id="844" name="" descr=""/>
            <p:cNvPicPr/>
            <p:nvPr/>
          </p:nvPicPr>
          <p:blipFill>
            <a:blip r:embed="rId2"/>
            <a:stretch/>
          </p:blipFill>
          <p:spPr>
            <a:xfrm>
              <a:off x="3203640" y="2349360"/>
              <a:ext cx="1244520" cy="131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5" name=""/>
            <p:cNvGrpSpPr/>
            <p:nvPr/>
          </p:nvGrpSpPr>
          <p:grpSpPr>
            <a:xfrm>
              <a:off x="2987640" y="2276640"/>
              <a:ext cx="3025800" cy="1994400"/>
              <a:chOff x="2987640" y="2276640"/>
              <a:chExt cx="3025800" cy="1994400"/>
            </a:xfrm>
          </p:grpSpPr>
          <p:sp>
            <p:nvSpPr>
              <p:cNvPr id="846" name=""/>
              <p:cNvSpPr/>
              <p:nvPr/>
            </p:nvSpPr>
            <p:spPr>
              <a:xfrm>
                <a:off x="3132360" y="227808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572000" y="227808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87640" y="393372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00720" y="393372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32360" y="22766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72000" y="22766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987640" y="39322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500720" y="39322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2987640" y="2276640"/>
                <a:ext cx="3025800" cy="1994400"/>
                <a:chOff x="2987640" y="2276640"/>
                <a:chExt cx="3025800" cy="199440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3132360" y="227808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72000" y="227808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2987640" y="393372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500720" y="393372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3132360" y="22766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572000" y="22766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987640" y="393228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500720" y="393228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2987640" y="2278080"/>
                  <a:ext cx="3025800" cy="1992600"/>
                  <a:chOff x="2987640" y="2278080"/>
                  <a:chExt cx="3025800" cy="199260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132360" y="227808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4572000" y="227808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987640" y="3933360"/>
                    <a:ext cx="1513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4500720" y="393336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572000" y="2997000"/>
                    <a:ext cx="136836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69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3794"/>
                </a:moveTo>
                <a:lnTo>
                  <a:pt x="18276" y="10800"/>
                </a:lnTo>
                <a:lnTo>
                  <a:pt x="42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871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2" name="" descr=""/>
            <p:cNvPicPr/>
            <p:nvPr/>
          </p:nvPicPr>
          <p:blipFill>
            <a:blip r:embed="rId3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"/>
          <p:cNvSpPr/>
          <p:nvPr/>
        </p:nvSpPr>
        <p:spPr>
          <a:xfrm>
            <a:off x="6875640" y="62611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4103640" cy="233208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2556000" y="3656160"/>
            <a:ext cx="40320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5508720" y="5300640"/>
            <a:ext cx="2158920" cy="684360"/>
          </a:xfrm>
          <a:custGeom>
            <a:avLst/>
            <a:gdLst>
              <a:gd name="textAreaLeft" fmla="*/ 44280 w 2158920"/>
              <a:gd name="textAreaRight" fmla="*/ 2114640 w 2158920"/>
              <a:gd name="textAreaTop" fmla="*/ 44280 h 684360"/>
              <a:gd name="textAreaBottom" fmla="*/ 640080 h 684360"/>
            </a:gdLst>
            <a:ahLst/>
            <a:rect l="textAreaLeft" t="textAreaTop" r="textAreaRight" b="textAreaBottom"/>
            <a:pathLst>
              <a:path w="68116" h="21600">
                <a:moveTo>
                  <a:pt x="0" y="0"/>
                </a:moveTo>
                <a:lnTo>
                  <a:pt x="68116" y="0"/>
                </a:lnTo>
                <a:lnTo>
                  <a:pt x="68116" y="21600"/>
                </a:lnTo>
                <a:lnTo>
                  <a:pt x="0" y="21600"/>
                </a:lnTo>
                <a:close/>
              </a:path>
              <a:path fill="lightenLess" w="68116" h="21600">
                <a:moveTo>
                  <a:pt x="0" y="0"/>
                </a:moveTo>
                <a:lnTo>
                  <a:pt x="68116" y="0"/>
                </a:lnTo>
                <a:lnTo>
                  <a:pt x="66716" y="1400"/>
                </a:lnTo>
                <a:lnTo>
                  <a:pt x="1400" y="1400"/>
                </a:lnTo>
                <a:close/>
              </a:path>
              <a:path fill="darken" w="68116" h="21600">
                <a:moveTo>
                  <a:pt x="68116" y="0"/>
                </a:moveTo>
                <a:lnTo>
                  <a:pt x="68116" y="21600"/>
                </a:lnTo>
                <a:lnTo>
                  <a:pt x="66716" y="20200"/>
                </a:lnTo>
                <a:lnTo>
                  <a:pt x="66716" y="1400"/>
                </a:lnTo>
                <a:close/>
              </a:path>
              <a:path fill="darkenLess" w="68116" h="21600">
                <a:moveTo>
                  <a:pt x="68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16" y="20200"/>
                </a:lnTo>
                <a:close/>
              </a:path>
              <a:path fill="lighten" w="68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116" h="21600">
                <a:moveTo>
                  <a:pt x="27052" y="3794"/>
                </a:moveTo>
                <a:lnTo>
                  <a:pt x="41065" y="10800"/>
                </a:lnTo>
                <a:lnTo>
                  <a:pt x="270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1476360" y="5300640"/>
            <a:ext cx="2122560" cy="684360"/>
          </a:xfrm>
          <a:custGeom>
            <a:avLst/>
            <a:gdLst>
              <a:gd name="textAreaLeft" fmla="*/ 44280 w 2122560"/>
              <a:gd name="textAreaRight" fmla="*/ 2078280 w 2122560"/>
              <a:gd name="textAreaTop" fmla="*/ 44280 h 684360"/>
              <a:gd name="textAreaBottom" fmla="*/ 640080 h 684360"/>
            </a:gdLst>
            <a:ahLst/>
            <a:rect l="textAreaLeft" t="textAreaTop" r="textAreaRight" b="textAreaBottom"/>
            <a:pathLst>
              <a:path w="66969" h="21600">
                <a:moveTo>
                  <a:pt x="0" y="0"/>
                </a:moveTo>
                <a:lnTo>
                  <a:pt x="66969" y="0"/>
                </a:lnTo>
                <a:lnTo>
                  <a:pt x="66969" y="21600"/>
                </a:lnTo>
                <a:lnTo>
                  <a:pt x="0" y="21600"/>
                </a:lnTo>
                <a:close/>
              </a:path>
              <a:path fill="lightenLess" w="66969" h="21600">
                <a:moveTo>
                  <a:pt x="0" y="0"/>
                </a:moveTo>
                <a:lnTo>
                  <a:pt x="66969" y="0"/>
                </a:lnTo>
                <a:lnTo>
                  <a:pt x="65569" y="1400"/>
                </a:lnTo>
                <a:lnTo>
                  <a:pt x="1400" y="1400"/>
                </a:lnTo>
                <a:close/>
              </a:path>
              <a:path fill="darken" w="66969" h="21600">
                <a:moveTo>
                  <a:pt x="66969" y="0"/>
                </a:moveTo>
                <a:lnTo>
                  <a:pt x="66969" y="21600"/>
                </a:lnTo>
                <a:lnTo>
                  <a:pt x="65569" y="20200"/>
                </a:lnTo>
                <a:lnTo>
                  <a:pt x="65569" y="1400"/>
                </a:lnTo>
                <a:close/>
              </a:path>
              <a:path fill="darkenLess" w="66969" h="21600">
                <a:moveTo>
                  <a:pt x="669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69" y="20200"/>
                </a:lnTo>
                <a:close/>
              </a:path>
              <a:path fill="lighten" w="669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969" h="21600">
                <a:moveTo>
                  <a:pt x="26478" y="3794"/>
                </a:moveTo>
                <a:lnTo>
                  <a:pt x="40491" y="10800"/>
                </a:lnTo>
                <a:lnTo>
                  <a:pt x="2647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b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508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empt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4508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emp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06560" y="2635200"/>
            <a:ext cx="140508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203640" y="1916280"/>
            <a:ext cx="133488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676040" y="1916280"/>
            <a:ext cx="133524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3640" y="357336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  <a:ea typeface="Arial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715640" y="3573360"/>
            <a:ext cx="147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03640" y="2060640"/>
            <a:ext cx="125712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he empti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the bin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empti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932360" y="4292640"/>
            <a:ext cx="3960720" cy="1225800"/>
            <a:chOff x="4932360" y="4292640"/>
            <a:chExt cx="3960720" cy="1225800"/>
          </a:xfrm>
        </p:grpSpPr>
        <p:sp>
          <p:nvSpPr>
            <p:cNvPr id="71" name=""/>
            <p:cNvSpPr/>
            <p:nvPr/>
          </p:nvSpPr>
          <p:spPr>
            <a:xfrm>
              <a:off x="4932360" y="51195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516720" y="4292640"/>
              <a:ext cx="561960" cy="7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132000" y="2060640"/>
            <a:ext cx="1257480" cy="1280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4554360" y="2708280"/>
            <a:ext cx="142416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133800" y="1989000"/>
            <a:ext cx="1350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625280" y="1989000"/>
            <a:ext cx="13525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43280" y="3645000"/>
            <a:ext cx="149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058560" y="3645000"/>
            <a:ext cx="14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616572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8028000" y="595008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4623"/>
                </a:moveTo>
                <a:lnTo>
                  <a:pt x="17806" y="11629"/>
                </a:lnTo>
                <a:lnTo>
                  <a:pt x="3794" y="186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77080" y="2205000"/>
            <a:ext cx="1800000" cy="1800360"/>
            <a:chOff x="6877080" y="2205000"/>
            <a:chExt cx="1800000" cy="1800360"/>
          </a:xfrm>
        </p:grpSpPr>
        <p:sp>
          <p:nvSpPr>
            <p:cNvPr id="82" name=""/>
            <p:cNvSpPr/>
            <p:nvPr/>
          </p:nvSpPr>
          <p:spPr>
            <a:xfrm>
              <a:off x="6877080" y="2205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7165800" y="2863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024760" y="836640"/>
            <a:ext cx="922320" cy="9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0" lang="en-GB" sz="4300" spc="-1" strike="noStrike" u="sng">
                <a:solidFill>
                  <a:srgbClr val="000000"/>
                </a:solidFill>
                <a:uFillTx/>
                <a:latin typeface="Comic Sans MS"/>
              </a:rPr>
              <a:t>empti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the bin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emp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empti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76720" y="1989000"/>
            <a:ext cx="1185840" cy="1208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4540320" y="2635200"/>
            <a:ext cx="133992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03640" y="1916280"/>
            <a:ext cx="12715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607640" y="1916280"/>
            <a:ext cx="127188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917080" y="3571920"/>
            <a:ext cx="16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  <a:ea typeface="Arial"/>
              </a:rPr>
              <a:t>P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573440" y="357336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res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616572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4623"/>
                </a:moveTo>
                <a:lnTo>
                  <a:pt x="17806" y="11629"/>
                </a:lnTo>
                <a:lnTo>
                  <a:pt x="3794" y="186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877080" y="2205000"/>
            <a:ext cx="1800000" cy="1800360"/>
            <a:chOff x="6877080" y="2205000"/>
            <a:chExt cx="1800000" cy="1800360"/>
          </a:xfrm>
        </p:grpSpPr>
        <p:sp>
          <p:nvSpPr>
            <p:cNvPr id="99" name=""/>
            <p:cNvSpPr/>
            <p:nvPr/>
          </p:nvSpPr>
          <p:spPr>
            <a:xfrm>
              <a:off x="6877080" y="2205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7165800" y="2863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1474920" y="5300640"/>
            <a:ext cx="1871640" cy="6494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62227" h="21600">
                <a:moveTo>
                  <a:pt x="0" y="0"/>
                </a:moveTo>
                <a:lnTo>
                  <a:pt x="62227" y="0"/>
                </a:lnTo>
                <a:lnTo>
                  <a:pt x="62227" y="21600"/>
                </a:lnTo>
                <a:lnTo>
                  <a:pt x="0" y="21600"/>
                </a:lnTo>
                <a:close/>
              </a:path>
              <a:path fill="lightenLess" w="62227" h="21600">
                <a:moveTo>
                  <a:pt x="0" y="0"/>
                </a:moveTo>
                <a:lnTo>
                  <a:pt x="62227" y="0"/>
                </a:lnTo>
                <a:lnTo>
                  <a:pt x="60827" y="1400"/>
                </a:lnTo>
                <a:lnTo>
                  <a:pt x="1400" y="1400"/>
                </a:lnTo>
                <a:close/>
              </a:path>
              <a:path fill="darken" w="62227" h="21600">
                <a:moveTo>
                  <a:pt x="62227" y="0"/>
                </a:moveTo>
                <a:lnTo>
                  <a:pt x="62227" y="21600"/>
                </a:lnTo>
                <a:lnTo>
                  <a:pt x="60827" y="20200"/>
                </a:lnTo>
                <a:lnTo>
                  <a:pt x="60827" y="1400"/>
                </a:lnTo>
                <a:close/>
              </a:path>
              <a:path fill="darkenLess" w="62227" h="21600">
                <a:moveTo>
                  <a:pt x="62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27" y="20200"/>
                </a:lnTo>
                <a:close/>
              </a:path>
              <a:path fill="lighten" w="62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27" h="21600">
                <a:moveTo>
                  <a:pt x="24107" y="3794"/>
                </a:moveTo>
                <a:lnTo>
                  <a:pt x="38120" y="10800"/>
                </a:lnTo>
                <a:lnTo>
                  <a:pt x="2410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580000" y="5300640"/>
            <a:ext cx="1906560" cy="649440"/>
          </a:xfrm>
          <a:custGeom>
            <a:avLst/>
            <a:gdLst>
              <a:gd name="textAreaLeft" fmla="*/ 41760 w 1906560"/>
              <a:gd name="textAreaRight" fmla="*/ 1864800 w 190656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63388" h="21600">
                <a:moveTo>
                  <a:pt x="0" y="0"/>
                </a:moveTo>
                <a:lnTo>
                  <a:pt x="63388" y="0"/>
                </a:lnTo>
                <a:lnTo>
                  <a:pt x="63388" y="21600"/>
                </a:lnTo>
                <a:lnTo>
                  <a:pt x="0" y="21600"/>
                </a:lnTo>
                <a:close/>
              </a:path>
              <a:path fill="lightenLess" w="63388" h="21600">
                <a:moveTo>
                  <a:pt x="0" y="0"/>
                </a:moveTo>
                <a:lnTo>
                  <a:pt x="63388" y="0"/>
                </a:lnTo>
                <a:lnTo>
                  <a:pt x="61988" y="1400"/>
                </a:lnTo>
                <a:lnTo>
                  <a:pt x="1400" y="1400"/>
                </a:lnTo>
                <a:close/>
              </a:path>
              <a:path fill="darken" w="63388" h="21600">
                <a:moveTo>
                  <a:pt x="63388" y="0"/>
                </a:moveTo>
                <a:lnTo>
                  <a:pt x="63388" y="21600"/>
                </a:lnTo>
                <a:lnTo>
                  <a:pt x="61988" y="20200"/>
                </a:lnTo>
                <a:lnTo>
                  <a:pt x="61988" y="1400"/>
                </a:lnTo>
                <a:close/>
              </a:path>
              <a:path fill="darkenLess" w="63388" h="21600">
                <a:moveTo>
                  <a:pt x="6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88" y="20200"/>
                </a:lnTo>
                <a:close/>
              </a:path>
              <a:path fill="lighten" w="6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388" h="21600">
                <a:moveTo>
                  <a:pt x="24687" y="3794"/>
                </a:moveTo>
                <a:lnTo>
                  <a:pt x="38700" y="10800"/>
                </a:lnTo>
                <a:lnTo>
                  <a:pt x="2468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Mum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trous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4653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iro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6530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i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987640" y="2276640"/>
            <a:ext cx="3025800" cy="2016360"/>
            <a:chOff x="2987640" y="2276640"/>
            <a:chExt cx="3025800" cy="201636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3132000" y="2276640"/>
              <a:ext cx="1341720" cy="15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"/>
            <p:cNvGrpSpPr/>
            <p:nvPr/>
          </p:nvGrpSpPr>
          <p:grpSpPr>
            <a:xfrm>
              <a:off x="2987640" y="2298600"/>
              <a:ext cx="3025800" cy="1994400"/>
              <a:chOff x="2987640" y="2298600"/>
              <a:chExt cx="3025800" cy="199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3132360" y="23000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572000" y="23000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87640" y="39556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00720" y="39556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32360" y="22986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72000" y="22986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87640" y="39542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500720" y="39542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2987640" y="2298600"/>
                <a:ext cx="3025800" cy="1994400"/>
                <a:chOff x="2987640" y="2298600"/>
                <a:chExt cx="3025800" cy="19944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132360" y="23000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72000" y="23000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987640" y="395568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500720" y="395568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132360" y="22986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572000" y="22986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987640" y="395424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500720" y="395424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2987640" y="2300040"/>
                  <a:ext cx="3025800" cy="1992600"/>
                  <a:chOff x="2987640" y="2300040"/>
                  <a:chExt cx="3025800" cy="19926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3132360" y="230004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572000" y="230004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2987640" y="3955320"/>
                    <a:ext cx="1513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500720" y="395532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572000" y="3018960"/>
                    <a:ext cx="136836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 Mum iron</a:t>
            </a:r>
            <a:r>
              <a:rPr b="0" lang="en-GB" sz="39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the trouser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iron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135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2987640" y="2276640"/>
            <a:ext cx="3025800" cy="2016360"/>
            <a:chOff x="2987640" y="2276640"/>
            <a:chExt cx="3025800" cy="201636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3132000" y="2276640"/>
              <a:ext cx="1341720" cy="15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" name=""/>
            <p:cNvGrpSpPr/>
            <p:nvPr/>
          </p:nvGrpSpPr>
          <p:grpSpPr>
            <a:xfrm>
              <a:off x="2987640" y="2298600"/>
              <a:ext cx="3025800" cy="1994400"/>
              <a:chOff x="2987640" y="2298600"/>
              <a:chExt cx="3025800" cy="1994400"/>
            </a:xfrm>
          </p:grpSpPr>
          <p:sp>
            <p:nvSpPr>
              <p:cNvPr id="140" name=""/>
              <p:cNvSpPr/>
              <p:nvPr/>
            </p:nvSpPr>
            <p:spPr>
              <a:xfrm>
                <a:off x="3132360" y="23000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72000" y="230004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87640" y="395568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00720" y="395568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32360" y="22986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2986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87640" y="39542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00720" y="39542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987640" y="2298600"/>
                <a:ext cx="3025800" cy="1994400"/>
                <a:chOff x="2987640" y="2298600"/>
                <a:chExt cx="3025800" cy="19944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132360" y="23000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230004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987640" y="395568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500720" y="395568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32360" y="22986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22986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87640" y="395424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00720" y="395424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2987640" y="2300040"/>
                  <a:ext cx="3025800" cy="1992600"/>
                  <a:chOff x="2987640" y="2300040"/>
                  <a:chExt cx="3025800" cy="19926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3132360" y="230004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4572000" y="230004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987640" y="3955320"/>
                    <a:ext cx="1513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4500720" y="395532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572000" y="3018960"/>
                    <a:ext cx="136836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63" name=""/>
          <p:cNvSpPr/>
          <p:nvPr/>
        </p:nvSpPr>
        <p:spPr>
          <a:xfrm>
            <a:off x="6227640" y="609300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7812000" y="595008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4623"/>
                </a:moveTo>
                <a:lnTo>
                  <a:pt x="17806" y="11629"/>
                </a:lnTo>
                <a:lnTo>
                  <a:pt x="3794" y="186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166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8172360" y="1125360"/>
            <a:ext cx="78444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 Mum </a:t>
            </a:r>
            <a:r>
              <a:rPr b="0" lang="en-GB" sz="3900" spc="-1" strike="noStrike" u="sng">
                <a:solidFill>
                  <a:srgbClr val="000000"/>
                </a:solidFill>
                <a:uFillTx/>
                <a:latin typeface="Comic Sans MS"/>
              </a:rPr>
              <a:t>iron</a:t>
            </a:r>
            <a:r>
              <a:rPr b="0" lang="en-GB" sz="39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the trouser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i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iron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987640" y="1989000"/>
            <a:ext cx="3025800" cy="2016360"/>
            <a:chOff x="2987640" y="1989000"/>
            <a:chExt cx="3025800" cy="201636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3132000" y="1989000"/>
              <a:ext cx="1341720" cy="15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"/>
            <p:cNvGrpSpPr/>
            <p:nvPr/>
          </p:nvGrpSpPr>
          <p:grpSpPr>
            <a:xfrm>
              <a:off x="2987640" y="2010960"/>
              <a:ext cx="3025800" cy="1994400"/>
              <a:chOff x="2987640" y="2010960"/>
              <a:chExt cx="3025800" cy="1994400"/>
            </a:xfrm>
          </p:grpSpPr>
          <p:sp>
            <p:nvSpPr>
              <p:cNvPr id="177" name=""/>
              <p:cNvSpPr/>
              <p:nvPr/>
            </p:nvSpPr>
            <p:spPr>
              <a:xfrm>
                <a:off x="3132360" y="20124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72000" y="20124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987640" y="36680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00720" y="36680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32360" y="201096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572000" y="201096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87640" y="366660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00720" y="36666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2987640" y="2010960"/>
                <a:ext cx="3025800" cy="1994400"/>
                <a:chOff x="2987640" y="2010960"/>
                <a:chExt cx="3025800" cy="19944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132360" y="20124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2000" y="20124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87640" y="366804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00720" y="366804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32360" y="201096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572000" y="201096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987640" y="366660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500720" y="366660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2987640" y="2012400"/>
                  <a:ext cx="3025800" cy="1992600"/>
                  <a:chOff x="2987640" y="2012400"/>
                  <a:chExt cx="3025800" cy="19926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3132360" y="201240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f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572000" y="2012400"/>
                    <a:ext cx="1368360" cy="1510920"/>
                  </a:xfrm>
                  <a:prstGeom prst="rect">
                    <a:avLst/>
                  </a:prstGeom>
                  <a:noFill/>
                  <a:ln w="507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87640" y="3667680"/>
                    <a:ext cx="1513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0000"/>
                        </a:solidFill>
                        <a:latin typeface="Comic Sans MS"/>
                        <a:ea typeface="Arial"/>
                      </a:rPr>
                      <a:t>Past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500720" y="3667680"/>
                    <a:ext cx="1512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808080"/>
                        </a:solidFill>
                        <a:latin typeface="Comic Sans MS"/>
                        <a:ea typeface="Arial"/>
                      </a:rPr>
                      <a:t>Pres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572000" y="2731320"/>
                    <a:ext cx="1368360" cy="0"/>
                  </a:xfrm>
                  <a:prstGeom prst="line">
                    <a:avLst/>
                  </a:prstGeom>
                  <a:ln w="1523880">
                    <a:solidFill>
                      <a:srgbClr val="c0c0c0">
                        <a:alpha val="4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00" name=""/>
          <p:cNvSpPr/>
          <p:nvPr/>
        </p:nvSpPr>
        <p:spPr>
          <a:xfrm>
            <a:off x="6227640" y="609300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7812000" y="595008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4623"/>
                </a:moveTo>
                <a:lnTo>
                  <a:pt x="17806" y="11629"/>
                </a:lnTo>
                <a:lnTo>
                  <a:pt x="3794" y="186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203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2:05:02Z</dcterms:created>
  <dc:creator>DianaBurman</dc:creator>
  <dc:description/>
  <dc:language>en-US</dc:language>
  <cp:lastModifiedBy>dannyb</cp:lastModifiedBy>
  <dcterms:modified xsi:type="dcterms:W3CDTF">2008-11-28T16:52:42Z</dcterms:modified>
  <cp:revision>13</cp:revision>
  <dc:subject/>
  <dc:title>Slide 1</dc:title>
</cp:coreProperties>
</file>