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7.wmf" ContentType="image/x-wmf"/>
  <Override PartName="/ppt/media/image24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5.wmf" ContentType="image/x-wmf"/>
  <Override PartName="/ppt/media/image10.png" ContentType="image/png"/>
  <Override PartName="/ppt/media/image30.png" ContentType="image/png"/>
  <Override PartName="/ppt/media/image32.png" ContentType="image/png"/>
  <Override PartName="/ppt/media/image15.wmf" ContentType="image/x-wmf"/>
  <Override PartName="/ppt/media/image33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4.png" ContentType="image/png"/>
  <Override PartName="/ppt/media/image3.wmf" ContentType="image/x-wmf"/>
  <Override PartName="/ppt/media/image25.wmf" ContentType="image/x-wmf"/>
  <Override PartName="/ppt/media/image16.png" ContentType="image/png"/>
  <Override PartName="/ppt/media/image17.png" ContentType="image/png"/>
  <Override PartName="/ppt/media/image19.wmf" ContentType="image/x-wmf"/>
  <Override PartName="/ppt/media/image18.wmf" ContentType="image/x-wmf"/>
  <Override PartName="/ppt/media/image20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A73-3F10-4120-9D03-31663BD6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DC4-27A3-4F80-9F9B-2332AB0F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36A-46E9-4232-A445-3B067612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ADF-8938-463D-B158-506F9311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4ED-EAAD-4C05-8308-B98E495E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A5E-CC56-4FC3-B5BB-C4601109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B16-FA66-4AFE-801E-2C3CE64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75F-DC45-42E7-A334-C0F9E378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F00-13D8-470E-8361-824E0A8E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AE0-D0A1-4F39-81B3-CACF662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CD7-E3E8-45AE-A296-8D83D278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C30-FB6F-4F62-B168-1BA4DDAC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F77C-6FB3-42F5-867A-07171A8B8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BD18889_0000%5B1%5D.wav" TargetMode="External"/><Relationship Id="rId2" Type="http://schemas.microsoft.com/office/2007/relationships/media" Target="file:///tmp/home/.config/libreoffice/4/user/gallery/MSBD18889_0000%5B1%5D.wav" TargetMode="External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5 IT 15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ent and Pas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3860640"/>
            <a:ext cx="16984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49440" y="476280"/>
            <a:ext cx="74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6. She …………….. every  n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80536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37372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Saturday she danced all n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348000" cy="3743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92720" y="5661000"/>
            <a:ext cx="151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04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105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476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7. He plays football skilfu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58053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Sunday he             foot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24120" cy="381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84720" y="5805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5805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la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113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42920" y="62064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8. He irons the tie carefu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5229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Friday he …………..              the t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2617920" cy="2487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43280" y="5229360"/>
            <a:ext cx="18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ro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 rot="5400000">
            <a:off x="6094800" y="2862720"/>
            <a:ext cx="2127240" cy="34686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6948360" y="1484280"/>
            <a:ext cx="1800000" cy="1800360"/>
            <a:chOff x="6948360" y="1484280"/>
            <a:chExt cx="1800000" cy="1800360"/>
          </a:xfrm>
        </p:grpSpPr>
        <p:sp>
          <p:nvSpPr>
            <p:cNvPr id="121" name=""/>
            <p:cNvSpPr/>
            <p:nvPr/>
          </p:nvSpPr>
          <p:spPr>
            <a:xfrm>
              <a:off x="6948360" y="148428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7237080" y="214308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40464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9. She ………………. in the running race every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5157720"/>
            <a:ext cx="82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year she competed in the running r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48080" y="2124000"/>
            <a:ext cx="4047840" cy="26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35280" y="333360"/>
            <a:ext cx="24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mpe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093080" y="2205000"/>
            <a:ext cx="1800000" cy="1800360"/>
            <a:chOff x="7093080" y="2205000"/>
            <a:chExt cx="1800000" cy="1800360"/>
          </a:xfrm>
        </p:grpSpPr>
        <p:sp>
          <p:nvSpPr>
            <p:cNvPr id="128" name=""/>
            <p:cNvSpPr/>
            <p:nvPr/>
          </p:nvSpPr>
          <p:spPr>
            <a:xfrm>
              <a:off x="7093080" y="2205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7381800" y="2863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692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0. Jade always works hard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58770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Tuesday Jade               h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19800" cy="3848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50872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5877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..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5877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or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137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00000" y="549360"/>
            <a:ext cx="73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404640"/>
            <a:ext cx="73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1. Daniel measures the bed accurate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0064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month Daniel ………………….  the b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203040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3170160" cy="2149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16360" y="52484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easu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43640" y="2924280"/>
            <a:ext cx="1800000" cy="1799640"/>
            <a:chOff x="7343640" y="2924280"/>
            <a:chExt cx="1800000" cy="1799640"/>
          </a:xfrm>
        </p:grpSpPr>
        <p:sp>
          <p:nvSpPr>
            <p:cNvPr id="146" name=""/>
            <p:cNvSpPr/>
            <p:nvPr/>
          </p:nvSpPr>
          <p:spPr>
            <a:xfrm>
              <a:off x="7343640" y="292428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7632360" y="358272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42920" y="26028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2. Alex ………………. her baby br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53737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week Alex kissed her baby br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743200" y="22147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03640" y="26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ki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04000" y="2565360"/>
            <a:ext cx="1800000" cy="1800360"/>
            <a:chOff x="6804000" y="2565360"/>
            <a:chExt cx="1800000" cy="1800360"/>
          </a:xfrm>
        </p:grpSpPr>
        <p:sp>
          <p:nvSpPr>
            <p:cNvPr id="154" name=""/>
            <p:cNvSpPr/>
            <p:nvPr/>
          </p:nvSpPr>
          <p:spPr>
            <a:xfrm>
              <a:off x="6804000" y="2565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7092720" y="322416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0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42920" y="62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0464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3. Shireen brushes her hair every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522936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esterday Shireen ………………….                her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2675160" cy="321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20714400">
            <a:off x="6156360" y="2060640"/>
            <a:ext cx="641160" cy="1655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435640" y="5157720"/>
            <a:ext cx="211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rush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163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47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4. Richard combs his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55468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week Richard …………….  his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2828880" cy="3581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1892160" cy="2158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0364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m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171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11280" y="40464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5. Nina looks for her pen all the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554688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month Nina             for her 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159280" cy="3811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flipH="1" rot="18122400">
            <a:off x="1031400" y="4519800"/>
            <a:ext cx="720720" cy="698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050920" y="3141720"/>
            <a:ext cx="1925640" cy="1944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16360" y="5516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516640"/>
            <a:ext cx="17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oo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343640" y="2781360"/>
            <a:ext cx="1800000" cy="1799640"/>
            <a:chOff x="7343640" y="2781360"/>
            <a:chExt cx="1800000" cy="1799640"/>
          </a:xfrm>
        </p:grpSpPr>
        <p:sp>
          <p:nvSpPr>
            <p:cNvPr id="181" name=""/>
            <p:cNvSpPr/>
            <p:nvPr/>
          </p:nvSpPr>
          <p:spPr>
            <a:xfrm>
              <a:off x="7343640" y="2781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7632360" y="3439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79360" y="303120"/>
            <a:ext cx="34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5  IT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st and presen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53960"/>
            <a:ext cx="914400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teacher led activity aims to get the children to change the morpheme for present and past tense at the end of regular verb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difficulties of this task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at the present tense doesn’t necessarily mean “now” but usually means something that we do often or regularl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at sometimes they take the ‘ed’ out of the past tense, and sometimes they just take the ‘d’ out, before writing the ‘s’ for the present ten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equired verb always appears in one form on each slid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He skates well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child’s task is to write the verb in the other for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Yesterday he……. badly’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next slide is the answer sheet for each child to complete as they watch the IT presentation. These should be printed and distributed to the children before you st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pencil appears on the initial slides. This is the cue for the children to write their ans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They then receive feedback on the scre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re is also 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eek 5 IT 15 Workbook’ for the children to complete. Once it has been checked for correctness it can be kept by the child as a reference bo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5280" y="33336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6. Zak …………..   the palm tree carefu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5300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year Zak climbed the palm tr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191040" y="1413000"/>
            <a:ext cx="2317680" cy="3456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11280" y="260280"/>
            <a:ext cx="167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lim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588000" y="2205000"/>
            <a:ext cx="1800000" cy="1800360"/>
            <a:chOff x="6588000" y="2205000"/>
            <a:chExt cx="1800000" cy="1800360"/>
          </a:xfrm>
        </p:grpSpPr>
        <p:sp>
          <p:nvSpPr>
            <p:cNvPr id="188" name=""/>
            <p:cNvSpPr/>
            <p:nvPr/>
          </p:nvSpPr>
          <p:spPr>
            <a:xfrm>
              <a:off x="6588000" y="2205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6876720" y="2863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549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8366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7. She ………… cards every day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573408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week she played ca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8120" y="2333520"/>
            <a:ext cx="3047760" cy="2190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627280" y="333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l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197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47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8. Max …………… pictures beautifu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5661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week Max painted pictures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762280" y="1528920"/>
            <a:ext cx="3619440" cy="3800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24000" y="549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659640" y="2708280"/>
            <a:ext cx="1800000" cy="1800360"/>
            <a:chOff x="6659640" y="2708280"/>
            <a:chExt cx="1800000" cy="1800360"/>
          </a:xfrm>
        </p:grpSpPr>
        <p:sp>
          <p:nvSpPr>
            <p:cNvPr id="204" name=""/>
            <p:cNvSpPr/>
            <p:nvPr/>
          </p:nvSpPr>
          <p:spPr>
            <a:xfrm>
              <a:off x="6659640" y="270828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6948360" y="336708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42920" y="692280"/>
            <a:ext cx="626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2803320" cy="3519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4762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9. Lisa cleans the house thorough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566100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esterday Lisa ……………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house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4360" y="5661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lea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77080" y="3284640"/>
            <a:ext cx="1800000" cy="1799640"/>
            <a:chOff x="6877080" y="3284640"/>
            <a:chExt cx="1800000" cy="1799640"/>
          </a:xfrm>
        </p:grpSpPr>
        <p:sp>
          <p:nvSpPr>
            <p:cNvPr id="212" name=""/>
            <p:cNvSpPr/>
            <p:nvPr/>
          </p:nvSpPr>
          <p:spPr>
            <a:xfrm>
              <a:off x="6877080" y="3284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7165800" y="3943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2716200" cy="2913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332000" y="476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0. Granny cooks spaghet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55166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Last week granny ………....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paghetti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79840" y="544500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o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219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43280" y="2878200"/>
            <a:ext cx="3600360" cy="2219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80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907920"/>
          <a:ext cx="8229600" cy="594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4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 Yesterday he 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She 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Yesterday……………………………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Yesterday ………………………………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He ………………………………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Sh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……………………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…………………………………………...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…………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 …………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………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1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 ……………………………………………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 ……………………………………………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 …………………………………………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 …………………………………………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 …………………………………………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. ……………………………………………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. ……………………………………………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. ……………………………………………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. ………………………………………………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. …………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6093000"/>
            <a:ext cx="1297080" cy="564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6019920"/>
            <a:ext cx="100800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340000" y="189000"/>
            <a:ext cx="574560" cy="64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867280" y="189000"/>
            <a:ext cx="79236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1600" y="44280"/>
            <a:ext cx="205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760" y="44280"/>
            <a:ext cx="262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5 IT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Past and present t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Complete the sent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64320" y="4428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68680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for th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8160" y="568476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808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Past and Presen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22760" y="2906640"/>
            <a:ext cx="169848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87280" y="692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1. He skates w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87700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esterday he ………………… bad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361960" cy="303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95640" y="5823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k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77080" y="3357720"/>
            <a:ext cx="1674720" cy="1715760"/>
            <a:chOff x="6877080" y="3357720"/>
            <a:chExt cx="1674720" cy="1715760"/>
          </a:xfrm>
        </p:grpSpPr>
        <p:sp>
          <p:nvSpPr>
            <p:cNvPr id="62" name=""/>
            <p:cNvSpPr/>
            <p:nvPr/>
          </p:nvSpPr>
          <p:spPr>
            <a:xfrm>
              <a:off x="6877080" y="3357720"/>
              <a:ext cx="1674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7093080" y="4076640"/>
              <a:ext cx="944280" cy="99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29408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692280"/>
            <a:ext cx="71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. She ………… her dad happi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5300640"/>
            <a:ext cx="770400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st Saturday she helped              her 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600360" cy="2746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80000" y="544500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62064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el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71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16000" y="765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3. He opens the door quick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22936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esterday he …………….           the do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6912000" cy="2827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211640" y="4941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5229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pe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948360" y="4437000"/>
            <a:ext cx="1800000" cy="1800360"/>
            <a:chOff x="6948360" y="4437000"/>
            <a:chExt cx="1800000" cy="1800360"/>
          </a:xfrm>
        </p:grpSpPr>
        <p:sp>
          <p:nvSpPr>
            <p:cNvPr id="80" name=""/>
            <p:cNvSpPr/>
            <p:nvPr/>
          </p:nvSpPr>
          <p:spPr>
            <a:xfrm>
              <a:off x="6948360" y="4437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7237080" y="5095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62064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4. He walks to school every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537372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esterday he ……………….  to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3933720"/>
            <a:ext cx="1297080" cy="1136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2852640" cy="388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0" y="609300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5300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al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89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620640"/>
            <a:ext cx="871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5. He …………….. the windows careful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5373720"/>
            <a:ext cx="8245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"/>
              </a:rPr>
              <a:t>Yesterday he cleaned my window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022560" cy="3384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35280" y="549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l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96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3:18:11Z</dcterms:created>
  <dc:creator>Psychology</dc:creator>
  <dc:description/>
  <dc:language>en-US</dc:language>
  <cp:lastModifiedBy>dannyb</cp:lastModifiedBy>
  <dcterms:modified xsi:type="dcterms:W3CDTF">2008-11-28T16:55:57Z</dcterms:modified>
  <cp:revision>86</cp:revision>
  <dc:subject/>
  <dc:title>Slide 1</dc:title>
</cp:coreProperties>
</file>