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EA2-9CB2-4922-B670-70DA30C4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F6C-30ED-4304-8FE7-9B29E63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CB7-6168-4528-846E-811E741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C08-16D4-4A0A-8DD7-88555A84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00D-A24D-41EC-84AB-3F80066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99E-FA4A-4DFB-A702-C3BB921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742-0AD9-4697-B061-A0D9B41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F55-B3AC-4155-A2CE-2F1E0487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264-B706-4B1F-84FB-1CCF0F8B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4AE-45FF-4BC4-9F38-B4588D36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CE5-09DB-4DF3-A921-F829116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530-8C55-4892-B38B-B92EE38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2A3F-F560-4525-B5C4-AC0354D9B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" Target="slide14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wmf"/><Relationship Id="rId3" Type="http://schemas.openxmlformats.org/officeDocument/2006/relationships/slide" Target="slide17.xml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slide" Target="slide20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slide" Target="slide23.xml"/><Relationship Id="rId4" Type="http://schemas.openxmlformats.org/officeDocument/2006/relationships/image" Target="../media/image1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" Target="slide26.xml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wmf"/><Relationship Id="rId3" Type="http://schemas.openxmlformats.org/officeDocument/2006/relationships/slide" Target="slide29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" Target="slide32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" Target="slide8.xml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476280"/>
            <a:ext cx="539928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13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st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and Present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Verbs Game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329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Julie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open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08464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o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1148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open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684000" cy="722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08720" y="551664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sp>
          <p:nvSpPr>
            <p:cNvPr id="152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203640" y="2276640"/>
              <a:ext cx="13888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grpSp>
          <p:nvGrpSpPr>
            <p:cNvPr id="159" name=""/>
            <p:cNvGrpSpPr/>
            <p:nvPr/>
          </p:nvGrpSpPr>
          <p:grpSpPr>
            <a:xfrm>
              <a:off x="3059280" y="2205000"/>
              <a:ext cx="3025440" cy="1992960"/>
              <a:chOff x="3059280" y="2205000"/>
              <a:chExt cx="3025440" cy="1992960"/>
            </a:xfrm>
          </p:grpSpPr>
          <p:sp>
            <p:nvSpPr>
              <p:cNvPr id="160" name=""/>
              <p:cNvSpPr/>
              <p:nvPr/>
            </p:nvSpPr>
            <p:spPr>
              <a:xfrm>
                <a:off x="3203640" y="22050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3280" y="2205000"/>
                <a:ext cx="136872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276640"/>
                <a:ext cx="138888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3059280" y="38606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0" y="38606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643280" y="2924280"/>
              <a:ext cx="136872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948360" y="2205000"/>
            <a:ext cx="1800000" cy="1800360"/>
            <a:chOff x="6948360" y="2205000"/>
            <a:chExt cx="1800000" cy="1800360"/>
          </a:xfrm>
        </p:grpSpPr>
        <p:sp>
          <p:nvSpPr>
            <p:cNvPr id="167" name=""/>
            <p:cNvSpPr/>
            <p:nvPr/>
          </p:nvSpPr>
          <p:spPr>
            <a:xfrm>
              <a:off x="694836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723708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6588000" y="630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72360" y="6093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189080" y="5516640"/>
            <a:ext cx="2232000" cy="720720"/>
          </a:xfrm>
          <a:custGeom>
            <a:avLst/>
            <a:gdLst>
              <a:gd name="textAreaLeft" fmla="*/ 46440 w 2232000"/>
              <a:gd name="textAreaRight" fmla="*/ 2185560 w 22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6870" h="21600">
                <a:moveTo>
                  <a:pt x="0" y="0"/>
                </a:moveTo>
                <a:lnTo>
                  <a:pt x="66870" y="0"/>
                </a:lnTo>
                <a:lnTo>
                  <a:pt x="66870" y="21600"/>
                </a:lnTo>
                <a:lnTo>
                  <a:pt x="0" y="21600"/>
                </a:lnTo>
                <a:close/>
              </a:path>
              <a:path fill="lightenLess" w="66870" h="21600">
                <a:moveTo>
                  <a:pt x="0" y="0"/>
                </a:moveTo>
                <a:lnTo>
                  <a:pt x="66870" y="0"/>
                </a:lnTo>
                <a:lnTo>
                  <a:pt x="65470" y="1400"/>
                </a:lnTo>
                <a:lnTo>
                  <a:pt x="1400" y="1400"/>
                </a:lnTo>
                <a:close/>
              </a:path>
              <a:path fill="darken" w="66870" h="21600">
                <a:moveTo>
                  <a:pt x="66870" y="0"/>
                </a:moveTo>
                <a:lnTo>
                  <a:pt x="66870" y="21600"/>
                </a:lnTo>
                <a:lnTo>
                  <a:pt x="65470" y="20200"/>
                </a:lnTo>
                <a:lnTo>
                  <a:pt x="65470" y="1400"/>
                </a:lnTo>
                <a:close/>
              </a:path>
              <a:path fill="darkenLess" w="66870" h="21600">
                <a:moveTo>
                  <a:pt x="66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70" y="20200"/>
                </a:lnTo>
                <a:close/>
              </a:path>
              <a:path fill="lighten" w="66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70" h="21600">
                <a:moveTo>
                  <a:pt x="26429" y="3794"/>
                </a:moveTo>
                <a:lnTo>
                  <a:pt x="40442" y="10800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Ivan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4724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4920" y="2421000"/>
            <a:ext cx="3025440" cy="1992960"/>
            <a:chOff x="3274920" y="2421000"/>
            <a:chExt cx="3025440" cy="1992960"/>
          </a:xfrm>
        </p:grpSpPr>
        <p:sp>
          <p:nvSpPr>
            <p:cNvPr id="175" name=""/>
            <p:cNvSpPr/>
            <p:nvPr/>
          </p:nvSpPr>
          <p:spPr>
            <a:xfrm>
              <a:off x="3419280" y="2421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58920" y="2421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4920" y="4076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7640" y="4076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3492360" y="2492640"/>
              <a:ext cx="1181160" cy="12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4859280" y="3139920"/>
            <a:ext cx="136836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5364000" y="5589720"/>
            <a:ext cx="2159280" cy="684000"/>
          </a:xfrm>
          <a:custGeom>
            <a:avLst/>
            <a:gdLst>
              <a:gd name="textAreaLeft" fmla="*/ 44280 w 2159280"/>
              <a:gd name="textAreaRight" fmla="*/ 2115000 w 215928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68163" h="21600">
                <a:moveTo>
                  <a:pt x="0" y="0"/>
                </a:moveTo>
                <a:lnTo>
                  <a:pt x="68163" y="0"/>
                </a:lnTo>
                <a:lnTo>
                  <a:pt x="68163" y="21600"/>
                </a:lnTo>
                <a:lnTo>
                  <a:pt x="0" y="21600"/>
                </a:lnTo>
                <a:close/>
              </a:path>
              <a:path fill="lightenLess" w="68163" h="21600">
                <a:moveTo>
                  <a:pt x="0" y="0"/>
                </a:moveTo>
                <a:lnTo>
                  <a:pt x="68163" y="0"/>
                </a:lnTo>
                <a:lnTo>
                  <a:pt x="66763" y="1400"/>
                </a:lnTo>
                <a:lnTo>
                  <a:pt x="1400" y="1400"/>
                </a:lnTo>
                <a:close/>
              </a:path>
              <a:path fill="darken" w="68163" h="21600">
                <a:moveTo>
                  <a:pt x="68163" y="0"/>
                </a:moveTo>
                <a:lnTo>
                  <a:pt x="68163" y="21600"/>
                </a:lnTo>
                <a:lnTo>
                  <a:pt x="66763" y="20200"/>
                </a:lnTo>
                <a:lnTo>
                  <a:pt x="66763" y="1400"/>
                </a:lnTo>
                <a:close/>
              </a:path>
              <a:path fill="darkenLess" w="68163" h="21600">
                <a:moveTo>
                  <a:pt x="68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63" y="20200"/>
                </a:lnTo>
                <a:close/>
              </a:path>
              <a:path fill="lighten" w="68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163" h="21600">
                <a:moveTo>
                  <a:pt x="27075" y="3794"/>
                </a:moveTo>
                <a:lnTo>
                  <a:pt x="41088" y="10800"/>
                </a:lnTo>
                <a:lnTo>
                  <a:pt x="27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47973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l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Last week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Ivan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walk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l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27640" y="4221000"/>
            <a:ext cx="4465080" cy="1487160"/>
            <a:chOff x="4427640" y="4221000"/>
            <a:chExt cx="4465080" cy="1487160"/>
          </a:xfrm>
        </p:grpSpPr>
        <p:sp>
          <p:nvSpPr>
            <p:cNvPr id="186" name=""/>
            <p:cNvSpPr/>
            <p:nvPr/>
          </p:nvSpPr>
          <p:spPr>
            <a:xfrm>
              <a:off x="4427640" y="5309280"/>
              <a:ext cx="44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6213600" y="4221000"/>
              <a:ext cx="63324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sp>
          <p:nvSpPr>
            <p:cNvPr id="189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3276720" y="2276640"/>
              <a:ext cx="1181160" cy="12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6516720" y="6237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8172360" y="6165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948360" y="2421000"/>
            <a:ext cx="1800000" cy="1799640"/>
            <a:chOff x="6948360" y="2421000"/>
            <a:chExt cx="1800000" cy="1799640"/>
          </a:xfrm>
        </p:grpSpPr>
        <p:sp>
          <p:nvSpPr>
            <p:cNvPr id="198" name=""/>
            <p:cNvSpPr/>
            <p:nvPr/>
          </p:nvSpPr>
          <p:spPr>
            <a:xfrm>
              <a:off x="6948360" y="2421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237080" y="3079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291520" y="765000"/>
            <a:ext cx="5284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Ivan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walk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518796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l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56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03640" y="2205000"/>
            <a:ext cx="1368360" cy="151128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ast (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1181160" cy="12906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4356000" y="5187960"/>
            <a:ext cx="4248000" cy="764280"/>
            <a:chOff x="4356000" y="5187960"/>
            <a:chExt cx="4248000" cy="764280"/>
          </a:xfrm>
        </p:grpSpPr>
        <p:sp>
          <p:nvSpPr>
            <p:cNvPr id="210" name=""/>
            <p:cNvSpPr/>
            <p:nvPr/>
          </p:nvSpPr>
          <p:spPr>
            <a:xfrm>
              <a:off x="4356000" y="5187960"/>
              <a:ext cx="42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wal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08360" y="561996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20000" y="2637000"/>
            <a:ext cx="1800000" cy="1799640"/>
            <a:chOff x="7020000" y="2637000"/>
            <a:chExt cx="1800000" cy="1799640"/>
          </a:xfrm>
        </p:grpSpPr>
        <p:sp>
          <p:nvSpPr>
            <p:cNvPr id="214" name=""/>
            <p:cNvSpPr/>
            <p:nvPr/>
          </p:nvSpPr>
          <p:spPr>
            <a:xfrm>
              <a:off x="7020000" y="2637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7308720" y="3295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6516720" y="6237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6165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5292720" y="5300640"/>
            <a:ext cx="2158920" cy="611280"/>
          </a:xfrm>
          <a:custGeom>
            <a:avLst/>
            <a:gdLst>
              <a:gd name="textAreaLeft" fmla="*/ 39600 w 2158920"/>
              <a:gd name="textAreaRight" fmla="*/ 2119320 w 2158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6255" h="21600">
                <a:moveTo>
                  <a:pt x="0" y="0"/>
                </a:moveTo>
                <a:lnTo>
                  <a:pt x="76255" y="0"/>
                </a:lnTo>
                <a:lnTo>
                  <a:pt x="76255" y="21600"/>
                </a:lnTo>
                <a:lnTo>
                  <a:pt x="0" y="21600"/>
                </a:lnTo>
                <a:close/>
              </a:path>
              <a:path fill="lightenLess" w="76255" h="21600">
                <a:moveTo>
                  <a:pt x="0" y="0"/>
                </a:moveTo>
                <a:lnTo>
                  <a:pt x="76255" y="0"/>
                </a:lnTo>
                <a:lnTo>
                  <a:pt x="74855" y="1400"/>
                </a:lnTo>
                <a:lnTo>
                  <a:pt x="1400" y="1400"/>
                </a:lnTo>
                <a:close/>
              </a:path>
              <a:path fill="darken" w="76255" h="21600">
                <a:moveTo>
                  <a:pt x="76255" y="0"/>
                </a:moveTo>
                <a:lnTo>
                  <a:pt x="76255" y="21600"/>
                </a:lnTo>
                <a:lnTo>
                  <a:pt x="74855" y="20200"/>
                </a:lnTo>
                <a:lnTo>
                  <a:pt x="74855" y="1400"/>
                </a:lnTo>
                <a:close/>
              </a:path>
              <a:path fill="darkenLess" w="76255" h="21600">
                <a:moveTo>
                  <a:pt x="76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55" y="20200"/>
                </a:lnTo>
                <a:close/>
              </a:path>
              <a:path fill="lighten" w="76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255" h="21600">
                <a:moveTo>
                  <a:pt x="31121" y="3794"/>
                </a:moveTo>
                <a:lnTo>
                  <a:pt x="45134" y="10800"/>
                </a:lnTo>
                <a:lnTo>
                  <a:pt x="311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1692360" y="5300640"/>
            <a:ext cx="2158920" cy="611280"/>
          </a:xfrm>
          <a:custGeom>
            <a:avLst/>
            <a:gdLst>
              <a:gd name="textAreaLeft" fmla="*/ 39600 w 2158920"/>
              <a:gd name="textAreaRight" fmla="*/ 2119320 w 2158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6255" h="21600">
                <a:moveTo>
                  <a:pt x="0" y="0"/>
                </a:moveTo>
                <a:lnTo>
                  <a:pt x="76255" y="0"/>
                </a:lnTo>
                <a:lnTo>
                  <a:pt x="76255" y="21600"/>
                </a:lnTo>
                <a:lnTo>
                  <a:pt x="0" y="21600"/>
                </a:lnTo>
                <a:close/>
              </a:path>
              <a:path fill="lightenLess" w="76255" h="21600">
                <a:moveTo>
                  <a:pt x="0" y="0"/>
                </a:moveTo>
                <a:lnTo>
                  <a:pt x="76255" y="0"/>
                </a:lnTo>
                <a:lnTo>
                  <a:pt x="74855" y="1400"/>
                </a:lnTo>
                <a:lnTo>
                  <a:pt x="1400" y="1400"/>
                </a:lnTo>
                <a:close/>
              </a:path>
              <a:path fill="darken" w="76255" h="21600">
                <a:moveTo>
                  <a:pt x="76255" y="0"/>
                </a:moveTo>
                <a:lnTo>
                  <a:pt x="76255" y="21600"/>
                </a:lnTo>
                <a:lnTo>
                  <a:pt x="74855" y="20200"/>
                </a:lnTo>
                <a:lnTo>
                  <a:pt x="74855" y="1400"/>
                </a:lnTo>
                <a:close/>
              </a:path>
              <a:path fill="darkenLess" w="76255" h="21600">
                <a:moveTo>
                  <a:pt x="76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55" y="20200"/>
                </a:lnTo>
                <a:close/>
              </a:path>
              <a:path fill="lighten" w="76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255" h="21600">
                <a:moveTo>
                  <a:pt x="31121" y="3794"/>
                </a:moveTo>
                <a:lnTo>
                  <a:pt x="45134" y="10800"/>
                </a:lnTo>
                <a:lnTo>
                  <a:pt x="311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 _____ the b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46116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a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a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1106640" cy="129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3640" y="2205000"/>
            <a:ext cx="1368360" cy="15112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ast (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arrie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he b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94172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arrie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4437000"/>
            <a:ext cx="4392360" cy="1447560"/>
            <a:chOff x="539640" y="4437000"/>
            <a:chExt cx="4392360" cy="1447560"/>
          </a:xfrm>
        </p:grpSpPr>
        <p:sp>
          <p:nvSpPr>
            <p:cNvPr id="234" name=""/>
            <p:cNvSpPr/>
            <p:nvPr/>
          </p:nvSpPr>
          <p:spPr>
            <a:xfrm>
              <a:off x="539640" y="5485680"/>
              <a:ext cx="43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296440" y="4437000"/>
              <a:ext cx="623160" cy="10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1106640" cy="1295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03640" y="2205000"/>
            <a:ext cx="1368360" cy="15112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ast (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6308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8101080" y="602136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4895" y="3794"/>
                </a:moveTo>
                <a:lnTo>
                  <a:pt x="18908" y="10800"/>
                </a:lnTo>
                <a:lnTo>
                  <a:pt x="48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997360"/>
            <a:ext cx="136836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4716360" y="2276640"/>
              <a:ext cx="11066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3640" y="2997360"/>
              <a:ext cx="136836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020000" y="2637000"/>
            <a:ext cx="1800000" cy="1799640"/>
            <a:chOff x="7020000" y="2637000"/>
            <a:chExt cx="1800000" cy="1799640"/>
          </a:xfrm>
        </p:grpSpPr>
        <p:sp>
          <p:nvSpPr>
            <p:cNvPr id="258" name=""/>
            <p:cNvSpPr/>
            <p:nvPr/>
          </p:nvSpPr>
          <p:spPr>
            <a:xfrm>
              <a:off x="7020000" y="2637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7308720" y="3295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7236000" y="333360"/>
            <a:ext cx="99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arrie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the b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ar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arrie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4716360" y="2276640"/>
              <a:ext cx="11066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03640" y="2997360"/>
              <a:ext cx="136836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20000" y="3068640"/>
            <a:ext cx="1800000" cy="1800360"/>
            <a:chOff x="7020000" y="3068640"/>
            <a:chExt cx="1800000" cy="1800360"/>
          </a:xfrm>
        </p:grpSpPr>
        <p:sp>
          <p:nvSpPr>
            <p:cNvPr id="277" name=""/>
            <p:cNvSpPr/>
            <p:nvPr/>
          </p:nvSpPr>
          <p:spPr>
            <a:xfrm>
              <a:off x="7020000" y="3068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7308720" y="372744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6372360" y="6308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01080" y="6021360"/>
            <a:ext cx="684000" cy="620640"/>
          </a:xfrm>
          <a:custGeom>
            <a:avLst/>
            <a:gdLst>
              <a:gd name="textAreaLeft" fmla="*/ 39960 w 684000"/>
              <a:gd name="textAreaRight" fmla="*/ 644040 w 68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04" h="21600">
                <a:moveTo>
                  <a:pt x="0" y="0"/>
                </a:moveTo>
                <a:lnTo>
                  <a:pt x="23804" y="0"/>
                </a:lnTo>
                <a:lnTo>
                  <a:pt x="23804" y="21600"/>
                </a:lnTo>
                <a:lnTo>
                  <a:pt x="0" y="21600"/>
                </a:lnTo>
                <a:close/>
              </a:path>
              <a:path fill="lightenLess" w="23804" h="21600">
                <a:moveTo>
                  <a:pt x="0" y="0"/>
                </a:moveTo>
                <a:lnTo>
                  <a:pt x="23804" y="0"/>
                </a:lnTo>
                <a:lnTo>
                  <a:pt x="22404" y="1400"/>
                </a:lnTo>
                <a:lnTo>
                  <a:pt x="1400" y="1400"/>
                </a:lnTo>
                <a:close/>
              </a:path>
              <a:path fill="darken" w="23804" h="21600">
                <a:moveTo>
                  <a:pt x="23804" y="0"/>
                </a:moveTo>
                <a:lnTo>
                  <a:pt x="23804" y="21600"/>
                </a:lnTo>
                <a:lnTo>
                  <a:pt x="22404" y="20200"/>
                </a:lnTo>
                <a:lnTo>
                  <a:pt x="22404" y="1400"/>
                </a:lnTo>
                <a:close/>
              </a:path>
              <a:path fill="darkenLess" w="23804" h="21600">
                <a:moveTo>
                  <a:pt x="23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4" y="20200"/>
                </a:lnTo>
                <a:close/>
              </a:path>
              <a:path fill="lighten" w="23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4" h="21600">
                <a:moveTo>
                  <a:pt x="4895" y="3794"/>
                </a:moveTo>
                <a:lnTo>
                  <a:pt x="18908" y="10800"/>
                </a:lnTo>
                <a:lnTo>
                  <a:pt x="48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476360" y="5337000"/>
            <a:ext cx="2232000" cy="540000"/>
          </a:xfrm>
          <a:custGeom>
            <a:avLst/>
            <a:gdLst>
              <a:gd name="textAreaLeft" fmla="*/ 34920 w 2232000"/>
              <a:gd name="textAreaRight" fmla="*/ 2197080 w 2232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89235" h="21600">
                <a:moveTo>
                  <a:pt x="0" y="0"/>
                </a:moveTo>
                <a:lnTo>
                  <a:pt x="89235" y="0"/>
                </a:lnTo>
                <a:lnTo>
                  <a:pt x="89235" y="21600"/>
                </a:lnTo>
                <a:lnTo>
                  <a:pt x="0" y="21600"/>
                </a:lnTo>
                <a:close/>
              </a:path>
              <a:path fill="lightenLess" w="89235" h="21600">
                <a:moveTo>
                  <a:pt x="0" y="0"/>
                </a:moveTo>
                <a:lnTo>
                  <a:pt x="89235" y="0"/>
                </a:lnTo>
                <a:lnTo>
                  <a:pt x="87835" y="1400"/>
                </a:lnTo>
                <a:lnTo>
                  <a:pt x="1400" y="1400"/>
                </a:lnTo>
                <a:close/>
              </a:path>
              <a:path fill="darken" w="89235" h="21600">
                <a:moveTo>
                  <a:pt x="89235" y="0"/>
                </a:moveTo>
                <a:lnTo>
                  <a:pt x="89235" y="21600"/>
                </a:lnTo>
                <a:lnTo>
                  <a:pt x="87835" y="20200"/>
                </a:lnTo>
                <a:lnTo>
                  <a:pt x="87835" y="1400"/>
                </a:lnTo>
                <a:close/>
              </a:path>
              <a:path fill="darkenLess" w="89235" h="21600">
                <a:moveTo>
                  <a:pt x="89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835" y="20200"/>
                </a:lnTo>
                <a:close/>
              </a:path>
              <a:path fill="lighten" w="89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235" h="21600">
                <a:moveTo>
                  <a:pt x="37611" y="3794"/>
                </a:moveTo>
                <a:lnTo>
                  <a:pt x="51624" y="10800"/>
                </a:lnTo>
                <a:lnTo>
                  <a:pt x="376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Ben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46893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ru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1349280" cy="1297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03640" y="2205000"/>
            <a:ext cx="1368360" cy="151128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ast (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219640" y="5410080"/>
            <a:ext cx="2232000" cy="540000"/>
          </a:xfrm>
          <a:custGeom>
            <a:avLst/>
            <a:gdLst>
              <a:gd name="textAreaLeft" fmla="*/ 34920 w 2232000"/>
              <a:gd name="textAreaRight" fmla="*/ 2197080 w 2232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89235" h="21600">
                <a:moveTo>
                  <a:pt x="0" y="0"/>
                </a:moveTo>
                <a:lnTo>
                  <a:pt x="89235" y="0"/>
                </a:lnTo>
                <a:lnTo>
                  <a:pt x="89235" y="21600"/>
                </a:lnTo>
                <a:lnTo>
                  <a:pt x="0" y="21600"/>
                </a:lnTo>
                <a:close/>
              </a:path>
              <a:path fill="lightenLess" w="89235" h="21600">
                <a:moveTo>
                  <a:pt x="0" y="0"/>
                </a:moveTo>
                <a:lnTo>
                  <a:pt x="89235" y="0"/>
                </a:lnTo>
                <a:lnTo>
                  <a:pt x="87835" y="1400"/>
                </a:lnTo>
                <a:lnTo>
                  <a:pt x="1400" y="1400"/>
                </a:lnTo>
                <a:close/>
              </a:path>
              <a:path fill="darken" w="89235" h="21600">
                <a:moveTo>
                  <a:pt x="89235" y="0"/>
                </a:moveTo>
                <a:lnTo>
                  <a:pt x="89235" y="21600"/>
                </a:lnTo>
                <a:lnTo>
                  <a:pt x="87835" y="20200"/>
                </a:lnTo>
                <a:lnTo>
                  <a:pt x="87835" y="1400"/>
                </a:lnTo>
                <a:close/>
              </a:path>
              <a:path fill="darkenLess" w="89235" h="21600">
                <a:moveTo>
                  <a:pt x="89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835" y="20200"/>
                </a:lnTo>
                <a:close/>
              </a:path>
              <a:path fill="lighten" w="89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235" h="21600">
                <a:moveTo>
                  <a:pt x="37611" y="3794"/>
                </a:moveTo>
                <a:lnTo>
                  <a:pt x="51624" y="10800"/>
                </a:lnTo>
                <a:lnTo>
                  <a:pt x="376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11640" y="47624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ru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Ben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brush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4941720"/>
            <a:ext cx="42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rush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995640" y="4653000"/>
            <a:ext cx="3960720" cy="1046520"/>
            <a:chOff x="3995640" y="4653000"/>
            <a:chExt cx="3960720" cy="1046520"/>
          </a:xfrm>
        </p:grpSpPr>
        <p:sp>
          <p:nvSpPr>
            <p:cNvPr id="294" name=""/>
            <p:cNvSpPr/>
            <p:nvPr/>
          </p:nvSpPr>
          <p:spPr>
            <a:xfrm>
              <a:off x="3995640" y="5300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5580000" y="4653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4643280" y="2997360"/>
            <a:ext cx="137016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3203640" y="2349360"/>
              <a:ext cx="13492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516720" y="6308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8172360" y="6093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20000" y="3068640"/>
            <a:ext cx="1800000" cy="1800360"/>
            <a:chOff x="7020000" y="3068640"/>
            <a:chExt cx="1800000" cy="1800360"/>
          </a:xfrm>
        </p:grpSpPr>
        <p:sp>
          <p:nvSpPr>
            <p:cNvPr id="306" name=""/>
            <p:cNvSpPr/>
            <p:nvPr/>
          </p:nvSpPr>
          <p:spPr>
            <a:xfrm>
              <a:off x="7020000" y="3068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7308720" y="372744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7808760" y="1700280"/>
            <a:ext cx="78588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Ben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brush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5157720"/>
            <a:ext cx="42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rush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372360" y="4290840"/>
            <a:ext cx="684000" cy="72252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3203640" y="2349360"/>
              <a:ext cx="13492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500720" y="5084640"/>
            <a:ext cx="4248000" cy="764280"/>
            <a:chOff x="4500720" y="5084640"/>
            <a:chExt cx="4248000" cy="764280"/>
          </a:xfrm>
        </p:grpSpPr>
        <p:sp>
          <p:nvSpPr>
            <p:cNvPr id="320" name=""/>
            <p:cNvSpPr/>
            <p:nvPr/>
          </p:nvSpPr>
          <p:spPr>
            <a:xfrm>
              <a:off x="4500720" y="5084640"/>
              <a:ext cx="42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rush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3080" y="551664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grpSp>
          <p:nvGrpSpPr>
            <p:cNvPr id="323" name=""/>
            <p:cNvGrpSpPr/>
            <p:nvPr/>
          </p:nvGrpSpPr>
          <p:grpSpPr>
            <a:xfrm>
              <a:off x="3059280" y="2205000"/>
              <a:ext cx="3025440" cy="1992960"/>
              <a:chOff x="3059280" y="2205000"/>
              <a:chExt cx="3025440" cy="1992960"/>
            </a:xfrm>
          </p:grpSpPr>
          <p:pic>
            <p:nvPicPr>
              <p:cNvPr id="3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349360"/>
                <a:ext cx="1349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3203640" y="22050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43280" y="2205000"/>
                <a:ext cx="136872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59280" y="38606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72000" y="38606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4643280" y="2924280"/>
              <a:ext cx="136872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48360" y="2349360"/>
            <a:ext cx="1800000" cy="1800360"/>
            <a:chOff x="6948360" y="2349360"/>
            <a:chExt cx="1800000" cy="1800360"/>
          </a:xfrm>
        </p:grpSpPr>
        <p:sp>
          <p:nvSpPr>
            <p:cNvPr id="331" name=""/>
            <p:cNvSpPr/>
            <p:nvPr/>
          </p:nvSpPr>
          <p:spPr>
            <a:xfrm>
              <a:off x="6948360" y="2349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7237080" y="3008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/>
          <p:cNvSpPr/>
          <p:nvPr/>
        </p:nvSpPr>
        <p:spPr>
          <a:xfrm>
            <a:off x="6516720" y="6308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72360" y="6093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000" y="634680"/>
            <a:ext cx="3887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 and Pres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rbs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 IT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684440"/>
            <a:ext cx="828036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help the children differentiate between past and present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’s task is to choose between two written verbs: in present (3rd person singular) or past tense, and to decide whether they are written in the ‘past’ or in the ‘present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two slid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are answer sheets for each child to complete during the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complete each sentence with the correct verb and tick the appropriate column, ‘past’ or ‘present’, on their answer sheets prior to receiving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187280" y="5300640"/>
            <a:ext cx="2232360" cy="611280"/>
          </a:xfrm>
          <a:custGeom>
            <a:avLst/>
            <a:gdLst>
              <a:gd name="textAreaLeft" fmla="*/ 39600 w 2232360"/>
              <a:gd name="textAreaRight" fmla="*/ 2192760 w 2232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8848" h="21600">
                <a:moveTo>
                  <a:pt x="0" y="0"/>
                </a:moveTo>
                <a:lnTo>
                  <a:pt x="78848" y="0"/>
                </a:lnTo>
                <a:lnTo>
                  <a:pt x="78848" y="21600"/>
                </a:lnTo>
                <a:lnTo>
                  <a:pt x="0" y="21600"/>
                </a:lnTo>
                <a:close/>
              </a:path>
              <a:path fill="lightenLess" w="78848" h="21600">
                <a:moveTo>
                  <a:pt x="0" y="0"/>
                </a:moveTo>
                <a:lnTo>
                  <a:pt x="78848" y="0"/>
                </a:lnTo>
                <a:lnTo>
                  <a:pt x="77448" y="1400"/>
                </a:lnTo>
                <a:lnTo>
                  <a:pt x="1400" y="1400"/>
                </a:lnTo>
                <a:close/>
              </a:path>
              <a:path fill="darken" w="78848" h="21600">
                <a:moveTo>
                  <a:pt x="78848" y="0"/>
                </a:moveTo>
                <a:lnTo>
                  <a:pt x="78848" y="21600"/>
                </a:lnTo>
                <a:lnTo>
                  <a:pt x="77448" y="20200"/>
                </a:lnTo>
                <a:lnTo>
                  <a:pt x="77448" y="1400"/>
                </a:lnTo>
                <a:close/>
              </a:path>
              <a:path fill="darkenLess" w="78848" h="21600">
                <a:moveTo>
                  <a:pt x="7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448" y="20200"/>
                </a:lnTo>
                <a:close/>
              </a:path>
              <a:path fill="lighten" w="7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848" h="21600">
                <a:moveTo>
                  <a:pt x="32418" y="3794"/>
                </a:moveTo>
                <a:lnTo>
                  <a:pt x="46431" y="10800"/>
                </a:lnTo>
                <a:lnTo>
                  <a:pt x="324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Mum and Dad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the mountai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800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3203640" y="2205000"/>
              <a:ext cx="1368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43280" y="2924280"/>
              <a:ext cx="136872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5292720" y="5300640"/>
            <a:ext cx="2158920" cy="611280"/>
          </a:xfrm>
          <a:custGeom>
            <a:avLst/>
            <a:gdLst>
              <a:gd name="textAreaLeft" fmla="*/ 39600 w 2158920"/>
              <a:gd name="textAreaRight" fmla="*/ 2119320 w 2158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76255" h="21600">
                <a:moveTo>
                  <a:pt x="0" y="0"/>
                </a:moveTo>
                <a:lnTo>
                  <a:pt x="76255" y="0"/>
                </a:lnTo>
                <a:lnTo>
                  <a:pt x="76255" y="21600"/>
                </a:lnTo>
                <a:lnTo>
                  <a:pt x="0" y="21600"/>
                </a:lnTo>
                <a:close/>
              </a:path>
              <a:path fill="lightenLess" w="76255" h="21600">
                <a:moveTo>
                  <a:pt x="0" y="0"/>
                </a:moveTo>
                <a:lnTo>
                  <a:pt x="76255" y="0"/>
                </a:lnTo>
                <a:lnTo>
                  <a:pt x="74855" y="1400"/>
                </a:lnTo>
                <a:lnTo>
                  <a:pt x="1400" y="1400"/>
                </a:lnTo>
                <a:close/>
              </a:path>
              <a:path fill="darken" w="76255" h="21600">
                <a:moveTo>
                  <a:pt x="76255" y="0"/>
                </a:moveTo>
                <a:lnTo>
                  <a:pt x="76255" y="21600"/>
                </a:lnTo>
                <a:lnTo>
                  <a:pt x="74855" y="20200"/>
                </a:lnTo>
                <a:lnTo>
                  <a:pt x="74855" y="1400"/>
                </a:lnTo>
                <a:close/>
              </a:path>
              <a:path fill="darkenLess" w="76255" h="21600">
                <a:moveTo>
                  <a:pt x="76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855" y="20200"/>
                </a:lnTo>
                <a:close/>
              </a:path>
              <a:path fill="lighten" w="76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255" h="21600">
                <a:moveTo>
                  <a:pt x="31121" y="3794"/>
                </a:moveTo>
                <a:lnTo>
                  <a:pt x="45134" y="10800"/>
                </a:lnTo>
                <a:lnTo>
                  <a:pt x="311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11640" y="465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Mum and Dad climb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the mountai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6560" y="4941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limb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932360" y="4653000"/>
            <a:ext cx="3960720" cy="1046520"/>
            <a:chOff x="4932360" y="4653000"/>
            <a:chExt cx="3960720" cy="1046520"/>
          </a:xfrm>
        </p:grpSpPr>
        <p:sp>
          <p:nvSpPr>
            <p:cNvPr id="350" name=""/>
            <p:cNvSpPr/>
            <p:nvPr/>
          </p:nvSpPr>
          <p:spPr>
            <a:xfrm>
              <a:off x="4932360" y="53006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6516720" y="465300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1368360" cy="1511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203640" y="2205000"/>
            <a:ext cx="1368360" cy="151128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3280" y="2205000"/>
            <a:ext cx="1368720" cy="151128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ast (bef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resent (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4364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3" action="ppaction://hlinksldjump"/>
          </p:cNvPr>
          <p:cNvSpPr/>
          <p:nvPr/>
        </p:nvSpPr>
        <p:spPr>
          <a:xfrm>
            <a:off x="8172360" y="602136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3794"/>
                </a:moveTo>
                <a:lnTo>
                  <a:pt x="18794" y="10800"/>
                </a:lnTo>
                <a:lnTo>
                  <a:pt x="47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361" name="" descr=""/>
            <p:cNvPicPr/>
            <p:nvPr/>
          </p:nvPicPr>
          <p:blipFill>
            <a:blip r:embed="rId4"/>
            <a:stretch/>
          </p:blipFill>
          <p:spPr>
            <a:xfrm>
              <a:off x="3203640" y="2205000"/>
              <a:ext cx="1368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43280" y="2924280"/>
              <a:ext cx="136872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948360" y="2349360"/>
            <a:ext cx="1800000" cy="1800360"/>
            <a:chOff x="6948360" y="2349360"/>
            <a:chExt cx="1800000" cy="1800360"/>
          </a:xfrm>
        </p:grpSpPr>
        <p:sp>
          <p:nvSpPr>
            <p:cNvPr id="368" name=""/>
            <p:cNvSpPr/>
            <p:nvPr/>
          </p:nvSpPr>
          <p:spPr>
            <a:xfrm>
              <a:off x="6948360" y="234936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5"/>
            <a:stretch/>
          </p:blipFill>
          <p:spPr>
            <a:xfrm>
              <a:off x="7237080" y="300816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156360" y="1268280"/>
            <a:ext cx="7160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Mum and Dad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climb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the mountain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li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limb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3203640" y="2205000"/>
              <a:ext cx="1368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3280" y="2924280"/>
              <a:ext cx="136872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877080" y="2133720"/>
            <a:ext cx="1800000" cy="1799640"/>
            <a:chOff x="6877080" y="2133720"/>
            <a:chExt cx="1800000" cy="1799640"/>
          </a:xfrm>
        </p:grpSpPr>
        <p:sp>
          <p:nvSpPr>
            <p:cNvPr id="384" name=""/>
            <p:cNvSpPr/>
            <p:nvPr/>
          </p:nvSpPr>
          <p:spPr>
            <a:xfrm>
              <a:off x="6877080" y="213372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3"/>
            <a:stretch/>
          </p:blipFill>
          <p:spPr>
            <a:xfrm>
              <a:off x="7165800" y="279216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/>
          <p:cNvSpPr/>
          <p:nvPr/>
        </p:nvSpPr>
        <p:spPr>
          <a:xfrm>
            <a:off x="6443640" y="6237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172360" y="602136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3794"/>
                </a:moveTo>
                <a:lnTo>
                  <a:pt x="18794" y="10800"/>
                </a:lnTo>
                <a:lnTo>
                  <a:pt x="47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5508720" y="5300640"/>
            <a:ext cx="1871640" cy="611280"/>
          </a:xfrm>
          <a:custGeom>
            <a:avLst/>
            <a:gdLst>
              <a:gd name="textAreaLeft" fmla="*/ 39600 w 1871640"/>
              <a:gd name="textAreaRight" fmla="*/ 1832040 w 1871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6109" h="21600">
                <a:moveTo>
                  <a:pt x="0" y="0"/>
                </a:moveTo>
                <a:lnTo>
                  <a:pt x="66109" y="0"/>
                </a:lnTo>
                <a:lnTo>
                  <a:pt x="66109" y="21600"/>
                </a:lnTo>
                <a:lnTo>
                  <a:pt x="0" y="21600"/>
                </a:lnTo>
                <a:close/>
              </a:path>
              <a:path fill="lightenLess" w="66109" h="21600">
                <a:moveTo>
                  <a:pt x="0" y="0"/>
                </a:moveTo>
                <a:lnTo>
                  <a:pt x="66109" y="0"/>
                </a:lnTo>
                <a:lnTo>
                  <a:pt x="64709" y="1400"/>
                </a:lnTo>
                <a:lnTo>
                  <a:pt x="1400" y="1400"/>
                </a:lnTo>
                <a:close/>
              </a:path>
              <a:path fill="darken" w="66109" h="21600">
                <a:moveTo>
                  <a:pt x="66109" y="0"/>
                </a:moveTo>
                <a:lnTo>
                  <a:pt x="66109" y="21600"/>
                </a:lnTo>
                <a:lnTo>
                  <a:pt x="64709" y="20200"/>
                </a:lnTo>
                <a:lnTo>
                  <a:pt x="64709" y="1400"/>
                </a:lnTo>
                <a:close/>
              </a:path>
              <a:path fill="darkenLess" w="66109" h="21600">
                <a:moveTo>
                  <a:pt x="66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09" y="20200"/>
                </a:lnTo>
                <a:close/>
              </a:path>
              <a:path fill="lighten" w="66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109" h="21600">
                <a:moveTo>
                  <a:pt x="26048" y="3794"/>
                </a:moveTo>
                <a:lnTo>
                  <a:pt x="40061" y="10800"/>
                </a:lnTo>
                <a:lnTo>
                  <a:pt x="260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1692360" y="5300640"/>
            <a:ext cx="1942920" cy="539640"/>
          </a:xfrm>
          <a:custGeom>
            <a:avLst/>
            <a:gdLst>
              <a:gd name="textAreaLeft" fmla="*/ 34920 w 1942920"/>
              <a:gd name="textAreaRight" fmla="*/ 1908000 w 19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3794"/>
                </a:moveTo>
                <a:lnTo>
                  <a:pt x="45872" y="10800"/>
                </a:lnTo>
                <a:lnTo>
                  <a:pt x="318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 _____ bur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4653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82920" y="465300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59280" y="1989000"/>
            <a:ext cx="3097080" cy="2016720"/>
            <a:chOff x="3059280" y="1989000"/>
            <a:chExt cx="3097080" cy="2016720"/>
          </a:xfrm>
        </p:grpSpPr>
        <p:grpSp>
          <p:nvGrpSpPr>
            <p:cNvPr id="394" name=""/>
            <p:cNvGrpSpPr/>
            <p:nvPr/>
          </p:nvGrpSpPr>
          <p:grpSpPr>
            <a:xfrm>
              <a:off x="3059280" y="1989000"/>
              <a:ext cx="3097080" cy="2016720"/>
              <a:chOff x="3059280" y="1989000"/>
              <a:chExt cx="3097080" cy="2016720"/>
            </a:xfrm>
          </p:grpSpPr>
          <p:sp>
            <p:nvSpPr>
              <p:cNvPr id="395" name=""/>
              <p:cNvSpPr/>
              <p:nvPr/>
            </p:nvSpPr>
            <p:spPr>
              <a:xfrm>
                <a:off x="3132360" y="270792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4364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3236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59280" y="3644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3640" y="3668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4786200" y="2031840"/>
              <a:ext cx="865440" cy="139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oo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ur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ok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8360" y="4508640"/>
            <a:ext cx="3960720" cy="1046520"/>
            <a:chOff x="468360" y="4508640"/>
            <a:chExt cx="3960720" cy="1046520"/>
          </a:xfrm>
        </p:grpSpPr>
        <p:sp>
          <p:nvSpPr>
            <p:cNvPr id="404" name=""/>
            <p:cNvSpPr/>
            <p:nvPr/>
          </p:nvSpPr>
          <p:spPr>
            <a:xfrm>
              <a:off x="468360" y="51562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2052720" y="4508640"/>
              <a:ext cx="56196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3059280" y="1989000"/>
            <a:ext cx="3097080" cy="2016720"/>
            <a:chOff x="3059280" y="1989000"/>
            <a:chExt cx="3097080" cy="2016720"/>
          </a:xfrm>
        </p:grpSpPr>
        <p:sp>
          <p:nvSpPr>
            <p:cNvPr id="407" name=""/>
            <p:cNvSpPr/>
            <p:nvPr/>
          </p:nvSpPr>
          <p:spPr>
            <a:xfrm>
              <a:off x="3132360" y="270792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3640" y="198900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32360" y="198900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59280" y="364464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3640" y="36684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786200" y="2031840"/>
            <a:ext cx="865440" cy="13971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3059280" y="1989000"/>
            <a:ext cx="3097080" cy="2016720"/>
            <a:chOff x="3059280" y="1989000"/>
            <a:chExt cx="3097080" cy="2016720"/>
          </a:xfrm>
        </p:grpSpPr>
        <p:grpSp>
          <p:nvGrpSpPr>
            <p:cNvPr id="414" name=""/>
            <p:cNvGrpSpPr/>
            <p:nvPr/>
          </p:nvGrpSpPr>
          <p:grpSpPr>
            <a:xfrm>
              <a:off x="3059280" y="1989000"/>
              <a:ext cx="3097080" cy="2016720"/>
              <a:chOff x="3059280" y="1989000"/>
              <a:chExt cx="3097080" cy="201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3132360" y="270792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4364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3236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059280" y="3644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43640" y="3668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4786200" y="2031840"/>
              <a:ext cx="86544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6373800" y="6237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8101080" y="6165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424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5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7020000" y="260280"/>
            <a:ext cx="92232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cook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bur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o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o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59280" y="1989000"/>
            <a:ext cx="3097080" cy="2016720"/>
            <a:chOff x="3059280" y="1989000"/>
            <a:chExt cx="3097080" cy="2016720"/>
          </a:xfrm>
        </p:grpSpPr>
        <p:grpSp>
          <p:nvGrpSpPr>
            <p:cNvPr id="433" name=""/>
            <p:cNvGrpSpPr/>
            <p:nvPr/>
          </p:nvGrpSpPr>
          <p:grpSpPr>
            <a:xfrm>
              <a:off x="3059280" y="1989000"/>
              <a:ext cx="3097080" cy="2016720"/>
              <a:chOff x="3059280" y="1989000"/>
              <a:chExt cx="3097080" cy="2016720"/>
            </a:xfrm>
          </p:grpSpPr>
          <p:sp>
            <p:nvSpPr>
              <p:cNvPr id="434" name=""/>
              <p:cNvSpPr/>
              <p:nvPr/>
            </p:nvSpPr>
            <p:spPr>
              <a:xfrm>
                <a:off x="3132360" y="2707920"/>
                <a:ext cx="144144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4364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32360" y="1989000"/>
                <a:ext cx="1368360" cy="144144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59280" y="3644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43640" y="36684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4786200" y="2031840"/>
              <a:ext cx="86544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6373800" y="62373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01080" y="6165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443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c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508720" y="5300640"/>
            <a:ext cx="1871640" cy="611280"/>
          </a:xfrm>
          <a:custGeom>
            <a:avLst/>
            <a:gdLst>
              <a:gd name="textAreaLeft" fmla="*/ 39600 w 1871640"/>
              <a:gd name="textAreaRight" fmla="*/ 1832040 w 1871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6109" h="21600">
                <a:moveTo>
                  <a:pt x="0" y="0"/>
                </a:moveTo>
                <a:lnTo>
                  <a:pt x="66109" y="0"/>
                </a:lnTo>
                <a:lnTo>
                  <a:pt x="66109" y="21600"/>
                </a:lnTo>
                <a:lnTo>
                  <a:pt x="0" y="21600"/>
                </a:lnTo>
                <a:close/>
              </a:path>
              <a:path fill="lightenLess" w="66109" h="21600">
                <a:moveTo>
                  <a:pt x="0" y="0"/>
                </a:moveTo>
                <a:lnTo>
                  <a:pt x="66109" y="0"/>
                </a:lnTo>
                <a:lnTo>
                  <a:pt x="64709" y="1400"/>
                </a:lnTo>
                <a:lnTo>
                  <a:pt x="1400" y="1400"/>
                </a:lnTo>
                <a:close/>
              </a:path>
              <a:path fill="darken" w="66109" h="21600">
                <a:moveTo>
                  <a:pt x="66109" y="0"/>
                </a:moveTo>
                <a:lnTo>
                  <a:pt x="66109" y="21600"/>
                </a:lnTo>
                <a:lnTo>
                  <a:pt x="64709" y="20200"/>
                </a:lnTo>
                <a:lnTo>
                  <a:pt x="64709" y="1400"/>
                </a:lnTo>
                <a:close/>
              </a:path>
              <a:path fill="darkenLess" w="66109" h="21600">
                <a:moveTo>
                  <a:pt x="66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09" y="20200"/>
                </a:lnTo>
                <a:close/>
              </a:path>
              <a:path fill="lighten" w="66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109" h="21600">
                <a:moveTo>
                  <a:pt x="26048" y="3794"/>
                </a:moveTo>
                <a:lnTo>
                  <a:pt x="40061" y="10800"/>
                </a:lnTo>
                <a:lnTo>
                  <a:pt x="260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1763640" y="5300640"/>
            <a:ext cx="1835280" cy="611280"/>
          </a:xfrm>
          <a:custGeom>
            <a:avLst/>
            <a:gdLst>
              <a:gd name="textAreaLeft" fmla="*/ 39600 w 1835280"/>
              <a:gd name="textAreaRight" fmla="*/ 1795680 w 1835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4825" h="21600">
                <a:moveTo>
                  <a:pt x="0" y="0"/>
                </a:moveTo>
                <a:lnTo>
                  <a:pt x="64825" y="0"/>
                </a:lnTo>
                <a:lnTo>
                  <a:pt x="64825" y="21600"/>
                </a:lnTo>
                <a:lnTo>
                  <a:pt x="0" y="21600"/>
                </a:lnTo>
                <a:close/>
              </a:path>
              <a:path fill="lightenLess" w="64825" h="21600">
                <a:moveTo>
                  <a:pt x="0" y="0"/>
                </a:moveTo>
                <a:lnTo>
                  <a:pt x="64825" y="0"/>
                </a:lnTo>
                <a:lnTo>
                  <a:pt x="63425" y="1400"/>
                </a:lnTo>
                <a:lnTo>
                  <a:pt x="1400" y="1400"/>
                </a:lnTo>
                <a:close/>
              </a:path>
              <a:path fill="darken" w="64825" h="21600">
                <a:moveTo>
                  <a:pt x="64825" y="0"/>
                </a:moveTo>
                <a:lnTo>
                  <a:pt x="64825" y="21600"/>
                </a:lnTo>
                <a:lnTo>
                  <a:pt x="63425" y="20200"/>
                </a:lnTo>
                <a:lnTo>
                  <a:pt x="63425" y="1400"/>
                </a:lnTo>
                <a:close/>
              </a:path>
              <a:path fill="darkenLess" w="64825" h="21600">
                <a:moveTo>
                  <a:pt x="64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25" y="20200"/>
                </a:lnTo>
                <a:close/>
              </a:path>
              <a:path fill="lighten" w="64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25" h="21600">
                <a:moveTo>
                  <a:pt x="25406" y="3794"/>
                </a:moveTo>
                <a:lnTo>
                  <a:pt x="39419" y="10800"/>
                </a:lnTo>
                <a:lnTo>
                  <a:pt x="254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8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39640" y="4653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ki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k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987640" y="2011320"/>
            <a:ext cx="3025800" cy="1994760"/>
            <a:chOff x="2987640" y="2011320"/>
            <a:chExt cx="3025800" cy="1994760"/>
          </a:xfrm>
        </p:grpSpPr>
        <p:sp>
          <p:nvSpPr>
            <p:cNvPr id="451" name=""/>
            <p:cNvSpPr/>
            <p:nvPr/>
          </p:nvSpPr>
          <p:spPr>
            <a:xfrm>
              <a:off x="3132360" y="201312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0" y="201312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87640" y="36687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00720" y="3668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2360" y="201132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72000" y="201132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87640" y="366732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00720" y="36673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987640" y="2013120"/>
              <a:ext cx="3025800" cy="1992960"/>
              <a:chOff x="2987640" y="2013120"/>
              <a:chExt cx="3025800" cy="1992960"/>
            </a:xfrm>
          </p:grpSpPr>
          <p:sp>
            <p:nvSpPr>
              <p:cNvPr id="460" name=""/>
              <p:cNvSpPr/>
              <p:nvPr/>
            </p:nvSpPr>
            <p:spPr>
              <a:xfrm>
                <a:off x="3132360" y="201312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72000" y="201312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87640" y="36687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00720" y="36687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72000" y="2732400"/>
                <a:ext cx="136836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1300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c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he kick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ball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kic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469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130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2987640" y="2011320"/>
            <a:ext cx="3025800" cy="1994760"/>
            <a:chOff x="2987640" y="2011320"/>
            <a:chExt cx="3025800" cy="1994760"/>
          </a:xfrm>
        </p:grpSpPr>
        <p:sp>
          <p:nvSpPr>
            <p:cNvPr id="473" name=""/>
            <p:cNvSpPr/>
            <p:nvPr/>
          </p:nvSpPr>
          <p:spPr>
            <a:xfrm>
              <a:off x="3132360" y="201312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2000" y="201312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87640" y="36687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0720" y="36687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32360" y="201132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72000" y="201132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87640" y="366732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00720" y="36673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987640" y="2013120"/>
              <a:ext cx="3025800" cy="1992960"/>
              <a:chOff x="2987640" y="2013120"/>
              <a:chExt cx="3025800" cy="1992960"/>
            </a:xfrm>
          </p:grpSpPr>
          <p:sp>
            <p:nvSpPr>
              <p:cNvPr id="482" name=""/>
              <p:cNvSpPr/>
              <p:nvPr/>
            </p:nvSpPr>
            <p:spPr>
              <a:xfrm>
                <a:off x="3132360" y="201312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72000" y="201312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87640" y="36687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00720" y="36687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72000" y="2732400"/>
                <a:ext cx="136836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6516720" y="6308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rId3" action="ppaction://hlinksldjump"/>
          </p:cNvPr>
          <p:cNvSpPr/>
          <p:nvPr/>
        </p:nvSpPr>
        <p:spPr>
          <a:xfrm>
            <a:off x="8172360" y="6165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490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" descr=""/>
          <p:cNvPicPr/>
          <p:nvPr/>
        </p:nvPicPr>
        <p:blipFill>
          <a:blip r:embed="rId5"/>
          <a:stretch/>
        </p:blipFill>
        <p:spPr>
          <a:xfrm>
            <a:off x="8248680" y="765000"/>
            <a:ext cx="7160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c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kick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ball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k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kick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87640" y="2082960"/>
            <a:ext cx="3025800" cy="1994400"/>
            <a:chOff x="2987640" y="2082960"/>
            <a:chExt cx="3025800" cy="199440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3276720" y="2205000"/>
              <a:ext cx="1130040" cy="128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2987640" y="2082960"/>
              <a:ext cx="3025800" cy="1994400"/>
              <a:chOff x="2987640" y="2082960"/>
              <a:chExt cx="3025800" cy="1994400"/>
            </a:xfrm>
          </p:grpSpPr>
          <p:sp>
            <p:nvSpPr>
              <p:cNvPr id="501" name=""/>
              <p:cNvSpPr/>
              <p:nvPr/>
            </p:nvSpPr>
            <p:spPr>
              <a:xfrm>
                <a:off x="3132360" y="208440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72000" y="208440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87640" y="37400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00720" y="37400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32360" y="208296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72000" y="2082960"/>
                <a:ext cx="1368360" cy="151092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87640" y="37386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00720" y="37386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2987640" y="2084400"/>
                <a:ext cx="3025800" cy="1992600"/>
                <a:chOff x="2987640" y="2084400"/>
                <a:chExt cx="3025800" cy="19926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13236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572000" y="2084400"/>
                  <a:ext cx="1368360" cy="151092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987640" y="373968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(before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500720" y="373968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(now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72000" y="2803320"/>
                  <a:ext cx="1368360" cy="0"/>
                </a:xfrm>
                <a:prstGeom prst="line">
                  <a:avLst/>
                </a:prstGeom>
                <a:ln w="1523880">
                  <a:solidFill>
                    <a:srgbClr val="c0c0c0">
                      <a:alpha val="4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"/>
          <p:cNvGrpSpPr/>
          <p:nvPr/>
        </p:nvGrpSpPr>
        <p:grpSpPr>
          <a:xfrm>
            <a:off x="6804000" y="2205000"/>
            <a:ext cx="1800000" cy="1800360"/>
            <a:chOff x="6804000" y="2205000"/>
            <a:chExt cx="1800000" cy="1800360"/>
          </a:xfrm>
        </p:grpSpPr>
        <p:sp>
          <p:nvSpPr>
            <p:cNvPr id="516" name=""/>
            <p:cNvSpPr/>
            <p:nvPr/>
          </p:nvSpPr>
          <p:spPr>
            <a:xfrm>
              <a:off x="680400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709272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>
            <a:off x="6516720" y="6308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72360" y="6165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>
            <a:hlinkClick r:id="rId1" action="ppaction://hlinksldjump"/>
          </p:cNvPr>
          <p:cNvSpPr/>
          <p:nvPr/>
        </p:nvSpPr>
        <p:spPr>
          <a:xfrm>
            <a:off x="1547640" y="5300640"/>
            <a:ext cx="1943280" cy="611280"/>
          </a:xfrm>
          <a:custGeom>
            <a:avLst/>
            <a:gdLst>
              <a:gd name="textAreaLeft" fmla="*/ 39600 w 1943280"/>
              <a:gd name="textAreaRight" fmla="*/ 1903680 w 1943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8639" h="21600">
                <a:moveTo>
                  <a:pt x="0" y="0"/>
                </a:moveTo>
                <a:lnTo>
                  <a:pt x="68639" y="0"/>
                </a:lnTo>
                <a:lnTo>
                  <a:pt x="68639" y="21600"/>
                </a:lnTo>
                <a:lnTo>
                  <a:pt x="0" y="21600"/>
                </a:lnTo>
                <a:close/>
              </a:path>
              <a:path fill="lightenLess" w="68639" h="21600">
                <a:moveTo>
                  <a:pt x="0" y="0"/>
                </a:moveTo>
                <a:lnTo>
                  <a:pt x="68639" y="0"/>
                </a:lnTo>
                <a:lnTo>
                  <a:pt x="67239" y="1400"/>
                </a:lnTo>
                <a:lnTo>
                  <a:pt x="1400" y="1400"/>
                </a:lnTo>
                <a:close/>
              </a:path>
              <a:path fill="darken" w="68639" h="21600">
                <a:moveTo>
                  <a:pt x="68639" y="0"/>
                </a:moveTo>
                <a:lnTo>
                  <a:pt x="68639" y="21600"/>
                </a:lnTo>
                <a:lnTo>
                  <a:pt x="67239" y="20200"/>
                </a:lnTo>
                <a:lnTo>
                  <a:pt x="67239" y="1400"/>
                </a:lnTo>
                <a:close/>
              </a:path>
              <a:path fill="darkenLess" w="68639" h="21600">
                <a:moveTo>
                  <a:pt x="68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39" y="20200"/>
                </a:lnTo>
                <a:close/>
              </a:path>
              <a:path fill="lighten" w="68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639" h="21600">
                <a:moveTo>
                  <a:pt x="27313" y="3794"/>
                </a:moveTo>
                <a:lnTo>
                  <a:pt x="41326" y="10800"/>
                </a:lnTo>
                <a:lnTo>
                  <a:pt x="273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s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" y="4653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987640" y="2349360"/>
            <a:ext cx="3025800" cy="1994760"/>
            <a:chOff x="2987640" y="2349360"/>
            <a:chExt cx="3025800" cy="1994760"/>
          </a:xfrm>
        </p:grpSpPr>
        <p:sp>
          <p:nvSpPr>
            <p:cNvPr id="524" name=""/>
            <p:cNvSpPr/>
            <p:nvPr/>
          </p:nvSpPr>
          <p:spPr>
            <a:xfrm>
              <a:off x="3132360" y="235116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2000" y="235116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87640" y="400680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00720" y="40068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32360" y="234936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2000" y="234936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7640" y="40053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00720" y="40053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987640" y="2351160"/>
              <a:ext cx="3025800" cy="1992960"/>
              <a:chOff x="2987640" y="2351160"/>
              <a:chExt cx="3025800" cy="1992960"/>
            </a:xfrm>
          </p:grpSpPr>
          <p:sp>
            <p:nvSpPr>
              <p:cNvPr id="533" name=""/>
              <p:cNvSpPr/>
              <p:nvPr/>
            </p:nvSpPr>
            <p:spPr>
              <a:xfrm>
                <a:off x="3132360" y="23511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72000" y="23511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87640" y="40068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0720" y="40068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72000" y="3070440"/>
                <a:ext cx="136836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1265040" cy="1363680"/>
          </a:xfrm>
          <a:prstGeom prst="rect">
            <a:avLst/>
          </a:prstGeom>
          <a:ln w="0">
            <a:noFill/>
          </a:ln>
        </p:spPr>
      </p:pic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5364000" y="5300640"/>
            <a:ext cx="1906920" cy="611280"/>
          </a:xfrm>
          <a:custGeom>
            <a:avLst/>
            <a:gdLst>
              <a:gd name="textAreaLeft" fmla="*/ 39600 w 1906920"/>
              <a:gd name="textAreaRight" fmla="*/ 1867320 w 1906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67355" h="21600">
                <a:moveTo>
                  <a:pt x="0" y="0"/>
                </a:moveTo>
                <a:lnTo>
                  <a:pt x="67355" y="0"/>
                </a:lnTo>
                <a:lnTo>
                  <a:pt x="67355" y="21600"/>
                </a:lnTo>
                <a:lnTo>
                  <a:pt x="0" y="21600"/>
                </a:lnTo>
                <a:close/>
              </a:path>
              <a:path fill="lightenLess" w="67355" h="21600">
                <a:moveTo>
                  <a:pt x="0" y="0"/>
                </a:moveTo>
                <a:lnTo>
                  <a:pt x="67355" y="0"/>
                </a:lnTo>
                <a:lnTo>
                  <a:pt x="65955" y="1400"/>
                </a:lnTo>
                <a:lnTo>
                  <a:pt x="1400" y="1400"/>
                </a:lnTo>
                <a:close/>
              </a:path>
              <a:path fill="darken" w="67355" h="21600">
                <a:moveTo>
                  <a:pt x="67355" y="0"/>
                </a:moveTo>
                <a:lnTo>
                  <a:pt x="67355" y="21600"/>
                </a:lnTo>
                <a:lnTo>
                  <a:pt x="65955" y="20200"/>
                </a:lnTo>
                <a:lnTo>
                  <a:pt x="65955" y="1400"/>
                </a:lnTo>
                <a:close/>
              </a:path>
              <a:path fill="darkenLess" w="67355" h="21600">
                <a:moveTo>
                  <a:pt x="67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55" y="20200"/>
                </a:lnTo>
                <a:close/>
              </a:path>
              <a:path fill="lighten" w="67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355" h="21600">
                <a:moveTo>
                  <a:pt x="26671" y="3794"/>
                </a:moveTo>
                <a:lnTo>
                  <a:pt x="40684" y="10800"/>
                </a:lnTo>
                <a:lnTo>
                  <a:pt x="266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1640" y="4653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st and Present 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120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3120" y="1341360"/>
            <a:ext cx="884088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…………… 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......…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eek Julie …………………… her present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eek Ivan ……………………….. home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……………. the bins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esterday Ben …………………. the dog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esterday Mum and Dad ………………………… the mountain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………….. burgers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esterday he ……………………… the ball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esterday she ……………………….. the dog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…………. football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341360"/>
            <a:ext cx="0" cy="551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6560" y="1004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78040" y="10047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13600" y="0"/>
            <a:ext cx="1130400" cy="113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080" y="115920"/>
            <a:ext cx="200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18360" y="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she wash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sh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932360" y="4581360"/>
            <a:ext cx="3960720" cy="1046880"/>
            <a:chOff x="4932360" y="4581360"/>
            <a:chExt cx="3960720" cy="1046880"/>
          </a:xfrm>
        </p:grpSpPr>
        <p:sp>
          <p:nvSpPr>
            <p:cNvPr id="544" name=""/>
            <p:cNvSpPr/>
            <p:nvPr/>
          </p:nvSpPr>
          <p:spPr>
            <a:xfrm>
              <a:off x="4932360" y="522936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6516720" y="4581360"/>
              <a:ext cx="561960" cy="6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1265040" cy="136368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987640" y="2349360"/>
            <a:ext cx="3025800" cy="1994760"/>
            <a:chOff x="2987640" y="2349360"/>
            <a:chExt cx="3025800" cy="1994760"/>
          </a:xfrm>
        </p:grpSpPr>
        <p:sp>
          <p:nvSpPr>
            <p:cNvPr id="548" name=""/>
            <p:cNvSpPr/>
            <p:nvPr/>
          </p:nvSpPr>
          <p:spPr>
            <a:xfrm>
              <a:off x="3132360" y="235116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72000" y="235116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87640" y="400680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00720" y="40068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32360" y="234936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2000" y="2349360"/>
              <a:ext cx="136836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87640" y="40053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00720" y="400536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2987640" y="2351160"/>
              <a:ext cx="3025800" cy="1992960"/>
              <a:chOff x="2987640" y="2351160"/>
              <a:chExt cx="3025800" cy="1992960"/>
            </a:xfrm>
          </p:grpSpPr>
          <p:sp>
            <p:nvSpPr>
              <p:cNvPr id="557" name=""/>
              <p:cNvSpPr/>
              <p:nvPr/>
            </p:nvSpPr>
            <p:spPr>
              <a:xfrm>
                <a:off x="3132360" y="23511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72000" y="235116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87640" y="40068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00720" y="40068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572000" y="3070440"/>
                <a:ext cx="1368360" cy="0"/>
              </a:xfrm>
              <a:prstGeom prst="line">
                <a:avLst/>
              </a:prstGeom>
              <a:ln w="1523880">
                <a:solidFill>
                  <a:srgbClr val="c0c0c0">
                    <a:alpha val="4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8172360" y="609300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516720" y="6237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565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4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8028000" y="1341360"/>
            <a:ext cx="85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Yesterday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 she </a:t>
            </a:r>
            <a:r>
              <a:rPr b="0" lang="en-GB" sz="4300" spc="-1" strike="noStrike" u="sng">
                <a:solidFill>
                  <a:srgbClr val="000000"/>
                </a:solidFill>
                <a:uFillTx/>
                <a:latin typeface="Comic Sans MS"/>
              </a:rPr>
              <a:t>wash</a:t>
            </a:r>
            <a:r>
              <a:rPr b="0" lang="en-GB" sz="43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43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4300" spc="-1" strike="noStrike">
                <a:solidFill>
                  <a:srgbClr val="000000"/>
                </a:solidFill>
                <a:latin typeface="Comic Sans MS"/>
              </a:rPr>
              <a:t>the dog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2200" y="494028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wash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684000" cy="7225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5724360" y="5373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987640" y="1989000"/>
            <a:ext cx="3025800" cy="1994760"/>
            <a:chOff x="2987640" y="1989000"/>
            <a:chExt cx="3025800" cy="199476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3203640" y="2060640"/>
              <a:ext cx="1265040" cy="13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"/>
            <p:cNvGrpSpPr/>
            <p:nvPr/>
          </p:nvGrpSpPr>
          <p:grpSpPr>
            <a:xfrm>
              <a:off x="2987640" y="1989000"/>
              <a:ext cx="3025800" cy="1994760"/>
              <a:chOff x="2987640" y="1989000"/>
              <a:chExt cx="3025800" cy="1994760"/>
            </a:xfrm>
          </p:grpSpPr>
          <p:sp>
            <p:nvSpPr>
              <p:cNvPr id="576" name=""/>
              <p:cNvSpPr/>
              <p:nvPr/>
            </p:nvSpPr>
            <p:spPr>
              <a:xfrm>
                <a:off x="3132360" y="19908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72000" y="19908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87640" y="36464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00720" y="36464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132360" y="19890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f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72000" y="1989000"/>
                <a:ext cx="1368360" cy="1511280"/>
              </a:xfrm>
              <a:prstGeom prst="rect">
                <a:avLst/>
              </a:prstGeom>
              <a:noFill/>
              <a:ln w="507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87640" y="36450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  <a:ea typeface="Arial"/>
                  </a:rPr>
                  <a:t>Past (befor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00720" y="3645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808080"/>
                    </a:solidFill>
                    <a:latin typeface="Comic Sans MS"/>
                    <a:ea typeface="Arial"/>
                  </a:rPr>
                  <a:t>Present (now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2987640" y="1990800"/>
                <a:ext cx="3025800" cy="1992960"/>
                <a:chOff x="2987640" y="1990800"/>
                <a:chExt cx="3025800" cy="1992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132360" y="1990800"/>
                  <a:ext cx="1368360" cy="1511280"/>
                </a:xfrm>
                <a:prstGeom prst="rect">
                  <a:avLst/>
                </a:prstGeom>
                <a:noFill/>
                <a:ln w="50760">
                  <a:solidFill>
                    <a:srgbClr val="f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572000" y="1990800"/>
                  <a:ext cx="1368360" cy="1511280"/>
                </a:xfrm>
                <a:prstGeom prst="rect">
                  <a:avLst/>
                </a:prstGeom>
                <a:noFill/>
                <a:ln w="507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87640" y="3646440"/>
                  <a:ext cx="151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  <a:ea typeface="Arial"/>
                    </a:rPr>
                    <a:t>Past (before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500720" y="3646440"/>
                  <a:ext cx="151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808080"/>
                      </a:solidFill>
                      <a:latin typeface="Comic Sans MS"/>
                      <a:ea typeface="Arial"/>
                    </a:rPr>
                    <a:t>Present (now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572000" y="2710080"/>
                  <a:ext cx="1368360" cy="0"/>
                </a:xfrm>
                <a:prstGeom prst="line">
                  <a:avLst/>
                </a:prstGeom>
                <a:ln w="1523880">
                  <a:solidFill>
                    <a:srgbClr val="c0c0c0">
                      <a:alpha val="4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0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591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"/>
          <p:cNvSpPr/>
          <p:nvPr/>
        </p:nvSpPr>
        <p:spPr>
          <a:xfrm>
            <a:off x="8172360" y="609300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4623"/>
                </a:moveTo>
                <a:lnTo>
                  <a:pt x="17806" y="11629"/>
                </a:lnTo>
                <a:lnTo>
                  <a:pt x="3794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6720" y="6237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1333440" y="5300640"/>
            <a:ext cx="1871640" cy="684360"/>
          </a:xfrm>
          <a:custGeom>
            <a:avLst/>
            <a:gdLst>
              <a:gd name="textAreaLeft" fmla="*/ 44280 w 1871640"/>
              <a:gd name="textAreaRight" fmla="*/ 1827360 w 187164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59054" h="21600">
                <a:moveTo>
                  <a:pt x="0" y="0"/>
                </a:moveTo>
                <a:lnTo>
                  <a:pt x="59054" y="0"/>
                </a:lnTo>
                <a:lnTo>
                  <a:pt x="59054" y="21600"/>
                </a:lnTo>
                <a:lnTo>
                  <a:pt x="0" y="21600"/>
                </a:lnTo>
                <a:close/>
              </a:path>
              <a:path fill="lightenLess" w="59054" h="21600">
                <a:moveTo>
                  <a:pt x="0" y="0"/>
                </a:moveTo>
                <a:lnTo>
                  <a:pt x="59054" y="0"/>
                </a:lnTo>
                <a:lnTo>
                  <a:pt x="57654" y="1400"/>
                </a:lnTo>
                <a:lnTo>
                  <a:pt x="1400" y="1400"/>
                </a:lnTo>
                <a:close/>
              </a:path>
              <a:path fill="darken" w="59054" h="21600">
                <a:moveTo>
                  <a:pt x="59054" y="0"/>
                </a:moveTo>
                <a:lnTo>
                  <a:pt x="59054" y="21600"/>
                </a:lnTo>
                <a:lnTo>
                  <a:pt x="57654" y="20200"/>
                </a:lnTo>
                <a:lnTo>
                  <a:pt x="57654" y="1400"/>
                </a:lnTo>
                <a:close/>
              </a:path>
              <a:path fill="darkenLess" w="59054" h="21600">
                <a:moveTo>
                  <a:pt x="5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54" y="20200"/>
                </a:lnTo>
                <a:close/>
              </a:path>
              <a:path fill="lighten" w="5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54" h="21600">
                <a:moveTo>
                  <a:pt x="22520" y="3794"/>
                </a:moveTo>
                <a:lnTo>
                  <a:pt x="36533" y="10800"/>
                </a:lnTo>
                <a:lnTo>
                  <a:pt x="225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 _____ 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8000" y="4508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035160" y="2133720"/>
            <a:ext cx="3097080" cy="2016720"/>
            <a:chOff x="3035160" y="2133720"/>
            <a:chExt cx="3097080" cy="2016720"/>
          </a:xfrm>
        </p:grpSpPr>
        <p:sp>
          <p:nvSpPr>
            <p:cNvPr id="599" name=""/>
            <p:cNvSpPr/>
            <p:nvPr/>
          </p:nvSpPr>
          <p:spPr>
            <a:xfrm>
              <a:off x="3108240" y="285264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619520" y="213372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08240" y="213372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35160" y="37893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19520" y="38131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643280" y="2209680"/>
            <a:ext cx="1265400" cy="12193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62560" y="5300640"/>
            <a:ext cx="1979640" cy="684360"/>
          </a:xfrm>
          <a:custGeom>
            <a:avLst/>
            <a:gdLst>
              <a:gd name="textAreaLeft" fmla="*/ 44280 w 1979640"/>
              <a:gd name="textAreaRight" fmla="*/ 1935360 w 197964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62461" h="21600">
                <a:moveTo>
                  <a:pt x="0" y="0"/>
                </a:moveTo>
                <a:lnTo>
                  <a:pt x="62461" y="0"/>
                </a:lnTo>
                <a:lnTo>
                  <a:pt x="62461" y="21600"/>
                </a:lnTo>
                <a:lnTo>
                  <a:pt x="0" y="21600"/>
                </a:lnTo>
                <a:close/>
              </a:path>
              <a:path fill="lightenLess" w="62461" h="21600">
                <a:moveTo>
                  <a:pt x="0" y="0"/>
                </a:moveTo>
                <a:lnTo>
                  <a:pt x="62461" y="0"/>
                </a:lnTo>
                <a:lnTo>
                  <a:pt x="61061" y="1400"/>
                </a:lnTo>
                <a:lnTo>
                  <a:pt x="1400" y="1400"/>
                </a:lnTo>
                <a:close/>
              </a:path>
              <a:path fill="darken" w="62461" h="21600">
                <a:moveTo>
                  <a:pt x="62461" y="0"/>
                </a:moveTo>
                <a:lnTo>
                  <a:pt x="62461" y="21600"/>
                </a:lnTo>
                <a:lnTo>
                  <a:pt x="61061" y="20200"/>
                </a:lnTo>
                <a:lnTo>
                  <a:pt x="61061" y="1400"/>
                </a:lnTo>
                <a:close/>
              </a:path>
              <a:path fill="darkenLess" w="62461" h="21600">
                <a:moveTo>
                  <a:pt x="6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61" y="20200"/>
                </a:lnTo>
                <a:close/>
              </a:path>
              <a:path fill="lighten" w="6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461" h="21600">
                <a:moveTo>
                  <a:pt x="24224" y="3794"/>
                </a:moveTo>
                <a:lnTo>
                  <a:pt x="38237" y="10800"/>
                </a:lnTo>
                <a:lnTo>
                  <a:pt x="242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11640" y="4508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lay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lay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42920" y="5624640"/>
            <a:ext cx="3852720" cy="1046520"/>
            <a:chOff x="142920" y="5624640"/>
            <a:chExt cx="3852720" cy="1046520"/>
          </a:xfrm>
        </p:grpSpPr>
        <p:sp>
          <p:nvSpPr>
            <p:cNvPr id="610" name=""/>
            <p:cNvSpPr/>
            <p:nvPr/>
          </p:nvSpPr>
          <p:spPr>
            <a:xfrm>
              <a:off x="142920" y="6272280"/>
              <a:ext cx="38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FANTASTIC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1"/>
            <a:stretch/>
          </p:blipFill>
          <p:spPr>
            <a:xfrm>
              <a:off x="1684080" y="5624640"/>
              <a:ext cx="54648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2" name=""/>
          <p:cNvGrpSpPr/>
          <p:nvPr/>
        </p:nvGrpSpPr>
        <p:grpSpPr>
          <a:xfrm>
            <a:off x="3035160" y="2133720"/>
            <a:ext cx="3097080" cy="2016720"/>
            <a:chOff x="3035160" y="2133720"/>
            <a:chExt cx="3097080" cy="2016720"/>
          </a:xfrm>
        </p:grpSpPr>
        <p:sp>
          <p:nvSpPr>
            <p:cNvPr id="613" name=""/>
            <p:cNvSpPr/>
            <p:nvPr/>
          </p:nvSpPr>
          <p:spPr>
            <a:xfrm>
              <a:off x="3108240" y="285264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19520" y="213372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08240" y="213372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35160" y="378936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9520" y="38131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156360" y="623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lastslide"/>
          </p:cNvPr>
          <p:cNvSpPr/>
          <p:nvPr/>
        </p:nvSpPr>
        <p:spPr>
          <a:xfrm>
            <a:off x="795672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07" h="21600">
                <a:moveTo>
                  <a:pt x="5997" y="3794"/>
                </a:moveTo>
                <a:lnTo>
                  <a:pt x="20010" y="10800"/>
                </a:lnTo>
                <a:lnTo>
                  <a:pt x="5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12654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6804000" y="2276640"/>
            <a:ext cx="1800000" cy="1799640"/>
            <a:chOff x="6804000" y="2276640"/>
            <a:chExt cx="1800000" cy="1799640"/>
          </a:xfrm>
        </p:grpSpPr>
        <p:sp>
          <p:nvSpPr>
            <p:cNvPr id="622" name=""/>
            <p:cNvSpPr/>
            <p:nvPr/>
          </p:nvSpPr>
          <p:spPr>
            <a:xfrm>
              <a:off x="6804000" y="227664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3"/>
            <a:stretch/>
          </p:blipFill>
          <p:spPr>
            <a:xfrm>
              <a:off x="7092720" y="293508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7018200" y="333360"/>
            <a:ext cx="10591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40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play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foo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4941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0" y="49417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p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403280" y="537372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35160" y="2009880"/>
            <a:ext cx="3097080" cy="2016720"/>
            <a:chOff x="3035160" y="2009880"/>
            <a:chExt cx="3097080" cy="2016720"/>
          </a:xfrm>
        </p:grpSpPr>
        <p:sp>
          <p:nvSpPr>
            <p:cNvPr id="631" name=""/>
            <p:cNvSpPr/>
            <p:nvPr/>
          </p:nvSpPr>
          <p:spPr>
            <a:xfrm>
              <a:off x="3108240" y="2728800"/>
              <a:ext cx="1441440" cy="0"/>
            </a:xfrm>
            <a:prstGeom prst="line">
              <a:avLst/>
            </a:prstGeom>
            <a:ln w="1523880">
              <a:solidFill>
                <a:srgbClr val="c0c0c0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19520" y="2009880"/>
              <a:ext cx="1368360" cy="144144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08240" y="2009880"/>
              <a:ext cx="1368360" cy="144144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35160" y="3665520"/>
              <a:ext cx="15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19520" y="36892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77080" y="2205000"/>
            <a:ext cx="1800000" cy="1800360"/>
            <a:chOff x="6877080" y="2205000"/>
            <a:chExt cx="1800000" cy="1800360"/>
          </a:xfrm>
        </p:grpSpPr>
        <p:sp>
          <p:nvSpPr>
            <p:cNvPr id="637" name=""/>
            <p:cNvSpPr/>
            <p:nvPr/>
          </p:nvSpPr>
          <p:spPr>
            <a:xfrm>
              <a:off x="6877080" y="2205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2"/>
            <a:stretch/>
          </p:blipFill>
          <p:spPr>
            <a:xfrm>
              <a:off x="7165800" y="28638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643280" y="2138400"/>
            <a:ext cx="1265400" cy="12193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156360" y="623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lastslide"/>
          </p:cNvPr>
          <p:cNvSpPr/>
          <p:nvPr/>
        </p:nvSpPr>
        <p:spPr>
          <a:xfrm>
            <a:off x="795672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07" h="21600">
                <a:moveTo>
                  <a:pt x="5997" y="3794"/>
                </a:moveTo>
                <a:lnTo>
                  <a:pt x="20010" y="10800"/>
                </a:lnTo>
                <a:lnTo>
                  <a:pt x="5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484360" y="1247760"/>
            <a:ext cx="4103640" cy="4341960"/>
            <a:chOff x="2484360" y="1247760"/>
            <a:chExt cx="4103640" cy="4341960"/>
          </a:xfrm>
        </p:grpSpPr>
        <p:pic>
          <p:nvPicPr>
            <p:cNvPr id="643" name="" descr=""/>
            <p:cNvPicPr/>
            <p:nvPr/>
          </p:nvPicPr>
          <p:blipFill>
            <a:blip r:embed="rId1"/>
            <a:stretch/>
          </p:blipFill>
          <p:spPr>
            <a:xfrm>
              <a:off x="2484360" y="1247760"/>
              <a:ext cx="4103640" cy="23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2"/>
            <a:stretch/>
          </p:blipFill>
          <p:spPr>
            <a:xfrm>
              <a:off x="2627280" y="3695760"/>
              <a:ext cx="3745080" cy="189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830680"/>
            <a:ext cx="86868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680000" cy="183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8000" y="333360"/>
            <a:ext cx="525636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13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Past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and Present</a:t>
            </a:r>
            <a:br>
              <a:rPr sz="2800"/>
            </a:b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Verbs Game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5292720" y="5300640"/>
            <a:ext cx="2158920" cy="792360"/>
          </a:xfrm>
          <a:custGeom>
            <a:avLst/>
            <a:gdLst>
              <a:gd name="textAreaLeft" fmla="*/ 51120 w 2158920"/>
              <a:gd name="textAreaRight" fmla="*/ 2107800 w 2158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58836" h="21600">
                <a:moveTo>
                  <a:pt x="0" y="0"/>
                </a:moveTo>
                <a:lnTo>
                  <a:pt x="58836" y="0"/>
                </a:lnTo>
                <a:lnTo>
                  <a:pt x="58836" y="21600"/>
                </a:lnTo>
                <a:lnTo>
                  <a:pt x="0" y="21600"/>
                </a:lnTo>
                <a:close/>
              </a:path>
              <a:path fill="lightenLess" w="58836" h="21600">
                <a:moveTo>
                  <a:pt x="0" y="0"/>
                </a:moveTo>
                <a:lnTo>
                  <a:pt x="58836" y="0"/>
                </a:lnTo>
                <a:lnTo>
                  <a:pt x="57436" y="1400"/>
                </a:lnTo>
                <a:lnTo>
                  <a:pt x="1400" y="1400"/>
                </a:lnTo>
                <a:close/>
              </a:path>
              <a:path fill="darken" w="58836" h="21600">
                <a:moveTo>
                  <a:pt x="58836" y="0"/>
                </a:moveTo>
                <a:lnTo>
                  <a:pt x="58836" y="21600"/>
                </a:lnTo>
                <a:lnTo>
                  <a:pt x="57436" y="20200"/>
                </a:lnTo>
                <a:lnTo>
                  <a:pt x="57436" y="1400"/>
                </a:lnTo>
                <a:close/>
              </a:path>
              <a:path fill="darkenLess" w="58836" h="21600">
                <a:moveTo>
                  <a:pt x="5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436" y="20200"/>
                </a:lnTo>
                <a:close/>
              </a:path>
              <a:path fill="lighten" w="5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836" h="21600">
                <a:moveTo>
                  <a:pt x="22412" y="3794"/>
                </a:moveTo>
                <a:lnTo>
                  <a:pt x="36424" y="10800"/>
                </a:lnTo>
                <a:lnTo>
                  <a:pt x="22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1692360" y="5300640"/>
            <a:ext cx="2158920" cy="792360"/>
          </a:xfrm>
          <a:custGeom>
            <a:avLst/>
            <a:gdLst>
              <a:gd name="textAreaLeft" fmla="*/ 51120 w 2158920"/>
              <a:gd name="textAreaRight" fmla="*/ 2107800 w 2158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58836" h="21600">
                <a:moveTo>
                  <a:pt x="0" y="0"/>
                </a:moveTo>
                <a:lnTo>
                  <a:pt x="58836" y="0"/>
                </a:lnTo>
                <a:lnTo>
                  <a:pt x="58836" y="21600"/>
                </a:lnTo>
                <a:lnTo>
                  <a:pt x="0" y="21600"/>
                </a:lnTo>
                <a:close/>
              </a:path>
              <a:path fill="lightenLess" w="58836" h="21600">
                <a:moveTo>
                  <a:pt x="0" y="0"/>
                </a:moveTo>
                <a:lnTo>
                  <a:pt x="58836" y="0"/>
                </a:lnTo>
                <a:lnTo>
                  <a:pt x="57436" y="1400"/>
                </a:lnTo>
                <a:lnTo>
                  <a:pt x="1400" y="1400"/>
                </a:lnTo>
                <a:close/>
              </a:path>
              <a:path fill="darken" w="58836" h="21600">
                <a:moveTo>
                  <a:pt x="58836" y="0"/>
                </a:moveTo>
                <a:lnTo>
                  <a:pt x="58836" y="21600"/>
                </a:lnTo>
                <a:lnTo>
                  <a:pt x="57436" y="20200"/>
                </a:lnTo>
                <a:lnTo>
                  <a:pt x="57436" y="1400"/>
                </a:lnTo>
                <a:close/>
              </a:path>
              <a:path fill="darkenLess" w="58836" h="21600">
                <a:moveTo>
                  <a:pt x="5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436" y="20200"/>
                </a:lnTo>
                <a:close/>
              </a:path>
              <a:path fill="lighten" w="5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836" h="21600">
                <a:moveTo>
                  <a:pt x="22412" y="3794"/>
                </a:moveTo>
                <a:lnTo>
                  <a:pt x="36424" y="10800"/>
                </a:lnTo>
                <a:lnTo>
                  <a:pt x="22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3640" y="1268280"/>
            <a:ext cx="4969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_______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32480" y="4508640"/>
            <a:ext cx="170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45086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m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27664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227664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56240" y="2276640"/>
            <a:ext cx="1355760" cy="141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508720" y="333360"/>
            <a:ext cx="1130040" cy="113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2560" y="630000"/>
            <a:ext cx="42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jump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5013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jump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7664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27664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95280" y="4365720"/>
            <a:ext cx="4608000" cy="1514880"/>
            <a:chOff x="395280" y="4365720"/>
            <a:chExt cx="4608000" cy="1514880"/>
          </a:xfrm>
        </p:grpSpPr>
        <p:sp>
          <p:nvSpPr>
            <p:cNvPr id="80" name=""/>
            <p:cNvSpPr/>
            <p:nvPr/>
          </p:nvSpPr>
          <p:spPr>
            <a:xfrm>
              <a:off x="395280" y="5481720"/>
              <a:ext cx="46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WELL DONE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238480" y="4365720"/>
              <a:ext cx="653760" cy="106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56240" y="2276640"/>
            <a:ext cx="1355760" cy="141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643280" y="2276640"/>
            <a:ext cx="1355760" cy="1417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997360"/>
            <a:ext cx="137160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38606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845964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64054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020000" y="1700280"/>
            <a:ext cx="1800000" cy="1799640"/>
            <a:chOff x="7020000" y="1700280"/>
            <a:chExt cx="1800000" cy="1799640"/>
          </a:xfrm>
        </p:grpSpPr>
        <p:sp>
          <p:nvSpPr>
            <p:cNvPr id="97" name=""/>
            <p:cNvSpPr/>
            <p:nvPr/>
          </p:nvSpPr>
          <p:spPr>
            <a:xfrm>
              <a:off x="7020000" y="170028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7308720" y="235872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146640" y="907920"/>
            <a:ext cx="5097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27640" y="51148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jump</a:t>
            </a:r>
            <a:r>
              <a:rPr b="0" lang="en-GB" sz="4400" spc="-1" strike="noStrike">
                <a:solidFill>
                  <a:srgbClr val="ff3300"/>
                </a:solidFill>
                <a:latin typeface="Comic Sans MS"/>
                <a:ea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1148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jum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684360" cy="72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32000" y="2708280"/>
            <a:ext cx="144144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989000"/>
            <a:ext cx="1368720" cy="1441440"/>
          </a:xfrm>
          <a:prstGeom prst="rect">
            <a:avLst/>
          </a:prstGeom>
          <a:noFill/>
          <a:ln w="507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1989000"/>
            <a:ext cx="1368720" cy="1441440"/>
          </a:xfrm>
          <a:prstGeom prst="rect">
            <a:avLst/>
          </a:prstGeom>
          <a:noFill/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5445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3280" y="2013120"/>
            <a:ext cx="1368720" cy="1415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3645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P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6687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2920" y="630360"/>
            <a:ext cx="424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jump</a:t>
            </a:r>
            <a:r>
              <a:rPr b="0" lang="en-GB" sz="4400" spc="-1" strike="noStrike" u="sng">
                <a:solidFill>
                  <a:srgbClr val="ff3300"/>
                </a:solidFill>
                <a:uFillTx/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20000" y="3562200"/>
            <a:ext cx="1800000" cy="1800360"/>
            <a:chOff x="7020000" y="3562200"/>
            <a:chExt cx="1800000" cy="1800360"/>
          </a:xfrm>
        </p:grpSpPr>
        <p:sp>
          <p:nvSpPr>
            <p:cNvPr id="112" name=""/>
            <p:cNvSpPr/>
            <p:nvPr/>
          </p:nvSpPr>
          <p:spPr>
            <a:xfrm>
              <a:off x="7020000" y="35622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7308720" y="4221000"/>
              <a:ext cx="108108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45964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64054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5651640" y="5300640"/>
            <a:ext cx="2160360" cy="684360"/>
          </a:xfrm>
          <a:custGeom>
            <a:avLst/>
            <a:gdLst>
              <a:gd name="textAreaLeft" fmla="*/ 44280 w 2160360"/>
              <a:gd name="textAreaRight" fmla="*/ 2116080 w 216036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68162" h="21600">
                <a:moveTo>
                  <a:pt x="0" y="0"/>
                </a:moveTo>
                <a:lnTo>
                  <a:pt x="68162" y="0"/>
                </a:lnTo>
                <a:lnTo>
                  <a:pt x="68162" y="21600"/>
                </a:lnTo>
                <a:lnTo>
                  <a:pt x="0" y="21600"/>
                </a:lnTo>
                <a:close/>
              </a:path>
              <a:path fill="lightenLess" w="68162" h="21600">
                <a:moveTo>
                  <a:pt x="0" y="0"/>
                </a:moveTo>
                <a:lnTo>
                  <a:pt x="68162" y="0"/>
                </a:lnTo>
                <a:lnTo>
                  <a:pt x="66762" y="1400"/>
                </a:lnTo>
                <a:lnTo>
                  <a:pt x="1400" y="1400"/>
                </a:lnTo>
                <a:close/>
              </a:path>
              <a:path fill="darken" w="68162" h="21600">
                <a:moveTo>
                  <a:pt x="68162" y="0"/>
                </a:moveTo>
                <a:lnTo>
                  <a:pt x="68162" y="21600"/>
                </a:lnTo>
                <a:lnTo>
                  <a:pt x="66762" y="20200"/>
                </a:lnTo>
                <a:lnTo>
                  <a:pt x="66762" y="1400"/>
                </a:lnTo>
                <a:close/>
              </a:path>
              <a:path fill="darkenLess" w="68162" h="21600">
                <a:moveTo>
                  <a:pt x="68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62" y="20200"/>
                </a:lnTo>
                <a:close/>
              </a:path>
              <a:path fill="lighten" w="68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162" h="21600">
                <a:moveTo>
                  <a:pt x="27074" y="3794"/>
                </a:moveTo>
                <a:lnTo>
                  <a:pt x="41087" y="10800"/>
                </a:lnTo>
                <a:lnTo>
                  <a:pt x="270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1332000" y="5300640"/>
            <a:ext cx="2160360" cy="684360"/>
          </a:xfrm>
          <a:custGeom>
            <a:avLst/>
            <a:gdLst>
              <a:gd name="textAreaLeft" fmla="*/ 44280 w 2160360"/>
              <a:gd name="textAreaRight" fmla="*/ 2116080 w 216036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68162" h="21600">
                <a:moveTo>
                  <a:pt x="0" y="0"/>
                </a:moveTo>
                <a:lnTo>
                  <a:pt x="68162" y="0"/>
                </a:lnTo>
                <a:lnTo>
                  <a:pt x="68162" y="21600"/>
                </a:lnTo>
                <a:lnTo>
                  <a:pt x="0" y="21600"/>
                </a:lnTo>
                <a:close/>
              </a:path>
              <a:path fill="lightenLess" w="68162" h="21600">
                <a:moveTo>
                  <a:pt x="0" y="0"/>
                </a:moveTo>
                <a:lnTo>
                  <a:pt x="68162" y="0"/>
                </a:lnTo>
                <a:lnTo>
                  <a:pt x="66762" y="1400"/>
                </a:lnTo>
                <a:lnTo>
                  <a:pt x="1400" y="1400"/>
                </a:lnTo>
                <a:close/>
              </a:path>
              <a:path fill="darken" w="68162" h="21600">
                <a:moveTo>
                  <a:pt x="68162" y="0"/>
                </a:moveTo>
                <a:lnTo>
                  <a:pt x="68162" y="21600"/>
                </a:lnTo>
                <a:lnTo>
                  <a:pt x="66762" y="20200"/>
                </a:lnTo>
                <a:lnTo>
                  <a:pt x="66762" y="1400"/>
                </a:lnTo>
                <a:close/>
              </a:path>
              <a:path fill="darkenLess" w="68162" h="21600">
                <a:moveTo>
                  <a:pt x="68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762" y="20200"/>
                </a:lnTo>
                <a:close/>
              </a:path>
              <a:path fill="lighten" w="68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162" h="21600">
                <a:moveTo>
                  <a:pt x="27074" y="3794"/>
                </a:moveTo>
                <a:lnTo>
                  <a:pt x="41087" y="10800"/>
                </a:lnTo>
                <a:lnTo>
                  <a:pt x="270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Last week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Julie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_____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5385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op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4672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o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59280" y="2732040"/>
            <a:ext cx="3025440" cy="1992960"/>
            <a:chOff x="3059280" y="2732040"/>
            <a:chExt cx="3025440" cy="1992960"/>
          </a:xfrm>
        </p:grpSpPr>
        <p:sp>
          <p:nvSpPr>
            <p:cNvPr id="122" name=""/>
            <p:cNvSpPr/>
            <p:nvPr/>
          </p:nvSpPr>
          <p:spPr>
            <a:xfrm>
              <a:off x="3203640" y="273204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273204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3203640" y="2803680"/>
              <a:ext cx="13888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059280" y="43876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0" y="438768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35640" y="476280"/>
            <a:ext cx="9856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Last week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 Julie </a:t>
            </a:r>
            <a:r>
              <a:rPr b="0" lang="en-GB" sz="3900" spc="-1" strike="noStrike" u="sng">
                <a:solidFill>
                  <a:srgbClr val="000000"/>
                </a:solidFill>
                <a:uFillTx/>
                <a:latin typeface="Comic Sans MS"/>
              </a:rPr>
              <a:t>open</a:t>
            </a:r>
            <a:r>
              <a:rPr b="0" lang="en-GB" sz="3900" spc="-1" strike="noStrike" u="sng">
                <a:solidFill>
                  <a:srgbClr val="fc0000"/>
                </a:solidFill>
                <a:uFillTx/>
                <a:latin typeface="Comic Sans MS"/>
              </a:rPr>
              <a:t>ed</a:t>
            </a:r>
            <a:r>
              <a:rPr b="0" lang="en-GB" sz="3900" spc="-1" strike="noStrike">
                <a:solidFill>
                  <a:srgbClr val="fc0000"/>
                </a:solidFill>
                <a:latin typeface="Comic Sans MS"/>
              </a:rPr>
              <a:t> </a:t>
            </a:r>
            <a:r>
              <a:rPr b="0" lang="en-GB" sz="3900" spc="-1" strike="noStrike">
                <a:solidFill>
                  <a:srgbClr val="000000"/>
                </a:solidFill>
                <a:latin typeface="Comic Sans MS"/>
              </a:rPr>
              <a:t>her presen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94172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open</a:t>
            </a:r>
            <a:r>
              <a:rPr b="0" lang="en-GB" sz="4400" spc="-1" strike="noStrike">
                <a:solidFill>
                  <a:srgbClr val="fc0000"/>
                </a:solidFill>
                <a:latin typeface="Comic Sans MS"/>
                <a:ea typeface="Arial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24280"/>
            <a:ext cx="1368720" cy="0"/>
          </a:xfrm>
          <a:prstGeom prst="line">
            <a:avLst/>
          </a:prstGeom>
          <a:ln w="1523880">
            <a:solidFill>
              <a:srgbClr val="c0c0c0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03640" y="4437000"/>
            <a:ext cx="3960720" cy="1224720"/>
            <a:chOff x="5003640" y="4437000"/>
            <a:chExt cx="3960720" cy="1224720"/>
          </a:xfrm>
        </p:grpSpPr>
        <p:sp>
          <p:nvSpPr>
            <p:cNvPr id="132" name=""/>
            <p:cNvSpPr/>
            <p:nvPr/>
          </p:nvSpPr>
          <p:spPr>
            <a:xfrm>
              <a:off x="5003640" y="52628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Gill Sans Ultra Bold"/>
                  <a:ea typeface="Arial"/>
                </a:rPr>
                <a:t>SUPER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6588000" y="4437000"/>
              <a:ext cx="561960" cy="79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3059280" y="2205000"/>
            <a:ext cx="3025440" cy="1992960"/>
            <a:chOff x="3059280" y="2205000"/>
            <a:chExt cx="3025440" cy="1992960"/>
          </a:xfrm>
        </p:grpSpPr>
        <p:sp>
          <p:nvSpPr>
            <p:cNvPr id="135" name=""/>
            <p:cNvSpPr/>
            <p:nvPr/>
          </p:nvSpPr>
          <p:spPr>
            <a:xfrm>
              <a:off x="3203640" y="2205000"/>
              <a:ext cx="1368360" cy="1511280"/>
            </a:xfrm>
            <a:prstGeom prst="rect">
              <a:avLst/>
            </a:prstGeom>
            <a:noFill/>
            <a:ln w="50760">
              <a:solidFill>
                <a:srgbClr val="f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43280" y="2205000"/>
              <a:ext cx="1368720" cy="1511280"/>
            </a:xfrm>
            <a:prstGeom prst="rect">
              <a:avLst/>
            </a:prstGeom>
            <a:noFill/>
            <a:ln w="507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3203640" y="2276640"/>
              <a:ext cx="13888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5928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ast (befo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86064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808080"/>
                  </a:solidFill>
                  <a:latin typeface="Comic Sans MS"/>
                  <a:ea typeface="Arial"/>
                </a:rPr>
                <a:t>Present (no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588000" y="630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N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8172360" y="6093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3794"/>
                </a:moveTo>
                <a:lnTo>
                  <a:pt x="18915" y="10800"/>
                </a:lnTo>
                <a:lnTo>
                  <a:pt x="4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77080" y="2421000"/>
            <a:ext cx="1800000" cy="1799640"/>
            <a:chOff x="6877080" y="2421000"/>
            <a:chExt cx="1800000" cy="1799640"/>
          </a:xfrm>
        </p:grpSpPr>
        <p:sp>
          <p:nvSpPr>
            <p:cNvPr id="143" name=""/>
            <p:cNvSpPr/>
            <p:nvPr/>
          </p:nvSpPr>
          <p:spPr>
            <a:xfrm>
              <a:off x="6877080" y="2421000"/>
              <a:ext cx="180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7165800" y="3079440"/>
              <a:ext cx="1081080" cy="114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632800" y="981000"/>
            <a:ext cx="5112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40:30Z</dcterms:created>
  <dc:creator>DianaBurman</dc:creator>
  <dc:description/>
  <dc:language>en-US</dc:language>
  <cp:lastModifiedBy>dannyb</cp:lastModifiedBy>
  <dcterms:modified xsi:type="dcterms:W3CDTF">2008-11-28T16:48:03Z</dcterms:modified>
  <cp:revision>71</cp:revision>
  <dc:subject/>
  <dc:title>Slide 1</dc:title>
</cp:coreProperties>
</file>