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686-E1FF-4450-A50A-9CFED352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6D1-E5C1-4501-A5BA-9C1B637B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37A-7FB3-4B3D-AF95-A9795136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2D2-320C-49D2-ABE9-42FAF2EC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AD1-90BD-4DC4-8890-956D4CFB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006-B4FC-4159-8939-12C98EC3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704-BF46-45E3-B0F3-94418D02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2AF-0EF1-40DD-92A2-772BB534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223-84C8-4775-AEF6-6241E9DB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28D-308E-4B31-B4FB-B46BA93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245-926F-48CB-9D27-5757E74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B35-83C2-478B-B594-D5CFC2E1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C75E-9547-4739-8D83-68A0DA54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932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ek 7 IT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rphemes which add a ‘number’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teacher led activity aims to introduce children to prefixes which carry a meaning related to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the start of the presentation, pictures of cycles appear with different numbers of wheels, and these are linked with the prefixes ‘uni’ ‘bi’ and ‘tri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achers will need to give an explanation to go alongside this, to explain that some beginnings of words give a clue about number e.g.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gle means 3 si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answer sheet (see next slide) needs to be printed off and given to the children prior to the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urther ‘number’ morpheme words are given, and children are asked to write ‘how many’ is meant by the prefix each time. This is prompted by the appearance of a pe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ildren are asked what gave them the clue for this number and feedback is then given on screen of the prefix and it’s number meaning, and a picture of the word appears e.g.   ‘unicorn’, ‘tripod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ook at the start of the word and work out how many……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06280" y="765000"/>
            <a:ext cx="296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8320" y="58770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24720" y="5300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6000" y="1173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2160720" cy="1869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77560" y="620640"/>
            <a:ext cx="296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17200" y="3933720"/>
            <a:ext cx="223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5516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6920" y="404640"/>
            <a:ext cx="392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cul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72880" y="5589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0240" y="117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1841400"/>
            <a:ext cx="3284280" cy="2497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26920" y="620640"/>
            <a:ext cx="392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ocul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4797360"/>
            <a:ext cx="457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6560" y="595008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22120" y="549360"/>
            <a:ext cx="307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9600" y="56610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08720" y="5373720"/>
            <a:ext cx="1130400" cy="1130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3160" y="11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28280" y="57103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425680" cy="2291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4320" y="284040"/>
            <a:ext cx="307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4320" y="4508640"/>
            <a:ext cx="258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332520" y="716040"/>
            <a:ext cx="236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25440" y="5108400"/>
            <a:ext cx="26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96360" y="52801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6200" y="11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2274840" cy="2541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00" y="5157720"/>
            <a:ext cx="859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74280" y="4221000"/>
            <a:ext cx="223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6840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75400" y="620640"/>
            <a:ext cx="284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8880" y="55879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3680" y="26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0200" y="115920"/>
            <a:ext cx="577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umber morphemes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ame…………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te …………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9480" y="1581120"/>
            <a:ext cx="62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…….           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 b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………..          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44000" y="189000"/>
            <a:ext cx="706320" cy="70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7760" cy="463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12000" y="1484280"/>
            <a:ext cx="719280" cy="5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2301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20880" y="292428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64500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.     …………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436572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.    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013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     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2800" y="30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64500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….     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429264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…      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5013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…      …………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292428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 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234936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7520" y="3022560"/>
            <a:ext cx="12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9480" y="5902200"/>
            <a:ext cx="75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rite the word after th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067280" y="2060640"/>
            <a:ext cx="636480" cy="384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9600" y="93600"/>
            <a:ext cx="148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ek 7 IT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2441520" cy="2441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300640"/>
            <a:ext cx="1227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5960" y="4149720"/>
            <a:ext cx="21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16680" y="212760"/>
            <a:ext cx="284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65720" y="476280"/>
            <a:ext cx="206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2960" y="5157720"/>
            <a:ext cx="234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5480" y="5084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058760" cy="1059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4920" y="260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467160" cy="340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73920" y="68400"/>
            <a:ext cx="206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546880"/>
            <a:ext cx="83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45560" y="4508640"/>
            <a:ext cx="223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186000" y="69228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9600" y="551664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39920" y="33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1657440" cy="2376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68560" y="54936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530064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60320" y="4172040"/>
            <a:ext cx="258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250" autoRev="1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01600" y="357120"/>
            <a:ext cx="41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lour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9720" y="508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19840" y="4869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51640" y="4869000"/>
            <a:ext cx="986040" cy="985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5040" y="33336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77760" y="47628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colour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14840" y="1760400"/>
            <a:ext cx="2297160" cy="2297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39200" y="5303880"/>
            <a:ext cx="12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9920" y="4076640"/>
            <a:ext cx="223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ll done, you have finish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888000" cy="245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84240" y="1484280"/>
            <a:ext cx="54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176560" cy="155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29240" y="48690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4600" y="4869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1371600" cy="18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19640" y="2924280"/>
            <a:ext cx="2304720" cy="1390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10000" y="4869000"/>
            <a:ext cx="19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4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the most important difference betwe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9960" y="587700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number of whee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2949480"/>
            <a:ext cx="1371600" cy="1825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24000" y="206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ycle ha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whe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5680" y="62064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it about the word that gives you a c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out this differe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19880" y="530064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587680" cy="156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42520" y="1844640"/>
            <a:ext cx="44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ycle ha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whe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22400" y="5013360"/>
            <a:ext cx="13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2475000" cy="1770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84480" y="5160960"/>
            <a:ext cx="14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tri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59880" y="1773360"/>
            <a:ext cx="45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ycle has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whe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765000"/>
            <a:ext cx="53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4076640"/>
            <a:ext cx="56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64240" y="242100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  =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8000" y="263700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68000" y="436572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68000" y="981000"/>
            <a:ext cx="5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8360" y="5805360"/>
            <a:ext cx="53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ll in the number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24720" y="4437000"/>
            <a:ext cx="13255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24000" y="765000"/>
            <a:ext cx="53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uni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4076640"/>
            <a:ext cx="56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tri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 =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4240" y="242100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GB" sz="9600" spc="-1" strike="noStrike">
                <a:solidFill>
                  <a:srgbClr val="ff3300"/>
                </a:solidFill>
                <a:latin typeface="Comic Sans MS"/>
              </a:rPr>
              <a:t>bi</a:t>
            </a: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   =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39160" y="580536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do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3280" y="7650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49200" y="227664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0840" y="407664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1:28:04Z</dcterms:created>
  <dc:creator>Psychology</dc:creator>
  <dc:description/>
  <dc:language>en-US</dc:language>
  <cp:lastModifiedBy>DianaBurman</cp:lastModifiedBy>
  <dcterms:modified xsi:type="dcterms:W3CDTF">2008-12-05T11:43:30Z</dcterms:modified>
  <cp:revision>18</cp:revision>
  <dc:subject/>
  <dc:title>Slide 1</dc:title>
</cp:coreProperties>
</file>