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3.png" ContentType="image/pn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8AE2-737B-4F48-9CE6-3F4A65BB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47A8-D528-433A-B6FD-1F4F823E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58D1-F6BE-4F99-9843-36658DD0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131C-36D1-4FD7-AE6F-F7B237C9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022B-1A51-44B5-BC5A-4617C49F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CF72-BDC1-4FCF-A591-CB19A9FC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4A7D-80CE-4F0F-A0E5-CD118E81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E25-7E58-4A5C-9704-DFF55F94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EE42-BB7C-40EF-8422-9436897C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D0A3-1190-4113-ABE3-3C159E8B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818F-20DC-4174-A4B4-8DF5E308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1F0-E1FB-45CD-BB44-760831F9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5F8A-EB42-49A2-8BF4-044C69BF6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0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0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1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1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2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2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wmf"/><Relationship Id="rId3" Type="http://schemas.openxmlformats.org/officeDocument/2006/relationships/image" Target="../media/image14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wmf"/><Relationship Id="rId3" Type="http://schemas.openxmlformats.org/officeDocument/2006/relationships/image" Target="../media/image14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5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6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7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7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8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9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0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0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1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1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2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3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3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4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4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5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6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7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7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8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9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112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Past, Present and Future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19640" y="508464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93080" y="260280"/>
            <a:ext cx="1728720" cy="1297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64080" y="184464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ek 7 IT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s jump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jum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04360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ump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72360" y="4467240"/>
            <a:ext cx="684000" cy="722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446200" y="321300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7640" y="2492280"/>
            <a:ext cx="136872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8292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24360" y="547524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959280" y="256536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117240" y="4079880"/>
            <a:ext cx="285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Presen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020000" y="2133720"/>
            <a:ext cx="1800000" cy="1799640"/>
            <a:chOff x="7020000" y="2133720"/>
            <a:chExt cx="1800000" cy="1799640"/>
          </a:xfrm>
        </p:grpSpPr>
        <p:sp>
          <p:nvSpPr>
            <p:cNvPr id="120" name=""/>
            <p:cNvSpPr/>
            <p:nvPr/>
          </p:nvSpPr>
          <p:spPr>
            <a:xfrm>
              <a:off x="7020000" y="213372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7308720" y="279216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0000"/>
                </a:solidFill>
                <a:latin typeface="Comic Sans MS"/>
              </a:rPr>
              <a:t>Last week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Mum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_____</a:t>
            </a:r>
            <a:r>
              <a:rPr b="1" lang="en-US" sz="30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her present.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2060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03640" y="314172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458316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ill o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0000"/>
                </a:solidFill>
                <a:latin typeface="Comic Sans MS"/>
              </a:rPr>
              <a:t>Last week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Mum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open</a:t>
            </a:r>
            <a:r>
              <a:rPr b="1" lang="en-US" sz="30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1" lang="en-US" sz="30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her present.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322200" y="494028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0" lang="en-US" sz="4400" spc="-1" strike="noStrike">
                <a:solidFill>
                  <a:srgbClr val="fc0000"/>
                </a:solidFill>
                <a:latin typeface="Comic Sans MS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46200" y="321300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9720" y="4064040"/>
            <a:ext cx="30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resen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8292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87640" y="2476440"/>
            <a:ext cx="13687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91280" y="247644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932360" y="4581360"/>
            <a:ext cx="3960720" cy="1046880"/>
            <a:chOff x="4932360" y="4581360"/>
            <a:chExt cx="3960720" cy="1046880"/>
          </a:xfrm>
        </p:grpSpPr>
        <p:sp>
          <p:nvSpPr>
            <p:cNvPr id="134" name=""/>
            <p:cNvSpPr/>
            <p:nvPr/>
          </p:nvSpPr>
          <p:spPr>
            <a:xfrm>
              <a:off x="4932360" y="522936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Ultra Bold"/>
                </a:rPr>
                <a:t>SUPER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6516720" y="4581360"/>
              <a:ext cx="561960" cy="6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56000" y="2556000"/>
            <a:ext cx="1224000" cy="1377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484360" y="2475000"/>
            <a:ext cx="136836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492360" y="5013360"/>
            <a:ext cx="4813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0000"/>
                </a:solidFill>
                <a:latin typeface="Comic Sans MS"/>
              </a:rPr>
              <a:t>Last week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Mum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open</a:t>
            </a:r>
            <a:r>
              <a:rPr b="1" lang="en-US" sz="30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1" lang="en-US" sz="30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her present.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2200" y="494028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0" lang="en-US" sz="4400" spc="-1" strike="noStrike">
                <a:solidFill>
                  <a:srgbClr val="fc0000"/>
                </a:solidFill>
                <a:latin typeface="Comic Sans MS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684360" cy="722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482920" y="3213000"/>
            <a:ext cx="417672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27960" y="4081320"/>
            <a:ext cx="31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resen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92720" y="24940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87640" y="2492280"/>
            <a:ext cx="13687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7640" y="2494080"/>
            <a:ext cx="13687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54200" y="2565360"/>
            <a:ext cx="1224000" cy="1368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64000" y="5661000"/>
            <a:ext cx="27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ill o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579640" y="609300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148360" y="5373720"/>
            <a:ext cx="29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2920" y="2492280"/>
            <a:ext cx="136836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020000" y="2133720"/>
            <a:ext cx="1800000" cy="1799640"/>
            <a:chOff x="7020000" y="2133720"/>
            <a:chExt cx="1800000" cy="1799640"/>
          </a:xfrm>
        </p:grpSpPr>
        <p:sp>
          <p:nvSpPr>
            <p:cNvPr id="154" name=""/>
            <p:cNvSpPr/>
            <p:nvPr/>
          </p:nvSpPr>
          <p:spPr>
            <a:xfrm>
              <a:off x="7020000" y="213372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7308720" y="279216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4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Yesterda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y _____ ball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060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302724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e pla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05040" y="4654440"/>
            <a:ext cx="485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ill 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4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446200" y="321480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Yesterda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play</a:t>
            </a:r>
            <a:r>
              <a:rPr b="1" lang="en-US" sz="36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all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0" lang="en-US" sz="4400" spc="-1" strike="noStrike">
                <a:solidFill>
                  <a:srgbClr val="fc0000"/>
                </a:solidFill>
                <a:latin typeface="Comic Sans MS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95920" y="4083120"/>
            <a:ext cx="308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resen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24360" y="249552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92720" y="249552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932360" y="4581360"/>
            <a:ext cx="3960720" cy="1046880"/>
            <a:chOff x="4932360" y="4581360"/>
            <a:chExt cx="3960720" cy="1046880"/>
          </a:xfrm>
        </p:grpSpPr>
        <p:sp>
          <p:nvSpPr>
            <p:cNvPr id="167" name=""/>
            <p:cNvSpPr/>
            <p:nvPr/>
          </p:nvSpPr>
          <p:spPr>
            <a:xfrm>
              <a:off x="4932360" y="522936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Ultra Bold"/>
                </a:rPr>
                <a:t>WELL DONE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6516720" y="4581360"/>
              <a:ext cx="561960" cy="6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484360" y="2565360"/>
            <a:ext cx="1295640" cy="1301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482920" y="2492280"/>
            <a:ext cx="136836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348000" y="5013360"/>
            <a:ext cx="4809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4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446200" y="321300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Yesterda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play</a:t>
            </a:r>
            <a:r>
              <a:rPr b="1" lang="en-US" sz="36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all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0" lang="en-US" sz="4400" spc="-1" strike="noStrike">
                <a:solidFill>
                  <a:srgbClr val="fc0000"/>
                </a:solidFill>
                <a:latin typeface="Comic Sans MS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e pla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372360" y="4365720"/>
            <a:ext cx="684000" cy="722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005280" y="4081320"/>
            <a:ext cx="30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resen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91280" y="24940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11280" y="2492280"/>
            <a:ext cx="136872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24940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92720" y="5373720"/>
            <a:ext cx="287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482920" y="2637000"/>
            <a:ext cx="1136520" cy="12236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003640" y="582444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ill 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51640" y="6237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020000" y="2276640"/>
            <a:ext cx="1800000" cy="1799640"/>
            <a:chOff x="7020000" y="2276640"/>
            <a:chExt cx="1800000" cy="1799640"/>
          </a:xfrm>
        </p:grpSpPr>
        <p:sp>
          <p:nvSpPr>
            <p:cNvPr id="186" name=""/>
            <p:cNvSpPr/>
            <p:nvPr/>
          </p:nvSpPr>
          <p:spPr>
            <a:xfrm>
              <a:off x="7020000" y="2276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3"/>
            <a:stretch/>
          </p:blipFill>
          <p:spPr>
            <a:xfrm>
              <a:off x="7308720" y="293508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d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e _____ home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249228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l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56000" y="407664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w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e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s walk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ome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494172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w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46200" y="321300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71520" y="4079880"/>
            <a:ext cx="294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Presen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7640" y="2492280"/>
            <a:ext cx="136872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8436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9272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932360" y="4581360"/>
            <a:ext cx="3960720" cy="1046880"/>
            <a:chOff x="4932360" y="4581360"/>
            <a:chExt cx="3960720" cy="1046880"/>
          </a:xfrm>
        </p:grpSpPr>
        <p:sp>
          <p:nvSpPr>
            <p:cNvPr id="199" name=""/>
            <p:cNvSpPr/>
            <p:nvPr/>
          </p:nvSpPr>
          <p:spPr>
            <a:xfrm>
              <a:off x="4932360" y="522936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Ultra Bold"/>
                </a:rPr>
                <a:t>AWESOME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6516720" y="4581360"/>
              <a:ext cx="561960" cy="6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981600" y="2492280"/>
            <a:ext cx="1180800" cy="14256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3851280" y="5013360"/>
            <a:ext cx="4809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s walk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ome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494172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w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l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372360" y="4437000"/>
            <a:ext cx="684000" cy="722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446200" y="321300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03560" y="4079880"/>
            <a:ext cx="30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Presen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 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87640" y="2492280"/>
            <a:ext cx="136872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8436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9272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24360" y="5373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981600" y="2502000"/>
            <a:ext cx="1180800" cy="1358640"/>
          </a:xfrm>
          <a:prstGeom prst="rect">
            <a:avLst/>
          </a:prstGeom>
          <a:ln w="0">
            <a:noFill/>
          </a:ln>
        </p:spPr>
      </p:pic>
      <p:grpSp>
        <p:nvGrpSpPr>
          <p:cNvPr id="214" name=""/>
          <p:cNvGrpSpPr/>
          <p:nvPr/>
        </p:nvGrpSpPr>
        <p:grpSpPr>
          <a:xfrm>
            <a:off x="7020000" y="2133720"/>
            <a:ext cx="1800000" cy="1799640"/>
            <a:chOff x="7020000" y="2133720"/>
            <a:chExt cx="1800000" cy="1799640"/>
          </a:xfrm>
        </p:grpSpPr>
        <p:sp>
          <p:nvSpPr>
            <p:cNvPr id="215" name=""/>
            <p:cNvSpPr/>
            <p:nvPr/>
          </p:nvSpPr>
          <p:spPr>
            <a:xfrm>
              <a:off x="7020000" y="213372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7308720" y="279216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35280" y="691920"/>
            <a:ext cx="575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ast, Present and Futur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teacher led activity aims to help children differentiate between verbs in the past, present or futur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child’s task is to choose the verb that matches the adverbial clue in each sent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next slide is an answer sheet. This should be printed, and distributed to the children before you sta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en a pencil appears on the first two slides, this marks the time for the children to complete their answers. Proceed in the same pattern for the remainder of the g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prompt of ‘Why?’ appears. This is the cue for discussion about the correct and incorrect answers. They then receive feedback on the scre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35360" y="26028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ek 7 IT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Next tim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bin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234936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t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emp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71640" y="357336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re empt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Nex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tim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ill empt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bin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511488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emp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3213000"/>
            <a:ext cx="432144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97360" y="4079880"/>
            <a:ext cx="308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resen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11280" y="2492280"/>
            <a:ext cx="144000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68560" y="2492280"/>
            <a:ext cx="140508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68360" y="4761000"/>
            <a:ext cx="3960720" cy="1046520"/>
            <a:chOff x="468360" y="4761000"/>
            <a:chExt cx="3960720" cy="1046520"/>
          </a:xfrm>
        </p:grpSpPr>
        <p:sp>
          <p:nvSpPr>
            <p:cNvPr id="228" name=""/>
            <p:cNvSpPr/>
            <p:nvPr/>
          </p:nvSpPr>
          <p:spPr>
            <a:xfrm>
              <a:off x="468360" y="540864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Ultra Bold"/>
                </a:rPr>
                <a:t>FANTASTIC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2052720" y="4761000"/>
              <a:ext cx="561960" cy="62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364000" y="2638440"/>
            <a:ext cx="1297080" cy="122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292720" y="2492280"/>
            <a:ext cx="144000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8091360" y="5157720"/>
            <a:ext cx="4813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Next tim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ill empt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bin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504360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t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emp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050920" y="4538520"/>
            <a:ext cx="615960" cy="6508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403280" y="5475240"/>
            <a:ext cx="20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576252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re empt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84360" y="623736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11280" y="3213000"/>
            <a:ext cx="432144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81520" y="4079880"/>
            <a:ext cx="30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resen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1280" y="2492280"/>
            <a:ext cx="144000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68560" y="2492280"/>
            <a:ext cx="140508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364000" y="2638440"/>
            <a:ext cx="1297080" cy="12222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292720" y="2492280"/>
            <a:ext cx="144000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020000" y="2133720"/>
            <a:ext cx="1800000" cy="1799640"/>
            <a:chOff x="7020000" y="2133720"/>
            <a:chExt cx="1800000" cy="1799640"/>
          </a:xfrm>
        </p:grpSpPr>
        <p:sp>
          <p:nvSpPr>
            <p:cNvPr id="247" name=""/>
            <p:cNvSpPr/>
            <p:nvPr/>
          </p:nvSpPr>
          <p:spPr>
            <a:xfrm>
              <a:off x="7020000" y="213372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" descr=""/>
            <p:cNvPicPr/>
            <p:nvPr/>
          </p:nvPicPr>
          <p:blipFill>
            <a:blip r:embed="rId4"/>
            <a:stretch/>
          </p:blipFill>
          <p:spPr>
            <a:xfrm>
              <a:off x="7308720" y="279216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4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Tomorrow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we  _____ the mountain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2276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mb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cli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32000" y="335916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li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4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000"/>
                </a:solidFill>
                <a:latin typeface="Comic Sans MS"/>
              </a:rPr>
              <a:t>Tomorro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ill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climb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e mountai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504360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cli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48000" y="321300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8120" y="4079880"/>
            <a:ext cx="294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resen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64000" y="2492280"/>
            <a:ext cx="136872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616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2720" y="2492280"/>
            <a:ext cx="144000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68360" y="4683240"/>
            <a:ext cx="3960720" cy="1046520"/>
            <a:chOff x="468360" y="4683240"/>
            <a:chExt cx="3960720" cy="1046520"/>
          </a:xfrm>
        </p:grpSpPr>
        <p:sp>
          <p:nvSpPr>
            <p:cNvPr id="261" name=""/>
            <p:cNvSpPr/>
            <p:nvPr/>
          </p:nvSpPr>
          <p:spPr>
            <a:xfrm>
              <a:off x="468360" y="533088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Ultra Bold"/>
                </a:rPr>
                <a:t>GREAT JOB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2" name="" descr=""/>
            <p:cNvPicPr/>
            <p:nvPr/>
          </p:nvPicPr>
          <p:blipFill>
            <a:blip r:embed="rId1"/>
            <a:stretch/>
          </p:blipFill>
          <p:spPr>
            <a:xfrm>
              <a:off x="2052720" y="4683240"/>
              <a:ext cx="561960" cy="62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365800" y="2492280"/>
            <a:ext cx="1336680" cy="13654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8091360" y="5084640"/>
            <a:ext cx="4813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4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000"/>
                </a:solidFill>
                <a:latin typeface="Comic Sans MS"/>
              </a:rPr>
              <a:t>Tomorro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ill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climb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e mountai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250920" y="504360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mb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504360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085840" y="4538520"/>
            <a:ext cx="613080" cy="64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448000" y="321300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64000" y="2492280"/>
            <a:ext cx="136872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436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52720" y="2492280"/>
            <a:ext cx="144000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30200" y="5475240"/>
            <a:ext cx="208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5437080" y="2492280"/>
            <a:ext cx="1260720" cy="13683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69840" y="5762520"/>
            <a:ext cx="299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li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402920" y="61945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165480" y="4079880"/>
            <a:ext cx="299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resen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020000" y="2133720"/>
            <a:ext cx="1800000" cy="1799640"/>
            <a:chOff x="7020000" y="2133720"/>
            <a:chExt cx="1800000" cy="1799640"/>
          </a:xfrm>
        </p:grpSpPr>
        <p:sp>
          <p:nvSpPr>
            <p:cNvPr id="279" name=""/>
            <p:cNvSpPr/>
            <p:nvPr/>
          </p:nvSpPr>
          <p:spPr>
            <a:xfrm>
              <a:off x="7020000" y="213372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0" name="" descr=""/>
            <p:cNvPicPr/>
            <p:nvPr/>
          </p:nvPicPr>
          <p:blipFill>
            <a:blip r:embed="rId3"/>
            <a:stretch/>
          </p:blipFill>
          <p:spPr>
            <a:xfrm>
              <a:off x="7308720" y="279216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b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ad _____ his trousers </a:t>
            </a: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3564000" y="40053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ir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5280" y="249228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ro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a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s iron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is trousers </a:t>
            </a: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494172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ir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446200" y="321300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79720" y="4079880"/>
            <a:ext cx="30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Presen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8436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9272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932360" y="4581360"/>
            <a:ext cx="3960720" cy="1046880"/>
            <a:chOff x="4932360" y="4581360"/>
            <a:chExt cx="3960720" cy="1046880"/>
          </a:xfrm>
        </p:grpSpPr>
        <p:sp>
          <p:nvSpPr>
            <p:cNvPr id="291" name=""/>
            <p:cNvSpPr/>
            <p:nvPr/>
          </p:nvSpPr>
          <p:spPr>
            <a:xfrm>
              <a:off x="4932360" y="522936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Ultra Bold"/>
                </a:rPr>
                <a:t>AWESOME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2" name="" descr=""/>
            <p:cNvPicPr/>
            <p:nvPr/>
          </p:nvPicPr>
          <p:blipFill>
            <a:blip r:embed="rId1"/>
            <a:stretch/>
          </p:blipFill>
          <p:spPr>
            <a:xfrm>
              <a:off x="6516720" y="4581360"/>
              <a:ext cx="561960" cy="6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897360" y="2492280"/>
            <a:ext cx="1322280" cy="1441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3887640" y="2492280"/>
            <a:ext cx="136872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3851280" y="5013360"/>
            <a:ext cx="4809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a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s iron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is trousers </a:t>
            </a: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395280" y="494172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ir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0" y="504360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ro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372360" y="4610160"/>
            <a:ext cx="546120" cy="576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5724360" y="547524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46200" y="321300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27960" y="4079880"/>
            <a:ext cx="31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Presen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8436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9272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3897360" y="2492280"/>
            <a:ext cx="1322280" cy="14414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887640" y="2492280"/>
            <a:ext cx="136872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7020000" y="2133720"/>
            <a:ext cx="1800000" cy="1799640"/>
            <a:chOff x="7020000" y="2133720"/>
            <a:chExt cx="1800000" cy="1799640"/>
          </a:xfrm>
        </p:grpSpPr>
        <p:sp>
          <p:nvSpPr>
            <p:cNvPr id="308" name=""/>
            <p:cNvSpPr/>
            <p:nvPr/>
          </p:nvSpPr>
          <p:spPr>
            <a:xfrm>
              <a:off x="7020000" y="213372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" descr=""/>
            <p:cNvPicPr/>
            <p:nvPr/>
          </p:nvPicPr>
          <p:blipFill>
            <a:blip r:embed="rId3"/>
            <a:stretch/>
          </p:blipFill>
          <p:spPr>
            <a:xfrm>
              <a:off x="7308720" y="279216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um _____ the dog </a:t>
            </a: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lat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324000" y="263700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bru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19280" y="422100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us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836640"/>
            <a:ext cx="44276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um …………………..….. the dinner so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 ……………………………… n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ast week Mum …………………… her pres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esterday they ………………… ba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w he ………………………… ho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xt they  ………………….. the b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morrow we …………………… the mounta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ad ………………. his trousers n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um ……………………. ……the dog la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ad …………………….. the house next we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w they ………………….……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levis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w he ………………………. the ba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16360" y="691920"/>
            <a:ext cx="42847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0">
              <a:lnSpc>
                <a:spcPct val="2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3. They………………………….the car so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2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4. He …………………………….his hair so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2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5. Dad ………………………….the baby n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2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6. Soon they ……………………….the box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2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7. Now she ………………………….her ice-cre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2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8. They ………………………the party la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2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9. She …………………………..…..for her picture  tomorr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2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. You must ………………him so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2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1. Now he ………………………someone will steal the mone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6877080" y="44280"/>
            <a:ext cx="2232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ame………………………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Date ………………………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12384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eek 7 IT 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23840"/>
            <a:ext cx="25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for IT 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547120" y="115920"/>
            <a:ext cx="4888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um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ill brush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dog </a:t>
            </a: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lat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bru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46200" y="321300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111120" y="4079880"/>
            <a:ext cx="285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resen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8292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87640" y="2492280"/>
            <a:ext cx="13687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932360" y="4581360"/>
            <a:ext cx="3960720" cy="1046880"/>
            <a:chOff x="4932360" y="4581360"/>
            <a:chExt cx="3960720" cy="1046880"/>
          </a:xfrm>
        </p:grpSpPr>
        <p:sp>
          <p:nvSpPr>
            <p:cNvPr id="320" name=""/>
            <p:cNvSpPr/>
            <p:nvPr/>
          </p:nvSpPr>
          <p:spPr>
            <a:xfrm>
              <a:off x="4932360" y="522936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Ultra Bold"/>
                </a:rPr>
                <a:t>GOOD ANSWER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6516720" y="4581360"/>
              <a:ext cx="561960" cy="6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5364000" y="2492280"/>
            <a:ext cx="1224000" cy="14115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5292720" y="2492280"/>
            <a:ext cx="136836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851280" y="5013360"/>
            <a:ext cx="4809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um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ill brush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dog </a:t>
            </a: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lat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bru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us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6372360" y="4437000"/>
            <a:ext cx="612720" cy="6476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724360" y="5373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46200" y="321300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20760" y="4079880"/>
            <a:ext cx="299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resen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8292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87640" y="2492280"/>
            <a:ext cx="13687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5364000" y="2492280"/>
            <a:ext cx="1224000" cy="14115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5292720" y="2492280"/>
            <a:ext cx="136836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020000" y="2133720"/>
            <a:ext cx="1800000" cy="1799640"/>
            <a:chOff x="7020000" y="2133720"/>
            <a:chExt cx="1800000" cy="1799640"/>
          </a:xfrm>
        </p:grpSpPr>
        <p:sp>
          <p:nvSpPr>
            <p:cNvPr id="337" name=""/>
            <p:cNvSpPr/>
            <p:nvPr/>
          </p:nvSpPr>
          <p:spPr>
            <a:xfrm>
              <a:off x="7020000" y="213372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8" name="" descr=""/>
            <p:cNvPicPr/>
            <p:nvPr/>
          </p:nvPicPr>
          <p:blipFill>
            <a:blip r:embed="rId3"/>
            <a:stretch/>
          </p:blipFill>
          <p:spPr>
            <a:xfrm>
              <a:off x="7308720" y="279216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4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ad  _____ the house </a:t>
            </a: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next wee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395280" y="220500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356000" y="3213000"/>
            <a:ext cx="41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i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4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a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ill pain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house </a:t>
            </a: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next wee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448000" y="321156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65320" y="4079880"/>
            <a:ext cx="299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resen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8292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87640" y="2492280"/>
            <a:ext cx="13687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468360" y="4761000"/>
            <a:ext cx="3960720" cy="1046520"/>
            <a:chOff x="468360" y="4761000"/>
            <a:chExt cx="3960720" cy="1046520"/>
          </a:xfrm>
        </p:grpSpPr>
        <p:sp>
          <p:nvSpPr>
            <p:cNvPr id="349" name=""/>
            <p:cNvSpPr/>
            <p:nvPr/>
          </p:nvSpPr>
          <p:spPr>
            <a:xfrm>
              <a:off x="468360" y="540864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Ultra Bold"/>
                </a:rPr>
                <a:t>FANTASTIC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0" name="" descr=""/>
            <p:cNvPicPr/>
            <p:nvPr/>
          </p:nvPicPr>
          <p:blipFill>
            <a:blip r:embed="rId1"/>
            <a:stretch/>
          </p:blipFill>
          <p:spPr>
            <a:xfrm>
              <a:off x="2052720" y="4761000"/>
              <a:ext cx="561960" cy="62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291280" y="2492280"/>
            <a:ext cx="1293840" cy="1440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5291280" y="2492280"/>
            <a:ext cx="136836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8091360" y="5013360"/>
            <a:ext cx="4813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4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a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ill pain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house </a:t>
            </a: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next wee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4000" y="504360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i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087640" y="4538520"/>
            <a:ext cx="612720" cy="6480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448000" y="321156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144240" y="4079880"/>
            <a:ext cx="289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resen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8292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87640" y="2492280"/>
            <a:ext cx="13687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03280" y="5475240"/>
            <a:ext cx="20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5346720" y="2492280"/>
            <a:ext cx="1268280" cy="13683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5291280" y="2492280"/>
            <a:ext cx="136836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7020000" y="2133720"/>
            <a:ext cx="1800000" cy="1799640"/>
            <a:chOff x="7020000" y="2133720"/>
            <a:chExt cx="1800000" cy="1799640"/>
          </a:xfrm>
        </p:grpSpPr>
        <p:sp>
          <p:nvSpPr>
            <p:cNvPr id="366" name=""/>
            <p:cNvSpPr/>
            <p:nvPr/>
          </p:nvSpPr>
          <p:spPr>
            <a:xfrm>
              <a:off x="7020000" y="213372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" descr=""/>
            <p:cNvPicPr/>
            <p:nvPr/>
          </p:nvPicPr>
          <p:blipFill>
            <a:blip r:embed="rId3"/>
            <a:stretch/>
          </p:blipFill>
          <p:spPr>
            <a:xfrm>
              <a:off x="7308720" y="279216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d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y _____ television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263700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e wa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211640" y="3573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c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d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re watch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elevision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e wa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446200" y="321156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65480" y="4079880"/>
            <a:ext cx="299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Presen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8436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29272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87640" y="2492280"/>
            <a:ext cx="136872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932360" y="4581360"/>
            <a:ext cx="3960720" cy="1046880"/>
            <a:chOff x="4932360" y="4581360"/>
            <a:chExt cx="3960720" cy="1046880"/>
          </a:xfrm>
        </p:grpSpPr>
        <p:sp>
          <p:nvSpPr>
            <p:cNvPr id="379" name=""/>
            <p:cNvSpPr/>
            <p:nvPr/>
          </p:nvSpPr>
          <p:spPr>
            <a:xfrm>
              <a:off x="4932360" y="522936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Ultra Bold"/>
                </a:rPr>
                <a:t>SUPER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0" name="" descr=""/>
            <p:cNvPicPr/>
            <p:nvPr/>
          </p:nvPicPr>
          <p:blipFill>
            <a:blip r:embed="rId1"/>
            <a:stretch/>
          </p:blipFill>
          <p:spPr>
            <a:xfrm>
              <a:off x="6516720" y="4581360"/>
              <a:ext cx="561960" cy="6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3978360" y="2565360"/>
            <a:ext cx="1187280" cy="13302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4284720" y="5013360"/>
            <a:ext cx="4809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d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re watch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elevision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e wa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497196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c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6372360" y="4538520"/>
            <a:ext cx="546120" cy="576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5724360" y="540396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46200" y="321156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093840" y="4079880"/>
            <a:ext cx="299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Presen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48436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29272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87640" y="2492280"/>
            <a:ext cx="136872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3978360" y="2565360"/>
            <a:ext cx="1187280" cy="1330200"/>
          </a:xfrm>
          <a:prstGeom prst="rect">
            <a:avLst/>
          </a:prstGeom>
          <a:ln w="0">
            <a:noFill/>
          </a:ln>
        </p:spPr>
      </p:pic>
      <p:grpSp>
        <p:nvGrpSpPr>
          <p:cNvPr id="394" name=""/>
          <p:cNvGrpSpPr/>
          <p:nvPr/>
        </p:nvGrpSpPr>
        <p:grpSpPr>
          <a:xfrm>
            <a:off x="7020000" y="2133720"/>
            <a:ext cx="1800000" cy="1799640"/>
            <a:chOff x="7020000" y="2133720"/>
            <a:chExt cx="1800000" cy="1799640"/>
          </a:xfrm>
        </p:grpSpPr>
        <p:sp>
          <p:nvSpPr>
            <p:cNvPr id="395" name=""/>
            <p:cNvSpPr/>
            <p:nvPr/>
          </p:nvSpPr>
          <p:spPr>
            <a:xfrm>
              <a:off x="7020000" y="213372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3"/>
            <a:stretch/>
          </p:blipFill>
          <p:spPr>
            <a:xfrm>
              <a:off x="7308720" y="279216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c0000"/>
                </a:solidFill>
                <a:latin typeface="Comic Sans MS"/>
              </a:rPr>
              <a:t>Now</a:t>
            </a: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 he _____ the ball.</a:t>
            </a:r>
            <a:endParaRPr b="1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324000" y="2060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ki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00720" y="3213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ic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s kick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ball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ki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46200" y="321156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989080" y="4079880"/>
            <a:ext cx="299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Presen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8436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9272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87640" y="2492280"/>
            <a:ext cx="136872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932360" y="4581360"/>
            <a:ext cx="3960720" cy="1046880"/>
            <a:chOff x="4932360" y="4581360"/>
            <a:chExt cx="3960720" cy="1046880"/>
          </a:xfrm>
        </p:grpSpPr>
        <p:sp>
          <p:nvSpPr>
            <p:cNvPr id="408" name=""/>
            <p:cNvSpPr/>
            <p:nvPr/>
          </p:nvSpPr>
          <p:spPr>
            <a:xfrm>
              <a:off x="4932360" y="522936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Ultra Bold"/>
                </a:rPr>
                <a:t>AWESOME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9" name="" descr=""/>
            <p:cNvPicPr/>
            <p:nvPr/>
          </p:nvPicPr>
          <p:blipFill>
            <a:blip r:embed="rId1"/>
            <a:stretch/>
          </p:blipFill>
          <p:spPr>
            <a:xfrm>
              <a:off x="6516720" y="4581360"/>
              <a:ext cx="561960" cy="6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3924360" y="2565360"/>
            <a:ext cx="1295280" cy="13525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3851280" y="5013360"/>
            <a:ext cx="4809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80000" y="494172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93080" y="260280"/>
            <a:ext cx="1728720" cy="1297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92440" y="134136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ek 7 IT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5440" y="609300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To be viewed as slide sh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112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ast, Present and Future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s kick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ball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ki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ic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372360" y="4437000"/>
            <a:ext cx="684000" cy="7225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5508720" y="5373720"/>
            <a:ext cx="25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46200" y="321156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21120" y="4079880"/>
            <a:ext cx="308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Presen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48436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29272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87640" y="2492280"/>
            <a:ext cx="136872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3924360" y="2565360"/>
            <a:ext cx="1295280" cy="135252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7020000" y="2133720"/>
            <a:ext cx="1800000" cy="1799640"/>
            <a:chOff x="7020000" y="2133720"/>
            <a:chExt cx="1800000" cy="1799640"/>
          </a:xfrm>
        </p:grpSpPr>
        <p:sp>
          <p:nvSpPr>
            <p:cNvPr id="424" name=""/>
            <p:cNvSpPr/>
            <p:nvPr/>
          </p:nvSpPr>
          <p:spPr>
            <a:xfrm>
              <a:off x="7020000" y="213372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" descr=""/>
            <p:cNvPicPr/>
            <p:nvPr/>
          </p:nvPicPr>
          <p:blipFill>
            <a:blip r:embed="rId3"/>
            <a:stretch/>
          </p:blipFill>
          <p:spPr>
            <a:xfrm>
              <a:off x="7308720" y="279216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y _____ the car </a:t>
            </a: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so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324000" y="220500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w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700360" y="328464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s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ill wash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car </a:t>
            </a: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so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w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446200" y="321156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79720" y="4079880"/>
            <a:ext cx="30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resen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411280" y="2492280"/>
            <a:ext cx="13687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14920" y="2492280"/>
            <a:ext cx="14047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932360" y="4581360"/>
            <a:ext cx="3960720" cy="1046880"/>
            <a:chOff x="4932360" y="4581360"/>
            <a:chExt cx="3960720" cy="1046880"/>
          </a:xfrm>
        </p:grpSpPr>
        <p:sp>
          <p:nvSpPr>
            <p:cNvPr id="436" name=""/>
            <p:cNvSpPr/>
            <p:nvPr/>
          </p:nvSpPr>
          <p:spPr>
            <a:xfrm>
              <a:off x="4932360" y="522936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Ultra Bold"/>
                </a:rPr>
                <a:t>SUPER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7" name="" descr=""/>
            <p:cNvPicPr/>
            <p:nvPr/>
          </p:nvPicPr>
          <p:blipFill>
            <a:blip r:embed="rId1"/>
            <a:stretch/>
          </p:blipFill>
          <p:spPr>
            <a:xfrm>
              <a:off x="6516720" y="4581360"/>
              <a:ext cx="561960" cy="6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5292720" y="2565360"/>
            <a:ext cx="1366920" cy="13302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5219640" y="2492280"/>
            <a:ext cx="144000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3924360" y="5013360"/>
            <a:ext cx="4809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ill wash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car </a:t>
            </a: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so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w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s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6372360" y="4365720"/>
            <a:ext cx="612720" cy="6476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5724360" y="5373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446200" y="321156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06160" y="4079880"/>
            <a:ext cx="285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resen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411280" y="2492280"/>
            <a:ext cx="13687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814920" y="2492280"/>
            <a:ext cx="14047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5292720" y="2565360"/>
            <a:ext cx="1366920" cy="13302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5219640" y="2492280"/>
            <a:ext cx="144000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020000" y="2133720"/>
            <a:ext cx="1800000" cy="1799640"/>
            <a:chOff x="7020000" y="2133720"/>
            <a:chExt cx="1800000" cy="1799640"/>
          </a:xfrm>
        </p:grpSpPr>
        <p:sp>
          <p:nvSpPr>
            <p:cNvPr id="453" name=""/>
            <p:cNvSpPr/>
            <p:nvPr/>
          </p:nvSpPr>
          <p:spPr>
            <a:xfrm>
              <a:off x="7020000" y="213372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4" name="" descr=""/>
            <p:cNvPicPr/>
            <p:nvPr/>
          </p:nvPicPr>
          <p:blipFill>
            <a:blip r:embed="rId3"/>
            <a:stretch/>
          </p:blipFill>
          <p:spPr>
            <a:xfrm>
              <a:off x="7308720" y="279216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e _____ his hair </a:t>
            </a: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so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>
            <a:off x="324000" y="198900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co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43280" y="314172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ill comb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is hair </a:t>
            </a: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so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co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446200" y="321156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042000" y="4079880"/>
            <a:ext cx="308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resen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411280" y="2492280"/>
            <a:ext cx="144000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87640" y="2492280"/>
            <a:ext cx="13687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932360" y="4581360"/>
            <a:ext cx="3960720" cy="1046880"/>
            <a:chOff x="4932360" y="4581360"/>
            <a:chExt cx="3960720" cy="1046880"/>
          </a:xfrm>
        </p:grpSpPr>
        <p:sp>
          <p:nvSpPr>
            <p:cNvPr id="465" name=""/>
            <p:cNvSpPr/>
            <p:nvPr/>
          </p:nvSpPr>
          <p:spPr>
            <a:xfrm>
              <a:off x="4932360" y="522936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Ultra Bold"/>
                </a:rPr>
                <a:t>FANTASTIC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6" name="" descr=""/>
            <p:cNvPicPr/>
            <p:nvPr/>
          </p:nvPicPr>
          <p:blipFill>
            <a:blip r:embed="rId1"/>
            <a:stretch/>
          </p:blipFill>
          <p:spPr>
            <a:xfrm>
              <a:off x="6516720" y="4581360"/>
              <a:ext cx="561960" cy="6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5359320" y="2637000"/>
            <a:ext cx="1230480" cy="129672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5291280" y="2492280"/>
            <a:ext cx="136836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851280" y="5011560"/>
            <a:ext cx="4809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ill comb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is hair </a:t>
            </a: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so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co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6372360" y="4365720"/>
            <a:ext cx="684000" cy="72216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5724360" y="5373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446200" y="321156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411280" y="2492280"/>
            <a:ext cx="144000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887640" y="2492280"/>
            <a:ext cx="13687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5359320" y="2637000"/>
            <a:ext cx="1230480" cy="12967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5291280" y="2492280"/>
            <a:ext cx="136836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877080" y="2060640"/>
            <a:ext cx="1800000" cy="1799640"/>
            <a:chOff x="6877080" y="2060640"/>
            <a:chExt cx="1800000" cy="1799640"/>
          </a:xfrm>
        </p:grpSpPr>
        <p:sp>
          <p:nvSpPr>
            <p:cNvPr id="481" name=""/>
            <p:cNvSpPr/>
            <p:nvPr/>
          </p:nvSpPr>
          <p:spPr>
            <a:xfrm>
              <a:off x="6877080" y="2060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2" name="" descr=""/>
            <p:cNvPicPr/>
            <p:nvPr/>
          </p:nvPicPr>
          <p:blipFill>
            <a:blip r:embed="rId3"/>
            <a:stretch/>
          </p:blipFill>
          <p:spPr>
            <a:xfrm>
              <a:off x="7165800" y="271908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"/>
          <p:cNvSpPr/>
          <p:nvPr/>
        </p:nvSpPr>
        <p:spPr>
          <a:xfrm>
            <a:off x="2995920" y="4079880"/>
            <a:ext cx="308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resen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4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Dad _____ the baby </a:t>
            </a:r>
            <a:r>
              <a:rPr b="1" lang="en-US" sz="3000" spc="-1" strike="noStrike">
                <a:solidFill>
                  <a:srgbClr val="fc0000"/>
                </a:solidFill>
                <a:latin typeface="Comic Sans MS"/>
              </a:rPr>
              <a:t>now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carr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rr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4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s carrying</a:t>
            </a:r>
            <a:r>
              <a:rPr b="1" lang="en-US" sz="28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aby </a:t>
            </a:r>
            <a:r>
              <a:rPr b="1" lang="en-US" sz="2800" spc="-1" strike="noStrike">
                <a:solidFill>
                  <a:srgbClr val="fc0000"/>
                </a:solidFill>
                <a:latin typeface="Comic Sans MS"/>
              </a:rPr>
              <a:t>now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carr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46200" y="321156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48436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92720" y="2492280"/>
            <a:ext cx="144000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887640" y="2492280"/>
            <a:ext cx="140508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932360" y="4581360"/>
            <a:ext cx="3960720" cy="1046880"/>
            <a:chOff x="4932360" y="4581360"/>
            <a:chExt cx="3960720" cy="1046880"/>
          </a:xfrm>
        </p:grpSpPr>
        <p:sp>
          <p:nvSpPr>
            <p:cNvPr id="494" name=""/>
            <p:cNvSpPr/>
            <p:nvPr/>
          </p:nvSpPr>
          <p:spPr>
            <a:xfrm>
              <a:off x="4932360" y="522936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Ultra Bold"/>
                </a:rPr>
                <a:t>GOOD ANSWER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5" name="" descr=""/>
            <p:cNvPicPr/>
            <p:nvPr/>
          </p:nvPicPr>
          <p:blipFill>
            <a:blip r:embed="rId1"/>
            <a:stretch/>
          </p:blipFill>
          <p:spPr>
            <a:xfrm>
              <a:off x="6516720" y="4581360"/>
              <a:ext cx="561960" cy="6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3984480" y="2565360"/>
            <a:ext cx="1175040" cy="136512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2979720" y="4079880"/>
            <a:ext cx="30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Presen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3"/>
          <a:stretch/>
        </p:blipFill>
        <p:spPr>
          <a:xfrm>
            <a:off x="3995640" y="5013360"/>
            <a:ext cx="4809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4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s carrying</a:t>
            </a:r>
            <a:r>
              <a:rPr b="1" lang="en-US" sz="28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aby </a:t>
            </a:r>
            <a:r>
              <a:rPr b="1" lang="en-US" sz="2800" spc="-1" strike="noStrike">
                <a:solidFill>
                  <a:srgbClr val="fc0000"/>
                </a:solidFill>
                <a:latin typeface="Comic Sans MS"/>
              </a:rPr>
              <a:t>now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carr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rr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6372360" y="4437000"/>
            <a:ext cx="684000" cy="72252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5435640" y="537372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446200" y="321156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48436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92720" y="2492280"/>
            <a:ext cx="144000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887640" y="2492280"/>
            <a:ext cx="140508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3984480" y="2565360"/>
            <a:ext cx="1175040" cy="13651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2979720" y="4079880"/>
            <a:ext cx="30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Presen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7020000" y="2133720"/>
            <a:ext cx="1800000" cy="1799640"/>
            <a:chOff x="7020000" y="2133720"/>
            <a:chExt cx="1800000" cy="1799640"/>
          </a:xfrm>
        </p:grpSpPr>
        <p:sp>
          <p:nvSpPr>
            <p:cNvPr id="511" name=""/>
            <p:cNvSpPr/>
            <p:nvPr/>
          </p:nvSpPr>
          <p:spPr>
            <a:xfrm>
              <a:off x="7020000" y="213372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2" name="" descr=""/>
            <p:cNvPicPr/>
            <p:nvPr/>
          </p:nvPicPr>
          <p:blipFill>
            <a:blip r:embed="rId3"/>
            <a:stretch/>
          </p:blipFill>
          <p:spPr>
            <a:xfrm>
              <a:off x="7308720" y="279216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um  _______ the dinner </a:t>
            </a: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so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278136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o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4076640"/>
            <a:ext cx="35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40360" y="56610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ill c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085240" y="260280"/>
            <a:ext cx="105876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So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y _____ the boxes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c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643280" y="494172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p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So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ill pac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boxes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"/>
          <p:cNvSpPr/>
          <p:nvPr/>
        </p:nvSpPr>
        <p:spPr>
          <a:xfrm>
            <a:off x="4643280" y="494172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p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448000" y="321156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48436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87640" y="2492280"/>
            <a:ext cx="13687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468360" y="4581360"/>
            <a:ext cx="3960720" cy="1046880"/>
            <a:chOff x="468360" y="4581360"/>
            <a:chExt cx="3960720" cy="1046880"/>
          </a:xfrm>
        </p:grpSpPr>
        <p:sp>
          <p:nvSpPr>
            <p:cNvPr id="522" name=""/>
            <p:cNvSpPr/>
            <p:nvPr/>
          </p:nvSpPr>
          <p:spPr>
            <a:xfrm>
              <a:off x="468360" y="522936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Ultra Bold"/>
                </a:rPr>
                <a:t>GREAT JOB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2052720" y="4581360"/>
              <a:ext cx="561960" cy="6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5362560" y="2637000"/>
            <a:ext cx="1336680" cy="107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5292720" y="2492280"/>
            <a:ext cx="144000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995920" y="4079880"/>
            <a:ext cx="308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resen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8091360" y="5013360"/>
            <a:ext cx="4813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So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ill pac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boxes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24000" y="497196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c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643280" y="494172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p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2082960" y="4467240"/>
            <a:ext cx="544320" cy="57636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1403280" y="5403960"/>
            <a:ext cx="20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48000" y="321156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48436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87640" y="2492280"/>
            <a:ext cx="13687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5362560" y="2637000"/>
            <a:ext cx="1336680" cy="10792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5292720" y="2492280"/>
            <a:ext cx="144000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113280" y="4079880"/>
            <a:ext cx="308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resen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7020000" y="2133720"/>
            <a:ext cx="1800000" cy="1799640"/>
            <a:chOff x="7020000" y="2133720"/>
            <a:chExt cx="1800000" cy="1799640"/>
          </a:xfrm>
        </p:grpSpPr>
        <p:sp>
          <p:nvSpPr>
            <p:cNvPr id="540" name=""/>
            <p:cNvSpPr/>
            <p:nvPr/>
          </p:nvSpPr>
          <p:spPr>
            <a:xfrm>
              <a:off x="7020000" y="213372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1" name="" descr=""/>
            <p:cNvPicPr/>
            <p:nvPr/>
          </p:nvPicPr>
          <p:blipFill>
            <a:blip r:embed="rId3"/>
            <a:stretch/>
          </p:blipFill>
          <p:spPr>
            <a:xfrm>
              <a:off x="7308720" y="279216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4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she _____ her ice-cream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li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c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4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000"/>
                </a:solidFill>
                <a:latin typeface="Comic Sans MS"/>
              </a:rPr>
              <a:t>No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s lick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er ice-cream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li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448000" y="319572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484360" y="247644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292720" y="247644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887640" y="2476440"/>
            <a:ext cx="136872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468360" y="4581360"/>
            <a:ext cx="3960720" cy="1046880"/>
            <a:chOff x="468360" y="4581360"/>
            <a:chExt cx="3960720" cy="1046880"/>
          </a:xfrm>
        </p:grpSpPr>
        <p:sp>
          <p:nvSpPr>
            <p:cNvPr id="552" name=""/>
            <p:cNvSpPr/>
            <p:nvPr/>
          </p:nvSpPr>
          <p:spPr>
            <a:xfrm>
              <a:off x="468360" y="522936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Ultra Bold"/>
                </a:rPr>
                <a:t>WELL DONE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3" name="" descr=""/>
            <p:cNvPicPr/>
            <p:nvPr/>
          </p:nvPicPr>
          <p:blipFill>
            <a:blip r:embed="rId1"/>
            <a:stretch/>
          </p:blipFill>
          <p:spPr>
            <a:xfrm>
              <a:off x="2052720" y="4581360"/>
              <a:ext cx="561960" cy="6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3932280" y="2549520"/>
            <a:ext cx="1281240" cy="12952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2979720" y="4079880"/>
            <a:ext cx="30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      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Present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        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8091360" y="5013360"/>
            <a:ext cx="4813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4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000"/>
                </a:solidFill>
                <a:latin typeface="Comic Sans MS"/>
              </a:rPr>
              <a:t>No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s lick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er ice-cream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li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c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2050920" y="4365720"/>
            <a:ext cx="613080" cy="64764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1403280" y="5373720"/>
            <a:ext cx="20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448000" y="319572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484360" y="247644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292720" y="247644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887640" y="2476440"/>
            <a:ext cx="136872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3932280" y="2549520"/>
            <a:ext cx="1281240" cy="129528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2995920" y="4079880"/>
            <a:ext cx="308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       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Present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        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7020000" y="2133720"/>
            <a:ext cx="1800000" cy="1799640"/>
            <a:chOff x="7020000" y="2133720"/>
            <a:chExt cx="1800000" cy="1799640"/>
          </a:xfrm>
        </p:grpSpPr>
        <p:sp>
          <p:nvSpPr>
            <p:cNvPr id="569" name=""/>
            <p:cNvSpPr/>
            <p:nvPr/>
          </p:nvSpPr>
          <p:spPr>
            <a:xfrm>
              <a:off x="7020000" y="213372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" descr=""/>
            <p:cNvPicPr/>
            <p:nvPr/>
          </p:nvPicPr>
          <p:blipFill>
            <a:blip r:embed="rId3"/>
            <a:stretch/>
          </p:blipFill>
          <p:spPr>
            <a:xfrm>
              <a:off x="7308720" y="279216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d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y ______ the party </a:t>
            </a: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lat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enjo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572000" y="4941720"/>
            <a:ext cx="42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jo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d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ill enjo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party </a:t>
            </a: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lat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enjo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446200" y="321156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411280" y="2492280"/>
            <a:ext cx="13687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51280" y="2492280"/>
            <a:ext cx="140508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932360" y="4581360"/>
            <a:ext cx="3960720" cy="1046880"/>
            <a:chOff x="4932360" y="4581360"/>
            <a:chExt cx="3960720" cy="1046880"/>
          </a:xfrm>
        </p:grpSpPr>
        <p:sp>
          <p:nvSpPr>
            <p:cNvPr id="580" name=""/>
            <p:cNvSpPr/>
            <p:nvPr/>
          </p:nvSpPr>
          <p:spPr>
            <a:xfrm>
              <a:off x="4932360" y="522936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Ultra Bold"/>
                </a:rPr>
                <a:t>GREAT JOB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" descr=""/>
            <p:cNvPicPr/>
            <p:nvPr/>
          </p:nvPicPr>
          <p:blipFill>
            <a:blip r:embed="rId1"/>
            <a:stretch/>
          </p:blipFill>
          <p:spPr>
            <a:xfrm>
              <a:off x="6516720" y="4581360"/>
              <a:ext cx="561960" cy="6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5362560" y="2565360"/>
            <a:ext cx="1266840" cy="124632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5291280" y="2492280"/>
            <a:ext cx="136836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995920" y="4079880"/>
            <a:ext cx="308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           Present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       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3851280" y="5013360"/>
            <a:ext cx="4809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d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ill enjo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party </a:t>
            </a: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lat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enjo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572000" y="4941720"/>
            <a:ext cx="42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jo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6372360" y="4510080"/>
            <a:ext cx="612720" cy="6476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5724360" y="5373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446200" y="321156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11280" y="2492280"/>
            <a:ext cx="13687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851280" y="2492280"/>
            <a:ext cx="140508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5362560" y="2565360"/>
            <a:ext cx="1266840" cy="124632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5291280" y="2492280"/>
            <a:ext cx="136836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979720" y="4079880"/>
            <a:ext cx="30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           Present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       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7020000" y="2133720"/>
            <a:ext cx="1800000" cy="1799640"/>
            <a:chOff x="7020000" y="2133720"/>
            <a:chExt cx="1800000" cy="1799640"/>
          </a:xfrm>
        </p:grpSpPr>
        <p:sp>
          <p:nvSpPr>
            <p:cNvPr id="598" name=""/>
            <p:cNvSpPr/>
            <p:nvPr/>
          </p:nvSpPr>
          <p:spPr>
            <a:xfrm>
              <a:off x="7020000" y="213372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9" name="" descr=""/>
            <p:cNvPicPr/>
            <p:nvPr/>
          </p:nvPicPr>
          <p:blipFill>
            <a:blip r:embed="rId3"/>
            <a:stretch/>
          </p:blipFill>
          <p:spPr>
            <a:xfrm>
              <a:off x="7308720" y="279216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b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78920" y="691920"/>
            <a:ext cx="851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he _____ for her picture </a:t>
            </a:r>
            <a:r>
              <a:rPr b="1" lang="en-US" sz="3200" spc="-1" strike="noStrike">
                <a:solidFill>
                  <a:srgbClr val="fc0000"/>
                </a:solidFill>
                <a:latin typeface="Comic Sans MS"/>
              </a:rPr>
              <a:t>tomorro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o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um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ill coo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dinner </a:t>
            </a: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so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52592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c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8000" y="321156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98800" y="4079880"/>
            <a:ext cx="30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resen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8292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9128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1280" y="2492280"/>
            <a:ext cx="136836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433840" y="2708280"/>
            <a:ext cx="1043280" cy="100476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468360" y="4941720"/>
            <a:ext cx="3960720" cy="1046880"/>
            <a:chOff x="468360" y="4941720"/>
            <a:chExt cx="3960720" cy="1046880"/>
          </a:xfrm>
        </p:grpSpPr>
        <p:sp>
          <p:nvSpPr>
            <p:cNvPr id="74" name=""/>
            <p:cNvSpPr/>
            <p:nvPr/>
          </p:nvSpPr>
          <p:spPr>
            <a:xfrm>
              <a:off x="468360" y="558972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Ultra Bold"/>
                </a:rPr>
                <a:t>WELL DONE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052720" y="4941720"/>
              <a:ext cx="561960" cy="6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8091360" y="5300640"/>
            <a:ext cx="4813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b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ill loo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r her picture </a:t>
            </a:r>
            <a:r>
              <a:rPr b="1" lang="en-US" sz="3200" spc="-1" strike="noStrike">
                <a:solidFill>
                  <a:srgbClr val="fc0000"/>
                </a:solidFill>
                <a:latin typeface="Comic Sans MS"/>
              </a:rPr>
              <a:t>tomorro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48000" y="321156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48436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364000" y="2492280"/>
            <a:ext cx="136872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87640" y="2492280"/>
            <a:ext cx="13687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68360" y="4761000"/>
            <a:ext cx="3960720" cy="1046520"/>
            <a:chOff x="468360" y="4761000"/>
            <a:chExt cx="3960720" cy="1046520"/>
          </a:xfrm>
        </p:grpSpPr>
        <p:sp>
          <p:nvSpPr>
            <p:cNvPr id="610" name=""/>
            <p:cNvSpPr/>
            <p:nvPr/>
          </p:nvSpPr>
          <p:spPr>
            <a:xfrm>
              <a:off x="468360" y="540864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Ultra Bold"/>
                </a:rPr>
                <a:t>GOOD ANSWER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1" name="" descr=""/>
            <p:cNvPicPr/>
            <p:nvPr/>
          </p:nvPicPr>
          <p:blipFill>
            <a:blip r:embed="rId1"/>
            <a:stretch/>
          </p:blipFill>
          <p:spPr>
            <a:xfrm>
              <a:off x="2052720" y="4761000"/>
              <a:ext cx="561960" cy="62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5435640" y="2611440"/>
            <a:ext cx="1247760" cy="132228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2995920" y="4079880"/>
            <a:ext cx="308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           Present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       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3"/>
          <a:stretch/>
        </p:blipFill>
        <p:spPr>
          <a:xfrm>
            <a:off x="7812000" y="5011560"/>
            <a:ext cx="4809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b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ill loo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r her picture </a:t>
            </a:r>
            <a:r>
              <a:rPr b="1" lang="en-US" sz="3200" spc="-1" strike="noStrike">
                <a:solidFill>
                  <a:srgbClr val="fc0000"/>
                </a:solidFill>
                <a:latin typeface="Comic Sans MS"/>
              </a:rPr>
              <a:t>tomorro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24000" y="50864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o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2050920" y="4508640"/>
            <a:ext cx="614520" cy="64908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1403280" y="5518080"/>
            <a:ext cx="20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448000" y="321156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48436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364000" y="2492280"/>
            <a:ext cx="136872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887640" y="2492280"/>
            <a:ext cx="13687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2"/>
          <a:stretch/>
        </p:blipFill>
        <p:spPr>
          <a:xfrm>
            <a:off x="5435640" y="2611440"/>
            <a:ext cx="1247760" cy="132228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2995920" y="4079880"/>
            <a:ext cx="308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           Present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       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020000" y="2133720"/>
            <a:ext cx="1800000" cy="1799640"/>
            <a:chOff x="7020000" y="2133720"/>
            <a:chExt cx="1800000" cy="1799640"/>
          </a:xfrm>
        </p:grpSpPr>
        <p:sp>
          <p:nvSpPr>
            <p:cNvPr id="627" name=""/>
            <p:cNvSpPr/>
            <p:nvPr/>
          </p:nvSpPr>
          <p:spPr>
            <a:xfrm>
              <a:off x="7020000" y="213372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8" name="" descr=""/>
            <p:cNvPicPr/>
            <p:nvPr/>
          </p:nvPicPr>
          <p:blipFill>
            <a:blip r:embed="rId3"/>
            <a:stretch/>
          </p:blipFill>
          <p:spPr>
            <a:xfrm>
              <a:off x="7308720" y="279216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You must _____ him </a:t>
            </a:r>
            <a:r>
              <a:rPr b="1" lang="en-US" sz="3700" spc="-1" strike="noStrike">
                <a:solidFill>
                  <a:srgbClr val="fc0000"/>
                </a:solidFill>
                <a:latin typeface="Comic Sans MS"/>
              </a:rPr>
              <a:t>soon</a:t>
            </a: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x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You must </a:t>
            </a:r>
            <a:r>
              <a:rPr b="1" lang="en-US" sz="3700" spc="-1" strike="noStrike" u="sng">
                <a:solidFill>
                  <a:srgbClr val="000000"/>
                </a:solidFill>
                <a:uFillTx/>
                <a:latin typeface="Comic Sans MS"/>
              </a:rPr>
              <a:t>text</a:t>
            </a: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 him </a:t>
            </a:r>
            <a:r>
              <a:rPr b="1" lang="en-US" sz="3700" spc="-1" strike="noStrike">
                <a:solidFill>
                  <a:srgbClr val="fc0000"/>
                </a:solidFill>
                <a:latin typeface="Comic Sans MS"/>
              </a:rPr>
              <a:t>soon</a:t>
            </a: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"/>
          <p:cNvSpPr/>
          <p:nvPr/>
        </p:nvSpPr>
        <p:spPr>
          <a:xfrm>
            <a:off x="4964040" y="2487600"/>
            <a:ext cx="73080" cy="353880"/>
          </a:xfrm>
          <a:custGeom>
            <a:avLst/>
            <a:gdLst/>
            <a:ahLst/>
            <a:rect l="l" t="t" r="r" b="b"/>
            <a:pathLst>
              <a:path w="92" h="445">
                <a:moveTo>
                  <a:pt x="92" y="445"/>
                </a:moveTo>
                <a:lnTo>
                  <a:pt x="92" y="33"/>
                </a:lnTo>
                <a:lnTo>
                  <a:pt x="0" y="0"/>
                </a:lnTo>
                <a:lnTo>
                  <a:pt x="0" y="411"/>
                </a:lnTo>
                <a:lnTo>
                  <a:pt x="92" y="4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000"/>
                </a:solidFill>
                <a:latin typeface="Comic Sans MS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446200" y="319572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484360" y="247644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887640" y="2476440"/>
            <a:ext cx="13687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932360" y="4581360"/>
            <a:ext cx="3960720" cy="1046880"/>
            <a:chOff x="4932360" y="4581360"/>
            <a:chExt cx="3960720" cy="1046880"/>
          </a:xfrm>
        </p:grpSpPr>
        <p:sp>
          <p:nvSpPr>
            <p:cNvPr id="639" name=""/>
            <p:cNvSpPr/>
            <p:nvPr/>
          </p:nvSpPr>
          <p:spPr>
            <a:xfrm>
              <a:off x="4932360" y="522936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Ultra Bold"/>
                </a:rPr>
                <a:t>FANTASTIC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0" name="" descr=""/>
            <p:cNvPicPr/>
            <p:nvPr/>
          </p:nvPicPr>
          <p:blipFill>
            <a:blip r:embed="rId1"/>
            <a:stretch/>
          </p:blipFill>
          <p:spPr>
            <a:xfrm>
              <a:off x="6516720" y="4581360"/>
              <a:ext cx="561960" cy="6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5364000" y="2549520"/>
            <a:ext cx="1295640" cy="136836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5292720" y="2476440"/>
            <a:ext cx="136836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79720" y="4079880"/>
            <a:ext cx="30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          Present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       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3492360" y="5013360"/>
            <a:ext cx="4813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You must </a:t>
            </a:r>
            <a:r>
              <a:rPr b="1" lang="en-US" sz="3700" spc="-1" strike="noStrike" u="sng">
                <a:solidFill>
                  <a:srgbClr val="000000"/>
                </a:solidFill>
                <a:uFillTx/>
                <a:latin typeface="Comic Sans MS"/>
              </a:rPr>
              <a:t>text</a:t>
            </a: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 him </a:t>
            </a:r>
            <a:r>
              <a:rPr b="1" lang="en-US" sz="3700" spc="-1" strike="noStrike">
                <a:solidFill>
                  <a:srgbClr val="fc0000"/>
                </a:solidFill>
                <a:latin typeface="Comic Sans MS"/>
              </a:rPr>
              <a:t>soon</a:t>
            </a: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4964040" y="2487600"/>
            <a:ext cx="73080" cy="353880"/>
          </a:xfrm>
          <a:custGeom>
            <a:avLst/>
            <a:gdLst/>
            <a:ahLst/>
            <a:rect l="l" t="t" r="r" b="b"/>
            <a:pathLst>
              <a:path w="92" h="445">
                <a:moveTo>
                  <a:pt x="92" y="445"/>
                </a:moveTo>
                <a:lnTo>
                  <a:pt x="92" y="33"/>
                </a:lnTo>
                <a:lnTo>
                  <a:pt x="0" y="0"/>
                </a:lnTo>
                <a:lnTo>
                  <a:pt x="0" y="411"/>
                </a:lnTo>
                <a:lnTo>
                  <a:pt x="92" y="4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572000" y="497196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x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6404040" y="4467240"/>
            <a:ext cx="544320" cy="57636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5724360" y="5373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46200" y="319572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484360" y="247644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87640" y="2476440"/>
            <a:ext cx="13687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5364000" y="2549520"/>
            <a:ext cx="1295640" cy="136836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5292720" y="2476440"/>
            <a:ext cx="136836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948360" y="2205000"/>
            <a:ext cx="1800000" cy="1800360"/>
            <a:chOff x="6948360" y="2205000"/>
            <a:chExt cx="1800000" cy="1800360"/>
          </a:xfrm>
        </p:grpSpPr>
        <p:sp>
          <p:nvSpPr>
            <p:cNvPr id="657" name=""/>
            <p:cNvSpPr/>
            <p:nvPr/>
          </p:nvSpPr>
          <p:spPr>
            <a:xfrm>
              <a:off x="6948360" y="2205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8" name="" descr=""/>
            <p:cNvPicPr/>
            <p:nvPr/>
          </p:nvPicPr>
          <p:blipFill>
            <a:blip r:embed="rId3"/>
            <a:stretch/>
          </p:blipFill>
          <p:spPr>
            <a:xfrm>
              <a:off x="7237080" y="2863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9" name=""/>
          <p:cNvSpPr/>
          <p:nvPr/>
        </p:nvSpPr>
        <p:spPr>
          <a:xfrm>
            <a:off x="2979720" y="4079880"/>
            <a:ext cx="30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          Present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       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4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000"/>
                </a:solidFill>
                <a:latin typeface="Comic Sans MS"/>
              </a:rPr>
              <a:t>No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e _____ someone will steal the money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worr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r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4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000"/>
                </a:solidFill>
                <a:latin typeface="Comic Sans MS"/>
              </a:rPr>
              <a:t>No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s worry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omeone will steal the money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"/>
          <p:cNvSpPr/>
          <p:nvPr/>
        </p:nvSpPr>
        <p:spPr>
          <a:xfrm>
            <a:off x="4572000" y="504360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worr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448000" y="321156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411280" y="2492280"/>
            <a:ext cx="13687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29128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80000" y="2494080"/>
            <a:ext cx="147636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539640" y="4761000"/>
            <a:ext cx="3960720" cy="1046520"/>
            <a:chOff x="539640" y="4761000"/>
            <a:chExt cx="3960720" cy="1046520"/>
          </a:xfrm>
        </p:grpSpPr>
        <p:sp>
          <p:nvSpPr>
            <p:cNvPr id="670" name=""/>
            <p:cNvSpPr/>
            <p:nvPr/>
          </p:nvSpPr>
          <p:spPr>
            <a:xfrm>
              <a:off x="539640" y="540864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Ultra Bold"/>
                </a:rPr>
                <a:t>WELL DONE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1" name="" descr=""/>
            <p:cNvPicPr/>
            <p:nvPr/>
          </p:nvPicPr>
          <p:blipFill>
            <a:blip r:embed="rId1"/>
            <a:stretch/>
          </p:blipFill>
          <p:spPr>
            <a:xfrm>
              <a:off x="2124000" y="4761000"/>
              <a:ext cx="561960" cy="62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3949560" y="2567160"/>
            <a:ext cx="1054080" cy="132228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2995920" y="4079880"/>
            <a:ext cx="308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      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 Present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          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3"/>
          <a:stretch/>
        </p:blipFill>
        <p:spPr>
          <a:xfrm>
            <a:off x="8267760" y="5084640"/>
            <a:ext cx="4809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4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000"/>
                </a:solidFill>
                <a:latin typeface="Comic Sans MS"/>
              </a:rPr>
              <a:t>No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s worry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omeone will steal the money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worr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r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2082960" y="4508640"/>
            <a:ext cx="544320" cy="57600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1403280" y="5373720"/>
            <a:ext cx="20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448000" y="321156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411280" y="2492280"/>
            <a:ext cx="13687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29128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780000" y="2494080"/>
            <a:ext cx="147636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3949560" y="2567160"/>
            <a:ext cx="1054080" cy="132228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3032280" y="4079880"/>
            <a:ext cx="30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808080"/>
                </a:solidFill>
                <a:latin typeface="Comic Sans MS"/>
              </a:rPr>
              <a:t>Past         </a:t>
            </a:r>
            <a:r>
              <a:rPr b="1" lang="en-GB" sz="1400" spc="-1" strike="noStrike">
                <a:solidFill>
                  <a:srgbClr val="fc0000"/>
                </a:solidFill>
                <a:latin typeface="Comic Sans MS"/>
              </a:rPr>
              <a:t> Present </a:t>
            </a:r>
            <a:r>
              <a:rPr b="1" lang="en-GB" sz="1400" spc="-1" strike="noStrike">
                <a:solidFill>
                  <a:srgbClr val="808080"/>
                </a:solidFill>
                <a:latin typeface="Comic Sans MS"/>
              </a:rPr>
              <a:t>          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7020000" y="2133720"/>
            <a:ext cx="1800000" cy="1799640"/>
            <a:chOff x="7020000" y="2133720"/>
            <a:chExt cx="1800000" cy="1799640"/>
          </a:xfrm>
        </p:grpSpPr>
        <p:sp>
          <p:nvSpPr>
            <p:cNvPr id="687" name=""/>
            <p:cNvSpPr/>
            <p:nvPr/>
          </p:nvSpPr>
          <p:spPr>
            <a:xfrm>
              <a:off x="7020000" y="213372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" descr=""/>
            <p:cNvPicPr/>
            <p:nvPr/>
          </p:nvPicPr>
          <p:blipFill>
            <a:blip r:embed="rId3"/>
            <a:stretch/>
          </p:blipFill>
          <p:spPr>
            <a:xfrm>
              <a:off x="7308720" y="279216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1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2195640" y="2862360"/>
            <a:ext cx="489744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um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ill coo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dinner </a:t>
            </a: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so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25780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o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525780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c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050920" y="4724280"/>
            <a:ext cx="684360" cy="722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448000" y="321156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70000" y="4079880"/>
            <a:ext cx="324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        Presen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8436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64000" y="2492280"/>
            <a:ext cx="13687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2492280"/>
            <a:ext cx="136872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2436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06920" y="2708280"/>
            <a:ext cx="1043280" cy="1004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03280" y="5661000"/>
            <a:ext cx="20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2000" y="576252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618920" y="616572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20000" y="3789360"/>
            <a:ext cx="18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e _____ </a:t>
            </a: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63700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jum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386064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ump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3004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s jump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c0000"/>
                </a:solidFill>
                <a:latin typeface="Comic Sans MS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jum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46200" y="3213000"/>
            <a:ext cx="42498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97080" y="4079880"/>
            <a:ext cx="299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Pas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400" spc="-1" strike="noStrike">
                <a:solidFill>
                  <a:srgbClr val="fc0000"/>
                </a:solidFill>
                <a:latin typeface="Comic Sans MS"/>
              </a:rPr>
              <a:t>Present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1400" spc="-1" strike="noStrike">
                <a:solidFill>
                  <a:srgbClr val="808080"/>
                </a:solidFill>
                <a:latin typeface="Comic Sans MS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87640" y="2492280"/>
            <a:ext cx="136872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9272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2492280"/>
            <a:ext cx="136836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932360" y="4581360"/>
            <a:ext cx="3960720" cy="1046880"/>
            <a:chOff x="4932360" y="4581360"/>
            <a:chExt cx="3960720" cy="1046880"/>
          </a:xfrm>
        </p:grpSpPr>
        <p:sp>
          <p:nvSpPr>
            <p:cNvPr id="104" name=""/>
            <p:cNvSpPr/>
            <p:nvPr/>
          </p:nvSpPr>
          <p:spPr>
            <a:xfrm>
              <a:off x="4932360" y="522936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Ultra Bold"/>
                </a:rPr>
                <a:t>WELL DONE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6516720" y="4581360"/>
              <a:ext cx="561960" cy="6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59280" y="2565360"/>
            <a:ext cx="1224000" cy="1295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924360" y="5013360"/>
            <a:ext cx="4809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2:00:19Z</dcterms:created>
  <dc:creator>psychology</dc:creator>
  <dc:description/>
  <dc:language>en-US</dc:language>
  <cp:lastModifiedBy>DianaBurman</cp:lastModifiedBy>
  <dcterms:modified xsi:type="dcterms:W3CDTF">2008-12-05T10:59:54Z</dcterms:modified>
  <cp:revision>131</cp:revision>
  <dc:subject/>
  <dc:title>Slide 1</dc:title>
</cp:coreProperties>
</file>