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6.png" ContentType="image/png"/>
  <Override PartName="/ppt/media/image5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4.png" ContentType="image/png"/>
  <Override PartName="/ppt/media/image13.jpeg" ContentType="image/jpeg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A47-EAE7-467D-8649-DB2C6543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D19-5346-4465-AA46-02479A3E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12A-5E89-45CB-8BA9-E67AA962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E48-73AD-4B56-9E7D-09AA13B1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C8D-EAC6-4453-808D-E98E832A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061-818E-4B85-8874-ED7FFC07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8D2-41BE-4D26-8121-41096F72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BBF-C3F9-40E8-9913-ACE225B9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1EA2-C029-4A90-9AC6-6573D158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023-A1BA-4E65-80A9-019B07A6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79C-6BC9-4DE1-8F41-2C44F07B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900-BF90-49E8-9419-BA4965B5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935A-40B9-4072-AC40-98082B9BD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0256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ek 8 IT 27</a:t>
            </a:r>
            <a:br>
              <a:rPr sz="36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es the adverb fit in the sentenc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0" y="4005360"/>
            <a:ext cx="18666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e paints portraits ……………………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33360"/>
            <a:ext cx="2808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3500280"/>
            <a:ext cx="2016000" cy="288144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6012000" y="3429000"/>
            <a:ext cx="1800000" cy="1800360"/>
            <a:chOff x="6012000" y="3429000"/>
            <a:chExt cx="1800000" cy="1800360"/>
          </a:xfrm>
        </p:grpSpPr>
        <p:sp>
          <p:nvSpPr>
            <p:cNvPr id="118" name=""/>
            <p:cNvSpPr/>
            <p:nvPr/>
          </p:nvSpPr>
          <p:spPr>
            <a:xfrm>
              <a:off x="6012000" y="342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300720" y="408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e …………………. climbs in bare fe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3500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x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2879640" cy="316692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7774200" y="2237040"/>
            <a:ext cx="815760" cy="852840"/>
            <a:chOff x="7774200" y="2237040"/>
            <a:chExt cx="815760" cy="852840"/>
          </a:xfrm>
        </p:grpSpPr>
        <p:sp>
          <p:nvSpPr>
            <p:cNvPr id="127" name=""/>
            <p:cNvSpPr/>
            <p:nvPr/>
          </p:nvSpPr>
          <p:spPr>
            <a:xfrm>
              <a:off x="7774200" y="226908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799040" y="223704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774200" y="3461040"/>
            <a:ext cx="815760" cy="852840"/>
            <a:chOff x="7774200" y="3461040"/>
            <a:chExt cx="815760" cy="852840"/>
          </a:xfrm>
        </p:grpSpPr>
        <p:sp>
          <p:nvSpPr>
            <p:cNvPr id="130" name=""/>
            <p:cNvSpPr/>
            <p:nvPr/>
          </p:nvSpPr>
          <p:spPr>
            <a:xfrm>
              <a:off x="7774200" y="349308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799040" y="346104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740720" y="4941720"/>
            <a:ext cx="927000" cy="86364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e …………………. climbs in bare fe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549360"/>
            <a:ext cx="23032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28796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ichard will comb his hair …………………. his show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3500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2130480" cy="269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68360" y="3789360"/>
            <a:ext cx="819360" cy="93492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7774200" y="2237040"/>
            <a:ext cx="815760" cy="852840"/>
            <a:chOff x="7774200" y="2237040"/>
            <a:chExt cx="815760" cy="852840"/>
          </a:xfrm>
        </p:grpSpPr>
        <p:sp>
          <p:nvSpPr>
            <p:cNvPr id="145" name=""/>
            <p:cNvSpPr/>
            <p:nvPr/>
          </p:nvSpPr>
          <p:spPr>
            <a:xfrm>
              <a:off x="7774200" y="226908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99040" y="223704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845480" y="3461040"/>
            <a:ext cx="815760" cy="852840"/>
            <a:chOff x="7845480" y="3461040"/>
            <a:chExt cx="815760" cy="852840"/>
          </a:xfrm>
        </p:grpSpPr>
        <p:sp>
          <p:nvSpPr>
            <p:cNvPr id="148" name=""/>
            <p:cNvSpPr/>
            <p:nvPr/>
          </p:nvSpPr>
          <p:spPr>
            <a:xfrm>
              <a:off x="7845480" y="349308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870320" y="346104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7740720" y="4941720"/>
            <a:ext cx="927000" cy="86364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ichard will comb his hair …………………. his show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333360"/>
            <a:ext cx="2232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2130480" cy="2697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268360" y="3789360"/>
            <a:ext cx="819360" cy="93492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5724360" y="3429000"/>
            <a:ext cx="1800000" cy="1800360"/>
            <a:chOff x="5724360" y="3429000"/>
            <a:chExt cx="1800000" cy="1800360"/>
          </a:xfrm>
        </p:grpSpPr>
        <p:sp>
          <p:nvSpPr>
            <p:cNvPr id="157" name=""/>
            <p:cNvSpPr/>
            <p:nvPr/>
          </p:nvSpPr>
          <p:spPr>
            <a:xfrm>
              <a:off x="5724360" y="342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6013080" y="408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he …………………… brushes her hair with her brown bru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3500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2125440" cy="2552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 rot="19652400">
            <a:off x="2411280" y="3860280"/>
            <a:ext cx="42228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7774200" y="2237040"/>
            <a:ext cx="815760" cy="852840"/>
            <a:chOff x="7774200" y="2237040"/>
            <a:chExt cx="815760" cy="852840"/>
          </a:xfrm>
        </p:grpSpPr>
        <p:sp>
          <p:nvSpPr>
            <p:cNvPr id="167" name=""/>
            <p:cNvSpPr/>
            <p:nvPr/>
          </p:nvSpPr>
          <p:spPr>
            <a:xfrm>
              <a:off x="7774200" y="226908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799040" y="223704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918560" y="5116680"/>
            <a:ext cx="815760" cy="852840"/>
            <a:chOff x="7918560" y="5116680"/>
            <a:chExt cx="815760" cy="852840"/>
          </a:xfrm>
        </p:grpSpPr>
        <p:sp>
          <p:nvSpPr>
            <p:cNvPr id="170" name=""/>
            <p:cNvSpPr/>
            <p:nvPr/>
          </p:nvSpPr>
          <p:spPr>
            <a:xfrm>
              <a:off x="7918560" y="514872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943400" y="511668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885080" y="3500280"/>
            <a:ext cx="782640" cy="100836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he …………………… brushes her hair with her brown bru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9640" y="260280"/>
            <a:ext cx="24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2125440" cy="2552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 rot="19652400">
            <a:off x="2411280" y="3860280"/>
            <a:ext cx="4222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he will kiss the baby’s hand ………………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3500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2879640" cy="316692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7918560" y="5116680"/>
            <a:ext cx="815760" cy="852840"/>
            <a:chOff x="7918560" y="5116680"/>
            <a:chExt cx="815760" cy="852840"/>
          </a:xfrm>
        </p:grpSpPr>
        <p:sp>
          <p:nvSpPr>
            <p:cNvPr id="185" name=""/>
            <p:cNvSpPr/>
            <p:nvPr/>
          </p:nvSpPr>
          <p:spPr>
            <a:xfrm>
              <a:off x="7918560" y="514872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943400" y="511668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845480" y="3461040"/>
            <a:ext cx="815760" cy="852840"/>
            <a:chOff x="7845480" y="3461040"/>
            <a:chExt cx="815760" cy="852840"/>
          </a:xfrm>
        </p:grpSpPr>
        <p:sp>
          <p:nvSpPr>
            <p:cNvPr id="188" name=""/>
            <p:cNvSpPr/>
            <p:nvPr/>
          </p:nvSpPr>
          <p:spPr>
            <a:xfrm>
              <a:off x="7845480" y="349308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870320" y="346104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956720" y="2133720"/>
            <a:ext cx="782640" cy="100800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he will kiss the baby’s hand ………………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3640" y="1125360"/>
            <a:ext cx="32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28796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ade …………………… works h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88000" y="3500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2808000" cy="314928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7845480" y="4973760"/>
            <a:ext cx="815760" cy="852840"/>
            <a:chOff x="7845480" y="4973760"/>
            <a:chExt cx="815760" cy="852840"/>
          </a:xfrm>
        </p:grpSpPr>
        <p:sp>
          <p:nvSpPr>
            <p:cNvPr id="202" name=""/>
            <p:cNvSpPr/>
            <p:nvPr/>
          </p:nvSpPr>
          <p:spPr>
            <a:xfrm>
              <a:off x="7845480" y="500580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870320" y="497376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845480" y="3461040"/>
            <a:ext cx="815760" cy="852840"/>
            <a:chOff x="7845480" y="3461040"/>
            <a:chExt cx="815760" cy="852840"/>
          </a:xfrm>
        </p:grpSpPr>
        <p:sp>
          <p:nvSpPr>
            <p:cNvPr id="205" name=""/>
            <p:cNvSpPr/>
            <p:nvPr/>
          </p:nvSpPr>
          <p:spPr>
            <a:xfrm>
              <a:off x="7845480" y="349308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7870320" y="346104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7956720" y="2133720"/>
            <a:ext cx="782640" cy="100800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66040" y="81000"/>
            <a:ext cx="53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ek 8  IT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es the adverb fit in the sent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66720"/>
            <a:ext cx="9144000" cy="34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is teacher led activity aims to focus the children on the temporal clue to help them decide which of the given adverbs fit into the sent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child’s task is to choose one of three given adverbs / adverbial phrases on the answer sheet to complete the senten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next slide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answer sheet for each child to complete as they watch the IT presentation. These should be printed and distributed to the children before you st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a  pencil appears on the initial slides, this marks the time for the children to complete their ans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 prompt of ‘Why?’ appears. This is the cue for discussion about the correct and incorrect answers. They then receive feedback on the scre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ade …………………… works h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549360"/>
            <a:ext cx="24494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2808000" cy="314928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5508720" y="3357720"/>
            <a:ext cx="1800000" cy="1799640"/>
            <a:chOff x="5508720" y="3357720"/>
            <a:chExt cx="1800000" cy="1799640"/>
          </a:xfrm>
        </p:grpSpPr>
        <p:sp>
          <p:nvSpPr>
            <p:cNvPr id="213" name=""/>
            <p:cNvSpPr/>
            <p:nvPr/>
          </p:nvSpPr>
          <p:spPr>
            <a:xfrm>
              <a:off x="5508720" y="3357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5797440" y="4016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competed in the running race …………………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3500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2808000" cy="311436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7774200" y="2166120"/>
            <a:ext cx="815760" cy="852480"/>
            <a:chOff x="7774200" y="2166120"/>
            <a:chExt cx="815760" cy="852480"/>
          </a:xfrm>
        </p:grpSpPr>
        <p:sp>
          <p:nvSpPr>
            <p:cNvPr id="222" name=""/>
            <p:cNvSpPr/>
            <p:nvPr/>
          </p:nvSpPr>
          <p:spPr>
            <a:xfrm>
              <a:off x="7774200" y="2197800"/>
              <a:ext cx="815760" cy="788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799040" y="2166120"/>
              <a:ext cx="765720" cy="85248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774200" y="3461040"/>
            <a:ext cx="815760" cy="852840"/>
            <a:chOff x="7774200" y="3461040"/>
            <a:chExt cx="815760" cy="852840"/>
          </a:xfrm>
        </p:grpSpPr>
        <p:sp>
          <p:nvSpPr>
            <p:cNvPr id="225" name=""/>
            <p:cNvSpPr/>
            <p:nvPr/>
          </p:nvSpPr>
          <p:spPr>
            <a:xfrm>
              <a:off x="7774200" y="349308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799040" y="346104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7812000" y="4941720"/>
            <a:ext cx="782640" cy="100836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competed in the running race …………………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98100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280800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ad will finish the ironing …………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3500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4360" y="3417840"/>
            <a:ext cx="2808000" cy="307836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7701120" y="5045400"/>
            <a:ext cx="815760" cy="852840"/>
            <a:chOff x="7701120" y="5045400"/>
            <a:chExt cx="815760" cy="852840"/>
          </a:xfrm>
        </p:grpSpPr>
        <p:sp>
          <p:nvSpPr>
            <p:cNvPr id="239" name=""/>
            <p:cNvSpPr/>
            <p:nvPr/>
          </p:nvSpPr>
          <p:spPr>
            <a:xfrm>
              <a:off x="7701120" y="507744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7725960" y="504540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774200" y="3605400"/>
            <a:ext cx="815760" cy="852840"/>
            <a:chOff x="7774200" y="3605400"/>
            <a:chExt cx="815760" cy="852840"/>
          </a:xfrm>
        </p:grpSpPr>
        <p:sp>
          <p:nvSpPr>
            <p:cNvPr id="242" name=""/>
            <p:cNvSpPr/>
            <p:nvPr/>
          </p:nvSpPr>
          <p:spPr>
            <a:xfrm>
              <a:off x="7774200" y="363744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799040" y="360540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740720" y="2133720"/>
            <a:ext cx="782640" cy="100800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ad will finish the ironing …………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43640" y="62064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4360" y="3417840"/>
            <a:ext cx="2808000" cy="307836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5867280" y="3284640"/>
            <a:ext cx="1800000" cy="1799640"/>
            <a:chOff x="5867280" y="3284640"/>
            <a:chExt cx="1800000" cy="1799640"/>
          </a:xfrm>
        </p:grpSpPr>
        <p:sp>
          <p:nvSpPr>
            <p:cNvPr id="250" name=""/>
            <p:cNvSpPr/>
            <p:nvPr/>
          </p:nvSpPr>
          <p:spPr>
            <a:xfrm>
              <a:off x="5867280" y="3284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6156000" y="3943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li scored a goal …………………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3500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2736720" cy="306720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7774200" y="3605400"/>
            <a:ext cx="815760" cy="852840"/>
            <a:chOff x="7774200" y="3605400"/>
            <a:chExt cx="815760" cy="852840"/>
          </a:xfrm>
        </p:grpSpPr>
        <p:sp>
          <p:nvSpPr>
            <p:cNvPr id="259" name=""/>
            <p:cNvSpPr/>
            <p:nvPr/>
          </p:nvSpPr>
          <p:spPr>
            <a:xfrm>
              <a:off x="7774200" y="363744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7799040" y="360540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774200" y="2166120"/>
            <a:ext cx="815760" cy="852480"/>
            <a:chOff x="7774200" y="2166120"/>
            <a:chExt cx="815760" cy="852480"/>
          </a:xfrm>
        </p:grpSpPr>
        <p:sp>
          <p:nvSpPr>
            <p:cNvPr id="262" name=""/>
            <p:cNvSpPr/>
            <p:nvPr/>
          </p:nvSpPr>
          <p:spPr>
            <a:xfrm>
              <a:off x="7774200" y="2197800"/>
              <a:ext cx="815760" cy="788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7799040" y="2166120"/>
              <a:ext cx="765720" cy="85248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812000" y="4941720"/>
            <a:ext cx="782640" cy="100836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li scored a goal …………………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48360" y="476280"/>
            <a:ext cx="26636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27367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ed will clean the window……………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3500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s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2712960" cy="303696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701120" y="2166120"/>
            <a:ext cx="815760" cy="852480"/>
            <a:chOff x="7701120" y="2166120"/>
            <a:chExt cx="815760" cy="852480"/>
          </a:xfrm>
        </p:grpSpPr>
        <p:sp>
          <p:nvSpPr>
            <p:cNvPr id="276" name=""/>
            <p:cNvSpPr/>
            <p:nvPr/>
          </p:nvSpPr>
          <p:spPr>
            <a:xfrm>
              <a:off x="7701120" y="2197800"/>
              <a:ext cx="815760" cy="788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725960" y="2166120"/>
              <a:ext cx="765720" cy="85248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701120" y="4973760"/>
            <a:ext cx="815760" cy="852840"/>
            <a:chOff x="7701120" y="4973760"/>
            <a:chExt cx="815760" cy="852840"/>
          </a:xfrm>
        </p:grpSpPr>
        <p:sp>
          <p:nvSpPr>
            <p:cNvPr id="279" name=""/>
            <p:cNvSpPr/>
            <p:nvPr/>
          </p:nvSpPr>
          <p:spPr>
            <a:xfrm>
              <a:off x="7701120" y="500580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725960" y="497376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7956720" y="3357720"/>
            <a:ext cx="782640" cy="100800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ed will clean the window……………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43640" y="620640"/>
            <a:ext cx="18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2712960" cy="303696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5724360" y="3284640"/>
            <a:ext cx="1800000" cy="1799640"/>
            <a:chOff x="5724360" y="3284640"/>
            <a:chExt cx="1800000" cy="1799640"/>
          </a:xfrm>
        </p:grpSpPr>
        <p:sp>
          <p:nvSpPr>
            <p:cNvPr id="287" name=""/>
            <p:cNvSpPr/>
            <p:nvPr/>
          </p:nvSpPr>
          <p:spPr>
            <a:xfrm>
              <a:off x="5724360" y="3284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6013080" y="3943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roc ……………….. walks to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x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500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619280" y="3716280"/>
            <a:ext cx="1819080" cy="24814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755640" y="5157720"/>
            <a:ext cx="792000" cy="1136880"/>
          </a:xfrm>
          <a:prstGeom prst="rect">
            <a:avLst/>
          </a:prstGeom>
          <a:ln w="0">
            <a:noFill/>
          </a:ln>
        </p:spPr>
      </p:pic>
      <p:grpSp>
        <p:nvGrpSpPr>
          <p:cNvPr id="296" name=""/>
          <p:cNvGrpSpPr/>
          <p:nvPr/>
        </p:nvGrpSpPr>
        <p:grpSpPr>
          <a:xfrm>
            <a:off x="7701120" y="2166120"/>
            <a:ext cx="815760" cy="852480"/>
            <a:chOff x="7701120" y="2166120"/>
            <a:chExt cx="815760" cy="852480"/>
          </a:xfrm>
        </p:grpSpPr>
        <p:sp>
          <p:nvSpPr>
            <p:cNvPr id="297" name=""/>
            <p:cNvSpPr/>
            <p:nvPr/>
          </p:nvSpPr>
          <p:spPr>
            <a:xfrm>
              <a:off x="7701120" y="2197800"/>
              <a:ext cx="815760" cy="788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725960" y="2166120"/>
              <a:ext cx="765720" cy="85248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774200" y="4973760"/>
            <a:ext cx="815760" cy="852840"/>
            <a:chOff x="7774200" y="4973760"/>
            <a:chExt cx="815760" cy="852840"/>
          </a:xfrm>
        </p:grpSpPr>
        <p:sp>
          <p:nvSpPr>
            <p:cNvPr id="300" name=""/>
            <p:cNvSpPr/>
            <p:nvPr/>
          </p:nvSpPr>
          <p:spPr>
            <a:xfrm>
              <a:off x="7774200" y="500580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7799040" y="497376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956720" y="3357720"/>
            <a:ext cx="782640" cy="100800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46200" cy="552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44000" y="692280"/>
            <a:ext cx="647640" cy="496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268280"/>
            <a:ext cx="9144000" cy="62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ran ………………………. cooks spaghetti in a saucepan. (tomorrow / later / usual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isa cleaned the tables ………………………….. (now / yesterday / so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 paints portraits ……………………………… (everyday / tomorrow / last we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he ……………….. climbs ladders in bare feet. (later / next year / alway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ichard will comb his hair …………….. his shower. (now / last year / af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he …………………………… brushes her hair with her brown brush.                                                 (yesterday / sometimes / la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he will kiss the baby’s hand …………………….(tomorrow / yesterday / bef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Jade …………………… works hard. (always / yesterday / last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competed in the running race …………………………. (after / usually / last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ad will finish the ironing ………………(later / usually / last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li scored a goal ……………………… (tomorrow / usually / yester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ed will clean the window …………………… (always / later / last 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roc  ……………………………walks to school. (next year / usually / last we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dam skated ……………………….(last year / usually / tomorr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867280" y="549360"/>
            <a:ext cx="698760" cy="698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81680" y="41400"/>
            <a:ext cx="23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at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25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 2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404640"/>
            <a:ext cx="410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ek 8 IT 27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ich adverbs fit the sentenc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roc ……………….. walks to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40000" y="549360"/>
            <a:ext cx="20876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619280" y="3716280"/>
            <a:ext cx="1819080" cy="24814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755640" y="5157720"/>
            <a:ext cx="79200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dam skated ………………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500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2592360" cy="2967120"/>
          </a:xfrm>
          <a:prstGeom prst="rect">
            <a:avLst/>
          </a:prstGeom>
          <a:ln w="0">
            <a:noFill/>
          </a:ln>
        </p:spPr>
      </p:pic>
      <p:grpSp>
        <p:nvGrpSpPr>
          <p:cNvPr id="314" name=""/>
          <p:cNvGrpSpPr/>
          <p:nvPr/>
        </p:nvGrpSpPr>
        <p:grpSpPr>
          <a:xfrm>
            <a:off x="7701120" y="5045400"/>
            <a:ext cx="815760" cy="852840"/>
            <a:chOff x="7701120" y="5045400"/>
            <a:chExt cx="815760" cy="852840"/>
          </a:xfrm>
        </p:grpSpPr>
        <p:sp>
          <p:nvSpPr>
            <p:cNvPr id="315" name=""/>
            <p:cNvSpPr/>
            <p:nvPr/>
          </p:nvSpPr>
          <p:spPr>
            <a:xfrm>
              <a:off x="7701120" y="507744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725960" y="504540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701120" y="3532320"/>
            <a:ext cx="815760" cy="852840"/>
            <a:chOff x="7701120" y="3532320"/>
            <a:chExt cx="815760" cy="852840"/>
          </a:xfrm>
        </p:grpSpPr>
        <p:sp>
          <p:nvSpPr>
            <p:cNvPr id="318" name=""/>
            <p:cNvSpPr/>
            <p:nvPr/>
          </p:nvSpPr>
          <p:spPr>
            <a:xfrm>
              <a:off x="7701120" y="356436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7725960" y="353232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885080" y="2133720"/>
            <a:ext cx="782640" cy="100800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312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dam skated ………………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59280" y="620640"/>
            <a:ext cx="1944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25923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843280" y="1844640"/>
            <a:ext cx="3816360" cy="25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987640" y="3068640"/>
            <a:ext cx="3384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98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e you ready for th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8160" y="5684760"/>
            <a:ext cx="42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o be viewed as slide s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380880"/>
            <a:ext cx="7129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Does the adverb fit in the sent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35280" y="3573360"/>
            <a:ext cx="186696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ran ……………………. cooks spaghetti in a saucep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2664000" cy="294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3500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845480" y="2309040"/>
            <a:ext cx="815760" cy="852480"/>
            <a:chOff x="7845480" y="2309040"/>
            <a:chExt cx="815760" cy="852480"/>
          </a:xfrm>
        </p:grpSpPr>
        <p:sp>
          <p:nvSpPr>
            <p:cNvPr id="64" name=""/>
            <p:cNvSpPr/>
            <p:nvPr/>
          </p:nvSpPr>
          <p:spPr>
            <a:xfrm>
              <a:off x="7845480" y="2340720"/>
              <a:ext cx="815760" cy="788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870320" y="2309040"/>
              <a:ext cx="765720" cy="85248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774200" y="3532320"/>
            <a:ext cx="815760" cy="852840"/>
            <a:chOff x="7774200" y="3532320"/>
            <a:chExt cx="815760" cy="852840"/>
          </a:xfrm>
        </p:grpSpPr>
        <p:sp>
          <p:nvSpPr>
            <p:cNvPr id="67" name=""/>
            <p:cNvSpPr/>
            <p:nvPr/>
          </p:nvSpPr>
          <p:spPr>
            <a:xfrm>
              <a:off x="7774200" y="356436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799040" y="353232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885080" y="5013360"/>
            <a:ext cx="927000" cy="86364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635280" y="0"/>
            <a:ext cx="9860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ran ……………………. cooks spaghetti in a saucep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2664000" cy="2944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08000" y="476280"/>
            <a:ext cx="2590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580000" y="3357720"/>
            <a:ext cx="1800000" cy="1799640"/>
            <a:chOff x="5580000" y="3357720"/>
            <a:chExt cx="1800000" cy="1799640"/>
          </a:xfrm>
        </p:grpSpPr>
        <p:sp>
          <p:nvSpPr>
            <p:cNvPr id="76" name=""/>
            <p:cNvSpPr/>
            <p:nvPr/>
          </p:nvSpPr>
          <p:spPr>
            <a:xfrm>
              <a:off x="5580000" y="3357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5868720" y="4016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……………………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 Lisa cleaned the t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3500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3500280"/>
            <a:ext cx="2379600" cy="298476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7845480" y="2166120"/>
            <a:ext cx="815760" cy="852480"/>
            <a:chOff x="7845480" y="2166120"/>
            <a:chExt cx="815760" cy="852480"/>
          </a:xfrm>
        </p:grpSpPr>
        <p:sp>
          <p:nvSpPr>
            <p:cNvPr id="85" name=""/>
            <p:cNvSpPr/>
            <p:nvPr/>
          </p:nvSpPr>
          <p:spPr>
            <a:xfrm>
              <a:off x="7845480" y="2197800"/>
              <a:ext cx="815760" cy="788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870320" y="2166120"/>
              <a:ext cx="765720" cy="85248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845480" y="4973760"/>
            <a:ext cx="815760" cy="852840"/>
            <a:chOff x="7845480" y="4973760"/>
            <a:chExt cx="815760" cy="852840"/>
          </a:xfrm>
        </p:grpSpPr>
        <p:sp>
          <p:nvSpPr>
            <p:cNvPr id="88" name=""/>
            <p:cNvSpPr/>
            <p:nvPr/>
          </p:nvSpPr>
          <p:spPr>
            <a:xfrm>
              <a:off x="7845480" y="500580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7870320" y="497376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7885080" y="3429000"/>
            <a:ext cx="927000" cy="86364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6920" y="189000"/>
            <a:ext cx="84312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……………………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 Lisa cleaned the t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622440"/>
            <a:ext cx="27370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3500280"/>
            <a:ext cx="2379600" cy="29847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5867280" y="3429000"/>
            <a:ext cx="1800000" cy="1800360"/>
            <a:chOff x="5867280" y="3429000"/>
            <a:chExt cx="1800000" cy="1800360"/>
          </a:xfrm>
        </p:grpSpPr>
        <p:sp>
          <p:nvSpPr>
            <p:cNvPr id="97" name=""/>
            <p:cNvSpPr/>
            <p:nvPr/>
          </p:nvSpPr>
          <p:spPr>
            <a:xfrm>
              <a:off x="5867280" y="342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6156000" y="408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3357720"/>
            <a:ext cx="2879640" cy="31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e paints portraits ……………………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220500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350028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5013360"/>
            <a:ext cx="33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6000" y="3500280"/>
            <a:ext cx="2016000" cy="28814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7845480" y="4973760"/>
            <a:ext cx="815760" cy="852840"/>
            <a:chOff x="7845480" y="4973760"/>
            <a:chExt cx="815760" cy="852840"/>
          </a:xfrm>
        </p:grpSpPr>
        <p:sp>
          <p:nvSpPr>
            <p:cNvPr id="106" name=""/>
            <p:cNvSpPr/>
            <p:nvPr/>
          </p:nvSpPr>
          <p:spPr>
            <a:xfrm>
              <a:off x="7845480" y="500580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7870320" y="497376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774200" y="3461040"/>
            <a:ext cx="815760" cy="852840"/>
            <a:chOff x="7774200" y="3461040"/>
            <a:chExt cx="815760" cy="852840"/>
          </a:xfrm>
        </p:grpSpPr>
        <p:sp>
          <p:nvSpPr>
            <p:cNvPr id="109" name=""/>
            <p:cNvSpPr/>
            <p:nvPr/>
          </p:nvSpPr>
          <p:spPr>
            <a:xfrm>
              <a:off x="7774200" y="3493080"/>
              <a:ext cx="815760" cy="78912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7799040" y="3461040"/>
              <a:ext cx="765720" cy="85284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812000" y="2133720"/>
            <a:ext cx="927360" cy="86364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3:05:54Z</dcterms:created>
  <dc:creator>DianaBurman</dc:creator>
  <dc:description/>
  <dc:language>en-US</dc:language>
  <cp:lastModifiedBy>DianaBurman</cp:lastModifiedBy>
  <dcterms:modified xsi:type="dcterms:W3CDTF">2008-12-10T17:05:31Z</dcterms:modified>
  <cp:revision>26</cp:revision>
  <dc:subject/>
  <dc:title>Does the adverb fit in the sentence?</dc:title>
</cp:coreProperties>
</file>