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D78-B79C-4C94-A855-D73A32AC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9ED-08F9-432C-BA22-1396B6E1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393-3637-4168-9FF5-F950DC3E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A21-4741-4F70-BC69-F418BDD7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259-8895-42D3-A839-99563FE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106-112E-43BA-95EB-E629646A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A66-A706-4685-989F-F1D06C36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12C-480A-4BF2-A537-D2101B34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74D-6011-4937-97EE-D6E647C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8F7-7708-403B-8AB8-2E9BAE39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E72-5AFA-4A26-AE63-B044552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88C-216E-4D4D-9644-37D6712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4435-D814-4B75-83FE-6BDB5C3F7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s the sentence in th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t,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en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ture?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ek 8 IT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5084640"/>
            <a:ext cx="23623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cleaned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cleaned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ironing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5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ironing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score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911160" cy="10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284720" y="981000"/>
            <a:ext cx="68256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score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91116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659640" y="3284640"/>
            <a:ext cx="1800000" cy="1799640"/>
            <a:chOff x="6659640" y="3284640"/>
            <a:chExt cx="1800000" cy="1799640"/>
          </a:xfrm>
        </p:grpSpPr>
        <p:sp>
          <p:nvSpPr>
            <p:cNvPr id="128" name=""/>
            <p:cNvSpPr/>
            <p:nvPr/>
          </p:nvSpPr>
          <p:spPr>
            <a:xfrm>
              <a:off x="6659640" y="3284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6948360" y="3943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will cook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284720" y="105264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92360" y="105264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will cook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79280" y="185256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 competed in the running race on Sports Da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9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79280" y="185256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 competed in the running race on Sports Da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8 IT 26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entence in the Past, Present or Future?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help the children differentiate between verbs in the past, present and future. No adverbial cue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’s task is to decide whether each sentence is in the Past, Present or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slide is an answer sheet. This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a pencil appears on the first few slides, this marks the time for the children to complete their answers. Proceed in the same pattern for the remainder of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ill work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211640" y="1014480"/>
            <a:ext cx="7840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ill work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79236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69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40464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68360" y="1700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worked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88960" y="836640"/>
            <a:ext cx="779400" cy="863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356000" y="981000"/>
            <a:ext cx="68256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058160" y="981000"/>
            <a:ext cx="682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40464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68360" y="1700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worked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88960" y="836640"/>
            <a:ext cx="779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will comb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788000" y="108108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92360" y="1052640"/>
            <a:ext cx="806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will comb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cleaning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784440" cy="79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804000" y="981000"/>
            <a:ext cx="784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cleaning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07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549360"/>
          <a:ext cx="8229600" cy="5173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will work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78408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549360"/>
          <a:ext cx="8229600" cy="5173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will work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79236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6516720" y="3429000"/>
            <a:ext cx="1800000" cy="1800360"/>
            <a:chOff x="6516720" y="3429000"/>
            <a:chExt cx="1800000" cy="1800360"/>
          </a:xfrm>
        </p:grpSpPr>
        <p:sp>
          <p:nvSpPr>
            <p:cNvPr id="222" name=""/>
            <p:cNvSpPr/>
            <p:nvPr/>
          </p:nvSpPr>
          <p:spPr>
            <a:xfrm>
              <a:off x="651672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80544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9280" y="838080"/>
          <a:ext cx="8785440" cy="5975640"/>
        </p:xfrm>
        <a:graphic>
          <a:graphicData uri="http://schemas.openxmlformats.org/drawingml/2006/table">
            <a:tbl>
              <a:tblPr/>
              <a:tblGrid>
                <a:gridCol w="6193080"/>
                <a:gridCol w="25923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Abdi is working in the hospi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I will play outs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He cleaned the window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He is ironing all the shi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He will score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Gran will cook spaghetti in a saucep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We competed in the running race on Sports D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Jade will work h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Abdi worked in the hospi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Richard will comb his h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He is cleaning the window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Abdi will work in the hospi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He is scoring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He will iron all the shi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16000" y="262080"/>
            <a:ext cx="612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 sentence in the Past, Present or Future?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Circle the time of the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0360" y="11592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e 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4428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swer sheet for IT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scoring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547640" y="1197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058160" y="1197000"/>
            <a:ext cx="682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s scoring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iron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788000" y="108108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692360" y="1052640"/>
            <a:ext cx="806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iron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played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92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played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6659640" y="3429000"/>
            <a:ext cx="1800000" cy="1800360"/>
            <a:chOff x="6659640" y="3429000"/>
            <a:chExt cx="1800000" cy="1800360"/>
          </a:xfrm>
        </p:grpSpPr>
        <p:sp>
          <p:nvSpPr>
            <p:cNvPr id="261" name=""/>
            <p:cNvSpPr/>
            <p:nvPr/>
          </p:nvSpPr>
          <p:spPr>
            <a:xfrm>
              <a:off x="6659640" y="342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6948360" y="408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combed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78444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combed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orks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547640" y="1197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58160" y="1198440"/>
            <a:ext cx="682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orks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184400"/>
          <a:ext cx="8785440" cy="5484600"/>
        </p:xfrm>
        <a:graphic>
          <a:graphicData uri="http://schemas.openxmlformats.org/drawingml/2006/table">
            <a:tbl>
              <a:tblPr/>
              <a:tblGrid>
                <a:gridCol w="6193080"/>
                <a:gridCol w="25923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I played outs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 Richard combed his h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 Jade works h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. We are competing in the running ra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 Richard is combing his h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. He scored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 I am playing outs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. He will clean the window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. Gran is cooking spaghetti in a saucep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. He ironed all the shi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 We will compete in the running ra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. Jade worked h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. Gran cooked the spaghetti in a saucep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 /  present  /  fu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116000" y="549360"/>
            <a:ext cx="61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 sentence in the Past, Present or Future?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Circle the time of the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0360" y="11592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e 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428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swer sheet for IT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e are competing in the running r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723960" cy="1150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380360" y="105264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1692360" y="1023840"/>
            <a:ext cx="806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e are competing in the running r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72396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588000" y="3645000"/>
            <a:ext cx="1800000" cy="1799640"/>
            <a:chOff x="6588000" y="3645000"/>
            <a:chExt cx="1800000" cy="1799640"/>
          </a:xfrm>
        </p:grpSpPr>
        <p:sp>
          <p:nvSpPr>
            <p:cNvPr id="302" name=""/>
            <p:cNvSpPr/>
            <p:nvPr/>
          </p:nvSpPr>
          <p:spPr>
            <a:xfrm>
              <a:off x="6588000" y="364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6876720" y="4303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is combing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240080" y="981000"/>
            <a:ext cx="908280" cy="100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476360" y="981000"/>
            <a:ext cx="784080" cy="792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ichard is combing his hai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2146320" cy="2716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94644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240080" y="981000"/>
            <a:ext cx="90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scored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scored a go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2070360" cy="3025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am playing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547640" y="1197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7058160" y="1197000"/>
            <a:ext cx="682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am playing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11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clean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788000" y="108108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692360" y="1052640"/>
            <a:ext cx="806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will clean the window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355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s the sentence in th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t,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en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ture?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ek 8 IT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5084640"/>
            <a:ext cx="236196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72520" y="59500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is cooking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784440" cy="792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is cooking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907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roned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58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 ironed all the shir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232000" cy="2953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e will compete in the running r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877080" y="981000"/>
            <a:ext cx="911160" cy="1008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1547640" y="1197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4284720" y="1197000"/>
            <a:ext cx="682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e will compete in the running r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77080" y="981000"/>
            <a:ext cx="9111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6804000" y="3573360"/>
            <a:ext cx="1800000" cy="1800360"/>
            <a:chOff x="6804000" y="3573360"/>
            <a:chExt cx="1800000" cy="1800360"/>
          </a:xfrm>
        </p:grpSpPr>
        <p:sp>
          <p:nvSpPr>
            <p:cNvPr id="394" name=""/>
            <p:cNvSpPr/>
            <p:nvPr/>
          </p:nvSpPr>
          <p:spPr>
            <a:xfrm>
              <a:off x="6804000" y="3573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7092720" y="4232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orked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723960" cy="1150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4788000" y="108108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7380360" y="1052640"/>
            <a:ext cx="806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ade worked har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303640" cy="2695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723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cooked the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784080" cy="792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948360" y="1052640"/>
            <a:ext cx="784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ran cooked the spaghetti in a saucep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0200" cy="29131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907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404640"/>
          <a:ext cx="8229600" cy="5173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68360" y="1728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is working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911160" cy="100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68292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058160" y="981000"/>
            <a:ext cx="68256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771640" y="2349360"/>
            <a:ext cx="345600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26640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404640"/>
          <a:ext cx="8229600" cy="5173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8360" y="1728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bdi is working in the hospit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6376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911160" cy="100836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516720" y="3357720"/>
            <a:ext cx="1800000" cy="1799640"/>
            <a:chOff x="6516720" y="3357720"/>
            <a:chExt cx="1800000" cy="1799640"/>
          </a:xfrm>
        </p:grpSpPr>
        <p:sp>
          <p:nvSpPr>
            <p:cNvPr id="70" name=""/>
            <p:cNvSpPr/>
            <p:nvPr/>
          </p:nvSpPr>
          <p:spPr>
            <a:xfrm>
              <a:off x="6516720" y="3357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6805440" y="4016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will play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88000" y="108108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92360" y="1052640"/>
            <a:ext cx="806400" cy="763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8317080" y="62064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92360" y="3357720"/>
            <a:ext cx="23749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549360"/>
          <a:ext cx="8229600" cy="5760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fb19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68360" y="184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I will play outsi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211480" cy="293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64400" y="765000"/>
            <a:ext cx="723960" cy="1151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588000" y="3357720"/>
            <a:ext cx="1800000" cy="1799640"/>
            <a:chOff x="6588000" y="3357720"/>
            <a:chExt cx="1800000" cy="1799640"/>
          </a:xfrm>
        </p:grpSpPr>
        <p:sp>
          <p:nvSpPr>
            <p:cNvPr id="86" name=""/>
            <p:cNvSpPr/>
            <p:nvPr/>
          </p:nvSpPr>
          <p:spPr>
            <a:xfrm>
              <a:off x="6588000" y="3357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876720" y="4016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1:31:10Z</dcterms:created>
  <dc:creator>DianaBurman</dc:creator>
  <dc:description/>
  <dc:language>en-US</dc:language>
  <cp:lastModifiedBy>DianaBurman</cp:lastModifiedBy>
  <dcterms:modified xsi:type="dcterms:W3CDTF">2009-01-27T14:43:19Z</dcterms:modified>
  <cp:revision>30</cp:revision>
  <dc:subject/>
  <dc:title>Slide 1</dc:title>
</cp:coreProperties>
</file>