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whoosh.wav" ContentType="audio/x-wav"/>
  <Override PartName="/ppt/media/image8.wmf" ContentType="image/x-wmf"/>
  <Override PartName="/ppt/media/image15.png" ContentType="image/png"/>
  <Override PartName="/ppt/media/image16.png" ContentType="image/png"/>
  <Override PartName="/ppt/media/chimes.wav" ContentType="audio/x-wav"/>
  <Override PartName="/ppt/media/image7.wmf" ContentType="image/x-wmf"/>
  <Override PartName="/ppt/media/image12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DF9-53C1-4770-A106-8A2049D6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D79-06C2-4A4E-BC60-09BBAB83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0E2-0543-4097-91DB-3C9754D2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D9D-2537-412E-944F-1CE709C2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852-AA08-4B1B-8505-2EFED80B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068-A964-4077-AC65-8F38EF3C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9C2-8E94-4714-820A-2A0BCB2C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C3F8-C9E2-4CB7-BB58-5D83BA31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457-761E-448D-9E8E-3E804265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50F-D12E-4736-B7A9-7477C078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659-787C-459C-9AB0-616C686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453-F8AB-441E-B36A-A3BEC58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B6A8-BF70-439D-9E6D-5DC3F3457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52640"/>
            <a:ext cx="845820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aims to remind children of the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‘un-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’ prefix which they met in week 8, when it was introduced as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reversing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the meaning of the 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ime the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‘un-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’ has been paired with ‘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re-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’ meaning to do aga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hild’s task is to choose the correct prefix to make the word match the meaning they want for the slide. So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‘r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’, to do something again, or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‘un’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to mean the opposite of the stem 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 slide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an answer sheet for each child to go along with the IT presentation, and should be printed and given to the children before the star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2 examples for the children to do and discuss together why the answer is corr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the remaining questions, children should write in their choice of prefix on the answer sheet after each slide is show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then discuss their reasons for their choice with the class when they  receive correct feedback on screen and are prompted to discuss when the ‘Why’ appe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2120" y="3859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9  IT 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fixes ‘re-’ and ‘u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00200" y="2819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cake had been  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76360" y="2924280"/>
            <a:ext cx="6845400" cy="3124080"/>
            <a:chOff x="1476360" y="2924280"/>
            <a:chExt cx="6845400" cy="3124080"/>
          </a:xfrm>
        </p:grpSpPr>
        <p:sp>
          <p:nvSpPr>
            <p:cNvPr id="126" name=""/>
            <p:cNvSpPr/>
            <p:nvPr/>
          </p:nvSpPr>
          <p:spPr>
            <a:xfrm>
              <a:off x="6962760" y="4791240"/>
              <a:ext cx="1359000" cy="125712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6360" y="2924280"/>
              <a:ext cx="6705720" cy="58140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The cake had been </a:t>
              </a: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un</a:t>
              </a: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eate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2666880" cy="263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5800" y="4952880"/>
            <a:ext cx="126720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00" y="260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28195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Jo found it difficult to _______ her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12800" y="2819520"/>
            <a:ext cx="6845400" cy="3123720"/>
            <a:chOff x="1612800" y="2819520"/>
            <a:chExt cx="6845400" cy="3123720"/>
          </a:xfrm>
        </p:grpSpPr>
        <p:sp>
          <p:nvSpPr>
            <p:cNvPr id="133" name=""/>
            <p:cNvSpPr/>
            <p:nvPr/>
          </p:nvSpPr>
          <p:spPr>
            <a:xfrm>
              <a:off x="7099200" y="4686120"/>
              <a:ext cx="1359000" cy="125712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2800" y="2819520"/>
              <a:ext cx="6705720" cy="10688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Jo found it difficult to </a:t>
              </a: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re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write her story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2971800" cy="2783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18160" y="5029200"/>
            <a:ext cx="114984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4520" y="3333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68160" y="474804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2536920" cy="2589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52480" y="28195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wall fell down, he decided to ______ the 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92360" y="2781360"/>
            <a:ext cx="6844680" cy="3123720"/>
            <a:chOff x="1692360" y="2781360"/>
            <a:chExt cx="6844680" cy="3123720"/>
          </a:xfrm>
        </p:grpSpPr>
        <p:sp>
          <p:nvSpPr>
            <p:cNvPr id="142" name=""/>
            <p:cNvSpPr/>
            <p:nvPr/>
          </p:nvSpPr>
          <p:spPr>
            <a:xfrm>
              <a:off x="7178400" y="4647960"/>
              <a:ext cx="1358640" cy="125712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2360" y="2781360"/>
              <a:ext cx="6705360" cy="10688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The wall fell down, he decided to </a:t>
              </a: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re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build the wal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31880" y="5410080"/>
            <a:ext cx="114228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00" y="260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00200" y="28195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Dan knew that the game wa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476360" y="2781360"/>
            <a:ext cx="6845400" cy="3124080"/>
            <a:chOff x="1476360" y="2781360"/>
            <a:chExt cx="6845400" cy="3124080"/>
          </a:xfrm>
        </p:grpSpPr>
        <p:sp>
          <p:nvSpPr>
            <p:cNvPr id="148" name=""/>
            <p:cNvSpPr/>
            <p:nvPr/>
          </p:nvSpPr>
          <p:spPr>
            <a:xfrm>
              <a:off x="6962760" y="4648320"/>
              <a:ext cx="1359000" cy="125712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6360" y="2781360"/>
              <a:ext cx="6705720" cy="10688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Dan knew that the game was </a:t>
              </a: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un</a:t>
              </a: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fair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106800" y="4653000"/>
            <a:ext cx="82224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f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944720" cy="1579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4520" y="1890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160" y="4819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435640" y="2276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46760" y="2276640"/>
            <a:ext cx="6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77200" y="4149720"/>
            <a:ext cx="8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92160"/>
            <a:ext cx="51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at did you not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773360"/>
            <a:ext cx="31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o it agai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dd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32200" y="36464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1920" y="371628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pposite to the stem wor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dd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705040" cy="2799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4000" y="4724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Well done, you finished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920" y="228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1480" y="2286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9 IT 33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prefixes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2160" y="7650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-’ or ‘un-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5840" y="1173240"/>
            <a:ext cx="41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.g.1.    She is going to ____read the b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62864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.g.2.   The bicycle was broken. It was ___safe to r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13372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.     He is going to ____plant the flowerbed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263700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.    At the charity shop they ____sell clot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3213000"/>
            <a:ext cx="62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3.    George was ____able to drive his c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645000"/>
            <a:ext cx="46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.    The room was very ____ti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149720"/>
            <a:ext cx="48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5.    The cake had been ____eaten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3040" y="4724280"/>
            <a:ext cx="44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6.    Jo found it difficult to ____write her story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373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.    The wall fell down, the man decided to ____build the wall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95008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.   Dan knew that the game was ____fair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46368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51000" cy="4651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859280" y="2565360"/>
            <a:ext cx="433440" cy="412920"/>
            <a:chOff x="4859280" y="2565360"/>
            <a:chExt cx="433440" cy="41292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4859280" y="2565360"/>
              <a:ext cx="24300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5101560" y="2565360"/>
              <a:ext cx="19116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5016600" y="2741760"/>
              <a:ext cx="264240" cy="23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427640" y="299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635280" y="3573360"/>
            <a:ext cx="490680" cy="501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3924360" y="4076640"/>
            <a:ext cx="442800" cy="43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 flipH="1">
            <a:off x="5076360" y="4653000"/>
            <a:ext cx="506520" cy="474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 flipH="1" rot="21387000">
            <a:off x="6372000" y="5300280"/>
            <a:ext cx="441360" cy="45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4716360" y="5877000"/>
            <a:ext cx="503280" cy="407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5796000" y="1628640"/>
            <a:ext cx="5032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705040" cy="279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36440" y="4676760"/>
            <a:ext cx="549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re you read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52480" y="28195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he is going to _____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547640" y="2781360"/>
            <a:ext cx="6845400" cy="3123720"/>
            <a:chOff x="1547640" y="2781360"/>
            <a:chExt cx="6845400" cy="3123720"/>
          </a:xfrm>
        </p:grpSpPr>
        <p:sp>
          <p:nvSpPr>
            <p:cNvPr id="74" name=""/>
            <p:cNvSpPr/>
            <p:nvPr/>
          </p:nvSpPr>
          <p:spPr>
            <a:xfrm>
              <a:off x="7034040" y="4647960"/>
              <a:ext cx="1359000" cy="125712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7640" y="2781360"/>
              <a:ext cx="6705720" cy="11912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She is going to </a:t>
              </a: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re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read the boo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32000" y="115920"/>
            <a:ext cx="2519640" cy="273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95640" y="1557360"/>
            <a:ext cx="91440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7280" y="11736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.g.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60160" y="48927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59000" y="5734080"/>
            <a:ext cx="36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cause she is doing it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5640" y="2819520"/>
            <a:ext cx="800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bicycle was broken. It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___safe to r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55640" y="2924280"/>
            <a:ext cx="6845400" cy="3124080"/>
            <a:chOff x="755640" y="2924280"/>
            <a:chExt cx="6845400" cy="3124080"/>
          </a:xfrm>
        </p:grpSpPr>
        <p:sp>
          <p:nvSpPr>
            <p:cNvPr id="83" name=""/>
            <p:cNvSpPr/>
            <p:nvPr/>
          </p:nvSpPr>
          <p:spPr>
            <a:xfrm>
              <a:off x="6242040" y="4791240"/>
              <a:ext cx="1359000" cy="125712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640" y="2924280"/>
              <a:ext cx="6705720" cy="11912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Comic Sans MS"/>
                </a:rPr>
                <a:t>The bicycle was broken. It was</a:t>
              </a:r>
              <a:r>
                <a:rPr b="0" lang="en-US" sz="36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un</a:t>
              </a:r>
              <a:r>
                <a:rPr b="0" lang="en-US" sz="3600" spc="-1" strike="noStrike">
                  <a:solidFill>
                    <a:srgbClr val="ff3300"/>
                  </a:solidFill>
                  <a:latin typeface="Comic Sans MS"/>
                </a:rPr>
                <a:t>safe to rid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39400" y="26028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.g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2664000" cy="2068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869560" y="4916520"/>
            <a:ext cx="144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29600" y="5877000"/>
            <a:ext cx="434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cause it i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opposit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the stem w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2819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 is going to ______ the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23880" y="2286000"/>
            <a:ext cx="6845400" cy="3123720"/>
            <a:chOff x="1523880" y="2286000"/>
            <a:chExt cx="6845400" cy="3123720"/>
          </a:xfrm>
        </p:grpSpPr>
        <p:sp>
          <p:nvSpPr>
            <p:cNvPr id="91" name=""/>
            <p:cNvSpPr/>
            <p:nvPr/>
          </p:nvSpPr>
          <p:spPr>
            <a:xfrm>
              <a:off x="7010280" y="4152600"/>
              <a:ext cx="1359000" cy="125712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6705720" cy="11912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He is going to </a:t>
              </a: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re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plant the flowerbed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2184120" cy="289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53360" y="5964120"/>
            <a:ext cx="116208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4000" y="1890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5800" y="539604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28195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t the charity shop they _____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00200" y="2666880"/>
            <a:ext cx="6845400" cy="3124440"/>
            <a:chOff x="1600200" y="2666880"/>
            <a:chExt cx="6845400" cy="3124440"/>
          </a:xfrm>
        </p:grpSpPr>
        <p:sp>
          <p:nvSpPr>
            <p:cNvPr id="99" name=""/>
            <p:cNvSpPr/>
            <p:nvPr/>
          </p:nvSpPr>
          <p:spPr>
            <a:xfrm>
              <a:off x="7086600" y="4533840"/>
              <a:ext cx="1359000" cy="125748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666880"/>
              <a:ext cx="6705720" cy="11912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At the charity shop they </a:t>
              </a: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re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sell cloth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0880" y="4419720"/>
            <a:ext cx="2727360" cy="2139840"/>
            <a:chOff x="380880" y="4419720"/>
            <a:chExt cx="2727360" cy="213984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380880" y="4419720"/>
              <a:ext cx="152892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1905120" y="4419720"/>
              <a:ext cx="12031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1371600" y="5334120"/>
              <a:ext cx="1663560" cy="122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413360" y="5084640"/>
            <a:ext cx="8161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4520" y="260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eorge was ______ to drive a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3880" y="2819520"/>
            <a:ext cx="6845400" cy="3124080"/>
            <a:chOff x="1523880" y="2819520"/>
            <a:chExt cx="6845400" cy="3124080"/>
          </a:xfrm>
        </p:grpSpPr>
        <p:sp>
          <p:nvSpPr>
            <p:cNvPr id="109" name=""/>
            <p:cNvSpPr/>
            <p:nvPr/>
          </p:nvSpPr>
          <p:spPr>
            <a:xfrm>
              <a:off x="7010280" y="4686480"/>
              <a:ext cx="1359000" cy="125712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880" y="2819520"/>
              <a:ext cx="6705720" cy="119124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George was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un</a:t>
              </a: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able to drive his ca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748600" y="5202360"/>
            <a:ext cx="99468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443556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4520" y="260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80880" y="496404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00200" y="28195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room was very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12800" y="2819520"/>
            <a:ext cx="6845400" cy="3124080"/>
            <a:chOff x="1612800" y="2819520"/>
            <a:chExt cx="6845400" cy="3124080"/>
          </a:xfrm>
        </p:grpSpPr>
        <p:sp>
          <p:nvSpPr>
            <p:cNvPr id="117" name=""/>
            <p:cNvSpPr/>
            <p:nvPr/>
          </p:nvSpPr>
          <p:spPr>
            <a:xfrm>
              <a:off x="7099200" y="4686480"/>
              <a:ext cx="1359000" cy="1257120"/>
            </a:xfrm>
            <a:custGeom>
              <a:avLst/>
              <a:gdLst/>
              <a:ahLst/>
              <a:rect l="l" t="t" r="r" b="b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12800" y="2819520"/>
              <a:ext cx="6705720" cy="581400"/>
            </a:xfrm>
            <a:prstGeom prst="rect">
              <a:avLst/>
            </a:pr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The room was very </a:t>
              </a: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un</a:t>
              </a: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tidy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77880" y="5877000"/>
            <a:ext cx="889560" cy="581400"/>
          </a:xfrm>
          <a:prstGeom prst="rect">
            <a:avLst/>
          </a:prstGeom>
          <a:solidFill>
            <a:srgbClr val="ff99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4520" y="1890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2376360" cy="217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2736720" cy="212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34160" y="105264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un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6:03:51Z</dcterms:created>
  <dc:creator>Ursula Pretzlik</dc:creator>
  <dc:description/>
  <dc:language>en-US</dc:language>
  <cp:lastModifiedBy>Psychology</cp:lastModifiedBy>
  <dcterms:modified xsi:type="dcterms:W3CDTF">2009-02-12T16:13:13Z</dcterms:modified>
  <cp:revision>28</cp:revision>
  <dc:subject/>
  <dc:title>Session 8 Task  1</dc:title>
</cp:coreProperties>
</file>