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1.gif" ContentType="image/gif"/>
  <Override PartName="/ppt/media/image12.wmf" ContentType="image/x-wmf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19D-7566-47EA-B055-B36D8356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1E4-39BC-4B30-A6D5-4FE1F7FE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55B-9B86-457A-B1BF-D341961A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E97-69A3-49E2-9970-6C7D7528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1CF-53C2-4914-B61E-9204B03B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317-9192-4A33-97CB-5172CB19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B98-0F67-4D78-AFFA-FF657EC0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618-B7B8-44BF-A51A-EBF22FCF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F69-8188-42F6-AA22-751F15F2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8E1-7C20-4D14-8582-ADB07C33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D91-628D-4809-83FF-A6166FF3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67A-5D6D-400E-A67A-17B3889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C5CF-62F2-46B8-80FD-6B9A52303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549360"/>
            <a:ext cx="8458200" cy="62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eacher led activity aims to remind children of the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‘-les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’ suffix  which they met in week 8, when it was introduced as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reversing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the meaning of the 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ime, the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‘-les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’ has been paired with it’s opposite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‘-ful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’, so the children see tha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ear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fu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means he has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ots o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f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ear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es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means the reverse, he has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no f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hildren are asked to add the suffix which means ‘ has lots’ (fear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ful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or the suffix which means ‘has none’ (fear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les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ext slide is an answer sheet for each child to go along with the IT presentation, and should be printed, and given to the children before the star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2 examples to start, when the children get the chance after the feedback to suggest ‘why’ the ending is corr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ldren should then write in their choice of suffix  on the answer sheet for the remaining questions after each slide is show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y then discuss their reasons for their choice with the teacher when they  receive correct feedback on screen, with the prompt ‘Why?’ on some of the sli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3320" y="0"/>
            <a:ext cx="26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9  IT3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ffixes ‘-ful’ and ‘-less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9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85800" y="533520"/>
            <a:ext cx="7923960" cy="642600"/>
            <a:chOff x="685800" y="533520"/>
            <a:chExt cx="7923960" cy="642600"/>
          </a:xfrm>
        </p:grpSpPr>
        <p:sp>
          <p:nvSpPr>
            <p:cNvPr id="123" name=""/>
            <p:cNvSpPr/>
            <p:nvPr/>
          </p:nvSpPr>
          <p:spPr>
            <a:xfrm>
              <a:off x="685800" y="533520"/>
              <a:ext cx="16617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65320" y="533520"/>
              <a:ext cx="20444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l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90120" y="2133720"/>
            <a:ext cx="727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did not show any fea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he was fear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___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4320" y="2781360"/>
            <a:ext cx="117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141720"/>
            <a:ext cx="1351080" cy="3000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2360" y="460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2880" y="4603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9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22096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an is very hot. She must be care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533520"/>
            <a:ext cx="7923960" cy="642600"/>
            <a:chOff x="685800" y="533520"/>
            <a:chExt cx="7923960" cy="642600"/>
          </a:xfrm>
        </p:grpSpPr>
        <p:sp>
          <p:nvSpPr>
            <p:cNvPr id="132" name=""/>
            <p:cNvSpPr/>
            <p:nvPr/>
          </p:nvSpPr>
          <p:spPr>
            <a:xfrm>
              <a:off x="685800" y="533520"/>
              <a:ext cx="16617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65320" y="533520"/>
              <a:ext cx="20444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l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508720" y="2924280"/>
            <a:ext cx="914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u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2360" y="460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2690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9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does not have any friends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e is friend___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5800" y="533520"/>
            <a:ext cx="7923960" cy="642600"/>
            <a:chOff x="685800" y="533520"/>
            <a:chExt cx="7923960" cy="642600"/>
          </a:xfrm>
        </p:grpSpPr>
        <p:sp>
          <p:nvSpPr>
            <p:cNvPr id="139" name=""/>
            <p:cNvSpPr/>
            <p:nvPr/>
          </p:nvSpPr>
          <p:spPr>
            <a:xfrm>
              <a:off x="685800" y="533520"/>
              <a:ext cx="16617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65320" y="533520"/>
              <a:ext cx="20444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l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651640" y="2637000"/>
            <a:ext cx="1218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3581280"/>
            <a:ext cx="3012840" cy="3119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2360" y="-270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9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286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always has a big smile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is always cheer___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533520"/>
            <a:ext cx="7923960" cy="642600"/>
            <a:chOff x="685800" y="533520"/>
            <a:chExt cx="7923960" cy="642600"/>
          </a:xfrm>
        </p:grpSpPr>
        <p:sp>
          <p:nvSpPr>
            <p:cNvPr id="146" name=""/>
            <p:cNvSpPr/>
            <p:nvPr/>
          </p:nvSpPr>
          <p:spPr>
            <a:xfrm>
              <a:off x="685800" y="533520"/>
              <a:ext cx="16617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65320" y="533520"/>
              <a:ext cx="20444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l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400800" y="3048120"/>
            <a:ext cx="990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360520" cy="2438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7760" y="4608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15440" y="4603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9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2133720"/>
            <a:ext cx="867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is getting lots of r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needs a rest___ slee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5800" y="533520"/>
            <a:ext cx="7923960" cy="642600"/>
            <a:chOff x="685800" y="533520"/>
            <a:chExt cx="7923960" cy="642600"/>
          </a:xfrm>
        </p:grpSpPr>
        <p:sp>
          <p:nvSpPr>
            <p:cNvPr id="154" name=""/>
            <p:cNvSpPr/>
            <p:nvPr/>
          </p:nvSpPr>
          <p:spPr>
            <a:xfrm>
              <a:off x="685800" y="533520"/>
              <a:ext cx="16617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65320" y="533520"/>
              <a:ext cx="20444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l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508720" y="2924280"/>
            <a:ext cx="1218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95680" y="3962520"/>
            <a:ext cx="4411800" cy="2743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7760" y="4608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did you noti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hav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omething add ……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880" y="191628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f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39840" y="4005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3308400"/>
            <a:ext cx="73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not hav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omething add ……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37760" y="321300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2705040" cy="2799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4000" y="4724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Well done, you finished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920" y="228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0880" y="22860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9 IT3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uffixes and prefixes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22400" y="76500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ful’ or ‘-les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989000"/>
            <a:ext cx="67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.g 2   She dances with grace. She is a grace_____ danc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8428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.g 1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She does not have much breath. She is breath______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708280"/>
            <a:ext cx="61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.   The man does not take care. He is care_____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997360"/>
            <a:ext cx="73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3.    The picture is very colour______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50028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.    We enjoyed the wedding. It was joy_____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2349360"/>
            <a:ext cx="44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.    He was afraid of the head_____ ghos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93372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5.    She did not show any fear. She was fear_____ 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437000"/>
            <a:ext cx="69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6.    The pan is very hot. She must be care_____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01336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.    He does not have any friends. He is friend_____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558972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.     He always has a big smile. He is always cheer_____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602136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9.     He is a tired dragon. He needs a rest_____ sle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447840" cy="52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365400" cy="522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508720" y="2637000"/>
            <a:ext cx="503280" cy="500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 rot="21090600">
            <a:off x="4356000" y="2997000"/>
            <a:ext cx="366840" cy="480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076720" y="3429000"/>
            <a:ext cx="505080" cy="461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716360" y="2349360"/>
            <a:ext cx="503280" cy="490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5724360" y="3789360"/>
            <a:ext cx="314640" cy="696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5292720" y="4437000"/>
            <a:ext cx="500040" cy="525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5580000" y="5157720"/>
            <a:ext cx="378000" cy="3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5867280" y="5589720"/>
            <a:ext cx="371520" cy="384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5724360" y="6165720"/>
            <a:ext cx="50832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2705040" cy="279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36440" y="4676760"/>
            <a:ext cx="549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re you read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9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22096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e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does 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ave much breath.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e is breath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85800" y="533520"/>
            <a:ext cx="7923960" cy="642600"/>
            <a:chOff x="685800" y="533520"/>
            <a:chExt cx="7923960" cy="642600"/>
          </a:xfrm>
        </p:grpSpPr>
        <p:sp>
          <p:nvSpPr>
            <p:cNvPr id="73" name=""/>
            <p:cNvSpPr/>
            <p:nvPr/>
          </p:nvSpPr>
          <p:spPr>
            <a:xfrm>
              <a:off x="685800" y="533520"/>
              <a:ext cx="16617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5320" y="533520"/>
              <a:ext cx="20444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l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867280" y="2997360"/>
            <a:ext cx="1219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2120" y="46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.g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28520" y="489276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ff66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34040" y="5518080"/>
            <a:ext cx="347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cause s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does no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ha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y bre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9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2238480"/>
            <a:ext cx="716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e dances with grace. She is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ce__ dan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533520"/>
            <a:ext cx="7923960" cy="642600"/>
            <a:chOff x="685800" y="533520"/>
            <a:chExt cx="7923960" cy="642600"/>
          </a:xfrm>
        </p:grpSpPr>
        <p:sp>
          <p:nvSpPr>
            <p:cNvPr id="82" name=""/>
            <p:cNvSpPr/>
            <p:nvPr/>
          </p:nvSpPr>
          <p:spPr>
            <a:xfrm>
              <a:off x="685800" y="533520"/>
              <a:ext cx="16617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65320" y="533520"/>
              <a:ext cx="20444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l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635280" y="3716280"/>
            <a:ext cx="997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491160" y="3581280"/>
            <a:ext cx="196704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7800" y="11736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.g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91600" y="465300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ff66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74480" y="544500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cause s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ha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gr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9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288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was afraid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ead___ gh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5800" y="533520"/>
            <a:ext cx="7923960" cy="642600"/>
            <a:chOff x="685800" y="533520"/>
            <a:chExt cx="7923960" cy="642600"/>
          </a:xfrm>
        </p:grpSpPr>
        <p:sp>
          <p:nvSpPr>
            <p:cNvPr id="91" name=""/>
            <p:cNvSpPr/>
            <p:nvPr/>
          </p:nvSpPr>
          <p:spPr>
            <a:xfrm>
              <a:off x="685800" y="533520"/>
              <a:ext cx="16617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5320" y="533520"/>
              <a:ext cx="20444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l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356000" y="3284640"/>
            <a:ext cx="1219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2251080" cy="2193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447560" cy="1824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1840" y="460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5240" y="539604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9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1337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an does not take car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is care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" y="533520"/>
            <a:ext cx="7923960" cy="642600"/>
            <a:chOff x="685800" y="533520"/>
            <a:chExt cx="7923960" cy="642600"/>
          </a:xfrm>
        </p:grpSpPr>
        <p:sp>
          <p:nvSpPr>
            <p:cNvPr id="100" name=""/>
            <p:cNvSpPr/>
            <p:nvPr/>
          </p:nvSpPr>
          <p:spPr>
            <a:xfrm>
              <a:off x="685800" y="533520"/>
              <a:ext cx="16617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65320" y="533520"/>
              <a:ext cx="20444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l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 flipH="1">
            <a:off x="5076000" y="2852640"/>
            <a:ext cx="129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4005360"/>
            <a:ext cx="2160720" cy="2144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2360" y="-270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9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76720" y="2205000"/>
            <a:ext cx="1143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41300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icture is 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lour 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5800" y="533520"/>
            <a:ext cx="7923960" cy="642600"/>
            <a:chOff x="685800" y="533520"/>
            <a:chExt cx="7923960" cy="642600"/>
          </a:xfrm>
        </p:grpSpPr>
        <p:sp>
          <p:nvSpPr>
            <p:cNvPr id="108" name=""/>
            <p:cNvSpPr/>
            <p:nvPr/>
          </p:nvSpPr>
          <p:spPr>
            <a:xfrm>
              <a:off x="685800" y="533520"/>
              <a:ext cx="16617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65320" y="533520"/>
              <a:ext cx="20444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Arial"/>
                </a:rPr>
                <a:t>l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5440" y="-270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3744720" cy="3171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03840" y="3645000"/>
            <a:ext cx="596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rot="21090600">
            <a:off x="3346560" y="3643200"/>
            <a:ext cx="1225440" cy="1603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112880" y="467676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f9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5640" y="1981080"/>
            <a:ext cx="716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enjoyed the wedding , it was joy 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533520"/>
            <a:ext cx="7923960" cy="642600"/>
            <a:chOff x="685800" y="533520"/>
            <a:chExt cx="7923960" cy="642600"/>
          </a:xfrm>
        </p:grpSpPr>
        <p:sp>
          <p:nvSpPr>
            <p:cNvPr id="117" name=""/>
            <p:cNvSpPr/>
            <p:nvPr/>
          </p:nvSpPr>
          <p:spPr>
            <a:xfrm>
              <a:off x="685800" y="533520"/>
              <a:ext cx="16617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65320" y="533520"/>
              <a:ext cx="204444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le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148360" y="2781360"/>
            <a:ext cx="920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95920" y="3705120"/>
            <a:ext cx="3448080" cy="31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2360" y="460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6:03:51Z</dcterms:created>
  <dc:creator>Ursula Pretzlik</dc:creator>
  <dc:description/>
  <dc:language>en-US</dc:language>
  <cp:lastModifiedBy>Psychology</cp:lastModifiedBy>
  <dcterms:modified xsi:type="dcterms:W3CDTF">2009-02-12T16:12:28Z</dcterms:modified>
  <cp:revision>27</cp:revision>
  <dc:subject/>
  <dc:title>Session 8 Task  1</dc:title>
</cp:coreProperties>
</file>